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4.png" ContentType="image/png"/>
  <Override PartName="/ppt/media/coin.wav" ContentType="audio/x-wav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bomb.wav" ContentType="audio/x-wav"/>
  <Override PartName="/ppt/media/image13.png" ContentType="image/png"/>
  <Override PartName="/ppt/media/image1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1862280" y="539640"/>
            <a:ext cx="541944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2800" y="2971800"/>
            <a:ext cx="77184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7760" y="118728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71280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7760" y="2971800"/>
            <a:ext cx="37663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2244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32080" y="118728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71280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2244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32080" y="2971800"/>
            <a:ext cx="248508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oogle Shape;1378;p25"/>
          <p:cNvGrpSpPr/>
          <p:nvPr/>
        </p:nvGrpSpPr>
        <p:grpSpPr>
          <a:xfrm>
            <a:off x="77760" y="23760"/>
            <a:ext cx="8991360" cy="5095800"/>
            <a:chOff x="77760" y="23760"/>
            <a:chExt cx="8991360" cy="5095800"/>
          </a:xfrm>
        </p:grpSpPr>
        <p:grpSp>
          <p:nvGrpSpPr>
            <p:cNvPr id="804" name="Google Shape;1379;p25"/>
            <p:cNvGrpSpPr/>
            <p:nvPr/>
          </p:nvGrpSpPr>
          <p:grpSpPr>
            <a:xfrm>
              <a:off x="7293600" y="1108800"/>
              <a:ext cx="633960" cy="2461320"/>
              <a:chOff x="7293600" y="1108800"/>
              <a:chExt cx="633960" cy="2461320"/>
            </a:xfrm>
          </p:grpSpPr>
          <p:sp>
            <p:nvSpPr>
              <p:cNvPr id="805" name="Google Shape;1380;p25"/>
              <p:cNvSpPr/>
              <p:nvPr/>
            </p:nvSpPr>
            <p:spPr>
              <a:xfrm flipH="1" rot="10800000">
                <a:off x="7293240" y="347760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Google Shape;1381;p25"/>
              <p:cNvSpPr/>
              <p:nvPr/>
            </p:nvSpPr>
            <p:spPr>
              <a:xfrm flipH="1" rot="10800000">
                <a:off x="7854120" y="11088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oogle Shape;1382;p25"/>
            <p:cNvGrpSpPr/>
            <p:nvPr/>
          </p:nvGrpSpPr>
          <p:grpSpPr>
            <a:xfrm>
              <a:off x="843840" y="570960"/>
              <a:ext cx="3114360" cy="885240"/>
              <a:chOff x="843840" y="570960"/>
              <a:chExt cx="3114360" cy="885240"/>
            </a:xfrm>
          </p:grpSpPr>
          <p:sp>
            <p:nvSpPr>
              <p:cNvPr id="808" name="Google Shape;1383;p25"/>
              <p:cNvSpPr/>
              <p:nvPr/>
            </p:nvSpPr>
            <p:spPr>
              <a:xfrm flipH="1" rot="11483400">
                <a:off x="1065240" y="140616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Google Shape;1384;p25"/>
              <p:cNvSpPr/>
              <p:nvPr/>
            </p:nvSpPr>
            <p:spPr>
              <a:xfrm flipH="1" rot="5400000">
                <a:off x="843480" y="86976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Google Shape;1385;p25"/>
              <p:cNvSpPr/>
              <p:nvPr/>
            </p:nvSpPr>
            <p:spPr>
              <a:xfrm flipH="1" rot="5400000">
                <a:off x="3912480" y="57096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oogle Shape;1386;p25"/>
            <p:cNvGrpSpPr/>
            <p:nvPr/>
          </p:nvGrpSpPr>
          <p:grpSpPr>
            <a:xfrm>
              <a:off x="1050120" y="4151160"/>
              <a:ext cx="3707640" cy="257040"/>
              <a:chOff x="1050120" y="4151160"/>
              <a:chExt cx="3707640" cy="257040"/>
            </a:xfrm>
          </p:grpSpPr>
          <p:sp>
            <p:nvSpPr>
              <p:cNvPr id="812" name="Google Shape;1387;p25"/>
              <p:cNvSpPr/>
              <p:nvPr/>
            </p:nvSpPr>
            <p:spPr>
              <a:xfrm flipH="1" rot="11483400">
                <a:off x="4707720" y="4357800"/>
                <a:ext cx="45360" cy="46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320" bIns="-58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Google Shape;1388;p25"/>
              <p:cNvSpPr/>
              <p:nvPr/>
            </p:nvSpPr>
            <p:spPr>
              <a:xfrm flipH="1" rot="5400000">
                <a:off x="1049760" y="4151520"/>
                <a:ext cx="4608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Google Shape;1389;p25"/>
            <p:cNvSpPr/>
            <p:nvPr/>
          </p:nvSpPr>
          <p:spPr>
            <a:xfrm flipH="1" rot="18909600">
              <a:off x="7803720" y="3658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Google Shape;1390;p25"/>
            <p:cNvSpPr/>
            <p:nvPr/>
          </p:nvSpPr>
          <p:spPr>
            <a:xfrm flipH="1" rot="7440600">
              <a:off x="6894360" y="746280"/>
              <a:ext cx="4500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Google Shape;1391;p25"/>
            <p:cNvSpPr/>
            <p:nvPr/>
          </p:nvSpPr>
          <p:spPr>
            <a:xfrm flipH="1" rot="5059200">
              <a:off x="6284520" y="633600"/>
              <a:ext cx="4536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Google Shape;1392;p25"/>
            <p:cNvSpPr/>
            <p:nvPr/>
          </p:nvSpPr>
          <p:spPr>
            <a:xfrm flipH="1" rot="11275200">
              <a:off x="6948720" y="4036680"/>
              <a:ext cx="4572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Google Shape;1393;p25"/>
            <p:cNvGrpSpPr/>
            <p:nvPr/>
          </p:nvGrpSpPr>
          <p:grpSpPr>
            <a:xfrm>
              <a:off x="2156040" y="1613520"/>
              <a:ext cx="3453840" cy="2951640"/>
              <a:chOff x="2156040" y="1613520"/>
              <a:chExt cx="3453840" cy="2951640"/>
            </a:xfrm>
          </p:grpSpPr>
          <p:sp>
            <p:nvSpPr>
              <p:cNvPr id="819" name="Google Shape;1394;p25"/>
              <p:cNvSpPr/>
              <p:nvPr/>
            </p:nvSpPr>
            <p:spPr>
              <a:xfrm flipH="1" rot="16883400">
                <a:off x="5560200" y="43383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Google Shape;1395;p25"/>
              <p:cNvSpPr/>
              <p:nvPr/>
            </p:nvSpPr>
            <p:spPr>
              <a:xfrm flipH="1" rot="10800000">
                <a:off x="2156040" y="16135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Google Shape;1396;p25"/>
              <p:cNvSpPr/>
              <p:nvPr/>
            </p:nvSpPr>
            <p:spPr>
              <a:xfrm flipH="1" rot="682800">
                <a:off x="3014280" y="45158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oogle Shape;1397;p25"/>
            <p:cNvGrpSpPr/>
            <p:nvPr/>
          </p:nvGrpSpPr>
          <p:grpSpPr>
            <a:xfrm>
              <a:off x="7584480" y="3282480"/>
              <a:ext cx="833400" cy="1069200"/>
              <a:chOff x="7584480" y="3282480"/>
              <a:chExt cx="833400" cy="1069200"/>
            </a:xfrm>
          </p:grpSpPr>
          <p:sp>
            <p:nvSpPr>
              <p:cNvPr id="823" name="Google Shape;1398;p25"/>
              <p:cNvSpPr/>
              <p:nvPr/>
            </p:nvSpPr>
            <p:spPr>
              <a:xfrm flipH="1" rot="16883400">
                <a:off x="7588080" y="430164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Google Shape;1399;p25"/>
              <p:cNvSpPr/>
              <p:nvPr/>
            </p:nvSpPr>
            <p:spPr>
              <a:xfrm flipH="1" rot="10800000">
                <a:off x="8371800" y="328248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Google Shape;1400;p25"/>
            <p:cNvGrpSpPr/>
            <p:nvPr/>
          </p:nvGrpSpPr>
          <p:grpSpPr>
            <a:xfrm>
              <a:off x="8173440" y="2134080"/>
              <a:ext cx="71640" cy="565920"/>
              <a:chOff x="8173440" y="2134080"/>
              <a:chExt cx="71640" cy="565920"/>
            </a:xfrm>
          </p:grpSpPr>
          <p:sp>
            <p:nvSpPr>
              <p:cNvPr id="826" name="Google Shape;1401;p25"/>
              <p:cNvSpPr/>
              <p:nvPr/>
            </p:nvSpPr>
            <p:spPr>
              <a:xfrm flipH="1" rot="5960400">
                <a:off x="8194320" y="2136240"/>
                <a:ext cx="45720" cy="4824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6880" bIns="-56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Google Shape;1402;p25"/>
              <p:cNvSpPr/>
              <p:nvPr/>
            </p:nvSpPr>
            <p:spPr>
              <a:xfrm flipH="1" rot="21477600">
                <a:off x="8174160" y="2653200"/>
                <a:ext cx="4788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oogle Shape;1403;p25"/>
            <p:cNvGrpSpPr/>
            <p:nvPr/>
          </p:nvGrpSpPr>
          <p:grpSpPr>
            <a:xfrm>
              <a:off x="1236600" y="601920"/>
              <a:ext cx="534600" cy="1914840"/>
              <a:chOff x="1236600" y="601920"/>
              <a:chExt cx="534600" cy="1914840"/>
            </a:xfrm>
          </p:grpSpPr>
          <p:sp>
            <p:nvSpPr>
              <p:cNvPr id="829" name="Google Shape;1404;p25"/>
              <p:cNvSpPr/>
              <p:nvPr/>
            </p:nvSpPr>
            <p:spPr>
              <a:xfrm flipH="1" rot="17359800">
                <a:off x="1243080" y="209160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Google Shape;1405;p25"/>
              <p:cNvSpPr/>
              <p:nvPr/>
            </p:nvSpPr>
            <p:spPr>
              <a:xfrm flipH="1" rot="11276400">
                <a:off x="1655640" y="60480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Google Shape;1406;p25"/>
              <p:cNvSpPr/>
              <p:nvPr/>
            </p:nvSpPr>
            <p:spPr>
              <a:xfrm flipH="1" rot="11276400">
                <a:off x="1722240" y="246816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oogle Shape;1407;p25"/>
            <p:cNvGrpSpPr/>
            <p:nvPr/>
          </p:nvGrpSpPr>
          <p:grpSpPr>
            <a:xfrm>
              <a:off x="873000" y="1182960"/>
              <a:ext cx="741600" cy="2511720"/>
              <a:chOff x="873000" y="1182960"/>
              <a:chExt cx="741600" cy="2511720"/>
            </a:xfrm>
          </p:grpSpPr>
          <p:sp>
            <p:nvSpPr>
              <p:cNvPr id="833" name="Google Shape;1408;p25"/>
              <p:cNvSpPr/>
              <p:nvPr/>
            </p:nvSpPr>
            <p:spPr>
              <a:xfrm flipH="1" rot="5400000">
                <a:off x="1163520" y="314208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Google Shape;1409;p25"/>
              <p:cNvSpPr/>
              <p:nvPr/>
            </p:nvSpPr>
            <p:spPr>
              <a:xfrm flipH="1" rot="5400000">
                <a:off x="872640" y="364896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Google Shape;1410;p25"/>
              <p:cNvSpPr/>
              <p:nvPr/>
            </p:nvSpPr>
            <p:spPr>
              <a:xfrm flipH="1" rot="16881600">
                <a:off x="982080" y="2501640"/>
                <a:ext cx="73080" cy="7344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Google Shape;1411;p25"/>
              <p:cNvSpPr/>
              <p:nvPr/>
            </p:nvSpPr>
            <p:spPr>
              <a:xfrm flipH="1" rot="16883400">
                <a:off x="1564560" y="118656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Google Shape;1412;p25"/>
            <p:cNvSpPr/>
            <p:nvPr/>
          </p:nvSpPr>
          <p:spPr>
            <a:xfrm flipH="1" rot="10800000">
              <a:off x="2615040" y="746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oogle Shape;1413;p25"/>
            <p:cNvGrpSpPr/>
            <p:nvPr/>
          </p:nvGrpSpPr>
          <p:grpSpPr>
            <a:xfrm>
              <a:off x="77760" y="23760"/>
              <a:ext cx="8991360" cy="5095800"/>
              <a:chOff x="77760" y="23760"/>
              <a:chExt cx="8991360" cy="5095800"/>
            </a:xfrm>
          </p:grpSpPr>
          <p:sp>
            <p:nvSpPr>
              <p:cNvPr id="839" name="Google Shape;1414;p25"/>
              <p:cNvSpPr/>
              <p:nvPr/>
            </p:nvSpPr>
            <p:spPr>
              <a:xfrm flipH="1" rot="10800000">
                <a:off x="216000" y="385956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Google Shape;1415;p25"/>
              <p:cNvSpPr/>
              <p:nvPr/>
            </p:nvSpPr>
            <p:spPr>
              <a:xfrm flipH="1" rot="10800000">
                <a:off x="624600" y="30913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Google Shape;1416;p25"/>
              <p:cNvSpPr/>
              <p:nvPr/>
            </p:nvSpPr>
            <p:spPr>
              <a:xfrm flipH="1" rot="10800000">
                <a:off x="244080" y="28900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Google Shape;1417;p25"/>
              <p:cNvSpPr/>
              <p:nvPr/>
            </p:nvSpPr>
            <p:spPr>
              <a:xfrm flipH="1" rot="10800000">
                <a:off x="8910360" y="6321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Google Shape;1418;p25"/>
              <p:cNvSpPr/>
              <p:nvPr/>
            </p:nvSpPr>
            <p:spPr>
              <a:xfrm flipH="1" rot="10800000">
                <a:off x="8682120" y="2786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Google Shape;1419;p25"/>
              <p:cNvSpPr/>
              <p:nvPr/>
            </p:nvSpPr>
            <p:spPr>
              <a:xfrm flipH="1" rot="5400000">
                <a:off x="2832120" y="35640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Google Shape;1420;p25"/>
              <p:cNvSpPr/>
              <p:nvPr/>
            </p:nvSpPr>
            <p:spPr>
              <a:xfrm flipH="1" rot="5400000">
                <a:off x="2063520" y="4284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Google Shape;1421;p25"/>
              <p:cNvSpPr/>
              <p:nvPr/>
            </p:nvSpPr>
            <p:spPr>
              <a:xfrm flipH="1" rot="10800000">
                <a:off x="730440" y="35784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Google Shape;1422;p25"/>
              <p:cNvSpPr/>
              <p:nvPr/>
            </p:nvSpPr>
            <p:spPr>
              <a:xfrm flipH="1" rot="10800000">
                <a:off x="8910360" y="29577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Google Shape;1423;p25"/>
              <p:cNvSpPr/>
              <p:nvPr/>
            </p:nvSpPr>
            <p:spPr>
              <a:xfrm flipH="1" rot="682800">
                <a:off x="8723160" y="39524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Google Shape;1424;p25"/>
              <p:cNvSpPr/>
              <p:nvPr/>
            </p:nvSpPr>
            <p:spPr>
              <a:xfrm flipH="1" rot="6081600">
                <a:off x="6546960" y="3718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Google Shape;1425;p25"/>
              <p:cNvSpPr/>
              <p:nvPr/>
            </p:nvSpPr>
            <p:spPr>
              <a:xfrm flipH="1" rot="6082800">
                <a:off x="6218280" y="1396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Google Shape;1426;p25"/>
              <p:cNvSpPr/>
              <p:nvPr/>
            </p:nvSpPr>
            <p:spPr>
              <a:xfrm flipH="1" rot="16200000">
                <a:off x="4876920" y="896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Google Shape;1427;p25"/>
              <p:cNvSpPr/>
              <p:nvPr/>
            </p:nvSpPr>
            <p:spPr>
              <a:xfrm flipH="1" rot="16200000">
                <a:off x="5246640" y="4525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Google Shape;1428;p25"/>
              <p:cNvSpPr/>
              <p:nvPr/>
            </p:nvSpPr>
            <p:spPr>
              <a:xfrm flipH="1" rot="16200000">
                <a:off x="5475600" y="709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Google Shape;1429;p25"/>
              <p:cNvSpPr/>
              <p:nvPr/>
            </p:nvSpPr>
            <p:spPr>
              <a:xfrm flipH="1" rot="6081600">
                <a:off x="4296960" y="2196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Google Shape;1430;p25"/>
              <p:cNvSpPr/>
              <p:nvPr/>
            </p:nvSpPr>
            <p:spPr>
              <a:xfrm flipH="1" rot="6082800">
                <a:off x="4660560" y="7984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Google Shape;1431;p25"/>
              <p:cNvSpPr/>
              <p:nvPr/>
            </p:nvSpPr>
            <p:spPr>
              <a:xfrm flipH="1" rot="6082800">
                <a:off x="3540600" y="1695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Google Shape;1432;p25"/>
              <p:cNvSpPr/>
              <p:nvPr/>
            </p:nvSpPr>
            <p:spPr>
              <a:xfrm flipH="1" rot="5400000">
                <a:off x="131760" y="5046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Google Shape;1433;p25"/>
              <p:cNvSpPr/>
              <p:nvPr/>
            </p:nvSpPr>
            <p:spPr>
              <a:xfrm flipH="1" rot="16200000">
                <a:off x="7997760" y="2376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Google Shape;1434;p25"/>
              <p:cNvSpPr/>
              <p:nvPr/>
            </p:nvSpPr>
            <p:spPr>
              <a:xfrm flipH="1" rot="16200000">
                <a:off x="9014400" y="51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Google Shape;1435;p25"/>
              <p:cNvSpPr/>
              <p:nvPr/>
            </p:nvSpPr>
            <p:spPr>
              <a:xfrm flipH="1" rot="10800000">
                <a:off x="7987320" y="5497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Google Shape;1436;p25"/>
              <p:cNvSpPr/>
              <p:nvPr/>
            </p:nvSpPr>
            <p:spPr>
              <a:xfrm flipH="1" rot="16200000">
                <a:off x="7338960" y="3628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Google Shape;1437;p25"/>
              <p:cNvSpPr/>
              <p:nvPr/>
            </p:nvSpPr>
            <p:spPr>
              <a:xfrm flipH="1" rot="7666200">
                <a:off x="9014760" y="1172880"/>
                <a:ext cx="45360" cy="450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400" bIns="-59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Google Shape;1438;p25"/>
              <p:cNvSpPr/>
              <p:nvPr/>
            </p:nvSpPr>
            <p:spPr>
              <a:xfrm flipH="1" rot="13066800">
                <a:off x="8429400" y="1040400"/>
                <a:ext cx="45360" cy="450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400" bIns="-59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Google Shape;1439;p25"/>
              <p:cNvSpPr/>
              <p:nvPr/>
            </p:nvSpPr>
            <p:spPr>
              <a:xfrm flipH="1" rot="10800000">
                <a:off x="77760" y="13579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Google Shape;1440;p25"/>
              <p:cNvSpPr/>
              <p:nvPr/>
            </p:nvSpPr>
            <p:spPr>
              <a:xfrm flipH="1" rot="10800000">
                <a:off x="302040" y="7916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Google Shape;1441;p25"/>
              <p:cNvSpPr/>
              <p:nvPr/>
            </p:nvSpPr>
            <p:spPr>
              <a:xfrm flipH="1" rot="10800000">
                <a:off x="131760" y="1641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Google Shape;1442;p25"/>
              <p:cNvSpPr/>
              <p:nvPr/>
            </p:nvSpPr>
            <p:spPr>
              <a:xfrm flipH="1" rot="681600">
                <a:off x="432360" y="13899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Google Shape;1443;p25"/>
              <p:cNvSpPr/>
              <p:nvPr/>
            </p:nvSpPr>
            <p:spPr>
              <a:xfrm flipH="1" rot="10800000">
                <a:off x="447120" y="410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Google Shape;1444;p25"/>
              <p:cNvSpPr/>
              <p:nvPr/>
            </p:nvSpPr>
            <p:spPr>
              <a:xfrm flipH="1" rot="16200000">
                <a:off x="395280" y="23515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Google Shape;1445;p25"/>
              <p:cNvSpPr/>
              <p:nvPr/>
            </p:nvSpPr>
            <p:spPr>
              <a:xfrm flipH="1" rot="682800">
                <a:off x="229680" y="20991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Google Shape;1446;p25"/>
              <p:cNvSpPr/>
              <p:nvPr/>
            </p:nvSpPr>
            <p:spPr>
              <a:xfrm flipH="1" rot="682800">
                <a:off x="342000" y="43776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Google Shape;1447;p25"/>
              <p:cNvSpPr/>
              <p:nvPr/>
            </p:nvSpPr>
            <p:spPr>
              <a:xfrm flipH="1" rot="16881600">
                <a:off x="1369080" y="1173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Google Shape;1448;p25"/>
              <p:cNvSpPr/>
              <p:nvPr/>
            </p:nvSpPr>
            <p:spPr>
              <a:xfrm flipH="1" rot="10800000">
                <a:off x="2832840" y="788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Google Shape;1449;p25"/>
              <p:cNvSpPr/>
              <p:nvPr/>
            </p:nvSpPr>
            <p:spPr>
              <a:xfrm flipH="1" rot="16883400">
                <a:off x="2383200" y="2714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Google Shape;1450;p25"/>
              <p:cNvSpPr/>
              <p:nvPr/>
            </p:nvSpPr>
            <p:spPr>
              <a:xfrm flipH="1" rot="16200000">
                <a:off x="9006120" y="43617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Google Shape;1451;p25"/>
              <p:cNvSpPr/>
              <p:nvPr/>
            </p:nvSpPr>
            <p:spPr>
              <a:xfrm flipH="1" rot="6081600">
                <a:off x="8640360" y="49453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Google Shape;1452;p25"/>
              <p:cNvSpPr/>
              <p:nvPr/>
            </p:nvSpPr>
            <p:spPr>
              <a:xfrm flipH="1" rot="682800">
                <a:off x="8158320" y="40356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Google Shape;1453;p25"/>
              <p:cNvSpPr/>
              <p:nvPr/>
            </p:nvSpPr>
            <p:spPr>
              <a:xfrm flipH="1" rot="16200000">
                <a:off x="8668800" y="23914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Google Shape;1454;p25"/>
              <p:cNvSpPr/>
              <p:nvPr/>
            </p:nvSpPr>
            <p:spPr>
              <a:xfrm flipH="1" rot="16200000">
                <a:off x="9020880" y="23256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Google Shape;1455;p25"/>
              <p:cNvSpPr/>
              <p:nvPr/>
            </p:nvSpPr>
            <p:spPr>
              <a:xfrm flipH="1" rot="16200000">
                <a:off x="6225480" y="436356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Google Shape;1456;p25"/>
              <p:cNvSpPr/>
              <p:nvPr/>
            </p:nvSpPr>
            <p:spPr>
              <a:xfrm flipH="1" rot="16200000">
                <a:off x="7857000" y="50133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Google Shape;1457;p25"/>
              <p:cNvSpPr/>
              <p:nvPr/>
            </p:nvSpPr>
            <p:spPr>
              <a:xfrm flipH="1" rot="16200000">
                <a:off x="8085960" y="4632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Google Shape;1458;p25"/>
              <p:cNvSpPr/>
              <p:nvPr/>
            </p:nvSpPr>
            <p:spPr>
              <a:xfrm flipH="1" rot="10800000">
                <a:off x="6832080" y="4812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Google Shape;1459;p25"/>
              <p:cNvSpPr/>
              <p:nvPr/>
            </p:nvSpPr>
            <p:spPr>
              <a:xfrm flipH="1" rot="16200000">
                <a:off x="5613120" y="49208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Google Shape;1460;p25"/>
              <p:cNvSpPr/>
              <p:nvPr/>
            </p:nvSpPr>
            <p:spPr>
              <a:xfrm flipH="1" rot="16200000">
                <a:off x="6410160" y="49438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Google Shape;1461;p25"/>
              <p:cNvSpPr/>
              <p:nvPr/>
            </p:nvSpPr>
            <p:spPr>
              <a:xfrm flipH="1" rot="16200000">
                <a:off x="3515040" y="50464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Google Shape;1462;p25"/>
              <p:cNvSpPr/>
              <p:nvPr/>
            </p:nvSpPr>
            <p:spPr>
              <a:xfrm flipH="1" rot="16200000">
                <a:off x="3744000" y="46652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Google Shape;1463;p25"/>
              <p:cNvSpPr/>
              <p:nvPr/>
            </p:nvSpPr>
            <p:spPr>
              <a:xfrm flipH="1" rot="6081600">
                <a:off x="2489400" y="49662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Google Shape;1464;p25"/>
              <p:cNvSpPr/>
              <p:nvPr/>
            </p:nvSpPr>
            <p:spPr>
              <a:xfrm flipH="1" rot="6082800">
                <a:off x="2167200" y="45543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Google Shape;1465;p25"/>
              <p:cNvSpPr/>
              <p:nvPr/>
            </p:nvSpPr>
            <p:spPr>
              <a:xfrm flipH="1">
                <a:off x="1556640" y="49287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Google Shape;1466;p25"/>
              <p:cNvSpPr/>
              <p:nvPr/>
            </p:nvSpPr>
            <p:spPr>
              <a:xfrm flipH="1" rot="10800000">
                <a:off x="4655520" y="50076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Google Shape;1467;p25"/>
              <p:cNvSpPr/>
              <p:nvPr/>
            </p:nvSpPr>
            <p:spPr>
              <a:xfrm flipH="1" rot="10800000">
                <a:off x="4274640" y="48067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Google Shape;1468;p25"/>
              <p:cNvSpPr/>
              <p:nvPr/>
            </p:nvSpPr>
            <p:spPr>
              <a:xfrm flipH="1" rot="6081600">
                <a:off x="806760" y="48207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Google Shape;1469;p25"/>
              <p:cNvSpPr/>
              <p:nvPr/>
            </p:nvSpPr>
            <p:spPr>
              <a:xfrm flipH="1">
                <a:off x="7097760" y="50601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Google Shape;1470;p25"/>
              <p:cNvSpPr/>
              <p:nvPr/>
            </p:nvSpPr>
            <p:spPr>
              <a:xfrm flipH="1" rot="681600">
                <a:off x="8830440" y="16567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Google Shape;1474;p26"/>
          <p:cNvGrpSpPr/>
          <p:nvPr/>
        </p:nvGrpSpPr>
        <p:grpSpPr>
          <a:xfrm>
            <a:off x="88920" y="27360"/>
            <a:ext cx="8998920" cy="5088600"/>
            <a:chOff x="88920" y="27360"/>
            <a:chExt cx="8998920" cy="5088600"/>
          </a:xfrm>
        </p:grpSpPr>
        <p:grpSp>
          <p:nvGrpSpPr>
            <p:cNvPr id="935" name="Google Shape;1475;p26"/>
            <p:cNvGrpSpPr/>
            <p:nvPr/>
          </p:nvGrpSpPr>
          <p:grpSpPr>
            <a:xfrm>
              <a:off x="88920" y="27360"/>
              <a:ext cx="8998920" cy="5088600"/>
              <a:chOff x="88920" y="27360"/>
              <a:chExt cx="8998920" cy="5088600"/>
            </a:xfrm>
          </p:grpSpPr>
          <p:sp>
            <p:nvSpPr>
              <p:cNvPr id="936" name="Google Shape;1476;p26"/>
              <p:cNvSpPr/>
              <p:nvPr/>
            </p:nvSpPr>
            <p:spPr>
              <a:xfrm>
                <a:off x="227520" y="119340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Google Shape;1477;p26"/>
              <p:cNvSpPr/>
              <p:nvPr/>
            </p:nvSpPr>
            <p:spPr>
              <a:xfrm>
                <a:off x="636840" y="19800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Google Shape;1478;p26"/>
              <p:cNvSpPr/>
              <p:nvPr/>
            </p:nvSpPr>
            <p:spPr>
              <a:xfrm>
                <a:off x="255240" y="22082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Google Shape;1479;p26"/>
              <p:cNvSpPr/>
              <p:nvPr/>
            </p:nvSpPr>
            <p:spPr>
              <a:xfrm>
                <a:off x="8929440" y="44355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Google Shape;1480;p26"/>
              <p:cNvSpPr/>
              <p:nvPr/>
            </p:nvSpPr>
            <p:spPr>
              <a:xfrm>
                <a:off x="8700480" y="48160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Google Shape;1481;p26"/>
              <p:cNvSpPr/>
              <p:nvPr/>
            </p:nvSpPr>
            <p:spPr>
              <a:xfrm rot="5400000">
                <a:off x="2845800" y="469152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Google Shape;1482;p26"/>
              <p:cNvSpPr/>
              <p:nvPr/>
            </p:nvSpPr>
            <p:spPr>
              <a:xfrm rot="5400000">
                <a:off x="2076840" y="502344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Google Shape;1483;p26"/>
              <p:cNvSpPr/>
              <p:nvPr/>
            </p:nvSpPr>
            <p:spPr>
              <a:xfrm rot="10118400">
                <a:off x="8849520" y="3411720"/>
                <a:ext cx="73080" cy="72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Google Shape;1484;p26"/>
              <p:cNvSpPr/>
              <p:nvPr/>
            </p:nvSpPr>
            <p:spPr>
              <a:xfrm rot="10116600">
                <a:off x="8616960" y="30826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Google Shape;1485;p26"/>
              <p:cNvSpPr/>
              <p:nvPr/>
            </p:nvSpPr>
            <p:spPr>
              <a:xfrm>
                <a:off x="8718840" y="166788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Google Shape;1486;p26"/>
              <p:cNvSpPr/>
              <p:nvPr/>
            </p:nvSpPr>
            <p:spPr>
              <a:xfrm>
                <a:off x="8929440" y="21132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Google Shape;1487;p26"/>
              <p:cNvSpPr/>
              <p:nvPr/>
            </p:nvSpPr>
            <p:spPr>
              <a:xfrm rot="10118400">
                <a:off x="8315280" y="1013400"/>
                <a:ext cx="73080" cy="72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Google Shape;1488;p26"/>
              <p:cNvSpPr/>
              <p:nvPr/>
            </p:nvSpPr>
            <p:spPr>
              <a:xfrm rot="10116600">
                <a:off x="8742240" y="7664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Google Shape;1489;p26"/>
              <p:cNvSpPr/>
              <p:nvPr/>
            </p:nvSpPr>
            <p:spPr>
              <a:xfrm rot="16200000">
                <a:off x="8964360" y="2336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Google Shape;1490;p26"/>
              <p:cNvSpPr/>
              <p:nvPr/>
            </p:nvSpPr>
            <p:spPr>
              <a:xfrm rot="16200000">
                <a:off x="6801840" y="50036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Google Shape;1491;p26"/>
              <p:cNvSpPr/>
              <p:nvPr/>
            </p:nvSpPr>
            <p:spPr>
              <a:xfrm rot="4718400">
                <a:off x="6183000" y="4694400"/>
                <a:ext cx="7272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Google Shape;1492;p26"/>
              <p:cNvSpPr/>
              <p:nvPr/>
            </p:nvSpPr>
            <p:spPr>
              <a:xfrm rot="4716600">
                <a:off x="6234120" y="49543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Google Shape;1493;p26"/>
              <p:cNvSpPr/>
              <p:nvPr/>
            </p:nvSpPr>
            <p:spPr>
              <a:xfrm rot="16200000">
                <a:off x="4892400" y="495792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Google Shape;1494;p26"/>
              <p:cNvSpPr/>
              <p:nvPr/>
            </p:nvSpPr>
            <p:spPr>
              <a:xfrm rot="16200000">
                <a:off x="5262480" y="461484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Google Shape;1495;p26"/>
              <p:cNvSpPr/>
              <p:nvPr/>
            </p:nvSpPr>
            <p:spPr>
              <a:xfrm rot="16200000">
                <a:off x="5491440" y="50234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Google Shape;1496;p26"/>
              <p:cNvSpPr/>
              <p:nvPr/>
            </p:nvSpPr>
            <p:spPr>
              <a:xfrm rot="4718400">
                <a:off x="4312440" y="4846680"/>
                <a:ext cx="7272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Google Shape;1497;p26"/>
              <p:cNvSpPr/>
              <p:nvPr/>
            </p:nvSpPr>
            <p:spPr>
              <a:xfrm rot="4716600">
                <a:off x="3912480" y="48294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Google Shape;1498;p26"/>
              <p:cNvSpPr/>
              <p:nvPr/>
            </p:nvSpPr>
            <p:spPr>
              <a:xfrm rot="10800000">
                <a:off x="3301920" y="47602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Google Shape;1499;p26"/>
              <p:cNvSpPr/>
              <p:nvPr/>
            </p:nvSpPr>
            <p:spPr>
              <a:xfrm rot="5400000">
                <a:off x="142920" y="550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Google Shape;1500;p26"/>
              <p:cNvSpPr/>
              <p:nvPr/>
            </p:nvSpPr>
            <p:spPr>
              <a:xfrm rot="16200000">
                <a:off x="8015760" y="50234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Google Shape;1501;p26"/>
              <p:cNvSpPr/>
              <p:nvPr/>
            </p:nvSpPr>
            <p:spPr>
              <a:xfrm rot="16200000">
                <a:off x="9033480" y="50432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Google Shape;1502;p26"/>
              <p:cNvSpPr/>
              <p:nvPr/>
            </p:nvSpPr>
            <p:spPr>
              <a:xfrm>
                <a:off x="8386920" y="48222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Google Shape;1503;p26"/>
              <p:cNvSpPr/>
              <p:nvPr/>
            </p:nvSpPr>
            <p:spPr>
              <a:xfrm rot="16200000">
                <a:off x="7356240" y="47318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Google Shape;1504;p26"/>
              <p:cNvSpPr/>
              <p:nvPr/>
            </p:nvSpPr>
            <p:spPr>
              <a:xfrm rot="3133800">
                <a:off x="9033120" y="39232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Google Shape;1505;p26"/>
              <p:cNvSpPr/>
              <p:nvPr/>
            </p:nvSpPr>
            <p:spPr>
              <a:xfrm rot="19333200">
                <a:off x="8448120" y="40554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Google Shape;1506;p26"/>
              <p:cNvSpPr/>
              <p:nvPr/>
            </p:nvSpPr>
            <p:spPr>
              <a:xfrm>
                <a:off x="88920" y="37386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Google Shape;1507;p26"/>
              <p:cNvSpPr/>
              <p:nvPr/>
            </p:nvSpPr>
            <p:spPr>
              <a:xfrm>
                <a:off x="313920" y="42566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Google Shape;1508;p26"/>
              <p:cNvSpPr/>
              <p:nvPr/>
            </p:nvSpPr>
            <p:spPr>
              <a:xfrm>
                <a:off x="524160" y="47019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Google Shape;1509;p26"/>
              <p:cNvSpPr/>
              <p:nvPr/>
            </p:nvSpPr>
            <p:spPr>
              <a:xfrm>
                <a:off x="142920" y="49302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Google Shape;1510;p26"/>
              <p:cNvSpPr/>
              <p:nvPr/>
            </p:nvSpPr>
            <p:spPr>
              <a:xfrm rot="10118400">
                <a:off x="444240" y="3678480"/>
                <a:ext cx="73080" cy="72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Google Shape;1511;p26"/>
              <p:cNvSpPr/>
              <p:nvPr/>
            </p:nvSpPr>
            <p:spPr>
              <a:xfrm>
                <a:off x="458280" y="50533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Google Shape;1512;p26"/>
              <p:cNvSpPr/>
              <p:nvPr/>
            </p:nvSpPr>
            <p:spPr>
              <a:xfrm rot="10116600">
                <a:off x="241200" y="29977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Google Shape;1513;p26"/>
              <p:cNvSpPr/>
              <p:nvPr/>
            </p:nvSpPr>
            <p:spPr>
              <a:xfrm>
                <a:off x="119520" y="182088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Google Shape;1514;p26"/>
              <p:cNvSpPr/>
              <p:nvPr/>
            </p:nvSpPr>
            <p:spPr>
              <a:xfrm rot="10116600">
                <a:off x="289800" y="8046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Google Shape;1515;p26"/>
              <p:cNvSpPr/>
              <p:nvPr/>
            </p:nvSpPr>
            <p:spPr>
              <a:xfrm rot="15518400">
                <a:off x="1381680" y="4949280"/>
                <a:ext cx="7272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Google Shape;1516;p26"/>
              <p:cNvSpPr/>
              <p:nvPr/>
            </p:nvSpPr>
            <p:spPr>
              <a:xfrm rot="15516600">
                <a:off x="1733040" y="48423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Google Shape;1517;p26"/>
              <p:cNvSpPr/>
              <p:nvPr/>
            </p:nvSpPr>
            <p:spPr>
              <a:xfrm>
                <a:off x="2846160" y="50158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Google Shape;1518;p26"/>
              <p:cNvSpPr/>
              <p:nvPr/>
            </p:nvSpPr>
            <p:spPr>
              <a:xfrm rot="4718400">
                <a:off x="8659440" y="127440"/>
                <a:ext cx="7272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Google Shape;1519;p26"/>
              <p:cNvSpPr/>
              <p:nvPr/>
            </p:nvSpPr>
            <p:spPr>
              <a:xfrm rot="10116600">
                <a:off x="8863200" y="12164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Google Shape;1520;p26"/>
              <p:cNvSpPr/>
              <p:nvPr/>
            </p:nvSpPr>
            <p:spPr>
              <a:xfrm rot="16200000">
                <a:off x="8687520" y="26784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Google Shape;1521;p26"/>
              <p:cNvSpPr/>
              <p:nvPr/>
            </p:nvSpPr>
            <p:spPr>
              <a:xfrm rot="16200000">
                <a:off x="5937120" y="38556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Google Shape;1522;p26"/>
              <p:cNvSpPr/>
              <p:nvPr/>
            </p:nvSpPr>
            <p:spPr>
              <a:xfrm rot="16200000">
                <a:off x="7875000" y="604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Google Shape;1523;p26"/>
              <p:cNvSpPr/>
              <p:nvPr/>
            </p:nvSpPr>
            <p:spPr>
              <a:xfrm rot="16200000">
                <a:off x="8103960" y="4687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Google Shape;1524;p26"/>
              <p:cNvSpPr/>
              <p:nvPr/>
            </p:nvSpPr>
            <p:spPr>
              <a:xfrm>
                <a:off x="7610400" y="4759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Google Shape;1525;p26"/>
              <p:cNvSpPr/>
              <p:nvPr/>
            </p:nvSpPr>
            <p:spPr>
              <a:xfrm rot="16200000">
                <a:off x="6426720" y="1573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Google Shape;1526;p26"/>
              <p:cNvSpPr/>
              <p:nvPr/>
            </p:nvSpPr>
            <p:spPr>
              <a:xfrm rot="16200000">
                <a:off x="3083400" y="21780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Google Shape;1527;p26"/>
              <p:cNvSpPr/>
              <p:nvPr/>
            </p:nvSpPr>
            <p:spPr>
              <a:xfrm rot="16200000">
                <a:off x="3529440" y="273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Google Shape;1528;p26"/>
              <p:cNvSpPr/>
              <p:nvPr/>
            </p:nvSpPr>
            <p:spPr>
              <a:xfrm rot="16200000">
                <a:off x="3758400" y="4356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Google Shape;1529;p26"/>
              <p:cNvSpPr/>
              <p:nvPr/>
            </p:nvSpPr>
            <p:spPr>
              <a:xfrm rot="4718400">
                <a:off x="2503440" y="106920"/>
                <a:ext cx="7272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Google Shape;1530;p26"/>
              <p:cNvSpPr/>
              <p:nvPr/>
            </p:nvSpPr>
            <p:spPr>
              <a:xfrm rot="4716600">
                <a:off x="2179800" y="2415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Google Shape;1531;p26"/>
              <p:cNvSpPr/>
              <p:nvPr/>
            </p:nvSpPr>
            <p:spPr>
              <a:xfrm rot="16200000">
                <a:off x="3881520" y="1209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Google Shape;1532;p26"/>
              <p:cNvSpPr/>
              <p:nvPr/>
            </p:nvSpPr>
            <p:spPr>
              <a:xfrm rot="10800000">
                <a:off x="1568880" y="1724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Google Shape;1533;p26"/>
              <p:cNvSpPr/>
              <p:nvPr/>
            </p:nvSpPr>
            <p:spPr>
              <a:xfrm>
                <a:off x="5270400" y="3016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Google Shape;1534;p26"/>
              <p:cNvSpPr/>
              <p:nvPr/>
            </p:nvSpPr>
            <p:spPr>
              <a:xfrm>
                <a:off x="4671000" y="658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Google Shape;1535;p26"/>
              <p:cNvSpPr/>
              <p:nvPr/>
            </p:nvSpPr>
            <p:spPr>
              <a:xfrm>
                <a:off x="4289400" y="2944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Google Shape;1536;p26"/>
              <p:cNvSpPr/>
              <p:nvPr/>
            </p:nvSpPr>
            <p:spPr>
              <a:xfrm rot="4718400">
                <a:off x="819360" y="252360"/>
                <a:ext cx="7272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Google Shape;1537;p26"/>
              <p:cNvSpPr/>
              <p:nvPr/>
            </p:nvSpPr>
            <p:spPr>
              <a:xfrm rot="4716600">
                <a:off x="1099440" y="3600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Google Shape;1538;p26"/>
              <p:cNvSpPr/>
              <p:nvPr/>
            </p:nvSpPr>
            <p:spPr>
              <a:xfrm rot="10800000">
                <a:off x="7115040" y="406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Google Shape;1539;p26"/>
            <p:cNvGrpSpPr/>
            <p:nvPr/>
          </p:nvGrpSpPr>
          <p:grpSpPr>
            <a:xfrm>
              <a:off x="5019840" y="889560"/>
              <a:ext cx="3072600" cy="3294720"/>
              <a:chOff x="5019840" y="889560"/>
              <a:chExt cx="3072600" cy="3294720"/>
            </a:xfrm>
          </p:grpSpPr>
          <p:sp>
            <p:nvSpPr>
              <p:cNvPr id="1000" name="Google Shape;1540;p26"/>
              <p:cNvSpPr/>
              <p:nvPr/>
            </p:nvSpPr>
            <p:spPr>
              <a:xfrm>
                <a:off x="5019840" y="88956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Google Shape;1541;p26"/>
              <p:cNvSpPr/>
              <p:nvPr/>
            </p:nvSpPr>
            <p:spPr>
              <a:xfrm>
                <a:off x="8019360" y="41112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Google Shape;1542;p26"/>
              <p:cNvSpPr/>
              <p:nvPr/>
            </p:nvSpPr>
            <p:spPr>
              <a:xfrm rot="10116600">
                <a:off x="7736760" y="30823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oogle Shape;1543;p26"/>
            <p:cNvGrpSpPr/>
            <p:nvPr/>
          </p:nvGrpSpPr>
          <p:grpSpPr>
            <a:xfrm>
              <a:off x="1069200" y="3685320"/>
              <a:ext cx="467280" cy="705240"/>
              <a:chOff x="1069200" y="3685320"/>
              <a:chExt cx="467280" cy="705240"/>
            </a:xfrm>
          </p:grpSpPr>
          <p:sp>
            <p:nvSpPr>
              <p:cNvPr id="1004" name="Google Shape;1544;p26"/>
              <p:cNvSpPr/>
              <p:nvPr/>
            </p:nvSpPr>
            <p:spPr>
              <a:xfrm rot="20917200">
                <a:off x="1073160" y="3689280"/>
                <a:ext cx="46080" cy="46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320" bIns="-58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Google Shape;1545;p26"/>
              <p:cNvSpPr/>
              <p:nvPr/>
            </p:nvSpPr>
            <p:spPr>
              <a:xfrm rot="15518400">
                <a:off x="1128960" y="4309560"/>
                <a:ext cx="74160" cy="741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Google Shape;1546;p26"/>
              <p:cNvSpPr/>
              <p:nvPr/>
            </p:nvSpPr>
            <p:spPr>
              <a:xfrm rot="15517200">
                <a:off x="1486440" y="4201200"/>
                <a:ext cx="46080" cy="46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320" bIns="-58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Google Shape;1547;p26"/>
            <p:cNvGrpSpPr/>
            <p:nvPr/>
          </p:nvGrpSpPr>
          <p:grpSpPr>
            <a:xfrm>
              <a:off x="833400" y="645480"/>
              <a:ext cx="760680" cy="529200"/>
              <a:chOff x="833400" y="645480"/>
              <a:chExt cx="760680" cy="529200"/>
            </a:xfrm>
          </p:grpSpPr>
          <p:sp>
            <p:nvSpPr>
              <p:cNvPr id="1008" name="Google Shape;1548;p26"/>
              <p:cNvSpPr/>
              <p:nvPr/>
            </p:nvSpPr>
            <p:spPr>
              <a:xfrm rot="5400000">
                <a:off x="833400" y="64548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Google Shape;1549;p26"/>
              <p:cNvSpPr/>
              <p:nvPr/>
            </p:nvSpPr>
            <p:spPr>
              <a:xfrm rot="15518400">
                <a:off x="1513800" y="744480"/>
                <a:ext cx="73440" cy="738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Google Shape;1550;p26"/>
              <p:cNvSpPr/>
              <p:nvPr/>
            </p:nvSpPr>
            <p:spPr>
              <a:xfrm rot="15517200">
                <a:off x="1528200" y="112464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Google Shape;1551;p26"/>
            <p:cNvSpPr/>
            <p:nvPr/>
          </p:nvSpPr>
          <p:spPr>
            <a:xfrm rot="15516600">
              <a:off x="633600" y="32256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oogle Shape;1552;p26"/>
            <p:cNvGrpSpPr/>
            <p:nvPr/>
          </p:nvGrpSpPr>
          <p:grpSpPr>
            <a:xfrm>
              <a:off x="7044480" y="930240"/>
              <a:ext cx="869040" cy="870120"/>
              <a:chOff x="7044480" y="930240"/>
              <a:chExt cx="869040" cy="870120"/>
            </a:xfrm>
          </p:grpSpPr>
          <p:sp>
            <p:nvSpPr>
              <p:cNvPr id="1013" name="Google Shape;1553;p26"/>
              <p:cNvSpPr/>
              <p:nvPr/>
            </p:nvSpPr>
            <p:spPr>
              <a:xfrm rot="18886800">
                <a:off x="7427880" y="939600"/>
                <a:ext cx="45720" cy="46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320" bIns="-58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Google Shape;1554;p26"/>
              <p:cNvSpPr/>
              <p:nvPr/>
            </p:nvSpPr>
            <p:spPr>
              <a:xfrm rot="3370200">
                <a:off x="7389360" y="1745640"/>
                <a:ext cx="4608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Google Shape;1555;p26"/>
              <p:cNvSpPr/>
              <p:nvPr/>
            </p:nvSpPr>
            <p:spPr>
              <a:xfrm rot="3370200">
                <a:off x="7052760" y="1353600"/>
                <a:ext cx="4608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Google Shape;1556;p26"/>
              <p:cNvSpPr/>
              <p:nvPr/>
            </p:nvSpPr>
            <p:spPr>
              <a:xfrm rot="13488600">
                <a:off x="7824240" y="1414440"/>
                <a:ext cx="74160" cy="738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oogle Shape;1557;p26"/>
            <p:cNvGrpSpPr/>
            <p:nvPr/>
          </p:nvGrpSpPr>
          <p:grpSpPr>
            <a:xfrm>
              <a:off x="3291120" y="700200"/>
              <a:ext cx="4446000" cy="3714480"/>
              <a:chOff x="3291120" y="700200"/>
              <a:chExt cx="4446000" cy="3714480"/>
            </a:xfrm>
          </p:grpSpPr>
          <p:sp>
            <p:nvSpPr>
              <p:cNvPr id="1018" name="Google Shape;1558;p26"/>
              <p:cNvSpPr/>
              <p:nvPr/>
            </p:nvSpPr>
            <p:spPr>
              <a:xfrm rot="3370200">
                <a:off x="5590800" y="144972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Google Shape;1559;p26"/>
              <p:cNvSpPr/>
              <p:nvPr/>
            </p:nvSpPr>
            <p:spPr>
              <a:xfrm rot="13488600">
                <a:off x="7648920" y="43261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Google Shape;1560;p26"/>
              <p:cNvSpPr/>
              <p:nvPr/>
            </p:nvSpPr>
            <p:spPr>
              <a:xfrm rot="3370200">
                <a:off x="3299760" y="70884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Google Shape;1561;p26"/>
            <p:cNvGrpSpPr/>
            <p:nvPr/>
          </p:nvGrpSpPr>
          <p:grpSpPr>
            <a:xfrm>
              <a:off x="5634360" y="812880"/>
              <a:ext cx="2644200" cy="2745000"/>
              <a:chOff x="5634360" y="812880"/>
              <a:chExt cx="2644200" cy="2745000"/>
            </a:xfrm>
          </p:grpSpPr>
          <p:sp>
            <p:nvSpPr>
              <p:cNvPr id="1022" name="Google Shape;1562;p26"/>
              <p:cNvSpPr/>
              <p:nvPr/>
            </p:nvSpPr>
            <p:spPr>
              <a:xfrm rot="21124200">
                <a:off x="5637240" y="81576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Google Shape;1563;p26"/>
              <p:cNvSpPr/>
              <p:nvPr/>
            </p:nvSpPr>
            <p:spPr>
              <a:xfrm rot="15040800">
                <a:off x="6335640" y="105912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Google Shape;1564;p26"/>
              <p:cNvSpPr/>
              <p:nvPr/>
            </p:nvSpPr>
            <p:spPr>
              <a:xfrm rot="9642600">
                <a:off x="8195400" y="34747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Google Shape;1565;p26"/>
            <p:cNvGrpSpPr/>
            <p:nvPr/>
          </p:nvGrpSpPr>
          <p:grpSpPr>
            <a:xfrm>
              <a:off x="1976760" y="585720"/>
              <a:ext cx="506520" cy="183600"/>
              <a:chOff x="1976760" y="585720"/>
              <a:chExt cx="506520" cy="183600"/>
            </a:xfrm>
          </p:grpSpPr>
          <p:sp>
            <p:nvSpPr>
              <p:cNvPr id="1026" name="Google Shape;1566;p26"/>
              <p:cNvSpPr/>
              <p:nvPr/>
            </p:nvSpPr>
            <p:spPr>
              <a:xfrm rot="10118400">
                <a:off x="1983240" y="687240"/>
                <a:ext cx="73800" cy="756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Google Shape;1567;p26"/>
              <p:cNvSpPr/>
              <p:nvPr/>
            </p:nvSpPr>
            <p:spPr>
              <a:xfrm>
                <a:off x="2437200" y="585720"/>
                <a:ext cx="46080" cy="471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7960" bIns="-57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Google Shape;1568;p26"/>
            <p:cNvSpPr/>
            <p:nvPr/>
          </p:nvSpPr>
          <p:spPr>
            <a:xfrm>
              <a:off x="8384760" y="1816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Google Shape;1569;p26"/>
            <p:cNvSpPr/>
            <p:nvPr/>
          </p:nvSpPr>
          <p:spPr>
            <a:xfrm rot="15516600">
              <a:off x="6678000" y="762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Google Shape;1570;p26"/>
            <p:cNvSpPr/>
            <p:nvPr/>
          </p:nvSpPr>
          <p:spPr>
            <a:xfrm rot="10912800">
              <a:off x="8187120" y="24440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oogle Shape;1571;p26"/>
            <p:cNvGrpSpPr/>
            <p:nvPr/>
          </p:nvGrpSpPr>
          <p:grpSpPr>
            <a:xfrm>
              <a:off x="1248120" y="2995920"/>
              <a:ext cx="3327480" cy="1443600"/>
              <a:chOff x="1248120" y="2995920"/>
              <a:chExt cx="3327480" cy="1443600"/>
            </a:xfrm>
          </p:grpSpPr>
          <p:sp>
            <p:nvSpPr>
              <p:cNvPr id="1032" name="Google Shape;1572;p26"/>
              <p:cNvSpPr/>
              <p:nvPr/>
            </p:nvSpPr>
            <p:spPr>
              <a:xfrm rot="15040800">
                <a:off x="1254240" y="300204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Google Shape;1573;p26"/>
              <p:cNvSpPr/>
              <p:nvPr/>
            </p:nvSpPr>
            <p:spPr>
              <a:xfrm rot="9642600">
                <a:off x="4492080" y="4356000"/>
                <a:ext cx="73080" cy="7344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Google Shape;1574;p26"/>
            <p:cNvGrpSpPr/>
            <p:nvPr/>
          </p:nvGrpSpPr>
          <p:grpSpPr>
            <a:xfrm>
              <a:off x="884160" y="1450800"/>
              <a:ext cx="431640" cy="1201320"/>
              <a:chOff x="884160" y="1450800"/>
              <a:chExt cx="431640" cy="1201320"/>
            </a:xfrm>
          </p:grpSpPr>
          <p:sp>
            <p:nvSpPr>
              <p:cNvPr id="1035" name="Google Shape;1575;p26"/>
              <p:cNvSpPr/>
              <p:nvPr/>
            </p:nvSpPr>
            <p:spPr>
              <a:xfrm rot="20917200">
                <a:off x="1265760" y="178200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Google Shape;1576;p26"/>
              <p:cNvSpPr/>
              <p:nvPr/>
            </p:nvSpPr>
            <p:spPr>
              <a:xfrm rot="5400000">
                <a:off x="884160" y="145080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Google Shape;1577;p26"/>
              <p:cNvSpPr/>
              <p:nvPr/>
            </p:nvSpPr>
            <p:spPr>
              <a:xfrm rot="15518400">
                <a:off x="993960" y="2571840"/>
                <a:ext cx="73080" cy="738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Google Shape;1578;p26"/>
            <p:cNvGrpSpPr/>
            <p:nvPr/>
          </p:nvGrpSpPr>
          <p:grpSpPr>
            <a:xfrm>
              <a:off x="1396080" y="3651480"/>
              <a:ext cx="2327400" cy="814680"/>
              <a:chOff x="1396080" y="3651480"/>
              <a:chExt cx="2327400" cy="814680"/>
            </a:xfrm>
          </p:grpSpPr>
          <p:sp>
            <p:nvSpPr>
              <p:cNvPr id="1039" name="Google Shape;1579;p26"/>
              <p:cNvSpPr/>
              <p:nvPr/>
            </p:nvSpPr>
            <p:spPr>
              <a:xfrm rot="15517200">
                <a:off x="3673440" y="4416120"/>
                <a:ext cx="4608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Google Shape;1580;p26"/>
              <p:cNvSpPr/>
              <p:nvPr/>
            </p:nvSpPr>
            <p:spPr>
              <a:xfrm>
                <a:off x="2117520" y="4412880"/>
                <a:ext cx="45720" cy="46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320" bIns="-58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Google Shape;1581;p26"/>
              <p:cNvSpPr/>
              <p:nvPr/>
            </p:nvSpPr>
            <p:spPr>
              <a:xfrm rot="10118400">
                <a:off x="1402200" y="3657960"/>
                <a:ext cx="73440" cy="738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oogle Shape;1986;p34"/>
          <p:cNvGrpSpPr/>
          <p:nvPr/>
        </p:nvGrpSpPr>
        <p:grpSpPr>
          <a:xfrm>
            <a:off x="88920" y="23760"/>
            <a:ext cx="8998920" cy="5095800"/>
            <a:chOff x="88920" y="23760"/>
            <a:chExt cx="8998920" cy="5095800"/>
          </a:xfrm>
        </p:grpSpPr>
        <p:grpSp>
          <p:nvGrpSpPr>
            <p:cNvPr id="1081" name="Google Shape;1987;p34"/>
            <p:cNvGrpSpPr/>
            <p:nvPr/>
          </p:nvGrpSpPr>
          <p:grpSpPr>
            <a:xfrm>
              <a:off x="88920" y="23760"/>
              <a:ext cx="8998920" cy="5095800"/>
              <a:chOff x="88920" y="23760"/>
              <a:chExt cx="8998920" cy="5095800"/>
            </a:xfrm>
          </p:grpSpPr>
          <p:sp>
            <p:nvSpPr>
              <p:cNvPr id="1082" name="Google Shape;1988;p34"/>
              <p:cNvSpPr/>
              <p:nvPr/>
            </p:nvSpPr>
            <p:spPr>
              <a:xfrm flipH="1" rot="10800000">
                <a:off x="227160" y="385956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Google Shape;1989;p34"/>
              <p:cNvSpPr/>
              <p:nvPr/>
            </p:nvSpPr>
            <p:spPr>
              <a:xfrm flipH="1" rot="10800000">
                <a:off x="636480" y="30913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Google Shape;1990;p34"/>
              <p:cNvSpPr/>
              <p:nvPr/>
            </p:nvSpPr>
            <p:spPr>
              <a:xfrm flipH="1" rot="10800000">
                <a:off x="255240" y="28900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Google Shape;1991;p34"/>
              <p:cNvSpPr/>
              <p:nvPr/>
            </p:nvSpPr>
            <p:spPr>
              <a:xfrm flipH="1" rot="10800000">
                <a:off x="8929080" y="6321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Google Shape;1992;p34"/>
              <p:cNvSpPr/>
              <p:nvPr/>
            </p:nvSpPr>
            <p:spPr>
              <a:xfrm flipH="1" rot="10800000">
                <a:off x="8700480" y="2786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Google Shape;1993;p34"/>
              <p:cNvSpPr/>
              <p:nvPr/>
            </p:nvSpPr>
            <p:spPr>
              <a:xfrm flipH="1" rot="5400000">
                <a:off x="2845440" y="35640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Google Shape;1994;p34"/>
              <p:cNvSpPr/>
              <p:nvPr/>
            </p:nvSpPr>
            <p:spPr>
              <a:xfrm flipH="1" rot="5400000">
                <a:off x="1847520" y="42444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Google Shape;1995;p34"/>
              <p:cNvSpPr/>
              <p:nvPr/>
            </p:nvSpPr>
            <p:spPr>
              <a:xfrm flipH="1" rot="10800000">
                <a:off x="1047240" y="35784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Google Shape;1996;p34"/>
              <p:cNvSpPr/>
              <p:nvPr/>
            </p:nvSpPr>
            <p:spPr>
              <a:xfrm flipH="1" rot="681600">
                <a:off x="8849160" y="16567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Google Shape;1997;p34"/>
              <p:cNvSpPr/>
              <p:nvPr/>
            </p:nvSpPr>
            <p:spPr>
              <a:xfrm flipH="1" rot="10800000">
                <a:off x="8718480" y="338400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Google Shape;1998;p34"/>
              <p:cNvSpPr/>
              <p:nvPr/>
            </p:nvSpPr>
            <p:spPr>
              <a:xfrm flipH="1" rot="10800000">
                <a:off x="8929080" y="29577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Google Shape;1999;p34"/>
              <p:cNvSpPr/>
              <p:nvPr/>
            </p:nvSpPr>
            <p:spPr>
              <a:xfrm flipH="1" rot="681600">
                <a:off x="8543880" y="383004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Google Shape;2000;p34"/>
              <p:cNvSpPr/>
              <p:nvPr/>
            </p:nvSpPr>
            <p:spPr>
              <a:xfrm flipH="1" rot="682800">
                <a:off x="8741880" y="43336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Google Shape;2001;p34"/>
              <p:cNvSpPr/>
              <p:nvPr/>
            </p:nvSpPr>
            <p:spPr>
              <a:xfrm flipH="1" rot="16200000">
                <a:off x="8964360" y="48679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Google Shape;2002;p34"/>
              <p:cNvSpPr/>
              <p:nvPr/>
            </p:nvSpPr>
            <p:spPr>
              <a:xfrm flipH="1" rot="682800">
                <a:off x="8646120" y="46918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Google Shape;2003;p34"/>
              <p:cNvSpPr/>
              <p:nvPr/>
            </p:nvSpPr>
            <p:spPr>
              <a:xfrm flipH="1" rot="16200000">
                <a:off x="6801480" y="4356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Google Shape;2004;p34"/>
              <p:cNvSpPr/>
              <p:nvPr/>
            </p:nvSpPr>
            <p:spPr>
              <a:xfrm flipH="1" rot="6081600">
                <a:off x="6182280" y="6004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Google Shape;2005;p34"/>
              <p:cNvSpPr/>
              <p:nvPr/>
            </p:nvSpPr>
            <p:spPr>
              <a:xfrm flipH="1" rot="6082800">
                <a:off x="6234480" y="1396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Google Shape;2006;p34"/>
              <p:cNvSpPr/>
              <p:nvPr/>
            </p:nvSpPr>
            <p:spPr>
              <a:xfrm flipH="1" rot="16200000">
                <a:off x="4892040" y="896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Google Shape;2007;p34"/>
              <p:cNvSpPr/>
              <p:nvPr/>
            </p:nvSpPr>
            <p:spPr>
              <a:xfrm flipH="1" rot="16200000">
                <a:off x="5262120" y="4525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Google Shape;2008;p34"/>
              <p:cNvSpPr/>
              <p:nvPr/>
            </p:nvSpPr>
            <p:spPr>
              <a:xfrm flipH="1" rot="16200000">
                <a:off x="5491440" y="709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Google Shape;2009;p34"/>
              <p:cNvSpPr/>
              <p:nvPr/>
            </p:nvSpPr>
            <p:spPr>
              <a:xfrm flipH="1" rot="6081600">
                <a:off x="4311720" y="2196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Google Shape;2010;p34"/>
              <p:cNvSpPr/>
              <p:nvPr/>
            </p:nvSpPr>
            <p:spPr>
              <a:xfrm flipH="1" rot="6082800">
                <a:off x="3912840" y="2649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Google Shape;2011;p34"/>
              <p:cNvSpPr/>
              <p:nvPr/>
            </p:nvSpPr>
            <p:spPr>
              <a:xfrm flipH="1" rot="16200000">
                <a:off x="4622760" y="11484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Google Shape;2012;p34"/>
              <p:cNvSpPr/>
              <p:nvPr/>
            </p:nvSpPr>
            <p:spPr>
              <a:xfrm flipH="1">
                <a:off x="3301920" y="7153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Google Shape;2013;p34"/>
              <p:cNvSpPr/>
              <p:nvPr/>
            </p:nvSpPr>
            <p:spPr>
              <a:xfrm flipH="1" rot="6082800">
                <a:off x="3554640" y="1695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Google Shape;2014;p34"/>
              <p:cNvSpPr/>
              <p:nvPr/>
            </p:nvSpPr>
            <p:spPr>
              <a:xfrm flipH="1" rot="5400000">
                <a:off x="142920" y="5046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Google Shape;2015;p34"/>
              <p:cNvSpPr/>
              <p:nvPr/>
            </p:nvSpPr>
            <p:spPr>
              <a:xfrm flipH="1" rot="16200000">
                <a:off x="8015400" y="2376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Google Shape;2016;p34"/>
              <p:cNvSpPr/>
              <p:nvPr/>
            </p:nvSpPr>
            <p:spPr>
              <a:xfrm flipH="1" rot="16200000">
                <a:off x="9033480" y="51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Google Shape;2017;p34"/>
              <p:cNvSpPr/>
              <p:nvPr/>
            </p:nvSpPr>
            <p:spPr>
              <a:xfrm flipH="1" rot="10800000">
                <a:off x="8005320" y="5497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Google Shape;2018;p34"/>
              <p:cNvSpPr/>
              <p:nvPr/>
            </p:nvSpPr>
            <p:spPr>
              <a:xfrm flipH="1" rot="10800000">
                <a:off x="7778520" y="231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Google Shape;2019;p34"/>
              <p:cNvSpPr/>
              <p:nvPr/>
            </p:nvSpPr>
            <p:spPr>
              <a:xfrm flipH="1" rot="16200000">
                <a:off x="7356240" y="3628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Google Shape;2020;p34"/>
              <p:cNvSpPr/>
              <p:nvPr/>
            </p:nvSpPr>
            <p:spPr>
              <a:xfrm flipH="1" rot="7666200">
                <a:off x="9033480" y="1172880"/>
                <a:ext cx="45360" cy="450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400" bIns="-59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Google Shape;2021;p34"/>
              <p:cNvSpPr/>
              <p:nvPr/>
            </p:nvSpPr>
            <p:spPr>
              <a:xfrm flipH="1" rot="13066800">
                <a:off x="8447760" y="1040400"/>
                <a:ext cx="45360" cy="450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400" bIns="-59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Google Shape;2022;p34"/>
              <p:cNvSpPr/>
              <p:nvPr/>
            </p:nvSpPr>
            <p:spPr>
              <a:xfrm flipH="1" rot="10800000">
                <a:off x="88920" y="13579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Google Shape;2023;p34"/>
              <p:cNvSpPr/>
              <p:nvPr/>
            </p:nvSpPr>
            <p:spPr>
              <a:xfrm flipH="1" rot="10800000">
                <a:off x="313560" y="7916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Google Shape;2024;p34"/>
              <p:cNvSpPr/>
              <p:nvPr/>
            </p:nvSpPr>
            <p:spPr>
              <a:xfrm flipH="1" rot="10800000">
                <a:off x="523800" y="3654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Google Shape;2025;p34"/>
              <p:cNvSpPr/>
              <p:nvPr/>
            </p:nvSpPr>
            <p:spPr>
              <a:xfrm flipH="1" rot="10800000">
                <a:off x="142920" y="1641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Google Shape;2026;p34"/>
              <p:cNvSpPr/>
              <p:nvPr/>
            </p:nvSpPr>
            <p:spPr>
              <a:xfrm flipH="1" rot="681600">
                <a:off x="443880" y="13899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Google Shape;2027;p34"/>
              <p:cNvSpPr/>
              <p:nvPr/>
            </p:nvSpPr>
            <p:spPr>
              <a:xfrm flipH="1" rot="10800000">
                <a:off x="458280" y="410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Google Shape;2028;p34"/>
              <p:cNvSpPr/>
              <p:nvPr/>
            </p:nvSpPr>
            <p:spPr>
              <a:xfrm flipH="1" rot="16200000">
                <a:off x="406440" y="23515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Google Shape;2029;p34"/>
              <p:cNvSpPr/>
              <p:nvPr/>
            </p:nvSpPr>
            <p:spPr>
              <a:xfrm flipH="1" rot="682800">
                <a:off x="240840" y="20991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Google Shape;2030;p34"/>
              <p:cNvSpPr/>
              <p:nvPr/>
            </p:nvSpPr>
            <p:spPr>
              <a:xfrm flipH="1" rot="10800000">
                <a:off x="119160" y="323100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Google Shape;2031;p34"/>
              <p:cNvSpPr/>
              <p:nvPr/>
            </p:nvSpPr>
            <p:spPr>
              <a:xfrm flipH="1" rot="681600">
                <a:off x="4230000" y="40438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Google Shape;2032;p34"/>
              <p:cNvSpPr/>
              <p:nvPr/>
            </p:nvSpPr>
            <p:spPr>
              <a:xfrm flipH="1" rot="682800">
                <a:off x="506160" y="39963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Google Shape;2033;p34"/>
              <p:cNvSpPr/>
              <p:nvPr/>
            </p:nvSpPr>
            <p:spPr>
              <a:xfrm flipH="1" rot="16200000">
                <a:off x="455040" y="45478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Google Shape;2034;p34"/>
              <p:cNvSpPr/>
              <p:nvPr/>
            </p:nvSpPr>
            <p:spPr>
              <a:xfrm flipH="1" rot="682800">
                <a:off x="289440" y="42955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Google Shape;2035;p34"/>
              <p:cNvSpPr/>
              <p:nvPr/>
            </p:nvSpPr>
            <p:spPr>
              <a:xfrm flipH="1" rot="16881600">
                <a:off x="1381320" y="1173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Google Shape;2036;p34"/>
              <p:cNvSpPr/>
              <p:nvPr/>
            </p:nvSpPr>
            <p:spPr>
              <a:xfrm flipH="1" rot="16883400">
                <a:off x="2113920" y="9378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Google Shape;2037;p34"/>
              <p:cNvSpPr/>
              <p:nvPr/>
            </p:nvSpPr>
            <p:spPr>
              <a:xfrm flipH="1" rot="10800000">
                <a:off x="2846160" y="788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Google Shape;2038;p34"/>
              <p:cNvSpPr/>
              <p:nvPr/>
            </p:nvSpPr>
            <p:spPr>
              <a:xfrm flipH="1" rot="16883400">
                <a:off x="2396160" y="2714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Google Shape;2039;p34"/>
              <p:cNvSpPr/>
              <p:nvPr/>
            </p:nvSpPr>
            <p:spPr>
              <a:xfrm flipH="1" rot="16200000">
                <a:off x="479880" y="49874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Google Shape;2040;p34"/>
              <p:cNvSpPr/>
              <p:nvPr/>
            </p:nvSpPr>
            <p:spPr>
              <a:xfrm flipH="1" rot="16200000">
                <a:off x="9024840" y="43617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Google Shape;2041;p34"/>
              <p:cNvSpPr/>
              <p:nvPr/>
            </p:nvSpPr>
            <p:spPr>
              <a:xfrm flipH="1" rot="6081600">
                <a:off x="8658720" y="49453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Google Shape;2042;p34"/>
              <p:cNvSpPr/>
              <p:nvPr/>
            </p:nvSpPr>
            <p:spPr>
              <a:xfrm flipH="1" rot="16200000">
                <a:off x="8687160" y="23914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Google Shape;2043;p34"/>
              <p:cNvSpPr/>
              <p:nvPr/>
            </p:nvSpPr>
            <p:spPr>
              <a:xfrm flipH="1" rot="16200000">
                <a:off x="8916480" y="20102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Google Shape;2044;p34"/>
              <p:cNvSpPr/>
              <p:nvPr/>
            </p:nvSpPr>
            <p:spPr>
              <a:xfrm flipH="1" rot="16200000">
                <a:off x="5936760" y="466848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Google Shape;2045;p34"/>
              <p:cNvSpPr/>
              <p:nvPr/>
            </p:nvSpPr>
            <p:spPr>
              <a:xfrm flipH="1" rot="16200000">
                <a:off x="8103960" y="4632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Google Shape;2046;p34"/>
              <p:cNvSpPr/>
              <p:nvPr/>
            </p:nvSpPr>
            <p:spPr>
              <a:xfrm flipH="1" rot="10800000">
                <a:off x="7610040" y="48258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Google Shape;2047;p34"/>
              <p:cNvSpPr/>
              <p:nvPr/>
            </p:nvSpPr>
            <p:spPr>
              <a:xfrm flipH="1" rot="10800000">
                <a:off x="6849000" y="48121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Google Shape;2048;p34"/>
              <p:cNvSpPr/>
              <p:nvPr/>
            </p:nvSpPr>
            <p:spPr>
              <a:xfrm flipH="1" rot="16200000">
                <a:off x="5629320" y="49208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Google Shape;2049;p34"/>
              <p:cNvSpPr/>
              <p:nvPr/>
            </p:nvSpPr>
            <p:spPr>
              <a:xfrm flipH="1" rot="16200000">
                <a:off x="6426720" y="49438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Google Shape;2050;p34"/>
              <p:cNvSpPr/>
              <p:nvPr/>
            </p:nvSpPr>
            <p:spPr>
              <a:xfrm flipH="1" rot="16200000">
                <a:off x="3083040" y="4836240"/>
                <a:ext cx="92520" cy="925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Google Shape;2051;p34"/>
              <p:cNvSpPr/>
              <p:nvPr/>
            </p:nvSpPr>
            <p:spPr>
              <a:xfrm flipH="1" rot="16200000">
                <a:off x="3529080" y="50464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Google Shape;2052;p34"/>
              <p:cNvSpPr/>
              <p:nvPr/>
            </p:nvSpPr>
            <p:spPr>
              <a:xfrm flipH="1" rot="16200000">
                <a:off x="3758400" y="46652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Google Shape;2053;p34"/>
              <p:cNvSpPr/>
              <p:nvPr/>
            </p:nvSpPr>
            <p:spPr>
              <a:xfrm flipH="1" rot="6081600">
                <a:off x="2502720" y="49662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Google Shape;2054;p34"/>
              <p:cNvSpPr/>
              <p:nvPr/>
            </p:nvSpPr>
            <p:spPr>
              <a:xfrm flipH="1" rot="16200000">
                <a:off x="3881520" y="49806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Google Shape;2055;p34"/>
              <p:cNvSpPr/>
              <p:nvPr/>
            </p:nvSpPr>
            <p:spPr>
              <a:xfrm flipH="1">
                <a:off x="1568880" y="49287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Google Shape;2056;p34"/>
              <p:cNvSpPr/>
              <p:nvPr/>
            </p:nvSpPr>
            <p:spPr>
              <a:xfrm flipH="1" rot="6082800">
                <a:off x="1821600" y="47638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Google Shape;2057;p34"/>
              <p:cNvSpPr/>
              <p:nvPr/>
            </p:nvSpPr>
            <p:spPr>
              <a:xfrm flipH="1" rot="10800000">
                <a:off x="4812480" y="47995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Google Shape;2058;p34"/>
              <p:cNvSpPr/>
              <p:nvPr/>
            </p:nvSpPr>
            <p:spPr>
              <a:xfrm flipH="1" rot="10800000">
                <a:off x="4670640" y="500760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Google Shape;2059;p34"/>
              <p:cNvSpPr/>
              <p:nvPr/>
            </p:nvSpPr>
            <p:spPr>
              <a:xfrm flipH="1" rot="10800000">
                <a:off x="4289400" y="48067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Google Shape;2060;p34"/>
              <p:cNvSpPr/>
              <p:nvPr/>
            </p:nvSpPr>
            <p:spPr>
              <a:xfrm flipH="1" rot="6081600">
                <a:off x="818640" y="482076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Google Shape;2061;p34"/>
              <p:cNvSpPr/>
              <p:nvPr/>
            </p:nvSpPr>
            <p:spPr>
              <a:xfrm flipH="1" rot="6082800">
                <a:off x="1099800" y="474084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Google Shape;2062;p34"/>
              <p:cNvSpPr/>
              <p:nvPr/>
            </p:nvSpPr>
            <p:spPr>
              <a:xfrm flipH="1">
                <a:off x="7115040" y="506016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Google Shape;2063;p34"/>
            <p:cNvSpPr/>
            <p:nvPr/>
          </p:nvSpPr>
          <p:spPr>
            <a:xfrm flipH="1" rot="10800000">
              <a:off x="7866720" y="1109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8" name="Google Shape;2064;p34"/>
            <p:cNvGrpSpPr/>
            <p:nvPr/>
          </p:nvGrpSpPr>
          <p:grpSpPr>
            <a:xfrm>
              <a:off x="1083960" y="571320"/>
              <a:ext cx="2886120" cy="495720"/>
              <a:chOff x="1083960" y="571320"/>
              <a:chExt cx="2886120" cy="495720"/>
            </a:xfrm>
          </p:grpSpPr>
          <p:sp>
            <p:nvSpPr>
              <p:cNvPr id="1159" name="Google Shape;2065;p34"/>
              <p:cNvSpPr/>
              <p:nvPr/>
            </p:nvSpPr>
            <p:spPr>
              <a:xfrm flipH="1" rot="5400000">
                <a:off x="1083960" y="10216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Google Shape;2066;p34"/>
              <p:cNvSpPr/>
              <p:nvPr/>
            </p:nvSpPr>
            <p:spPr>
              <a:xfrm flipH="1" rot="16881600">
                <a:off x="1360440" y="91584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Google Shape;2067;p34"/>
              <p:cNvSpPr/>
              <p:nvPr/>
            </p:nvSpPr>
            <p:spPr>
              <a:xfrm flipH="1" rot="5400000">
                <a:off x="3924720" y="5713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Google Shape;2068;p34"/>
            <p:cNvGrpSpPr/>
            <p:nvPr/>
          </p:nvGrpSpPr>
          <p:grpSpPr>
            <a:xfrm>
              <a:off x="833400" y="3513600"/>
              <a:ext cx="3936960" cy="987120"/>
              <a:chOff x="833400" y="3513600"/>
              <a:chExt cx="3936960" cy="987120"/>
            </a:xfrm>
          </p:grpSpPr>
          <p:sp>
            <p:nvSpPr>
              <p:cNvPr id="1163" name="Google Shape;2069;p34"/>
              <p:cNvSpPr/>
              <p:nvPr/>
            </p:nvSpPr>
            <p:spPr>
              <a:xfrm flipH="1" rot="11483400">
                <a:off x="4720320" y="435312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Google Shape;2070;p34"/>
              <p:cNvSpPr/>
              <p:nvPr/>
            </p:nvSpPr>
            <p:spPr>
              <a:xfrm flipH="1" rot="5400000">
                <a:off x="833040" y="445500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Google Shape;2071;p34"/>
              <p:cNvSpPr/>
              <p:nvPr/>
            </p:nvSpPr>
            <p:spPr>
              <a:xfrm flipH="1" rot="16881600">
                <a:off x="1737000" y="3869280"/>
                <a:ext cx="7344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Google Shape;2072;p34"/>
              <p:cNvSpPr/>
              <p:nvPr/>
            </p:nvSpPr>
            <p:spPr>
              <a:xfrm flipH="1" rot="5400000">
                <a:off x="1525320" y="418356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Google Shape;2073;p34"/>
              <p:cNvSpPr/>
              <p:nvPr/>
            </p:nvSpPr>
            <p:spPr>
              <a:xfrm flipH="1" rot="16883400">
                <a:off x="1749960" y="3517920"/>
                <a:ext cx="45720" cy="450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400" bIns="-59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oogle Shape;2074;p34"/>
            <p:cNvGrpSpPr/>
            <p:nvPr/>
          </p:nvGrpSpPr>
          <p:grpSpPr>
            <a:xfrm>
              <a:off x="625320" y="1863720"/>
              <a:ext cx="6304320" cy="1878480"/>
              <a:chOff x="625320" y="1863720"/>
              <a:chExt cx="6304320" cy="1878480"/>
            </a:xfrm>
          </p:grpSpPr>
          <p:sp>
            <p:nvSpPr>
              <p:cNvPr id="1169" name="Google Shape;2075;p34"/>
              <p:cNvSpPr/>
              <p:nvPr/>
            </p:nvSpPr>
            <p:spPr>
              <a:xfrm flipH="1" rot="16883400">
                <a:off x="628200" y="1868040"/>
                <a:ext cx="45720" cy="450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400" bIns="-59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Google Shape;2076;p34"/>
              <p:cNvSpPr/>
              <p:nvPr/>
            </p:nvSpPr>
            <p:spPr>
              <a:xfrm flipH="1" rot="16883400">
                <a:off x="6879600" y="3692520"/>
                <a:ext cx="45720" cy="450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400" bIns="-59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oogle Shape;2077;p34"/>
            <p:cNvGrpSpPr/>
            <p:nvPr/>
          </p:nvGrpSpPr>
          <p:grpSpPr>
            <a:xfrm>
              <a:off x="6358680" y="3639960"/>
              <a:ext cx="1746000" cy="568080"/>
              <a:chOff x="6358680" y="3639960"/>
              <a:chExt cx="1746000" cy="568080"/>
            </a:xfrm>
          </p:grpSpPr>
          <p:sp>
            <p:nvSpPr>
              <p:cNvPr id="1172" name="Google Shape;2078;p34"/>
              <p:cNvSpPr/>
              <p:nvPr/>
            </p:nvSpPr>
            <p:spPr>
              <a:xfrm flipH="1" rot="13513200">
                <a:off x="7428240" y="415296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Google Shape;2079;p34"/>
              <p:cNvSpPr/>
              <p:nvPr/>
            </p:nvSpPr>
            <p:spPr>
              <a:xfrm flipH="1" rot="7429800">
                <a:off x="6366960" y="4048560"/>
                <a:ext cx="45720" cy="46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320" bIns="-58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Google Shape;2080;p34"/>
              <p:cNvSpPr/>
              <p:nvPr/>
            </p:nvSpPr>
            <p:spPr>
              <a:xfrm flipH="1" rot="18911400">
                <a:off x="7822080" y="3655080"/>
                <a:ext cx="7344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Google Shape;2081;p34"/>
              <p:cNvSpPr/>
              <p:nvPr/>
            </p:nvSpPr>
            <p:spPr>
              <a:xfrm flipH="1" rot="18913200">
                <a:off x="8049600" y="395784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Google Shape;2082;p34"/>
            <p:cNvGrpSpPr/>
            <p:nvPr/>
          </p:nvGrpSpPr>
          <p:grpSpPr>
            <a:xfrm>
              <a:off x="6565320" y="737640"/>
              <a:ext cx="978120" cy="736920"/>
              <a:chOff x="6565320" y="737640"/>
              <a:chExt cx="978120" cy="736920"/>
            </a:xfrm>
          </p:grpSpPr>
          <p:sp>
            <p:nvSpPr>
              <p:cNvPr id="1177" name="Google Shape;2083;p34"/>
              <p:cNvSpPr/>
              <p:nvPr/>
            </p:nvSpPr>
            <p:spPr>
              <a:xfrm flipH="1" rot="7429800">
                <a:off x="6905880" y="7462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Google Shape;2084;p34"/>
              <p:cNvSpPr/>
              <p:nvPr/>
            </p:nvSpPr>
            <p:spPr>
              <a:xfrm flipH="1" rot="7429800">
                <a:off x="6573600" y="113292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Google Shape;2085;p34"/>
              <p:cNvSpPr/>
              <p:nvPr/>
            </p:nvSpPr>
            <p:spPr>
              <a:xfrm flipH="1" rot="7429800">
                <a:off x="7488720" y="142020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Google Shape;2086;p34"/>
            <p:cNvSpPr/>
            <p:nvPr/>
          </p:nvSpPr>
          <p:spPr>
            <a:xfrm flipH="1" rot="5059200">
              <a:off x="6296760" y="862200"/>
              <a:ext cx="4536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oogle Shape;2087;p34"/>
            <p:cNvGrpSpPr/>
            <p:nvPr/>
          </p:nvGrpSpPr>
          <p:grpSpPr>
            <a:xfrm>
              <a:off x="5826960" y="1584000"/>
              <a:ext cx="2451960" cy="2847960"/>
              <a:chOff x="5826960" y="1584000"/>
              <a:chExt cx="2451960" cy="2847960"/>
            </a:xfrm>
          </p:grpSpPr>
          <p:sp>
            <p:nvSpPr>
              <p:cNvPr id="1182" name="Google Shape;2088;p34"/>
              <p:cNvSpPr/>
              <p:nvPr/>
            </p:nvSpPr>
            <p:spPr>
              <a:xfrm flipH="1" rot="11276400">
                <a:off x="5829840" y="438336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Google Shape;2089;p34"/>
              <p:cNvSpPr/>
              <p:nvPr/>
            </p:nvSpPr>
            <p:spPr>
              <a:xfrm flipH="1" rot="1157400">
                <a:off x="8195040" y="159372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oogle Shape;2090;p34"/>
            <p:cNvGrpSpPr/>
            <p:nvPr/>
          </p:nvGrpSpPr>
          <p:grpSpPr>
            <a:xfrm>
              <a:off x="1977120" y="3655440"/>
              <a:ext cx="3720960" cy="905040"/>
              <a:chOff x="1977120" y="3655440"/>
              <a:chExt cx="3720960" cy="905040"/>
            </a:xfrm>
          </p:grpSpPr>
          <p:sp>
            <p:nvSpPr>
              <p:cNvPr id="1185" name="Google Shape;2091;p34"/>
              <p:cNvSpPr/>
              <p:nvPr/>
            </p:nvSpPr>
            <p:spPr>
              <a:xfrm flipH="1" rot="16883400">
                <a:off x="5648040" y="410544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Google Shape;2092;p34"/>
              <p:cNvSpPr/>
              <p:nvPr/>
            </p:nvSpPr>
            <p:spPr>
              <a:xfrm flipH="1" rot="10800000">
                <a:off x="2669400" y="365544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Google Shape;2093;p34"/>
              <p:cNvSpPr/>
              <p:nvPr/>
            </p:nvSpPr>
            <p:spPr>
              <a:xfrm flipH="1" rot="16883400">
                <a:off x="2492640" y="3972240"/>
                <a:ext cx="4536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Google Shape;2094;p34"/>
              <p:cNvSpPr/>
              <p:nvPr/>
            </p:nvSpPr>
            <p:spPr>
              <a:xfrm flipH="1" rot="681600">
                <a:off x="1983240" y="4389480"/>
                <a:ext cx="73080" cy="73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Google Shape;2095;p34"/>
              <p:cNvSpPr/>
              <p:nvPr/>
            </p:nvSpPr>
            <p:spPr>
              <a:xfrm flipH="1" rot="10800000">
                <a:off x="2432880" y="451512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Google Shape;2096;p34"/>
              <p:cNvSpPr/>
              <p:nvPr/>
            </p:nvSpPr>
            <p:spPr>
              <a:xfrm flipH="1" rot="682800">
                <a:off x="3021840" y="4283280"/>
                <a:ext cx="4536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Google Shape;2097;p34"/>
            <p:cNvSpPr/>
            <p:nvPr/>
          </p:nvSpPr>
          <p:spPr>
            <a:xfrm flipH="1" rot="10800000">
              <a:off x="8384760" y="3282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Google Shape;2098;p34"/>
            <p:cNvSpPr/>
            <p:nvPr/>
          </p:nvSpPr>
          <p:spPr>
            <a:xfrm flipH="1" rot="16883400">
              <a:off x="6976800" y="4554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Google Shape;2099;p34"/>
            <p:cNvGrpSpPr/>
            <p:nvPr/>
          </p:nvGrpSpPr>
          <p:grpSpPr>
            <a:xfrm>
              <a:off x="8186040" y="2134080"/>
              <a:ext cx="71640" cy="565920"/>
              <a:chOff x="8186040" y="2134080"/>
              <a:chExt cx="71640" cy="565920"/>
            </a:xfrm>
          </p:grpSpPr>
          <p:sp>
            <p:nvSpPr>
              <p:cNvPr id="1194" name="Google Shape;2100;p34"/>
              <p:cNvSpPr/>
              <p:nvPr/>
            </p:nvSpPr>
            <p:spPr>
              <a:xfrm flipH="1" rot="5960400">
                <a:off x="8206920" y="2136240"/>
                <a:ext cx="45720" cy="4824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6880" bIns="-56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Google Shape;2101;p34"/>
              <p:cNvSpPr/>
              <p:nvPr/>
            </p:nvSpPr>
            <p:spPr>
              <a:xfrm flipH="1" rot="21477600">
                <a:off x="8186760" y="2653200"/>
                <a:ext cx="4788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Google Shape;2102;p34"/>
            <p:cNvSpPr/>
            <p:nvPr/>
          </p:nvSpPr>
          <p:spPr>
            <a:xfrm flipH="1" rot="1164000">
              <a:off x="2732400" y="1402560"/>
              <a:ext cx="7272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7" name="Google Shape;2103;p34"/>
            <p:cNvGrpSpPr/>
            <p:nvPr/>
          </p:nvGrpSpPr>
          <p:grpSpPr>
            <a:xfrm>
              <a:off x="884160" y="2491200"/>
              <a:ext cx="431640" cy="1620360"/>
              <a:chOff x="884160" y="2491200"/>
              <a:chExt cx="431640" cy="1620360"/>
            </a:xfrm>
          </p:grpSpPr>
          <p:sp>
            <p:nvSpPr>
              <p:cNvPr id="1198" name="Google Shape;2104;p34"/>
              <p:cNvSpPr/>
              <p:nvPr/>
            </p:nvSpPr>
            <p:spPr>
              <a:xfrm flipH="1" rot="11483400">
                <a:off x="1169640" y="406188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Google Shape;2105;p34"/>
              <p:cNvSpPr/>
              <p:nvPr/>
            </p:nvSpPr>
            <p:spPr>
              <a:xfrm flipH="1" rot="5400000">
                <a:off x="945000" y="314064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Google Shape;2106;p34"/>
              <p:cNvSpPr/>
              <p:nvPr/>
            </p:nvSpPr>
            <p:spPr>
              <a:xfrm flipH="1" rot="11483400">
                <a:off x="1265760" y="331776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Google Shape;2107;p34"/>
              <p:cNvSpPr/>
              <p:nvPr/>
            </p:nvSpPr>
            <p:spPr>
              <a:xfrm flipH="1" rot="5400000">
                <a:off x="883800" y="3650040"/>
                <a:ext cx="45720" cy="4572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680" bIns="-58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Google Shape;2108;p34"/>
              <p:cNvSpPr/>
              <p:nvPr/>
            </p:nvSpPr>
            <p:spPr>
              <a:xfrm flipH="1" rot="16881600">
                <a:off x="993600" y="2497320"/>
                <a:ext cx="73440" cy="7380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oogle Shape;2109;p34"/>
            <p:cNvGrpSpPr/>
            <p:nvPr/>
          </p:nvGrpSpPr>
          <p:grpSpPr>
            <a:xfrm>
              <a:off x="2626200" y="746280"/>
              <a:ext cx="3024720" cy="370440"/>
              <a:chOff x="2626200" y="746280"/>
              <a:chExt cx="3024720" cy="370440"/>
            </a:xfrm>
          </p:grpSpPr>
          <p:sp>
            <p:nvSpPr>
              <p:cNvPr id="1204" name="Google Shape;2110;p34"/>
              <p:cNvSpPr/>
              <p:nvPr/>
            </p:nvSpPr>
            <p:spPr>
              <a:xfrm flipH="1" rot="16883400">
                <a:off x="5601240" y="81612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Google Shape;2111;p34"/>
              <p:cNvSpPr/>
              <p:nvPr/>
            </p:nvSpPr>
            <p:spPr>
              <a:xfrm flipH="1" rot="10800000">
                <a:off x="2626200" y="746280"/>
                <a:ext cx="45360" cy="4608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8320" bIns="-58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Google Shape;2112;p34"/>
              <p:cNvSpPr/>
              <p:nvPr/>
            </p:nvSpPr>
            <p:spPr>
              <a:xfrm flipH="1" rot="16883400">
                <a:off x="3594240" y="1066680"/>
                <a:ext cx="45720" cy="45360"/>
              </a:xfrm>
              <a:prstGeom prst="ellipse">
                <a:avLst/>
              </a:pr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9040" bIns="-59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oogle Shape;9;p2"/>
          <p:cNvGrpSpPr/>
          <p:nvPr/>
        </p:nvGrpSpPr>
        <p:grpSpPr>
          <a:xfrm>
            <a:off x="120600" y="23400"/>
            <a:ext cx="8961120" cy="5095800"/>
            <a:chOff x="120600" y="23400"/>
            <a:chExt cx="8961120" cy="5095800"/>
          </a:xfrm>
        </p:grpSpPr>
        <p:sp>
          <p:nvSpPr>
            <p:cNvPr id="39" name="Google Shape;10;p2"/>
            <p:cNvSpPr/>
            <p:nvPr/>
          </p:nvSpPr>
          <p:spPr>
            <a:xfrm>
              <a:off x="228600" y="11908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Google Shape;11;p2"/>
            <p:cNvSpPr/>
            <p:nvPr/>
          </p:nvSpPr>
          <p:spPr>
            <a:xfrm>
              <a:off x="637200" y="19785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Google Shape;12;p2"/>
            <p:cNvSpPr/>
            <p:nvPr/>
          </p:nvSpPr>
          <p:spPr>
            <a:xfrm>
              <a:off x="256320" y="2207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Google Shape;13;p2"/>
            <p:cNvSpPr/>
            <p:nvPr/>
          </p:nvSpPr>
          <p:spPr>
            <a:xfrm>
              <a:off x="8514360" y="36500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Google Shape;14;p2"/>
            <p:cNvSpPr/>
            <p:nvPr/>
          </p:nvSpPr>
          <p:spPr>
            <a:xfrm>
              <a:off x="8923320" y="44377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Google Shape;15;p2"/>
            <p:cNvSpPr/>
            <p:nvPr/>
          </p:nvSpPr>
          <p:spPr>
            <a:xfrm>
              <a:off x="8694720" y="4818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Google Shape;16;p2"/>
            <p:cNvSpPr/>
            <p:nvPr/>
          </p:nvSpPr>
          <p:spPr>
            <a:xfrm rot="5400000">
              <a:off x="2844720" y="46940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Google Shape;17;p2"/>
            <p:cNvSpPr/>
            <p:nvPr/>
          </p:nvSpPr>
          <p:spPr>
            <a:xfrm rot="5400000">
              <a:off x="2076120" y="50266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Google Shape;18;p2"/>
            <p:cNvSpPr/>
            <p:nvPr/>
          </p:nvSpPr>
          <p:spPr>
            <a:xfrm rot="5400000">
              <a:off x="1875600" y="4645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Google Shape;19;p2"/>
            <p:cNvSpPr/>
            <p:nvPr/>
          </p:nvSpPr>
          <p:spPr>
            <a:xfrm>
              <a:off x="1047960" y="47120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Google Shape;20;p2"/>
            <p:cNvSpPr/>
            <p:nvPr/>
          </p:nvSpPr>
          <p:spPr>
            <a:xfrm>
              <a:off x="666720" y="49406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Google Shape;21;p2"/>
            <p:cNvSpPr/>
            <p:nvPr/>
          </p:nvSpPr>
          <p:spPr>
            <a:xfrm rot="10118400">
              <a:off x="8843040" y="34124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Google Shape;22;p2"/>
            <p:cNvSpPr/>
            <p:nvPr/>
          </p:nvSpPr>
          <p:spPr>
            <a:xfrm rot="10116600">
              <a:off x="8610840" y="30830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Google Shape;23;p2"/>
            <p:cNvSpPr/>
            <p:nvPr/>
          </p:nvSpPr>
          <p:spPr>
            <a:xfrm>
              <a:off x="8713080" y="16664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Google Shape;24;p2"/>
            <p:cNvSpPr/>
            <p:nvPr/>
          </p:nvSpPr>
          <p:spPr>
            <a:xfrm>
              <a:off x="8923320" y="21121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Google Shape;25;p2"/>
            <p:cNvSpPr/>
            <p:nvPr/>
          </p:nvSpPr>
          <p:spPr>
            <a:xfrm>
              <a:off x="8542440" y="2340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Google Shape;26;p2"/>
            <p:cNvSpPr/>
            <p:nvPr/>
          </p:nvSpPr>
          <p:spPr>
            <a:xfrm rot="10118400">
              <a:off x="8538120" y="12391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Google Shape;27;p2"/>
            <p:cNvSpPr/>
            <p:nvPr/>
          </p:nvSpPr>
          <p:spPr>
            <a:xfrm rot="10116600">
              <a:off x="8736120" y="7635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Google Shape;28;p2"/>
            <p:cNvSpPr/>
            <p:nvPr/>
          </p:nvSpPr>
          <p:spPr>
            <a:xfrm>
              <a:off x="8857440" y="2463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Google Shape;29;p2"/>
            <p:cNvSpPr/>
            <p:nvPr/>
          </p:nvSpPr>
          <p:spPr>
            <a:xfrm rot="16200000">
              <a:off x="8958240" y="229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Google Shape;30;p2"/>
            <p:cNvSpPr/>
            <p:nvPr/>
          </p:nvSpPr>
          <p:spPr>
            <a:xfrm rot="10116600">
              <a:off x="8640720" y="405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Google Shape;31;p2"/>
            <p:cNvSpPr/>
            <p:nvPr/>
          </p:nvSpPr>
          <p:spPr>
            <a:xfrm rot="16200000">
              <a:off x="6797520" y="50068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Google Shape;32;p2"/>
            <p:cNvSpPr/>
            <p:nvPr/>
          </p:nvSpPr>
          <p:spPr>
            <a:xfrm rot="4718400">
              <a:off x="6178680" y="46976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Google Shape;33;p2"/>
            <p:cNvSpPr/>
            <p:nvPr/>
          </p:nvSpPr>
          <p:spPr>
            <a:xfrm rot="4716600">
              <a:off x="6230160" y="49575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Google Shape;34;p2"/>
            <p:cNvSpPr/>
            <p:nvPr/>
          </p:nvSpPr>
          <p:spPr>
            <a:xfrm rot="16200000">
              <a:off x="4813560" y="480852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Google Shape;35;p2"/>
            <p:cNvSpPr/>
            <p:nvPr/>
          </p:nvSpPr>
          <p:spPr>
            <a:xfrm rot="16200000">
              <a:off x="5259240" y="46173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oogle Shape;36;p2"/>
            <p:cNvSpPr/>
            <p:nvPr/>
          </p:nvSpPr>
          <p:spPr>
            <a:xfrm rot="16200000">
              <a:off x="5487840" y="5026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Google Shape;37;p2"/>
            <p:cNvSpPr/>
            <p:nvPr/>
          </p:nvSpPr>
          <p:spPr>
            <a:xfrm rot="4718400">
              <a:off x="4233600" y="46976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Google Shape;38;p2"/>
            <p:cNvSpPr/>
            <p:nvPr/>
          </p:nvSpPr>
          <p:spPr>
            <a:xfrm rot="4716600">
              <a:off x="3910680" y="4832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Google Shape;39;p2"/>
            <p:cNvSpPr/>
            <p:nvPr/>
          </p:nvSpPr>
          <p:spPr>
            <a:xfrm rot="16200000">
              <a:off x="5611320" y="47113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Google Shape;40;p2"/>
            <p:cNvSpPr/>
            <p:nvPr/>
          </p:nvSpPr>
          <p:spPr>
            <a:xfrm rot="10800000">
              <a:off x="3300480" y="4763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Google Shape;41;p2"/>
            <p:cNvSpPr/>
            <p:nvPr/>
          </p:nvSpPr>
          <p:spPr>
            <a:xfrm rot="4716600">
              <a:off x="3552480" y="4927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Google Shape;42;p2"/>
            <p:cNvSpPr/>
            <p:nvPr/>
          </p:nvSpPr>
          <p:spPr>
            <a:xfrm rot="5400000">
              <a:off x="344520" y="4323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Google Shape;43;p2"/>
            <p:cNvSpPr/>
            <p:nvPr/>
          </p:nvSpPr>
          <p:spPr>
            <a:xfrm rot="5400000">
              <a:off x="144000" y="51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Google Shape;44;p2"/>
            <p:cNvSpPr/>
            <p:nvPr/>
          </p:nvSpPr>
          <p:spPr>
            <a:xfrm rot="16200000">
              <a:off x="8010720" y="50266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Google Shape;45;p2"/>
            <p:cNvSpPr/>
            <p:nvPr/>
          </p:nvSpPr>
          <p:spPr>
            <a:xfrm rot="16200000">
              <a:off x="8722440" y="4180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Google Shape;46;p2"/>
            <p:cNvSpPr/>
            <p:nvPr/>
          </p:nvSpPr>
          <p:spPr>
            <a:xfrm rot="16200000">
              <a:off x="9027000" y="5046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Google Shape;47;p2"/>
            <p:cNvSpPr/>
            <p:nvPr/>
          </p:nvSpPr>
          <p:spPr>
            <a:xfrm>
              <a:off x="8381520" y="48247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Google Shape;48;p2"/>
            <p:cNvSpPr/>
            <p:nvPr/>
          </p:nvSpPr>
          <p:spPr>
            <a:xfrm>
              <a:off x="7773120" y="4866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Google Shape;49;p2"/>
            <p:cNvSpPr/>
            <p:nvPr/>
          </p:nvSpPr>
          <p:spPr>
            <a:xfrm rot="16200000">
              <a:off x="7351560" y="4734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Google Shape;50;p2"/>
            <p:cNvSpPr/>
            <p:nvPr/>
          </p:nvSpPr>
          <p:spPr>
            <a:xfrm rot="3133800">
              <a:off x="9027000" y="3924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Google Shape;51;p2"/>
            <p:cNvSpPr/>
            <p:nvPr/>
          </p:nvSpPr>
          <p:spPr>
            <a:xfrm rot="19333200">
              <a:off x="8442360" y="40572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Google Shape;52;p2"/>
            <p:cNvSpPr/>
            <p:nvPr/>
          </p:nvSpPr>
          <p:spPr>
            <a:xfrm>
              <a:off x="214560" y="24948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Google Shape;53;p2"/>
            <p:cNvSpPr/>
            <p:nvPr/>
          </p:nvSpPr>
          <p:spPr>
            <a:xfrm>
              <a:off x="318600" y="3739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Google Shape;54;p2"/>
            <p:cNvSpPr/>
            <p:nvPr/>
          </p:nvSpPr>
          <p:spPr>
            <a:xfrm rot="10800000">
              <a:off x="505080" y="229032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Google Shape;55;p2"/>
            <p:cNvSpPr/>
            <p:nvPr/>
          </p:nvSpPr>
          <p:spPr>
            <a:xfrm>
              <a:off x="314640" y="42588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Google Shape;56;p2"/>
            <p:cNvSpPr/>
            <p:nvPr/>
          </p:nvSpPr>
          <p:spPr>
            <a:xfrm>
              <a:off x="525240" y="47044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Google Shape;57;p2"/>
            <p:cNvSpPr/>
            <p:nvPr/>
          </p:nvSpPr>
          <p:spPr>
            <a:xfrm>
              <a:off x="144000" y="4933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Google Shape;58;p2"/>
            <p:cNvSpPr/>
            <p:nvPr/>
          </p:nvSpPr>
          <p:spPr>
            <a:xfrm rot="10118400">
              <a:off x="444600" y="3679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Google Shape;59;p2"/>
            <p:cNvSpPr/>
            <p:nvPr/>
          </p:nvSpPr>
          <p:spPr>
            <a:xfrm rot="10116600">
              <a:off x="338040" y="3356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Google Shape;60;p2"/>
            <p:cNvSpPr/>
            <p:nvPr/>
          </p:nvSpPr>
          <p:spPr>
            <a:xfrm>
              <a:off x="459360" y="50565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Google Shape;61;p2"/>
            <p:cNvSpPr/>
            <p:nvPr/>
          </p:nvSpPr>
          <p:spPr>
            <a:xfrm rot="16200000">
              <a:off x="407520" y="2746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Google Shape;62;p2"/>
            <p:cNvSpPr/>
            <p:nvPr/>
          </p:nvSpPr>
          <p:spPr>
            <a:xfrm rot="10116600">
              <a:off x="242280" y="2998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Google Shape;63;p2"/>
            <p:cNvSpPr/>
            <p:nvPr/>
          </p:nvSpPr>
          <p:spPr>
            <a:xfrm>
              <a:off x="120600" y="18194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Google Shape;64;p2"/>
            <p:cNvSpPr/>
            <p:nvPr/>
          </p:nvSpPr>
          <p:spPr>
            <a:xfrm rot="10118400">
              <a:off x="493200" y="14828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Google Shape;65;p2"/>
            <p:cNvSpPr/>
            <p:nvPr/>
          </p:nvSpPr>
          <p:spPr>
            <a:xfrm rot="10116600">
              <a:off x="507240" y="1100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Google Shape;66;p2"/>
            <p:cNvSpPr/>
            <p:nvPr/>
          </p:nvSpPr>
          <p:spPr>
            <a:xfrm rot="16200000">
              <a:off x="455760" y="549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Google Shape;67;p2"/>
            <p:cNvSpPr/>
            <p:nvPr/>
          </p:nvSpPr>
          <p:spPr>
            <a:xfrm rot="10116600">
              <a:off x="290520" y="801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Google Shape;68;p2"/>
            <p:cNvSpPr/>
            <p:nvPr/>
          </p:nvSpPr>
          <p:spPr>
            <a:xfrm rot="5400000">
              <a:off x="1349640" y="48258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Google Shape;69;p2"/>
            <p:cNvSpPr/>
            <p:nvPr/>
          </p:nvSpPr>
          <p:spPr>
            <a:xfrm rot="15518400">
              <a:off x="1381680" y="4952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Google Shape;70;p2"/>
            <p:cNvSpPr/>
            <p:nvPr/>
          </p:nvSpPr>
          <p:spPr>
            <a:xfrm rot="15516600">
              <a:off x="1732680" y="48452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Google Shape;71;p2"/>
            <p:cNvSpPr/>
            <p:nvPr/>
          </p:nvSpPr>
          <p:spPr>
            <a:xfrm>
              <a:off x="2845080" y="5018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Google Shape;72;p2"/>
            <p:cNvSpPr/>
            <p:nvPr/>
          </p:nvSpPr>
          <p:spPr>
            <a:xfrm rot="15516600">
              <a:off x="2395800" y="48258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Google Shape;73;p2"/>
            <p:cNvSpPr/>
            <p:nvPr/>
          </p:nvSpPr>
          <p:spPr>
            <a:xfrm rot="16200000">
              <a:off x="204840" y="425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Google Shape;74;p2"/>
            <p:cNvSpPr/>
            <p:nvPr/>
          </p:nvSpPr>
          <p:spPr>
            <a:xfrm rot="16200000">
              <a:off x="480600" y="110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Google Shape;75;p2"/>
            <p:cNvSpPr/>
            <p:nvPr/>
          </p:nvSpPr>
          <p:spPr>
            <a:xfrm rot="16200000">
              <a:off x="9018720" y="735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Google Shape;76;p2"/>
            <p:cNvSpPr/>
            <p:nvPr/>
          </p:nvSpPr>
          <p:spPr>
            <a:xfrm rot="4718400">
              <a:off x="8653320" y="124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Google Shape;77;p2"/>
            <p:cNvSpPr/>
            <p:nvPr/>
          </p:nvSpPr>
          <p:spPr>
            <a:xfrm rot="10116600">
              <a:off x="8857080" y="1214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Google Shape;78;p2"/>
            <p:cNvSpPr/>
            <p:nvPr/>
          </p:nvSpPr>
          <p:spPr>
            <a:xfrm rot="16200000">
              <a:off x="8681760" y="2678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Google Shape;79;p2"/>
            <p:cNvSpPr/>
            <p:nvPr/>
          </p:nvSpPr>
          <p:spPr>
            <a:xfrm rot="16200000">
              <a:off x="8910360" y="3087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Google Shape;80;p2"/>
            <p:cNvSpPr/>
            <p:nvPr/>
          </p:nvSpPr>
          <p:spPr>
            <a:xfrm rot="16200000">
              <a:off x="9033480" y="2772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Google Shape;81;p2"/>
            <p:cNvSpPr/>
            <p:nvPr/>
          </p:nvSpPr>
          <p:spPr>
            <a:xfrm rot="16200000">
              <a:off x="7081920" y="4456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Google Shape;82;p2"/>
            <p:cNvSpPr/>
            <p:nvPr/>
          </p:nvSpPr>
          <p:spPr>
            <a:xfrm rot="16200000">
              <a:off x="7869960" y="565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Google Shape;83;p2"/>
            <p:cNvSpPr/>
            <p:nvPr/>
          </p:nvSpPr>
          <p:spPr>
            <a:xfrm rot="16200000">
              <a:off x="8098560" y="465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Google Shape;84;p2"/>
            <p:cNvSpPr/>
            <p:nvPr/>
          </p:nvSpPr>
          <p:spPr>
            <a:xfrm>
              <a:off x="7605360" y="2440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Google Shape;85;p2"/>
            <p:cNvSpPr/>
            <p:nvPr/>
          </p:nvSpPr>
          <p:spPr>
            <a:xfrm>
              <a:off x="6844680" y="285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Google Shape;86;p2"/>
            <p:cNvSpPr/>
            <p:nvPr/>
          </p:nvSpPr>
          <p:spPr>
            <a:xfrm rot="16200000">
              <a:off x="1317600" y="3142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Google Shape;87;p2"/>
            <p:cNvSpPr/>
            <p:nvPr/>
          </p:nvSpPr>
          <p:spPr>
            <a:xfrm rot="16200000">
              <a:off x="2562840" y="257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Google Shape;88;p2"/>
            <p:cNvSpPr/>
            <p:nvPr/>
          </p:nvSpPr>
          <p:spPr>
            <a:xfrm rot="16200000">
              <a:off x="5626080" y="1296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Google Shape;89;p2"/>
            <p:cNvSpPr/>
            <p:nvPr/>
          </p:nvSpPr>
          <p:spPr>
            <a:xfrm rot="16200000">
              <a:off x="6422760" y="153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Google Shape;90;p2"/>
            <p:cNvSpPr/>
            <p:nvPr/>
          </p:nvSpPr>
          <p:spPr>
            <a:xfrm rot="5400000">
              <a:off x="1113120" y="234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Google Shape;91;p2"/>
            <p:cNvSpPr/>
            <p:nvPr/>
          </p:nvSpPr>
          <p:spPr>
            <a:xfrm rot="16200000">
              <a:off x="3081960" y="2142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Google Shape;92;p2"/>
            <p:cNvSpPr/>
            <p:nvPr/>
          </p:nvSpPr>
          <p:spPr>
            <a:xfrm rot="16200000">
              <a:off x="3527640" y="23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Google Shape;93;p2"/>
            <p:cNvSpPr/>
            <p:nvPr/>
          </p:nvSpPr>
          <p:spPr>
            <a:xfrm rot="16200000">
              <a:off x="3756600" y="432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Google Shape;94;p2"/>
            <p:cNvSpPr/>
            <p:nvPr/>
          </p:nvSpPr>
          <p:spPr>
            <a:xfrm rot="4718400">
              <a:off x="2502000" y="103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Google Shape;95;p2"/>
            <p:cNvSpPr/>
            <p:nvPr/>
          </p:nvSpPr>
          <p:spPr>
            <a:xfrm rot="4716600">
              <a:off x="2179080" y="237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Google Shape;96;p2"/>
            <p:cNvSpPr/>
            <p:nvPr/>
          </p:nvSpPr>
          <p:spPr>
            <a:xfrm rot="16200000">
              <a:off x="3879720" y="117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Google Shape;97;p2"/>
            <p:cNvSpPr/>
            <p:nvPr/>
          </p:nvSpPr>
          <p:spPr>
            <a:xfrm rot="10800000">
              <a:off x="1568880" y="168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Google Shape;98;p2"/>
            <p:cNvSpPr/>
            <p:nvPr/>
          </p:nvSpPr>
          <p:spPr>
            <a:xfrm rot="4716600">
              <a:off x="1820880" y="333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Google Shape;99;p2"/>
            <p:cNvSpPr/>
            <p:nvPr/>
          </p:nvSpPr>
          <p:spPr>
            <a:xfrm>
              <a:off x="5190840" y="694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Google Shape;100;p2"/>
            <p:cNvSpPr/>
            <p:nvPr/>
          </p:nvSpPr>
          <p:spPr>
            <a:xfrm>
              <a:off x="4809960" y="298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Google Shape;101;p2"/>
            <p:cNvSpPr/>
            <p:nvPr/>
          </p:nvSpPr>
          <p:spPr>
            <a:xfrm>
              <a:off x="4668120" y="622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Google Shape;102;p2"/>
            <p:cNvSpPr/>
            <p:nvPr/>
          </p:nvSpPr>
          <p:spPr>
            <a:xfrm>
              <a:off x="4287240" y="290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Google Shape;103;p2"/>
            <p:cNvSpPr/>
            <p:nvPr/>
          </p:nvSpPr>
          <p:spPr>
            <a:xfrm>
              <a:off x="4602240" y="414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Google Shape;104;p2"/>
            <p:cNvSpPr/>
            <p:nvPr/>
          </p:nvSpPr>
          <p:spPr>
            <a:xfrm rot="4718400">
              <a:off x="819360" y="2487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Google Shape;105;p2"/>
            <p:cNvSpPr/>
            <p:nvPr/>
          </p:nvSpPr>
          <p:spPr>
            <a:xfrm rot="4716600">
              <a:off x="1099800" y="3564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Google Shape;106;p2"/>
            <p:cNvSpPr/>
            <p:nvPr/>
          </p:nvSpPr>
          <p:spPr>
            <a:xfrm rot="4716600">
              <a:off x="8330040" y="258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Google Shape;107;p2"/>
            <p:cNvSpPr/>
            <p:nvPr/>
          </p:nvSpPr>
          <p:spPr>
            <a:xfrm rot="10800000">
              <a:off x="7110360" y="37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Google Shape;108;p2"/>
            <p:cNvSpPr/>
            <p:nvPr/>
          </p:nvSpPr>
          <p:spPr>
            <a:xfrm rot="4716600">
              <a:off x="7514640" y="4305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oogle Shape;484;p8"/>
          <p:cNvGrpSpPr/>
          <p:nvPr/>
        </p:nvGrpSpPr>
        <p:grpSpPr>
          <a:xfrm>
            <a:off x="120600" y="23400"/>
            <a:ext cx="8961120" cy="5095800"/>
            <a:chOff x="120600" y="23400"/>
            <a:chExt cx="8961120" cy="5095800"/>
          </a:xfrm>
        </p:grpSpPr>
        <p:sp>
          <p:nvSpPr>
            <p:cNvPr id="177" name="Google Shape;485;p8"/>
            <p:cNvSpPr/>
            <p:nvPr/>
          </p:nvSpPr>
          <p:spPr>
            <a:xfrm>
              <a:off x="228600" y="11908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Google Shape;486;p8"/>
            <p:cNvSpPr/>
            <p:nvPr/>
          </p:nvSpPr>
          <p:spPr>
            <a:xfrm>
              <a:off x="637200" y="19785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Google Shape;487;p8"/>
            <p:cNvSpPr/>
            <p:nvPr/>
          </p:nvSpPr>
          <p:spPr>
            <a:xfrm>
              <a:off x="256320" y="2207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Google Shape;488;p8"/>
            <p:cNvSpPr/>
            <p:nvPr/>
          </p:nvSpPr>
          <p:spPr>
            <a:xfrm>
              <a:off x="8514360" y="36500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Google Shape;489;p8"/>
            <p:cNvSpPr/>
            <p:nvPr/>
          </p:nvSpPr>
          <p:spPr>
            <a:xfrm>
              <a:off x="8923320" y="44377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Google Shape;490;p8"/>
            <p:cNvSpPr/>
            <p:nvPr/>
          </p:nvSpPr>
          <p:spPr>
            <a:xfrm>
              <a:off x="8694720" y="4818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Google Shape;491;p8"/>
            <p:cNvSpPr/>
            <p:nvPr/>
          </p:nvSpPr>
          <p:spPr>
            <a:xfrm rot="5400000">
              <a:off x="2844720" y="46940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Google Shape;492;p8"/>
            <p:cNvSpPr/>
            <p:nvPr/>
          </p:nvSpPr>
          <p:spPr>
            <a:xfrm rot="5400000">
              <a:off x="2076120" y="50266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Google Shape;493;p8"/>
            <p:cNvSpPr/>
            <p:nvPr/>
          </p:nvSpPr>
          <p:spPr>
            <a:xfrm rot="5400000">
              <a:off x="1875600" y="4645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Google Shape;494;p8"/>
            <p:cNvSpPr/>
            <p:nvPr/>
          </p:nvSpPr>
          <p:spPr>
            <a:xfrm>
              <a:off x="1047960" y="47120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Google Shape;495;p8"/>
            <p:cNvSpPr/>
            <p:nvPr/>
          </p:nvSpPr>
          <p:spPr>
            <a:xfrm>
              <a:off x="666720" y="49406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Google Shape;496;p8"/>
            <p:cNvSpPr/>
            <p:nvPr/>
          </p:nvSpPr>
          <p:spPr>
            <a:xfrm rot="10118400">
              <a:off x="8843040" y="34124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Google Shape;497;p8"/>
            <p:cNvSpPr/>
            <p:nvPr/>
          </p:nvSpPr>
          <p:spPr>
            <a:xfrm rot="10116600">
              <a:off x="8610840" y="30830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Google Shape;498;p8"/>
            <p:cNvSpPr/>
            <p:nvPr/>
          </p:nvSpPr>
          <p:spPr>
            <a:xfrm>
              <a:off x="8713080" y="16664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Google Shape;499;p8"/>
            <p:cNvSpPr/>
            <p:nvPr/>
          </p:nvSpPr>
          <p:spPr>
            <a:xfrm>
              <a:off x="8923320" y="21121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Google Shape;500;p8"/>
            <p:cNvSpPr/>
            <p:nvPr/>
          </p:nvSpPr>
          <p:spPr>
            <a:xfrm>
              <a:off x="8542440" y="2340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Google Shape;501;p8"/>
            <p:cNvSpPr/>
            <p:nvPr/>
          </p:nvSpPr>
          <p:spPr>
            <a:xfrm rot="10118400">
              <a:off x="8538120" y="12391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Google Shape;502;p8"/>
            <p:cNvSpPr/>
            <p:nvPr/>
          </p:nvSpPr>
          <p:spPr>
            <a:xfrm rot="10116600">
              <a:off x="8736120" y="7635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Google Shape;503;p8"/>
            <p:cNvSpPr/>
            <p:nvPr/>
          </p:nvSpPr>
          <p:spPr>
            <a:xfrm>
              <a:off x="8857440" y="2463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Google Shape;504;p8"/>
            <p:cNvSpPr/>
            <p:nvPr/>
          </p:nvSpPr>
          <p:spPr>
            <a:xfrm rot="16200000">
              <a:off x="8958240" y="229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Google Shape;505;p8"/>
            <p:cNvSpPr/>
            <p:nvPr/>
          </p:nvSpPr>
          <p:spPr>
            <a:xfrm rot="10116600">
              <a:off x="8640720" y="405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Google Shape;506;p8"/>
            <p:cNvSpPr/>
            <p:nvPr/>
          </p:nvSpPr>
          <p:spPr>
            <a:xfrm rot="16200000">
              <a:off x="6797520" y="50068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Google Shape;507;p8"/>
            <p:cNvSpPr/>
            <p:nvPr/>
          </p:nvSpPr>
          <p:spPr>
            <a:xfrm rot="4718400">
              <a:off x="6178680" y="46976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Google Shape;508;p8"/>
            <p:cNvSpPr/>
            <p:nvPr/>
          </p:nvSpPr>
          <p:spPr>
            <a:xfrm rot="4716600">
              <a:off x="6230160" y="49575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Google Shape;509;p8"/>
            <p:cNvSpPr/>
            <p:nvPr/>
          </p:nvSpPr>
          <p:spPr>
            <a:xfrm rot="16200000">
              <a:off x="4813560" y="480852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Google Shape;510;p8"/>
            <p:cNvSpPr/>
            <p:nvPr/>
          </p:nvSpPr>
          <p:spPr>
            <a:xfrm rot="16200000">
              <a:off x="5259240" y="46173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Google Shape;511;p8"/>
            <p:cNvSpPr/>
            <p:nvPr/>
          </p:nvSpPr>
          <p:spPr>
            <a:xfrm rot="16200000">
              <a:off x="5487840" y="5026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Google Shape;512;p8"/>
            <p:cNvSpPr/>
            <p:nvPr/>
          </p:nvSpPr>
          <p:spPr>
            <a:xfrm rot="4718400">
              <a:off x="4233600" y="46976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Google Shape;513;p8"/>
            <p:cNvSpPr/>
            <p:nvPr/>
          </p:nvSpPr>
          <p:spPr>
            <a:xfrm rot="4716600">
              <a:off x="3910680" y="4832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Google Shape;514;p8"/>
            <p:cNvSpPr/>
            <p:nvPr/>
          </p:nvSpPr>
          <p:spPr>
            <a:xfrm rot="16200000">
              <a:off x="5611320" y="47113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Google Shape;515;p8"/>
            <p:cNvSpPr/>
            <p:nvPr/>
          </p:nvSpPr>
          <p:spPr>
            <a:xfrm rot="10800000">
              <a:off x="3300480" y="4763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Google Shape;516;p8"/>
            <p:cNvSpPr/>
            <p:nvPr/>
          </p:nvSpPr>
          <p:spPr>
            <a:xfrm rot="4716600">
              <a:off x="3552480" y="4927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Google Shape;517;p8"/>
            <p:cNvSpPr/>
            <p:nvPr/>
          </p:nvSpPr>
          <p:spPr>
            <a:xfrm rot="5400000">
              <a:off x="344520" y="4323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Google Shape;518;p8"/>
            <p:cNvSpPr/>
            <p:nvPr/>
          </p:nvSpPr>
          <p:spPr>
            <a:xfrm rot="5400000">
              <a:off x="144000" y="51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Google Shape;519;p8"/>
            <p:cNvSpPr/>
            <p:nvPr/>
          </p:nvSpPr>
          <p:spPr>
            <a:xfrm rot="16200000">
              <a:off x="8010720" y="50266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Google Shape;520;p8"/>
            <p:cNvSpPr/>
            <p:nvPr/>
          </p:nvSpPr>
          <p:spPr>
            <a:xfrm rot="16200000">
              <a:off x="8722440" y="4180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Google Shape;521;p8"/>
            <p:cNvSpPr/>
            <p:nvPr/>
          </p:nvSpPr>
          <p:spPr>
            <a:xfrm rot="16200000">
              <a:off x="9027000" y="5046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Google Shape;522;p8"/>
            <p:cNvSpPr/>
            <p:nvPr/>
          </p:nvSpPr>
          <p:spPr>
            <a:xfrm>
              <a:off x="8381520" y="48247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Google Shape;523;p8"/>
            <p:cNvSpPr/>
            <p:nvPr/>
          </p:nvSpPr>
          <p:spPr>
            <a:xfrm>
              <a:off x="7773120" y="4866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Google Shape;524;p8"/>
            <p:cNvSpPr/>
            <p:nvPr/>
          </p:nvSpPr>
          <p:spPr>
            <a:xfrm rot="16200000">
              <a:off x="7351560" y="4734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Google Shape;525;p8"/>
            <p:cNvSpPr/>
            <p:nvPr/>
          </p:nvSpPr>
          <p:spPr>
            <a:xfrm rot="3133800">
              <a:off x="9027000" y="3924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Google Shape;526;p8"/>
            <p:cNvSpPr/>
            <p:nvPr/>
          </p:nvSpPr>
          <p:spPr>
            <a:xfrm rot="19333200">
              <a:off x="8442360" y="40572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Google Shape;527;p8"/>
            <p:cNvSpPr/>
            <p:nvPr/>
          </p:nvSpPr>
          <p:spPr>
            <a:xfrm>
              <a:off x="214560" y="24948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Google Shape;528;p8"/>
            <p:cNvSpPr/>
            <p:nvPr/>
          </p:nvSpPr>
          <p:spPr>
            <a:xfrm>
              <a:off x="318600" y="3739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Google Shape;529;p8"/>
            <p:cNvSpPr/>
            <p:nvPr/>
          </p:nvSpPr>
          <p:spPr>
            <a:xfrm rot="10800000">
              <a:off x="505080" y="229032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Google Shape;530;p8"/>
            <p:cNvSpPr/>
            <p:nvPr/>
          </p:nvSpPr>
          <p:spPr>
            <a:xfrm>
              <a:off x="314640" y="42588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Google Shape;531;p8"/>
            <p:cNvSpPr/>
            <p:nvPr/>
          </p:nvSpPr>
          <p:spPr>
            <a:xfrm>
              <a:off x="525240" y="47044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Google Shape;532;p8"/>
            <p:cNvSpPr/>
            <p:nvPr/>
          </p:nvSpPr>
          <p:spPr>
            <a:xfrm>
              <a:off x="144000" y="4933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Google Shape;533;p8"/>
            <p:cNvSpPr/>
            <p:nvPr/>
          </p:nvSpPr>
          <p:spPr>
            <a:xfrm rot="10118400">
              <a:off x="444600" y="3679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Google Shape;534;p8"/>
            <p:cNvSpPr/>
            <p:nvPr/>
          </p:nvSpPr>
          <p:spPr>
            <a:xfrm rot="10116600">
              <a:off x="338040" y="3356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Google Shape;535;p8"/>
            <p:cNvSpPr/>
            <p:nvPr/>
          </p:nvSpPr>
          <p:spPr>
            <a:xfrm>
              <a:off x="459360" y="50565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Google Shape;536;p8"/>
            <p:cNvSpPr/>
            <p:nvPr/>
          </p:nvSpPr>
          <p:spPr>
            <a:xfrm rot="16200000">
              <a:off x="407520" y="2746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Google Shape;537;p8"/>
            <p:cNvSpPr/>
            <p:nvPr/>
          </p:nvSpPr>
          <p:spPr>
            <a:xfrm rot="10116600">
              <a:off x="242280" y="2998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Google Shape;538;p8"/>
            <p:cNvSpPr/>
            <p:nvPr/>
          </p:nvSpPr>
          <p:spPr>
            <a:xfrm>
              <a:off x="120600" y="18194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Google Shape;539;p8"/>
            <p:cNvSpPr/>
            <p:nvPr/>
          </p:nvSpPr>
          <p:spPr>
            <a:xfrm rot="10118400">
              <a:off x="493200" y="14828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Google Shape;540;p8"/>
            <p:cNvSpPr/>
            <p:nvPr/>
          </p:nvSpPr>
          <p:spPr>
            <a:xfrm rot="10116600">
              <a:off x="507240" y="1100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Google Shape;541;p8"/>
            <p:cNvSpPr/>
            <p:nvPr/>
          </p:nvSpPr>
          <p:spPr>
            <a:xfrm rot="16200000">
              <a:off x="455760" y="549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Google Shape;542;p8"/>
            <p:cNvSpPr/>
            <p:nvPr/>
          </p:nvSpPr>
          <p:spPr>
            <a:xfrm rot="10116600">
              <a:off x="290520" y="801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Google Shape;543;p8"/>
            <p:cNvSpPr/>
            <p:nvPr/>
          </p:nvSpPr>
          <p:spPr>
            <a:xfrm rot="5400000">
              <a:off x="1349640" y="48258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Google Shape;544;p8"/>
            <p:cNvSpPr/>
            <p:nvPr/>
          </p:nvSpPr>
          <p:spPr>
            <a:xfrm rot="15518400">
              <a:off x="1381680" y="4952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Google Shape;545;p8"/>
            <p:cNvSpPr/>
            <p:nvPr/>
          </p:nvSpPr>
          <p:spPr>
            <a:xfrm rot="15516600">
              <a:off x="1732680" y="48452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Google Shape;546;p8"/>
            <p:cNvSpPr/>
            <p:nvPr/>
          </p:nvSpPr>
          <p:spPr>
            <a:xfrm>
              <a:off x="2845080" y="5018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Google Shape;547;p8"/>
            <p:cNvSpPr/>
            <p:nvPr/>
          </p:nvSpPr>
          <p:spPr>
            <a:xfrm rot="15516600">
              <a:off x="2395800" y="48258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Google Shape;548;p8"/>
            <p:cNvSpPr/>
            <p:nvPr/>
          </p:nvSpPr>
          <p:spPr>
            <a:xfrm rot="16200000">
              <a:off x="204840" y="425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Google Shape;549;p8"/>
            <p:cNvSpPr/>
            <p:nvPr/>
          </p:nvSpPr>
          <p:spPr>
            <a:xfrm rot="16200000">
              <a:off x="480600" y="110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Google Shape;550;p8"/>
            <p:cNvSpPr/>
            <p:nvPr/>
          </p:nvSpPr>
          <p:spPr>
            <a:xfrm rot="16200000">
              <a:off x="9018720" y="735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Google Shape;551;p8"/>
            <p:cNvSpPr/>
            <p:nvPr/>
          </p:nvSpPr>
          <p:spPr>
            <a:xfrm rot="4718400">
              <a:off x="8653320" y="124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Google Shape;552;p8"/>
            <p:cNvSpPr/>
            <p:nvPr/>
          </p:nvSpPr>
          <p:spPr>
            <a:xfrm rot="10116600">
              <a:off x="8857080" y="1214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Google Shape;553;p8"/>
            <p:cNvSpPr/>
            <p:nvPr/>
          </p:nvSpPr>
          <p:spPr>
            <a:xfrm rot="16200000">
              <a:off x="8681760" y="2678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Google Shape;554;p8"/>
            <p:cNvSpPr/>
            <p:nvPr/>
          </p:nvSpPr>
          <p:spPr>
            <a:xfrm rot="16200000">
              <a:off x="8910360" y="3087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Google Shape;555;p8"/>
            <p:cNvSpPr/>
            <p:nvPr/>
          </p:nvSpPr>
          <p:spPr>
            <a:xfrm rot="16200000">
              <a:off x="9033480" y="2772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Google Shape;556;p8"/>
            <p:cNvSpPr/>
            <p:nvPr/>
          </p:nvSpPr>
          <p:spPr>
            <a:xfrm rot="16200000">
              <a:off x="5933520" y="38196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Google Shape;557;p8"/>
            <p:cNvSpPr/>
            <p:nvPr/>
          </p:nvSpPr>
          <p:spPr>
            <a:xfrm rot="16200000">
              <a:off x="7869960" y="565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Google Shape;558;p8"/>
            <p:cNvSpPr/>
            <p:nvPr/>
          </p:nvSpPr>
          <p:spPr>
            <a:xfrm rot="16200000">
              <a:off x="8098560" y="465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Google Shape;559;p8"/>
            <p:cNvSpPr/>
            <p:nvPr/>
          </p:nvSpPr>
          <p:spPr>
            <a:xfrm>
              <a:off x="7605360" y="2440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Google Shape;560;p8"/>
            <p:cNvSpPr/>
            <p:nvPr/>
          </p:nvSpPr>
          <p:spPr>
            <a:xfrm>
              <a:off x="6844680" y="285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Google Shape;561;p8"/>
            <p:cNvSpPr/>
            <p:nvPr/>
          </p:nvSpPr>
          <p:spPr>
            <a:xfrm rot="16200000">
              <a:off x="1317600" y="3142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Google Shape;562;p8"/>
            <p:cNvSpPr/>
            <p:nvPr/>
          </p:nvSpPr>
          <p:spPr>
            <a:xfrm rot="16200000">
              <a:off x="2562840" y="257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Google Shape;563;p8"/>
            <p:cNvSpPr/>
            <p:nvPr/>
          </p:nvSpPr>
          <p:spPr>
            <a:xfrm rot="16200000">
              <a:off x="5626080" y="1296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Google Shape;564;p8"/>
            <p:cNvSpPr/>
            <p:nvPr/>
          </p:nvSpPr>
          <p:spPr>
            <a:xfrm rot="16200000">
              <a:off x="6422760" y="153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Google Shape;565;p8"/>
            <p:cNvSpPr/>
            <p:nvPr/>
          </p:nvSpPr>
          <p:spPr>
            <a:xfrm rot="5400000">
              <a:off x="1113120" y="234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Google Shape;566;p8"/>
            <p:cNvSpPr/>
            <p:nvPr/>
          </p:nvSpPr>
          <p:spPr>
            <a:xfrm rot="16200000">
              <a:off x="3081960" y="2142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Google Shape;567;p8"/>
            <p:cNvSpPr/>
            <p:nvPr/>
          </p:nvSpPr>
          <p:spPr>
            <a:xfrm rot="16200000">
              <a:off x="3527640" y="23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Google Shape;568;p8"/>
            <p:cNvSpPr/>
            <p:nvPr/>
          </p:nvSpPr>
          <p:spPr>
            <a:xfrm rot="16200000">
              <a:off x="3756600" y="432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Google Shape;569;p8"/>
            <p:cNvSpPr/>
            <p:nvPr/>
          </p:nvSpPr>
          <p:spPr>
            <a:xfrm rot="4718400">
              <a:off x="2502000" y="103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Google Shape;570;p8"/>
            <p:cNvSpPr/>
            <p:nvPr/>
          </p:nvSpPr>
          <p:spPr>
            <a:xfrm rot="4716600">
              <a:off x="2179080" y="237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Google Shape;571;p8"/>
            <p:cNvSpPr/>
            <p:nvPr/>
          </p:nvSpPr>
          <p:spPr>
            <a:xfrm rot="16200000">
              <a:off x="3879720" y="117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Google Shape;572;p8"/>
            <p:cNvSpPr/>
            <p:nvPr/>
          </p:nvSpPr>
          <p:spPr>
            <a:xfrm rot="10800000">
              <a:off x="1568880" y="168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Google Shape;573;p8"/>
            <p:cNvSpPr/>
            <p:nvPr/>
          </p:nvSpPr>
          <p:spPr>
            <a:xfrm rot="4716600">
              <a:off x="1820880" y="333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Google Shape;574;p8"/>
            <p:cNvSpPr/>
            <p:nvPr/>
          </p:nvSpPr>
          <p:spPr>
            <a:xfrm>
              <a:off x="5190840" y="694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Google Shape;575;p8"/>
            <p:cNvSpPr/>
            <p:nvPr/>
          </p:nvSpPr>
          <p:spPr>
            <a:xfrm>
              <a:off x="4809960" y="298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Google Shape;576;p8"/>
            <p:cNvSpPr/>
            <p:nvPr/>
          </p:nvSpPr>
          <p:spPr>
            <a:xfrm>
              <a:off x="4668120" y="622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Google Shape;577;p8"/>
            <p:cNvSpPr/>
            <p:nvPr/>
          </p:nvSpPr>
          <p:spPr>
            <a:xfrm>
              <a:off x="4287240" y="290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Google Shape;578;p8"/>
            <p:cNvSpPr/>
            <p:nvPr/>
          </p:nvSpPr>
          <p:spPr>
            <a:xfrm>
              <a:off x="4602240" y="414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Google Shape;579;p8"/>
            <p:cNvSpPr/>
            <p:nvPr/>
          </p:nvSpPr>
          <p:spPr>
            <a:xfrm rot="4718400">
              <a:off x="819360" y="2487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Google Shape;580;p8"/>
            <p:cNvSpPr/>
            <p:nvPr/>
          </p:nvSpPr>
          <p:spPr>
            <a:xfrm rot="4716600">
              <a:off x="1099800" y="3564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Google Shape;581;p8"/>
            <p:cNvSpPr/>
            <p:nvPr/>
          </p:nvSpPr>
          <p:spPr>
            <a:xfrm rot="4716600">
              <a:off x="8330040" y="258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Google Shape;582;p8"/>
            <p:cNvSpPr/>
            <p:nvPr/>
          </p:nvSpPr>
          <p:spPr>
            <a:xfrm rot="10800000">
              <a:off x="7110360" y="37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Google Shape;583;p8"/>
            <p:cNvSpPr/>
            <p:nvPr/>
          </p:nvSpPr>
          <p:spPr>
            <a:xfrm rot="4716600">
              <a:off x="7514640" y="4305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oogle Shape;711;p14"/>
          <p:cNvGrpSpPr/>
          <p:nvPr/>
        </p:nvGrpSpPr>
        <p:grpSpPr>
          <a:xfrm>
            <a:off x="117720" y="23760"/>
            <a:ext cx="8961120" cy="5095440"/>
            <a:chOff x="117720" y="23760"/>
            <a:chExt cx="8961120" cy="5095440"/>
          </a:xfrm>
        </p:grpSpPr>
        <p:sp>
          <p:nvSpPr>
            <p:cNvPr id="353" name="Google Shape;712;p14"/>
            <p:cNvSpPr/>
            <p:nvPr/>
          </p:nvSpPr>
          <p:spPr>
            <a:xfrm rot="10800000">
              <a:off x="8897760" y="2890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Google Shape;713;p14"/>
            <p:cNvSpPr/>
            <p:nvPr/>
          </p:nvSpPr>
          <p:spPr>
            <a:xfrm rot="10800000">
              <a:off x="203040" y="632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Google Shape;714;p14"/>
            <p:cNvSpPr/>
            <p:nvPr/>
          </p:nvSpPr>
          <p:spPr>
            <a:xfrm rot="10800000">
              <a:off x="459360" y="2786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Google Shape;715;p14"/>
            <p:cNvSpPr/>
            <p:nvPr/>
          </p:nvSpPr>
          <p:spPr>
            <a:xfrm rot="16200000">
              <a:off x="7050240" y="43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Google Shape;716;p14"/>
            <p:cNvSpPr/>
            <p:nvPr/>
          </p:nvSpPr>
          <p:spPr>
            <a:xfrm rot="16200000">
              <a:off x="7278480" y="452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Google Shape;717;p14"/>
            <p:cNvSpPr/>
            <p:nvPr/>
          </p:nvSpPr>
          <p:spPr>
            <a:xfrm rot="10800000">
              <a:off x="8078400" y="3578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Google Shape;718;p14"/>
            <p:cNvSpPr/>
            <p:nvPr/>
          </p:nvSpPr>
          <p:spPr>
            <a:xfrm rot="10800000">
              <a:off x="8487360" y="156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Google Shape;719;p14"/>
            <p:cNvSpPr/>
            <p:nvPr/>
          </p:nvSpPr>
          <p:spPr>
            <a:xfrm rot="20918400">
              <a:off x="282960" y="16570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Google Shape;720;p14"/>
            <p:cNvSpPr/>
            <p:nvPr/>
          </p:nvSpPr>
          <p:spPr>
            <a:xfrm rot="20917200">
              <a:off x="542880" y="20142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Google Shape;721;p14"/>
            <p:cNvSpPr/>
            <p:nvPr/>
          </p:nvSpPr>
          <p:spPr>
            <a:xfrm rot="10800000">
              <a:off x="203040" y="29577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Google Shape;722;p14"/>
            <p:cNvSpPr/>
            <p:nvPr/>
          </p:nvSpPr>
          <p:spPr>
            <a:xfrm rot="20918400">
              <a:off x="587880" y="3830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Google Shape;723;p14"/>
            <p:cNvSpPr/>
            <p:nvPr/>
          </p:nvSpPr>
          <p:spPr>
            <a:xfrm rot="10800000">
              <a:off x="296640" y="2633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Google Shape;724;p14"/>
            <p:cNvSpPr/>
            <p:nvPr/>
          </p:nvSpPr>
          <p:spPr>
            <a:xfrm rot="5400000">
              <a:off x="195840" y="4867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Google Shape;725;p14"/>
            <p:cNvSpPr/>
            <p:nvPr/>
          </p:nvSpPr>
          <p:spPr>
            <a:xfrm rot="16200000">
              <a:off x="8781840" y="46375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Google Shape;726;p14"/>
            <p:cNvSpPr/>
            <p:nvPr/>
          </p:nvSpPr>
          <p:spPr>
            <a:xfrm rot="16200000">
              <a:off x="9010080" y="5046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Google Shape;727;p14"/>
            <p:cNvSpPr/>
            <p:nvPr/>
          </p:nvSpPr>
          <p:spPr>
            <a:xfrm rot="5400000">
              <a:off x="1096200" y="234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Google Shape;728;p14"/>
            <p:cNvSpPr/>
            <p:nvPr/>
          </p:nvSpPr>
          <p:spPr>
            <a:xfrm rot="5400000">
              <a:off x="127080" y="51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Google Shape;729;p14"/>
            <p:cNvSpPr/>
            <p:nvPr/>
          </p:nvSpPr>
          <p:spPr>
            <a:xfrm rot="10800000">
              <a:off x="744840" y="245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Google Shape;730;p14"/>
            <p:cNvSpPr/>
            <p:nvPr/>
          </p:nvSpPr>
          <p:spPr>
            <a:xfrm rot="10800000">
              <a:off x="1380960" y="231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Google Shape;731;p14"/>
            <p:cNvSpPr/>
            <p:nvPr/>
          </p:nvSpPr>
          <p:spPr>
            <a:xfrm rot="5400000">
              <a:off x="1802520" y="362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Google Shape;732;p14"/>
            <p:cNvSpPr/>
            <p:nvPr/>
          </p:nvSpPr>
          <p:spPr>
            <a:xfrm rot="13933800">
              <a:off x="126720" y="1172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Google Shape;733;p14"/>
            <p:cNvSpPr/>
            <p:nvPr/>
          </p:nvSpPr>
          <p:spPr>
            <a:xfrm rot="8533200">
              <a:off x="559080" y="1116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Google Shape;734;p14"/>
            <p:cNvSpPr/>
            <p:nvPr/>
          </p:nvSpPr>
          <p:spPr>
            <a:xfrm rot="10800000">
              <a:off x="8892360" y="25556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Google Shape;735;p14"/>
            <p:cNvSpPr/>
            <p:nvPr/>
          </p:nvSpPr>
          <p:spPr>
            <a:xfrm rot="10800000">
              <a:off x="8835480" y="1357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Google Shape;736;p14"/>
            <p:cNvSpPr/>
            <p:nvPr/>
          </p:nvSpPr>
          <p:spPr>
            <a:xfrm rot="10800000">
              <a:off x="8792280" y="7916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Google Shape;737;p14"/>
            <p:cNvSpPr/>
            <p:nvPr/>
          </p:nvSpPr>
          <p:spPr>
            <a:xfrm rot="10800000">
              <a:off x="8601120" y="365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Google Shape;738;p14"/>
            <p:cNvSpPr/>
            <p:nvPr/>
          </p:nvSpPr>
          <p:spPr>
            <a:xfrm rot="10800000">
              <a:off x="9010080" y="164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Google Shape;739;p14"/>
            <p:cNvSpPr/>
            <p:nvPr/>
          </p:nvSpPr>
          <p:spPr>
            <a:xfrm rot="20918400">
              <a:off x="8681400" y="1390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Google Shape;740;p14"/>
            <p:cNvSpPr/>
            <p:nvPr/>
          </p:nvSpPr>
          <p:spPr>
            <a:xfrm rot="10800000">
              <a:off x="8694720" y="40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Google Shape;741;p14"/>
            <p:cNvSpPr/>
            <p:nvPr/>
          </p:nvSpPr>
          <p:spPr>
            <a:xfrm rot="5400000">
              <a:off x="8746560" y="2351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Google Shape;742;p14"/>
            <p:cNvSpPr/>
            <p:nvPr/>
          </p:nvSpPr>
          <p:spPr>
            <a:xfrm rot="20917200">
              <a:off x="8911440" y="2099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Google Shape;743;p14"/>
            <p:cNvSpPr/>
            <p:nvPr/>
          </p:nvSpPr>
          <p:spPr>
            <a:xfrm rot="10800000">
              <a:off x="8986320" y="34596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Google Shape;744;p14"/>
            <p:cNvSpPr/>
            <p:nvPr/>
          </p:nvSpPr>
          <p:spPr>
            <a:xfrm rot="20918400">
              <a:off x="8632800" y="35866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Google Shape;745;p14"/>
            <p:cNvSpPr/>
            <p:nvPr/>
          </p:nvSpPr>
          <p:spPr>
            <a:xfrm rot="20917200">
              <a:off x="8646480" y="3996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Google Shape;746;p14"/>
            <p:cNvSpPr/>
            <p:nvPr/>
          </p:nvSpPr>
          <p:spPr>
            <a:xfrm rot="20917200">
              <a:off x="8863200" y="4295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Google Shape;747;p14"/>
            <p:cNvSpPr/>
            <p:nvPr/>
          </p:nvSpPr>
          <p:spPr>
            <a:xfrm rot="4716600">
              <a:off x="7421040" y="252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Google Shape;748;p14"/>
            <p:cNvSpPr/>
            <p:nvPr/>
          </p:nvSpPr>
          <p:spPr>
            <a:xfrm rot="10800000">
              <a:off x="6309000" y="78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Google Shape;749;p14"/>
            <p:cNvSpPr/>
            <p:nvPr/>
          </p:nvSpPr>
          <p:spPr>
            <a:xfrm rot="5400000">
              <a:off x="8673480" y="4987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Google Shape;750;p14"/>
            <p:cNvSpPr/>
            <p:nvPr/>
          </p:nvSpPr>
          <p:spPr>
            <a:xfrm rot="5400000">
              <a:off x="135360" y="4361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Google Shape;751;p14"/>
            <p:cNvSpPr/>
            <p:nvPr/>
          </p:nvSpPr>
          <p:spPr>
            <a:xfrm rot="15518400">
              <a:off x="472680" y="4945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Google Shape;752;p14"/>
            <p:cNvSpPr/>
            <p:nvPr/>
          </p:nvSpPr>
          <p:spPr>
            <a:xfrm rot="20917200">
              <a:off x="296640" y="3882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Google Shape;753;p14"/>
            <p:cNvSpPr/>
            <p:nvPr/>
          </p:nvSpPr>
          <p:spPr>
            <a:xfrm rot="5400000">
              <a:off x="120600" y="23256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Google Shape;754;p14"/>
            <p:cNvSpPr/>
            <p:nvPr/>
          </p:nvSpPr>
          <p:spPr>
            <a:xfrm rot="5400000">
              <a:off x="1256400" y="50133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Google Shape;755;p14"/>
            <p:cNvSpPr/>
            <p:nvPr/>
          </p:nvSpPr>
          <p:spPr>
            <a:xfrm rot="10800000">
              <a:off x="1521000" y="48258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Google Shape;756;p14"/>
            <p:cNvSpPr/>
            <p:nvPr/>
          </p:nvSpPr>
          <p:spPr>
            <a:xfrm rot="10800000">
              <a:off x="2309400" y="4812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Google Shape;757;p14"/>
            <p:cNvSpPr/>
            <p:nvPr/>
          </p:nvSpPr>
          <p:spPr>
            <a:xfrm rot="15518400">
              <a:off x="6624000" y="4966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Google Shape;758;p14"/>
            <p:cNvSpPr/>
            <p:nvPr/>
          </p:nvSpPr>
          <p:spPr>
            <a:xfrm rot="15517200">
              <a:off x="6974640" y="4859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Google Shape;759;p14"/>
            <p:cNvSpPr/>
            <p:nvPr/>
          </p:nvSpPr>
          <p:spPr>
            <a:xfrm rot="15518400">
              <a:off x="8306640" y="48207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Google Shape;760;p14"/>
            <p:cNvSpPr/>
            <p:nvPr/>
          </p:nvSpPr>
          <p:spPr>
            <a:xfrm rot="15517200">
              <a:off x="8053920" y="4740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Google Shape;761;p14"/>
            <p:cNvSpPr/>
            <p:nvPr/>
          </p:nvSpPr>
          <p:spPr>
            <a:xfrm rot="15517200">
              <a:off x="823680" y="48384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Google Shape;762;p14"/>
            <p:cNvSpPr/>
            <p:nvPr/>
          </p:nvSpPr>
          <p:spPr>
            <a:xfrm>
              <a:off x="2043720" y="5060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Google Shape;763;p14"/>
            <p:cNvSpPr/>
            <p:nvPr/>
          </p:nvSpPr>
          <p:spPr>
            <a:xfrm>
              <a:off x="7585200" y="4928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Google Shape;764;p14"/>
            <p:cNvSpPr/>
            <p:nvPr/>
          </p:nvSpPr>
          <p:spPr>
            <a:xfrm rot="16200000">
              <a:off x="7993800" y="50266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oogle Shape;766;p15"/>
          <p:cNvGrpSpPr/>
          <p:nvPr/>
        </p:nvGrpSpPr>
        <p:grpSpPr>
          <a:xfrm>
            <a:off x="120600" y="23760"/>
            <a:ext cx="8967240" cy="5095440"/>
            <a:chOff x="120600" y="23760"/>
            <a:chExt cx="8967240" cy="5095440"/>
          </a:xfrm>
        </p:grpSpPr>
        <p:sp>
          <p:nvSpPr>
            <p:cNvPr id="445" name="Google Shape;767;p15"/>
            <p:cNvSpPr/>
            <p:nvPr/>
          </p:nvSpPr>
          <p:spPr>
            <a:xfrm flipH="1" rot="10800000">
              <a:off x="8929080" y="632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Google Shape;768;p15"/>
            <p:cNvSpPr/>
            <p:nvPr/>
          </p:nvSpPr>
          <p:spPr>
            <a:xfrm flipH="1" rot="10800000">
              <a:off x="8700840" y="2786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Google Shape;769;p15"/>
            <p:cNvSpPr/>
            <p:nvPr/>
          </p:nvSpPr>
          <p:spPr>
            <a:xfrm flipH="1" rot="5400000">
              <a:off x="2077200" y="428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Google Shape;770;p15"/>
            <p:cNvSpPr/>
            <p:nvPr/>
          </p:nvSpPr>
          <p:spPr>
            <a:xfrm flipH="1" rot="5400000">
              <a:off x="1876680" y="452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Google Shape;771;p15"/>
            <p:cNvSpPr/>
            <p:nvPr/>
          </p:nvSpPr>
          <p:spPr>
            <a:xfrm flipH="1" rot="10800000">
              <a:off x="1047960" y="3578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Google Shape;772;p15"/>
            <p:cNvSpPr/>
            <p:nvPr/>
          </p:nvSpPr>
          <p:spPr>
            <a:xfrm flipH="1" rot="10800000">
              <a:off x="667080" y="156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Google Shape;773;p15"/>
            <p:cNvSpPr/>
            <p:nvPr/>
          </p:nvSpPr>
          <p:spPr>
            <a:xfrm flipH="1" rot="681600">
              <a:off x="8849160" y="16567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Google Shape;774;p15"/>
            <p:cNvSpPr/>
            <p:nvPr/>
          </p:nvSpPr>
          <p:spPr>
            <a:xfrm flipH="1" rot="681600">
              <a:off x="8543880" y="38300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Google Shape;775;p15"/>
            <p:cNvSpPr/>
            <p:nvPr/>
          </p:nvSpPr>
          <p:spPr>
            <a:xfrm flipH="1" rot="16200000">
              <a:off x="8964360" y="4867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Google Shape;776;p15"/>
            <p:cNvSpPr/>
            <p:nvPr/>
          </p:nvSpPr>
          <p:spPr>
            <a:xfrm flipH="1" rot="5400000">
              <a:off x="344520" y="46375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Google Shape;777;p15"/>
            <p:cNvSpPr/>
            <p:nvPr/>
          </p:nvSpPr>
          <p:spPr>
            <a:xfrm flipH="1" rot="5400000">
              <a:off x="144000" y="5046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Google Shape;778;p15"/>
            <p:cNvSpPr/>
            <p:nvPr/>
          </p:nvSpPr>
          <p:spPr>
            <a:xfrm flipH="1" rot="16200000">
              <a:off x="8015760" y="2376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Google Shape;779;p15"/>
            <p:cNvSpPr/>
            <p:nvPr/>
          </p:nvSpPr>
          <p:spPr>
            <a:xfrm flipH="1" rot="16200000">
              <a:off x="9033480" y="51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Google Shape;780;p15"/>
            <p:cNvSpPr/>
            <p:nvPr/>
          </p:nvSpPr>
          <p:spPr>
            <a:xfrm flipH="1" rot="10800000">
              <a:off x="8386920" y="245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Google Shape;781;p15"/>
            <p:cNvSpPr/>
            <p:nvPr/>
          </p:nvSpPr>
          <p:spPr>
            <a:xfrm flipH="1" rot="10800000">
              <a:off x="7778520" y="231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Google Shape;782;p15"/>
            <p:cNvSpPr/>
            <p:nvPr/>
          </p:nvSpPr>
          <p:spPr>
            <a:xfrm flipH="1" rot="16200000">
              <a:off x="7356600" y="362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Google Shape;783;p15"/>
            <p:cNvSpPr/>
            <p:nvPr/>
          </p:nvSpPr>
          <p:spPr>
            <a:xfrm flipH="1" rot="7666200">
              <a:off x="9033480" y="1172880"/>
              <a:ext cx="45360" cy="4500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400" bIns="-59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Google Shape;784;p15"/>
            <p:cNvSpPr/>
            <p:nvPr/>
          </p:nvSpPr>
          <p:spPr>
            <a:xfrm flipH="1" rot="13066800">
              <a:off x="8600400" y="1116360"/>
              <a:ext cx="45360" cy="4500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400" bIns="-59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Google Shape;785;p15"/>
            <p:cNvSpPr/>
            <p:nvPr/>
          </p:nvSpPr>
          <p:spPr>
            <a:xfrm flipH="1" rot="10800000">
              <a:off x="318600" y="1357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Google Shape;786;p15"/>
            <p:cNvSpPr/>
            <p:nvPr/>
          </p:nvSpPr>
          <p:spPr>
            <a:xfrm flipH="1" rot="10800000">
              <a:off x="314280" y="7916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Google Shape;787;p15"/>
            <p:cNvSpPr/>
            <p:nvPr/>
          </p:nvSpPr>
          <p:spPr>
            <a:xfrm flipH="1" rot="10800000">
              <a:off x="524880" y="365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Google Shape;788;p15"/>
            <p:cNvSpPr/>
            <p:nvPr/>
          </p:nvSpPr>
          <p:spPr>
            <a:xfrm flipH="1" rot="10800000">
              <a:off x="144000" y="164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Google Shape;789;p15"/>
            <p:cNvSpPr/>
            <p:nvPr/>
          </p:nvSpPr>
          <p:spPr>
            <a:xfrm flipH="1" rot="681600">
              <a:off x="444960" y="13899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Google Shape;790;p15"/>
            <p:cNvSpPr/>
            <p:nvPr/>
          </p:nvSpPr>
          <p:spPr>
            <a:xfrm flipH="1" rot="10800000">
              <a:off x="459360" y="410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Google Shape;791;p15"/>
            <p:cNvSpPr/>
            <p:nvPr/>
          </p:nvSpPr>
          <p:spPr>
            <a:xfrm flipH="1" rot="10800000">
              <a:off x="120240" y="34596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Google Shape;792;p15"/>
            <p:cNvSpPr/>
            <p:nvPr/>
          </p:nvSpPr>
          <p:spPr>
            <a:xfrm flipH="1" rot="681600">
              <a:off x="493200" y="3586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Google Shape;793;p15"/>
            <p:cNvSpPr/>
            <p:nvPr/>
          </p:nvSpPr>
          <p:spPr>
            <a:xfrm flipH="1" rot="682800">
              <a:off x="507240" y="3996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Google Shape;794;p15"/>
            <p:cNvSpPr/>
            <p:nvPr/>
          </p:nvSpPr>
          <p:spPr>
            <a:xfrm flipH="1" rot="682800">
              <a:off x="290520" y="4295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Google Shape;795;p15"/>
            <p:cNvSpPr/>
            <p:nvPr/>
          </p:nvSpPr>
          <p:spPr>
            <a:xfrm flipH="1" rot="16883400">
              <a:off x="1733400" y="252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Google Shape;796;p15"/>
            <p:cNvSpPr/>
            <p:nvPr/>
          </p:nvSpPr>
          <p:spPr>
            <a:xfrm flipH="1" rot="10800000">
              <a:off x="2846880" y="78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Google Shape;797;p15"/>
            <p:cNvSpPr/>
            <p:nvPr/>
          </p:nvSpPr>
          <p:spPr>
            <a:xfrm flipH="1" rot="16200000">
              <a:off x="480960" y="4987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Google Shape;798;p15"/>
            <p:cNvSpPr/>
            <p:nvPr/>
          </p:nvSpPr>
          <p:spPr>
            <a:xfrm flipH="1" rot="16200000">
              <a:off x="9024840" y="4361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Google Shape;799;p15"/>
            <p:cNvSpPr/>
            <p:nvPr/>
          </p:nvSpPr>
          <p:spPr>
            <a:xfrm flipH="1" rot="6081600">
              <a:off x="8658720" y="4945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Google Shape;800;p15"/>
            <p:cNvSpPr/>
            <p:nvPr/>
          </p:nvSpPr>
          <p:spPr>
            <a:xfrm flipH="1" rot="682800">
              <a:off x="8862840" y="3882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Google Shape;801;p15"/>
            <p:cNvSpPr/>
            <p:nvPr/>
          </p:nvSpPr>
          <p:spPr>
            <a:xfrm flipH="1" rot="16200000">
              <a:off x="7875000" y="50133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Google Shape;802;p15"/>
            <p:cNvSpPr/>
            <p:nvPr/>
          </p:nvSpPr>
          <p:spPr>
            <a:xfrm flipH="1" rot="10800000">
              <a:off x="7610040" y="48258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Google Shape;803;p15"/>
            <p:cNvSpPr/>
            <p:nvPr/>
          </p:nvSpPr>
          <p:spPr>
            <a:xfrm flipH="1" rot="10800000">
              <a:off x="6849360" y="4812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Google Shape;804;p15"/>
            <p:cNvSpPr/>
            <p:nvPr/>
          </p:nvSpPr>
          <p:spPr>
            <a:xfrm flipH="1" rot="6081600">
              <a:off x="2503440" y="4966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Google Shape;805;p15"/>
            <p:cNvSpPr/>
            <p:nvPr/>
          </p:nvSpPr>
          <p:spPr>
            <a:xfrm flipH="1" rot="6082800">
              <a:off x="2180880" y="4859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Google Shape;806;p15"/>
            <p:cNvSpPr/>
            <p:nvPr/>
          </p:nvSpPr>
          <p:spPr>
            <a:xfrm flipH="1" rot="6081600">
              <a:off x="819720" y="48207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Google Shape;807;p15"/>
            <p:cNvSpPr/>
            <p:nvPr/>
          </p:nvSpPr>
          <p:spPr>
            <a:xfrm flipH="1" rot="6082800">
              <a:off x="1100520" y="4740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Google Shape;808;p15"/>
            <p:cNvSpPr/>
            <p:nvPr/>
          </p:nvSpPr>
          <p:spPr>
            <a:xfrm flipH="1" rot="6082800">
              <a:off x="8336160" y="48384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Google Shape;809;p15"/>
            <p:cNvSpPr/>
            <p:nvPr/>
          </p:nvSpPr>
          <p:spPr>
            <a:xfrm flipH="1">
              <a:off x="7115040" y="5060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Google Shape;810;p15"/>
            <p:cNvSpPr/>
            <p:nvPr/>
          </p:nvSpPr>
          <p:spPr>
            <a:xfrm flipH="1">
              <a:off x="1569960" y="4928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Google Shape;811;p15"/>
            <p:cNvSpPr/>
            <p:nvPr/>
          </p:nvSpPr>
          <p:spPr>
            <a:xfrm flipH="1" rot="5400000">
              <a:off x="1113480" y="50266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oogle Shape;813;p16"/>
          <p:cNvGrpSpPr/>
          <p:nvPr/>
        </p:nvGrpSpPr>
        <p:grpSpPr>
          <a:xfrm>
            <a:off x="144360" y="23760"/>
            <a:ext cx="8943480" cy="5095800"/>
            <a:chOff x="144360" y="23760"/>
            <a:chExt cx="8943480" cy="5095800"/>
          </a:xfrm>
        </p:grpSpPr>
        <p:sp>
          <p:nvSpPr>
            <p:cNvPr id="529" name="Google Shape;814;p16"/>
            <p:cNvSpPr/>
            <p:nvPr/>
          </p:nvSpPr>
          <p:spPr>
            <a:xfrm flipH="1" rot="10800000">
              <a:off x="8929080" y="632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Google Shape;815;p16"/>
            <p:cNvSpPr/>
            <p:nvPr/>
          </p:nvSpPr>
          <p:spPr>
            <a:xfrm flipH="1" rot="10800000">
              <a:off x="8700840" y="2786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Google Shape;816;p16"/>
            <p:cNvSpPr/>
            <p:nvPr/>
          </p:nvSpPr>
          <p:spPr>
            <a:xfrm flipH="1" rot="5400000">
              <a:off x="2846520" y="3564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Google Shape;817;p16"/>
            <p:cNvSpPr/>
            <p:nvPr/>
          </p:nvSpPr>
          <p:spPr>
            <a:xfrm flipH="1" rot="5400000">
              <a:off x="2077200" y="428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Google Shape;818;p16"/>
            <p:cNvSpPr/>
            <p:nvPr/>
          </p:nvSpPr>
          <p:spPr>
            <a:xfrm flipH="1" rot="5400000">
              <a:off x="1877040" y="452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Google Shape;819;p16"/>
            <p:cNvSpPr/>
            <p:nvPr/>
          </p:nvSpPr>
          <p:spPr>
            <a:xfrm flipH="1" rot="10800000">
              <a:off x="1048320" y="3578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Google Shape;820;p16"/>
            <p:cNvSpPr/>
            <p:nvPr/>
          </p:nvSpPr>
          <p:spPr>
            <a:xfrm flipH="1" rot="10800000">
              <a:off x="667440" y="156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Google Shape;821;p16"/>
            <p:cNvSpPr/>
            <p:nvPr/>
          </p:nvSpPr>
          <p:spPr>
            <a:xfrm flipH="1" rot="681600">
              <a:off x="8543880" y="38300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Google Shape;822;p16"/>
            <p:cNvSpPr/>
            <p:nvPr/>
          </p:nvSpPr>
          <p:spPr>
            <a:xfrm flipH="1" rot="16200000">
              <a:off x="8964360" y="4867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Google Shape;823;p16"/>
            <p:cNvSpPr/>
            <p:nvPr/>
          </p:nvSpPr>
          <p:spPr>
            <a:xfrm flipH="1" rot="16200000">
              <a:off x="6801840" y="4356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Google Shape;824;p16"/>
            <p:cNvSpPr/>
            <p:nvPr/>
          </p:nvSpPr>
          <p:spPr>
            <a:xfrm flipH="1" rot="6082800">
              <a:off x="6234840" y="139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Google Shape;825;p16"/>
            <p:cNvSpPr/>
            <p:nvPr/>
          </p:nvSpPr>
          <p:spPr>
            <a:xfrm flipH="1" rot="16200000">
              <a:off x="5262480" y="2998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Google Shape;826;p16"/>
            <p:cNvSpPr/>
            <p:nvPr/>
          </p:nvSpPr>
          <p:spPr>
            <a:xfrm flipH="1" rot="16200000">
              <a:off x="5491800" y="70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Google Shape;827;p16"/>
            <p:cNvSpPr/>
            <p:nvPr/>
          </p:nvSpPr>
          <p:spPr>
            <a:xfrm flipH="1" rot="6081600">
              <a:off x="4236120" y="3718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Google Shape;828;p16"/>
            <p:cNvSpPr/>
            <p:nvPr/>
          </p:nvSpPr>
          <p:spPr>
            <a:xfrm flipH="1" rot="6082800">
              <a:off x="3913560" y="264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Google Shape;829;p16"/>
            <p:cNvSpPr/>
            <p:nvPr/>
          </p:nvSpPr>
          <p:spPr>
            <a:xfrm flipH="1" rot="16200000">
              <a:off x="5614920" y="386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Google Shape;830;p16"/>
            <p:cNvSpPr/>
            <p:nvPr/>
          </p:nvSpPr>
          <p:spPr>
            <a:xfrm flipH="1">
              <a:off x="3302640" y="334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Google Shape;831;p16"/>
            <p:cNvSpPr/>
            <p:nvPr/>
          </p:nvSpPr>
          <p:spPr>
            <a:xfrm flipH="1" rot="5400000">
              <a:off x="344520" y="46375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Google Shape;832;p16"/>
            <p:cNvSpPr/>
            <p:nvPr/>
          </p:nvSpPr>
          <p:spPr>
            <a:xfrm flipH="1" rot="5400000">
              <a:off x="144360" y="5046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Google Shape;833;p16"/>
            <p:cNvSpPr/>
            <p:nvPr/>
          </p:nvSpPr>
          <p:spPr>
            <a:xfrm flipH="1" rot="16200000">
              <a:off x="8015760" y="2376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Google Shape;834;p16"/>
            <p:cNvSpPr/>
            <p:nvPr/>
          </p:nvSpPr>
          <p:spPr>
            <a:xfrm flipH="1" rot="16200000">
              <a:off x="9033480" y="51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Google Shape;835;p16"/>
            <p:cNvSpPr/>
            <p:nvPr/>
          </p:nvSpPr>
          <p:spPr>
            <a:xfrm flipH="1" rot="10800000">
              <a:off x="8386920" y="245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Google Shape;836;p16"/>
            <p:cNvSpPr/>
            <p:nvPr/>
          </p:nvSpPr>
          <p:spPr>
            <a:xfrm flipH="1" rot="10800000">
              <a:off x="7778520" y="231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Google Shape;837;p16"/>
            <p:cNvSpPr/>
            <p:nvPr/>
          </p:nvSpPr>
          <p:spPr>
            <a:xfrm flipH="1" rot="16200000">
              <a:off x="7356600" y="362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Google Shape;838;p16"/>
            <p:cNvSpPr/>
            <p:nvPr/>
          </p:nvSpPr>
          <p:spPr>
            <a:xfrm flipH="1" rot="7666200">
              <a:off x="9033480" y="1172880"/>
              <a:ext cx="45360" cy="4500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400" bIns="-59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Google Shape;839;p16"/>
            <p:cNvSpPr/>
            <p:nvPr/>
          </p:nvSpPr>
          <p:spPr>
            <a:xfrm flipH="1" rot="13066800">
              <a:off x="8600400" y="1116360"/>
              <a:ext cx="45360" cy="4500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400" bIns="-59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Google Shape;840;p16"/>
            <p:cNvSpPr/>
            <p:nvPr/>
          </p:nvSpPr>
          <p:spPr>
            <a:xfrm flipH="1" rot="10800000">
              <a:off x="318960" y="1357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Google Shape;841;p16"/>
            <p:cNvSpPr/>
            <p:nvPr/>
          </p:nvSpPr>
          <p:spPr>
            <a:xfrm flipH="1" rot="10800000">
              <a:off x="314640" y="7916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Google Shape;842;p16"/>
            <p:cNvSpPr/>
            <p:nvPr/>
          </p:nvSpPr>
          <p:spPr>
            <a:xfrm flipH="1" rot="10800000">
              <a:off x="525240" y="365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Google Shape;843;p16"/>
            <p:cNvSpPr/>
            <p:nvPr/>
          </p:nvSpPr>
          <p:spPr>
            <a:xfrm flipH="1" rot="10800000">
              <a:off x="144360" y="164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Google Shape;844;p16"/>
            <p:cNvSpPr/>
            <p:nvPr/>
          </p:nvSpPr>
          <p:spPr>
            <a:xfrm flipH="1" rot="681600">
              <a:off x="444960" y="13899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Google Shape;845;p16"/>
            <p:cNvSpPr/>
            <p:nvPr/>
          </p:nvSpPr>
          <p:spPr>
            <a:xfrm flipH="1" rot="10800000">
              <a:off x="459720" y="410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Google Shape;846;p16"/>
            <p:cNvSpPr/>
            <p:nvPr/>
          </p:nvSpPr>
          <p:spPr>
            <a:xfrm flipH="1" rot="681600">
              <a:off x="493560" y="3586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Google Shape;847;p16"/>
            <p:cNvSpPr/>
            <p:nvPr/>
          </p:nvSpPr>
          <p:spPr>
            <a:xfrm flipH="1" rot="682800">
              <a:off x="507240" y="3996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Google Shape;848;p16"/>
            <p:cNvSpPr/>
            <p:nvPr/>
          </p:nvSpPr>
          <p:spPr>
            <a:xfrm flipH="1" rot="682800">
              <a:off x="290520" y="4295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Google Shape;849;p16"/>
            <p:cNvSpPr/>
            <p:nvPr/>
          </p:nvSpPr>
          <p:spPr>
            <a:xfrm flipH="1" rot="16883400">
              <a:off x="1733760" y="252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Google Shape;850;p16"/>
            <p:cNvSpPr/>
            <p:nvPr/>
          </p:nvSpPr>
          <p:spPr>
            <a:xfrm flipH="1" rot="10800000">
              <a:off x="2847240" y="78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Google Shape;851;p16"/>
            <p:cNvSpPr/>
            <p:nvPr/>
          </p:nvSpPr>
          <p:spPr>
            <a:xfrm flipH="1" rot="16200000">
              <a:off x="480960" y="4987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Google Shape;852;p16"/>
            <p:cNvSpPr/>
            <p:nvPr/>
          </p:nvSpPr>
          <p:spPr>
            <a:xfrm flipH="1" rot="16200000">
              <a:off x="9024840" y="4361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Google Shape;853;p16"/>
            <p:cNvSpPr/>
            <p:nvPr/>
          </p:nvSpPr>
          <p:spPr>
            <a:xfrm flipH="1" rot="6081600">
              <a:off x="8658720" y="4945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Google Shape;854;p16"/>
            <p:cNvSpPr/>
            <p:nvPr/>
          </p:nvSpPr>
          <p:spPr>
            <a:xfrm flipH="1" rot="682800">
              <a:off x="8862840" y="3882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Google Shape;855;p16"/>
            <p:cNvSpPr/>
            <p:nvPr/>
          </p:nvSpPr>
          <p:spPr>
            <a:xfrm flipH="1" rot="16200000">
              <a:off x="5937480" y="46684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Google Shape;856;p16"/>
            <p:cNvSpPr/>
            <p:nvPr/>
          </p:nvSpPr>
          <p:spPr>
            <a:xfrm flipH="1" rot="16200000">
              <a:off x="7875000" y="50133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Google Shape;857;p16"/>
            <p:cNvSpPr/>
            <p:nvPr/>
          </p:nvSpPr>
          <p:spPr>
            <a:xfrm flipH="1" rot="10800000">
              <a:off x="7610040" y="48258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Google Shape;858;p16"/>
            <p:cNvSpPr/>
            <p:nvPr/>
          </p:nvSpPr>
          <p:spPr>
            <a:xfrm flipH="1" rot="10800000">
              <a:off x="6849360" y="4812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Google Shape;859;p16"/>
            <p:cNvSpPr/>
            <p:nvPr/>
          </p:nvSpPr>
          <p:spPr>
            <a:xfrm flipH="1" rot="16200000">
              <a:off x="6427080" y="4943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Google Shape;860;p16"/>
            <p:cNvSpPr/>
            <p:nvPr/>
          </p:nvSpPr>
          <p:spPr>
            <a:xfrm flipH="1" rot="16200000">
              <a:off x="3083760" y="48362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Google Shape;861;p16"/>
            <p:cNvSpPr/>
            <p:nvPr/>
          </p:nvSpPr>
          <p:spPr>
            <a:xfrm flipH="1" rot="16200000">
              <a:off x="3529800" y="50464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Google Shape;862;p16"/>
            <p:cNvSpPr/>
            <p:nvPr/>
          </p:nvSpPr>
          <p:spPr>
            <a:xfrm flipH="1" rot="16200000">
              <a:off x="3759120" y="46652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Google Shape;863;p16"/>
            <p:cNvSpPr/>
            <p:nvPr/>
          </p:nvSpPr>
          <p:spPr>
            <a:xfrm flipH="1" rot="6081600">
              <a:off x="2503440" y="4966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Google Shape;864;p16"/>
            <p:cNvSpPr/>
            <p:nvPr/>
          </p:nvSpPr>
          <p:spPr>
            <a:xfrm flipH="1" rot="6082800">
              <a:off x="2180880" y="4859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Google Shape;865;p16"/>
            <p:cNvSpPr/>
            <p:nvPr/>
          </p:nvSpPr>
          <p:spPr>
            <a:xfrm flipH="1" rot="16200000">
              <a:off x="3882240" y="49806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Google Shape;866;p16"/>
            <p:cNvSpPr/>
            <p:nvPr/>
          </p:nvSpPr>
          <p:spPr>
            <a:xfrm flipH="1" rot="10800000">
              <a:off x="5194080" y="5000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Google Shape;867;p16"/>
            <p:cNvSpPr/>
            <p:nvPr/>
          </p:nvSpPr>
          <p:spPr>
            <a:xfrm flipH="1" rot="10800000">
              <a:off x="4813200" y="4799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Google Shape;868;p16"/>
            <p:cNvSpPr/>
            <p:nvPr/>
          </p:nvSpPr>
          <p:spPr>
            <a:xfrm flipH="1" rot="10800000">
              <a:off x="4671000" y="50076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Google Shape;869;p16"/>
            <p:cNvSpPr/>
            <p:nvPr/>
          </p:nvSpPr>
          <p:spPr>
            <a:xfrm flipH="1" rot="10800000">
              <a:off x="4290120" y="4806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Google Shape;870;p16"/>
            <p:cNvSpPr/>
            <p:nvPr/>
          </p:nvSpPr>
          <p:spPr>
            <a:xfrm flipH="1" rot="6081600">
              <a:off x="819720" y="48207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Google Shape;871;p16"/>
            <p:cNvSpPr/>
            <p:nvPr/>
          </p:nvSpPr>
          <p:spPr>
            <a:xfrm flipH="1" rot="6082800">
              <a:off x="1100880" y="4740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Google Shape;872;p16"/>
            <p:cNvSpPr/>
            <p:nvPr/>
          </p:nvSpPr>
          <p:spPr>
            <a:xfrm flipH="1" rot="6082800">
              <a:off x="8336160" y="48384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Google Shape;873;p16"/>
            <p:cNvSpPr/>
            <p:nvPr/>
          </p:nvSpPr>
          <p:spPr>
            <a:xfrm flipH="1">
              <a:off x="7115040" y="5060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Google Shape;874;p16"/>
            <p:cNvSpPr/>
            <p:nvPr/>
          </p:nvSpPr>
          <p:spPr>
            <a:xfrm flipH="1">
              <a:off x="1569960" y="4928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Google Shape;875;p16"/>
            <p:cNvSpPr/>
            <p:nvPr/>
          </p:nvSpPr>
          <p:spPr>
            <a:xfrm flipH="1" rot="5400000">
              <a:off x="1113480" y="50266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oogle Shape;890;p17"/>
          <p:cNvGrpSpPr/>
          <p:nvPr/>
        </p:nvGrpSpPr>
        <p:grpSpPr>
          <a:xfrm>
            <a:off x="117720" y="23760"/>
            <a:ext cx="8961120" cy="5095800"/>
            <a:chOff x="117720" y="23760"/>
            <a:chExt cx="8961120" cy="5095800"/>
          </a:xfrm>
        </p:grpSpPr>
        <p:sp>
          <p:nvSpPr>
            <p:cNvPr id="630" name="Google Shape;891;p17"/>
            <p:cNvSpPr/>
            <p:nvPr/>
          </p:nvSpPr>
          <p:spPr>
            <a:xfrm rot="10800000">
              <a:off x="8897760" y="2890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Google Shape;892;p17"/>
            <p:cNvSpPr/>
            <p:nvPr/>
          </p:nvSpPr>
          <p:spPr>
            <a:xfrm rot="10800000">
              <a:off x="203040" y="632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Google Shape;893;p17"/>
            <p:cNvSpPr/>
            <p:nvPr/>
          </p:nvSpPr>
          <p:spPr>
            <a:xfrm rot="10800000">
              <a:off x="459360" y="2786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Google Shape;894;p17"/>
            <p:cNvSpPr/>
            <p:nvPr/>
          </p:nvSpPr>
          <p:spPr>
            <a:xfrm rot="16200000">
              <a:off x="6262200" y="3564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Google Shape;895;p17"/>
            <p:cNvSpPr/>
            <p:nvPr/>
          </p:nvSpPr>
          <p:spPr>
            <a:xfrm rot="16200000">
              <a:off x="7050240" y="43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Google Shape;896;p17"/>
            <p:cNvSpPr/>
            <p:nvPr/>
          </p:nvSpPr>
          <p:spPr>
            <a:xfrm rot="16200000">
              <a:off x="7278480" y="452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Google Shape;897;p17"/>
            <p:cNvSpPr/>
            <p:nvPr/>
          </p:nvSpPr>
          <p:spPr>
            <a:xfrm rot="10800000">
              <a:off x="8078400" y="3578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Google Shape;898;p17"/>
            <p:cNvSpPr/>
            <p:nvPr/>
          </p:nvSpPr>
          <p:spPr>
            <a:xfrm rot="10800000">
              <a:off x="8487360" y="156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Google Shape;899;p17"/>
            <p:cNvSpPr/>
            <p:nvPr/>
          </p:nvSpPr>
          <p:spPr>
            <a:xfrm rot="20918400">
              <a:off x="282960" y="16570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Google Shape;900;p17"/>
            <p:cNvSpPr/>
            <p:nvPr/>
          </p:nvSpPr>
          <p:spPr>
            <a:xfrm rot="20917200">
              <a:off x="542880" y="20142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Google Shape;901;p17"/>
            <p:cNvSpPr/>
            <p:nvPr/>
          </p:nvSpPr>
          <p:spPr>
            <a:xfrm rot="10800000">
              <a:off x="203040" y="29577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Google Shape;902;p17"/>
            <p:cNvSpPr/>
            <p:nvPr/>
          </p:nvSpPr>
          <p:spPr>
            <a:xfrm rot="20918400">
              <a:off x="587880" y="3830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Google Shape;903;p17"/>
            <p:cNvSpPr/>
            <p:nvPr/>
          </p:nvSpPr>
          <p:spPr>
            <a:xfrm rot="10800000">
              <a:off x="296640" y="2633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Google Shape;904;p17"/>
            <p:cNvSpPr/>
            <p:nvPr/>
          </p:nvSpPr>
          <p:spPr>
            <a:xfrm rot="5400000">
              <a:off x="195840" y="4867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Google Shape;905;p17"/>
            <p:cNvSpPr/>
            <p:nvPr/>
          </p:nvSpPr>
          <p:spPr>
            <a:xfrm rot="5400000">
              <a:off x="2309400" y="432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Google Shape;906;p17"/>
            <p:cNvSpPr/>
            <p:nvPr/>
          </p:nvSpPr>
          <p:spPr>
            <a:xfrm rot="15517200">
              <a:off x="2923560" y="139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Google Shape;907;p17"/>
            <p:cNvSpPr/>
            <p:nvPr/>
          </p:nvSpPr>
          <p:spPr>
            <a:xfrm rot="5400000">
              <a:off x="3867120" y="2998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Google Shape;908;p17"/>
            <p:cNvSpPr/>
            <p:nvPr/>
          </p:nvSpPr>
          <p:spPr>
            <a:xfrm rot="5400000">
              <a:off x="3666240" y="70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Google Shape;909;p17"/>
            <p:cNvSpPr/>
            <p:nvPr/>
          </p:nvSpPr>
          <p:spPr>
            <a:xfrm rot="15518400">
              <a:off x="4892400" y="3718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Google Shape;910;p17"/>
            <p:cNvSpPr/>
            <p:nvPr/>
          </p:nvSpPr>
          <p:spPr>
            <a:xfrm rot="15517200">
              <a:off x="5243040" y="264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Google Shape;911;p17"/>
            <p:cNvSpPr/>
            <p:nvPr/>
          </p:nvSpPr>
          <p:spPr>
            <a:xfrm rot="5400000">
              <a:off x="3542760" y="386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Google Shape;912;p17"/>
            <p:cNvSpPr/>
            <p:nvPr/>
          </p:nvSpPr>
          <p:spPr>
            <a:xfrm>
              <a:off x="5853600" y="334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Google Shape;913;p17"/>
            <p:cNvSpPr/>
            <p:nvPr/>
          </p:nvSpPr>
          <p:spPr>
            <a:xfrm rot="16200000">
              <a:off x="8781840" y="46375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Google Shape;914;p17"/>
            <p:cNvSpPr/>
            <p:nvPr/>
          </p:nvSpPr>
          <p:spPr>
            <a:xfrm rot="16200000">
              <a:off x="9010080" y="5046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Google Shape;915;p17"/>
            <p:cNvSpPr/>
            <p:nvPr/>
          </p:nvSpPr>
          <p:spPr>
            <a:xfrm rot="5400000">
              <a:off x="1096200" y="234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Google Shape;916;p17"/>
            <p:cNvSpPr/>
            <p:nvPr/>
          </p:nvSpPr>
          <p:spPr>
            <a:xfrm rot="5400000">
              <a:off x="127080" y="51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Google Shape;917;p17"/>
            <p:cNvSpPr/>
            <p:nvPr/>
          </p:nvSpPr>
          <p:spPr>
            <a:xfrm rot="10800000">
              <a:off x="744840" y="2451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Google Shape;918;p17"/>
            <p:cNvSpPr/>
            <p:nvPr/>
          </p:nvSpPr>
          <p:spPr>
            <a:xfrm rot="10800000">
              <a:off x="1380960" y="231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Google Shape;919;p17"/>
            <p:cNvSpPr/>
            <p:nvPr/>
          </p:nvSpPr>
          <p:spPr>
            <a:xfrm rot="5400000">
              <a:off x="1802520" y="362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Google Shape;920;p17"/>
            <p:cNvSpPr/>
            <p:nvPr/>
          </p:nvSpPr>
          <p:spPr>
            <a:xfrm rot="13933800">
              <a:off x="126720" y="1172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Google Shape;921;p17"/>
            <p:cNvSpPr/>
            <p:nvPr/>
          </p:nvSpPr>
          <p:spPr>
            <a:xfrm rot="8533200">
              <a:off x="559080" y="1116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Google Shape;922;p17"/>
            <p:cNvSpPr/>
            <p:nvPr/>
          </p:nvSpPr>
          <p:spPr>
            <a:xfrm rot="10800000">
              <a:off x="8892360" y="25556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Google Shape;923;p17"/>
            <p:cNvSpPr/>
            <p:nvPr/>
          </p:nvSpPr>
          <p:spPr>
            <a:xfrm rot="10800000">
              <a:off x="8835480" y="13579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Google Shape;924;p17"/>
            <p:cNvSpPr/>
            <p:nvPr/>
          </p:nvSpPr>
          <p:spPr>
            <a:xfrm rot="10800000">
              <a:off x="8792280" y="7916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Google Shape;925;p17"/>
            <p:cNvSpPr/>
            <p:nvPr/>
          </p:nvSpPr>
          <p:spPr>
            <a:xfrm rot="10800000">
              <a:off x="8601120" y="365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Google Shape;926;p17"/>
            <p:cNvSpPr/>
            <p:nvPr/>
          </p:nvSpPr>
          <p:spPr>
            <a:xfrm rot="10800000">
              <a:off x="9010080" y="164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Google Shape;927;p17"/>
            <p:cNvSpPr/>
            <p:nvPr/>
          </p:nvSpPr>
          <p:spPr>
            <a:xfrm rot="20918400">
              <a:off x="8681400" y="1390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Google Shape;928;p17"/>
            <p:cNvSpPr/>
            <p:nvPr/>
          </p:nvSpPr>
          <p:spPr>
            <a:xfrm rot="10800000">
              <a:off x="8694720" y="40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Google Shape;929;p17"/>
            <p:cNvSpPr/>
            <p:nvPr/>
          </p:nvSpPr>
          <p:spPr>
            <a:xfrm rot="5400000">
              <a:off x="8746560" y="2351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Google Shape;930;p17"/>
            <p:cNvSpPr/>
            <p:nvPr/>
          </p:nvSpPr>
          <p:spPr>
            <a:xfrm rot="20917200">
              <a:off x="8911440" y="2099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Google Shape;931;p17"/>
            <p:cNvSpPr/>
            <p:nvPr/>
          </p:nvSpPr>
          <p:spPr>
            <a:xfrm rot="10800000">
              <a:off x="8986320" y="345960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Google Shape;932;p17"/>
            <p:cNvSpPr/>
            <p:nvPr/>
          </p:nvSpPr>
          <p:spPr>
            <a:xfrm rot="20918400">
              <a:off x="8632800" y="35866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Google Shape;933;p17"/>
            <p:cNvSpPr/>
            <p:nvPr/>
          </p:nvSpPr>
          <p:spPr>
            <a:xfrm rot="20917200">
              <a:off x="8646480" y="39963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Google Shape;934;p17"/>
            <p:cNvSpPr/>
            <p:nvPr/>
          </p:nvSpPr>
          <p:spPr>
            <a:xfrm rot="20917200">
              <a:off x="8863200" y="4295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Google Shape;935;p17"/>
            <p:cNvSpPr/>
            <p:nvPr/>
          </p:nvSpPr>
          <p:spPr>
            <a:xfrm rot="4716600">
              <a:off x="7421040" y="2520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Google Shape;936;p17"/>
            <p:cNvSpPr/>
            <p:nvPr/>
          </p:nvSpPr>
          <p:spPr>
            <a:xfrm rot="10800000">
              <a:off x="6309000" y="78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Google Shape;937;p17"/>
            <p:cNvSpPr/>
            <p:nvPr/>
          </p:nvSpPr>
          <p:spPr>
            <a:xfrm rot="5400000">
              <a:off x="8673480" y="49874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Google Shape;938;p17"/>
            <p:cNvSpPr/>
            <p:nvPr/>
          </p:nvSpPr>
          <p:spPr>
            <a:xfrm rot="5400000">
              <a:off x="135360" y="4361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Google Shape;939;p17"/>
            <p:cNvSpPr/>
            <p:nvPr/>
          </p:nvSpPr>
          <p:spPr>
            <a:xfrm rot="15518400">
              <a:off x="472680" y="494532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Google Shape;940;p17"/>
            <p:cNvSpPr/>
            <p:nvPr/>
          </p:nvSpPr>
          <p:spPr>
            <a:xfrm rot="20917200">
              <a:off x="296640" y="38829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Google Shape;941;p17"/>
            <p:cNvSpPr/>
            <p:nvPr/>
          </p:nvSpPr>
          <p:spPr>
            <a:xfrm rot="5400000">
              <a:off x="120600" y="23256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Google Shape;942;p17"/>
            <p:cNvSpPr/>
            <p:nvPr/>
          </p:nvSpPr>
          <p:spPr>
            <a:xfrm rot="5400000">
              <a:off x="3173400" y="46684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Google Shape;943;p17"/>
            <p:cNvSpPr/>
            <p:nvPr/>
          </p:nvSpPr>
          <p:spPr>
            <a:xfrm rot="5400000">
              <a:off x="1256400" y="50133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Google Shape;944;p17"/>
            <p:cNvSpPr/>
            <p:nvPr/>
          </p:nvSpPr>
          <p:spPr>
            <a:xfrm rot="10800000">
              <a:off x="1521000" y="48258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Google Shape;945;p17"/>
            <p:cNvSpPr/>
            <p:nvPr/>
          </p:nvSpPr>
          <p:spPr>
            <a:xfrm rot="10800000">
              <a:off x="2309400" y="48121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Google Shape;946;p17"/>
            <p:cNvSpPr/>
            <p:nvPr/>
          </p:nvSpPr>
          <p:spPr>
            <a:xfrm rot="5400000">
              <a:off x="2731320" y="49438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Google Shape;947;p17"/>
            <p:cNvSpPr/>
            <p:nvPr/>
          </p:nvSpPr>
          <p:spPr>
            <a:xfrm rot="5400000">
              <a:off x="6024960" y="483624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Google Shape;948;p17"/>
            <p:cNvSpPr/>
            <p:nvPr/>
          </p:nvSpPr>
          <p:spPr>
            <a:xfrm rot="5400000">
              <a:off x="5598720" y="50464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Google Shape;949;p17"/>
            <p:cNvSpPr/>
            <p:nvPr/>
          </p:nvSpPr>
          <p:spPr>
            <a:xfrm rot="5400000">
              <a:off x="5397480" y="46652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Google Shape;950;p17"/>
            <p:cNvSpPr/>
            <p:nvPr/>
          </p:nvSpPr>
          <p:spPr>
            <a:xfrm rot="15518400">
              <a:off x="6624000" y="49662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Google Shape;951;p17"/>
            <p:cNvSpPr/>
            <p:nvPr/>
          </p:nvSpPr>
          <p:spPr>
            <a:xfrm rot="15517200">
              <a:off x="6974640" y="4859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Google Shape;952;p17"/>
            <p:cNvSpPr/>
            <p:nvPr/>
          </p:nvSpPr>
          <p:spPr>
            <a:xfrm rot="5400000">
              <a:off x="5274360" y="49806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Google Shape;953;p17"/>
            <p:cNvSpPr/>
            <p:nvPr/>
          </p:nvSpPr>
          <p:spPr>
            <a:xfrm rot="10800000">
              <a:off x="3935520" y="50004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Google Shape;954;p17"/>
            <p:cNvSpPr/>
            <p:nvPr/>
          </p:nvSpPr>
          <p:spPr>
            <a:xfrm rot="10800000">
              <a:off x="4344120" y="47995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Google Shape;955;p17"/>
            <p:cNvSpPr/>
            <p:nvPr/>
          </p:nvSpPr>
          <p:spPr>
            <a:xfrm rot="10800000">
              <a:off x="4458240" y="500760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Google Shape;956;p17"/>
            <p:cNvSpPr/>
            <p:nvPr/>
          </p:nvSpPr>
          <p:spPr>
            <a:xfrm rot="10800000">
              <a:off x="4866840" y="480672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Google Shape;957;p17"/>
            <p:cNvSpPr/>
            <p:nvPr/>
          </p:nvSpPr>
          <p:spPr>
            <a:xfrm rot="15518400">
              <a:off x="8306640" y="48207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Google Shape;958;p17"/>
            <p:cNvSpPr/>
            <p:nvPr/>
          </p:nvSpPr>
          <p:spPr>
            <a:xfrm rot="15517200">
              <a:off x="8053920" y="4740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Google Shape;959;p17"/>
            <p:cNvSpPr/>
            <p:nvPr/>
          </p:nvSpPr>
          <p:spPr>
            <a:xfrm rot="15517200">
              <a:off x="823680" y="48384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Google Shape;960;p17"/>
            <p:cNvSpPr/>
            <p:nvPr/>
          </p:nvSpPr>
          <p:spPr>
            <a:xfrm>
              <a:off x="2043720" y="50601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Google Shape;961;p17"/>
            <p:cNvSpPr/>
            <p:nvPr/>
          </p:nvSpPr>
          <p:spPr>
            <a:xfrm>
              <a:off x="7585200" y="492876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Google Shape;962;p17"/>
            <p:cNvSpPr/>
            <p:nvPr/>
          </p:nvSpPr>
          <p:spPr>
            <a:xfrm rot="16200000">
              <a:off x="7993800" y="5026680"/>
              <a:ext cx="92520" cy="925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37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oogle Shape;1289;p23"/>
          <p:cNvGrpSpPr/>
          <p:nvPr/>
        </p:nvGrpSpPr>
        <p:grpSpPr>
          <a:xfrm>
            <a:off x="109440" y="100080"/>
            <a:ext cx="536760" cy="2442960"/>
            <a:chOff x="109440" y="100080"/>
            <a:chExt cx="536760" cy="2442960"/>
          </a:xfrm>
        </p:grpSpPr>
        <p:sp>
          <p:nvSpPr>
            <p:cNvPr id="741" name="Google Shape;1290;p23"/>
            <p:cNvSpPr/>
            <p:nvPr/>
          </p:nvSpPr>
          <p:spPr>
            <a:xfrm flipH="1" rot="10800000">
              <a:off x="518040" y="3016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Google Shape;1291;p23"/>
            <p:cNvSpPr/>
            <p:nvPr/>
          </p:nvSpPr>
          <p:spPr>
            <a:xfrm flipH="1" rot="10800000">
              <a:off x="137160" y="1000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Google Shape;1292;p23"/>
            <p:cNvSpPr/>
            <p:nvPr/>
          </p:nvSpPr>
          <p:spPr>
            <a:xfrm flipH="1">
              <a:off x="511920" y="1612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Google Shape;1293;p23"/>
            <p:cNvSpPr/>
            <p:nvPr/>
          </p:nvSpPr>
          <p:spPr>
            <a:xfrm flipH="1">
              <a:off x="196200" y="43740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Google Shape;1294;p23"/>
            <p:cNvSpPr/>
            <p:nvPr/>
          </p:nvSpPr>
          <p:spPr>
            <a:xfrm flipH="1">
              <a:off x="553320" y="1810440"/>
              <a:ext cx="92880" cy="928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Google Shape;1295;p23"/>
            <p:cNvSpPr/>
            <p:nvPr/>
          </p:nvSpPr>
          <p:spPr>
            <a:xfrm flipH="1" rot="10800000">
              <a:off x="109440" y="1071360"/>
              <a:ext cx="92880" cy="928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Google Shape;1296;p23"/>
            <p:cNvSpPr/>
            <p:nvPr/>
          </p:nvSpPr>
          <p:spPr>
            <a:xfrm flipH="1" rot="11481600">
              <a:off x="188280" y="24634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Google Shape;1297;p23"/>
            <p:cNvSpPr/>
            <p:nvPr/>
          </p:nvSpPr>
          <p:spPr>
            <a:xfrm flipH="1" rot="11483400">
              <a:off x="323640" y="21394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Google Shape;1298;p23"/>
            <p:cNvSpPr/>
            <p:nvPr/>
          </p:nvSpPr>
          <p:spPr>
            <a:xfrm flipH="1" rot="5400000">
              <a:off x="254880" y="152784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Google Shape;1299;p23"/>
            <p:cNvSpPr/>
            <p:nvPr/>
          </p:nvSpPr>
          <p:spPr>
            <a:xfrm flipH="1" rot="11481600">
              <a:off x="334080" y="7779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Google Shape;1300;p23"/>
            <p:cNvSpPr/>
            <p:nvPr/>
          </p:nvSpPr>
          <p:spPr>
            <a:xfrm flipH="1" rot="11483400">
              <a:off x="442440" y="1057680"/>
              <a:ext cx="45360" cy="45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oogle Shape;1301;p23"/>
          <p:cNvGrpSpPr/>
          <p:nvPr/>
        </p:nvGrpSpPr>
        <p:grpSpPr>
          <a:xfrm>
            <a:off x="7210800" y="2598840"/>
            <a:ext cx="1812240" cy="2445120"/>
            <a:chOff x="7210800" y="2598840"/>
            <a:chExt cx="1812240" cy="2445120"/>
          </a:xfrm>
        </p:grpSpPr>
        <p:sp>
          <p:nvSpPr>
            <p:cNvPr id="753" name="Google Shape;1302;p23"/>
            <p:cNvSpPr/>
            <p:nvPr/>
          </p:nvSpPr>
          <p:spPr>
            <a:xfrm flipH="1">
              <a:off x="8539920" y="476928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Google Shape;1303;p23"/>
            <p:cNvSpPr/>
            <p:nvPr/>
          </p:nvSpPr>
          <p:spPr>
            <a:xfrm flipH="1">
              <a:off x="8949240" y="4998240"/>
              <a:ext cx="4572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Google Shape;1304;p23"/>
            <p:cNvSpPr/>
            <p:nvPr/>
          </p:nvSpPr>
          <p:spPr>
            <a:xfrm flipH="1" rot="10800000">
              <a:off x="8574480" y="4937040"/>
              <a:ext cx="4572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Google Shape;1305;p23"/>
            <p:cNvSpPr/>
            <p:nvPr/>
          </p:nvSpPr>
          <p:spPr>
            <a:xfrm flipH="1" rot="10800000">
              <a:off x="8890560" y="4660560"/>
              <a:ext cx="4572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Google Shape;1306;p23"/>
            <p:cNvSpPr/>
            <p:nvPr/>
          </p:nvSpPr>
          <p:spPr>
            <a:xfrm flipH="1" rot="10800000">
              <a:off x="8485560" y="3238920"/>
              <a:ext cx="92880" cy="928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Google Shape;1307;p23"/>
            <p:cNvSpPr/>
            <p:nvPr/>
          </p:nvSpPr>
          <p:spPr>
            <a:xfrm flipH="1">
              <a:off x="8930160" y="3978720"/>
              <a:ext cx="92880" cy="928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Google Shape;1308;p23"/>
            <p:cNvSpPr/>
            <p:nvPr/>
          </p:nvSpPr>
          <p:spPr>
            <a:xfrm flipH="1" rot="681600">
              <a:off x="8869680" y="260496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Google Shape;1309;p23"/>
            <p:cNvSpPr/>
            <p:nvPr/>
          </p:nvSpPr>
          <p:spPr>
            <a:xfrm flipH="1" rot="682800">
              <a:off x="8762040" y="2957040"/>
              <a:ext cx="4536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Google Shape;1310;p23"/>
            <p:cNvSpPr/>
            <p:nvPr/>
          </p:nvSpPr>
          <p:spPr>
            <a:xfrm flipH="1" rot="16200000">
              <a:off x="8831880" y="3569400"/>
              <a:ext cx="4572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Google Shape;1311;p23"/>
            <p:cNvSpPr/>
            <p:nvPr/>
          </p:nvSpPr>
          <p:spPr>
            <a:xfrm flipH="1" rot="682800">
              <a:off x="7214400" y="3698640"/>
              <a:ext cx="4536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Google Shape;1312;p23"/>
            <p:cNvSpPr/>
            <p:nvPr/>
          </p:nvSpPr>
          <p:spPr>
            <a:xfrm flipH="1" rot="681600">
              <a:off x="8723880" y="4292640"/>
              <a:ext cx="73080" cy="730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Google Shape;1313;p23"/>
            <p:cNvSpPr/>
            <p:nvPr/>
          </p:nvSpPr>
          <p:spPr>
            <a:xfrm flipH="1" rot="682800">
              <a:off x="8643240" y="4039560"/>
              <a:ext cx="45360" cy="457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8680" bIns="-58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12800" y="1187280"/>
            <a:ext cx="771840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21376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image" Target="../media/image15.png"/><Relationship Id="rId4" Type="http://schemas.openxmlformats.org/officeDocument/2006/relationships/slide" Target="slide12.xml"/><Relationship Id="rId5" Type="http://schemas.openxmlformats.org/officeDocument/2006/relationships/image" Target="../media/image10.png"/><Relationship Id="rId6" Type="http://schemas.openxmlformats.org/officeDocument/2006/relationships/slide" Target="slide12.xml"/><Relationship Id="rId7" Type="http://schemas.openxmlformats.org/officeDocument/2006/relationships/image" Target="../media/image11.png"/><Relationship Id="rId8" Type="http://schemas.openxmlformats.org/officeDocument/2006/relationships/slide" Target="slide12.xml"/><Relationship Id="rId9" Type="http://schemas.openxmlformats.org/officeDocument/2006/relationships/image" Target="../media/image16.png"/><Relationship Id="rId10" Type="http://schemas.openxmlformats.org/officeDocument/2006/relationships/audio" Target="../media/coin.wav"/><Relationship Id="rId1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3.pn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3.xml"/><Relationship Id="rId3" Type="http://schemas.openxmlformats.org/officeDocument/2006/relationships/image" Target="../media/image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6.png"/><Relationship Id="rId5" Type="http://schemas.openxmlformats.org/officeDocument/2006/relationships/slide" Target="slide10.xml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9.png"/><Relationship Id="rId4" Type="http://schemas.openxmlformats.org/officeDocument/2006/relationships/slide" Target="slide6.xml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image" Target="../media/image11.png"/><Relationship Id="rId8" Type="http://schemas.openxmlformats.org/officeDocument/2006/relationships/slide" Target="slide6.xml"/><Relationship Id="rId9" Type="http://schemas.openxmlformats.org/officeDocument/2006/relationships/image" Target="../media/image12.png"/><Relationship Id="rId10" Type="http://schemas.openxmlformats.org/officeDocument/2006/relationships/audio" Target="../media/coin.wav"/><Relationship Id="rId1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pn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slide" Target="slide9.xml"/><Relationship Id="rId5" Type="http://schemas.openxmlformats.org/officeDocument/2006/relationships/image" Target="../media/image10.png"/><Relationship Id="rId6" Type="http://schemas.openxmlformats.org/officeDocument/2006/relationships/slide" Target="slide9.xml"/><Relationship Id="rId7" Type="http://schemas.openxmlformats.org/officeDocument/2006/relationships/image" Target="../media/image14.png"/><Relationship Id="rId8" Type="http://schemas.openxmlformats.org/officeDocument/2006/relationships/slide" Target="slide9.xml"/><Relationship Id="rId9" Type="http://schemas.openxmlformats.org/officeDocument/2006/relationships/image" Target="../media/image12.png"/><Relationship Id="rId10" Type="http://schemas.openxmlformats.org/officeDocument/2006/relationships/audio" Target="../media/coin.wav"/><Relationship Id="rId1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oogle Shape;2252;p38"/>
          <p:cNvGrpSpPr/>
          <p:nvPr/>
        </p:nvGrpSpPr>
        <p:grpSpPr>
          <a:xfrm>
            <a:off x="5506560" y="2715480"/>
            <a:ext cx="821520" cy="837360"/>
            <a:chOff x="5506560" y="2715480"/>
            <a:chExt cx="821520" cy="837360"/>
          </a:xfrm>
        </p:grpSpPr>
        <p:sp>
          <p:nvSpPr>
            <p:cNvPr id="1246" name="Google Shape;2253;p38"/>
            <p:cNvSpPr/>
            <p:nvPr/>
          </p:nvSpPr>
          <p:spPr>
            <a:xfrm rot="8889600">
              <a:off x="5574960" y="2952000"/>
              <a:ext cx="684720" cy="454320"/>
            </a:xfrm>
            <a:custGeom>
              <a:avLst/>
              <a:gdLst/>
              <a:ahLst/>
              <a:rect l="l" t="t" r="r" b="b"/>
              <a:pathLst>
                <a:path w="32659" h="18554">
                  <a:moveTo>
                    <a:pt x="30391" y="0"/>
                  </a:moveTo>
                  <a:lnTo>
                    <a:pt x="1" y="13406"/>
                  </a:lnTo>
                  <a:lnTo>
                    <a:pt x="2269" y="18554"/>
                  </a:lnTo>
                  <a:lnTo>
                    <a:pt x="32659" y="5147"/>
                  </a:lnTo>
                  <a:lnTo>
                    <a:pt x="30391" y="0"/>
                  </a:ln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Google Shape;2254;p38"/>
            <p:cNvSpPr/>
            <p:nvPr/>
          </p:nvSpPr>
          <p:spPr>
            <a:xfrm rot="8889600">
              <a:off x="6081480" y="2748960"/>
              <a:ext cx="147600" cy="127080"/>
            </a:xfrm>
            <a:custGeom>
              <a:avLst/>
              <a:gdLst/>
              <a:ahLst/>
              <a:rect l="l" t="t" r="r" b="b"/>
              <a:pathLst>
                <a:path w="7068" h="5206">
                  <a:moveTo>
                    <a:pt x="4799" y="0"/>
                  </a:moveTo>
                  <a:lnTo>
                    <a:pt x="1" y="5206"/>
                  </a:lnTo>
                  <a:lnTo>
                    <a:pt x="7067" y="5148"/>
                  </a:lnTo>
                  <a:lnTo>
                    <a:pt x="4799" y="0"/>
                  </a:ln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6000" bIns="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Google Shape;2255;p38"/>
            <p:cNvSpPr/>
            <p:nvPr/>
          </p:nvSpPr>
          <p:spPr>
            <a:xfrm rot="8889600">
              <a:off x="5555880" y="2971800"/>
              <a:ext cx="646560" cy="355320"/>
            </a:xfrm>
            <a:custGeom>
              <a:avLst/>
              <a:gdLst/>
              <a:ahLst/>
              <a:rect l="l" t="t" r="r" b="b"/>
              <a:pathLst>
                <a:path w="30914" h="14570">
                  <a:moveTo>
                    <a:pt x="30390" y="0"/>
                  </a:moveTo>
                  <a:lnTo>
                    <a:pt x="1" y="13377"/>
                  </a:lnTo>
                  <a:lnTo>
                    <a:pt x="524" y="14570"/>
                  </a:lnTo>
                  <a:lnTo>
                    <a:pt x="30914" y="1192"/>
                  </a:lnTo>
                  <a:lnTo>
                    <a:pt x="30390" y="0"/>
                  </a:ln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Google Shape;2256;p38"/>
            <p:cNvSpPr/>
            <p:nvPr/>
          </p:nvSpPr>
          <p:spPr>
            <a:xfrm rot="8889600">
              <a:off x="5593680" y="2999880"/>
              <a:ext cx="646560" cy="355320"/>
            </a:xfrm>
            <a:custGeom>
              <a:avLst/>
              <a:gdLst/>
              <a:ahLst/>
              <a:rect l="l" t="t" r="r" b="b"/>
              <a:pathLst>
                <a:path w="30885" h="14571">
                  <a:moveTo>
                    <a:pt x="30361" y="1"/>
                  </a:moveTo>
                  <a:lnTo>
                    <a:pt x="0" y="13378"/>
                  </a:lnTo>
                  <a:lnTo>
                    <a:pt x="524" y="14570"/>
                  </a:lnTo>
                  <a:lnTo>
                    <a:pt x="30884" y="1193"/>
                  </a:lnTo>
                  <a:lnTo>
                    <a:pt x="30361" y="1"/>
                  </a:ln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Google Shape;2257;p38"/>
            <p:cNvSpPr/>
            <p:nvPr/>
          </p:nvSpPr>
          <p:spPr>
            <a:xfrm rot="8889600">
              <a:off x="5631480" y="3030840"/>
              <a:ext cx="644760" cy="355320"/>
            </a:xfrm>
            <a:custGeom>
              <a:avLst/>
              <a:gdLst/>
              <a:ahLst/>
              <a:rect l="l" t="t" r="r" b="b"/>
              <a:pathLst>
                <a:path w="30885" h="14570">
                  <a:moveTo>
                    <a:pt x="30361" y="0"/>
                  </a:moveTo>
                  <a:lnTo>
                    <a:pt x="1" y="13377"/>
                  </a:lnTo>
                  <a:lnTo>
                    <a:pt x="524" y="14570"/>
                  </a:lnTo>
                  <a:lnTo>
                    <a:pt x="30885" y="1192"/>
                  </a:lnTo>
                  <a:lnTo>
                    <a:pt x="30361" y="0"/>
                  </a:ln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Google Shape;2258;p38"/>
            <p:cNvSpPr/>
            <p:nvPr/>
          </p:nvSpPr>
          <p:spPr>
            <a:xfrm rot="8889600">
              <a:off x="6159240" y="2723400"/>
              <a:ext cx="41400" cy="36360"/>
            </a:xfrm>
            <a:custGeom>
              <a:avLst/>
              <a:gdLst/>
              <a:ahLst/>
              <a:rect l="l" t="t" r="r" b="b"/>
              <a:pathLst>
                <a:path w="2037" h="1484">
                  <a:moveTo>
                    <a:pt x="1396" y="1"/>
                  </a:moveTo>
                  <a:lnTo>
                    <a:pt x="1" y="1484"/>
                  </a:lnTo>
                  <a:lnTo>
                    <a:pt x="2036" y="1455"/>
                  </a:lnTo>
                  <a:lnTo>
                    <a:pt x="1396" y="1"/>
                  </a:ln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720" bIns="-54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Comenzar">
            <a:hlinkClick r:id="" action="ppaction://hlinkshowjump?jump=nextslide"/>
          </p:cNvPr>
          <p:cNvSpPr/>
          <p:nvPr/>
        </p:nvSpPr>
        <p:spPr>
          <a:xfrm>
            <a:off x="717480" y="3649680"/>
            <a:ext cx="3854520" cy="736560"/>
          </a:xfrm>
          <a:custGeom>
            <a:avLst/>
            <a:gdLst/>
            <a:ahLst/>
            <a:rect l="l" t="t" r="r" b="b"/>
            <a:pathLst>
              <a:path w="286778" h="39641">
                <a:moveTo>
                  <a:pt x="2485" y="0"/>
                </a:moveTo>
                <a:cubicBezTo>
                  <a:pt x="865" y="0"/>
                  <a:pt x="1" y="1944"/>
                  <a:pt x="1081" y="3186"/>
                </a:cubicBezTo>
                <a:lnTo>
                  <a:pt x="16473" y="20036"/>
                </a:lnTo>
                <a:lnTo>
                  <a:pt x="1189" y="36400"/>
                </a:lnTo>
                <a:cubicBezTo>
                  <a:pt x="55" y="37643"/>
                  <a:pt x="919" y="39641"/>
                  <a:pt x="2593" y="39641"/>
                </a:cubicBezTo>
                <a:lnTo>
                  <a:pt x="284239" y="39641"/>
                </a:lnTo>
                <a:cubicBezTo>
                  <a:pt x="285859" y="39641"/>
                  <a:pt x="286777" y="37697"/>
                  <a:pt x="285643" y="36454"/>
                </a:cubicBezTo>
                <a:lnTo>
                  <a:pt x="271169" y="19550"/>
                </a:lnTo>
                <a:lnTo>
                  <a:pt x="285589" y="3186"/>
                </a:lnTo>
                <a:cubicBezTo>
                  <a:pt x="286669" y="1944"/>
                  <a:pt x="285751" y="0"/>
                  <a:pt x="284131" y="0"/>
                </a:cubicBezTo>
                <a:lnTo>
                  <a:pt x="2485" y="0"/>
                </a:lnTo>
                <a:close/>
              </a:path>
            </a:pathLst>
          </a:custGeom>
          <a:solidFill>
            <a:srgbClr val="36a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oogle Shape;2260;p38"/>
          <p:cNvGrpSpPr/>
          <p:nvPr/>
        </p:nvGrpSpPr>
        <p:grpSpPr>
          <a:xfrm>
            <a:off x="5760720" y="1878120"/>
            <a:ext cx="2181240" cy="2890800"/>
            <a:chOff x="5760720" y="1878120"/>
            <a:chExt cx="2181240" cy="2890800"/>
          </a:xfrm>
        </p:grpSpPr>
        <p:sp>
          <p:nvSpPr>
            <p:cNvPr id="1254" name="Google Shape;2261;p38"/>
            <p:cNvSpPr/>
            <p:nvPr/>
          </p:nvSpPr>
          <p:spPr>
            <a:xfrm>
              <a:off x="6385680" y="4556160"/>
              <a:ext cx="1418760" cy="2127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9400" bIns="594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oogle Shape;2262;p38"/>
            <p:cNvGrpSpPr/>
            <p:nvPr/>
          </p:nvGrpSpPr>
          <p:grpSpPr>
            <a:xfrm>
              <a:off x="5760720" y="1878120"/>
              <a:ext cx="2181240" cy="2784600"/>
              <a:chOff x="5760720" y="1878120"/>
              <a:chExt cx="2181240" cy="2784600"/>
            </a:xfrm>
          </p:grpSpPr>
          <p:sp>
            <p:nvSpPr>
              <p:cNvPr id="1256" name="Google Shape;2263;p38"/>
              <p:cNvSpPr/>
              <p:nvPr/>
            </p:nvSpPr>
            <p:spPr>
              <a:xfrm flipH="1">
                <a:off x="7120800" y="4208760"/>
                <a:ext cx="469800" cy="453960"/>
              </a:xfrm>
              <a:custGeom>
                <a:avLst/>
                <a:gdLst/>
                <a:ahLst/>
                <a:rect l="l" t="t" r="r" b="b"/>
                <a:pathLst>
                  <a:path w="13136" h="12687">
                    <a:moveTo>
                      <a:pt x="7865" y="0"/>
                    </a:moveTo>
                    <a:cubicBezTo>
                      <a:pt x="7353" y="0"/>
                      <a:pt x="0" y="38"/>
                      <a:pt x="3738" y="2219"/>
                    </a:cubicBezTo>
                    <a:cubicBezTo>
                      <a:pt x="7610" y="4477"/>
                      <a:pt x="7045" y="12543"/>
                      <a:pt x="7045" y="12543"/>
                    </a:cubicBezTo>
                    <a:cubicBezTo>
                      <a:pt x="7045" y="12543"/>
                      <a:pt x="9788" y="12686"/>
                      <a:pt x="11580" y="12686"/>
                    </a:cubicBezTo>
                    <a:cubicBezTo>
                      <a:pt x="12476" y="12686"/>
                      <a:pt x="13135" y="12650"/>
                      <a:pt x="13095" y="12543"/>
                    </a:cubicBezTo>
                    <a:cubicBezTo>
                      <a:pt x="12974" y="12220"/>
                      <a:pt x="9586" y="10930"/>
                      <a:pt x="9586" y="10930"/>
                    </a:cubicBezTo>
                    <a:cubicBezTo>
                      <a:pt x="9586" y="10930"/>
                      <a:pt x="12450" y="3670"/>
                      <a:pt x="7892" y="0"/>
                    </a:cubicBezTo>
                    <a:cubicBezTo>
                      <a:pt x="7892" y="0"/>
                      <a:pt x="7883" y="0"/>
                      <a:pt x="7865" y="0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Google Shape;2264;p38"/>
              <p:cNvSpPr/>
              <p:nvPr/>
            </p:nvSpPr>
            <p:spPr>
              <a:xfrm flipH="1">
                <a:off x="6809400" y="4208760"/>
                <a:ext cx="469800" cy="453960"/>
              </a:xfrm>
              <a:custGeom>
                <a:avLst/>
                <a:gdLst/>
                <a:ahLst/>
                <a:rect l="l" t="t" r="r" b="b"/>
                <a:pathLst>
                  <a:path w="13135" h="12687">
                    <a:moveTo>
                      <a:pt x="7904" y="0"/>
                    </a:moveTo>
                    <a:cubicBezTo>
                      <a:pt x="7390" y="0"/>
                      <a:pt x="1" y="38"/>
                      <a:pt x="3778" y="2219"/>
                    </a:cubicBezTo>
                    <a:cubicBezTo>
                      <a:pt x="7649" y="4477"/>
                      <a:pt x="7045" y="12543"/>
                      <a:pt x="7045" y="12543"/>
                    </a:cubicBezTo>
                    <a:cubicBezTo>
                      <a:pt x="7045" y="12543"/>
                      <a:pt x="9787" y="12686"/>
                      <a:pt x="11579" y="12686"/>
                    </a:cubicBezTo>
                    <a:cubicBezTo>
                      <a:pt x="12476" y="12686"/>
                      <a:pt x="13134" y="12650"/>
                      <a:pt x="13094" y="12543"/>
                    </a:cubicBezTo>
                    <a:cubicBezTo>
                      <a:pt x="12973" y="12220"/>
                      <a:pt x="9626" y="10930"/>
                      <a:pt x="9626" y="10930"/>
                    </a:cubicBezTo>
                    <a:cubicBezTo>
                      <a:pt x="9626" y="10930"/>
                      <a:pt x="12449" y="3670"/>
                      <a:pt x="7932" y="0"/>
                    </a:cubicBezTo>
                    <a:cubicBezTo>
                      <a:pt x="7932" y="0"/>
                      <a:pt x="7922" y="0"/>
                      <a:pt x="7904" y="0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Google Shape;2265;p38"/>
              <p:cNvSpPr/>
              <p:nvPr/>
            </p:nvSpPr>
            <p:spPr>
              <a:xfrm flipH="1">
                <a:off x="5760720" y="2982240"/>
                <a:ext cx="856800" cy="449280"/>
              </a:xfrm>
              <a:custGeom>
                <a:avLst/>
                <a:gdLst/>
                <a:ahLst/>
                <a:rect l="l" t="t" r="r" b="b"/>
                <a:pathLst>
                  <a:path w="23956" h="12561">
                    <a:moveTo>
                      <a:pt x="14035" y="1"/>
                    </a:moveTo>
                    <a:cubicBezTo>
                      <a:pt x="13228" y="283"/>
                      <a:pt x="12663" y="969"/>
                      <a:pt x="12542" y="1815"/>
                    </a:cubicBezTo>
                    <a:cubicBezTo>
                      <a:pt x="12260" y="3227"/>
                      <a:pt x="12986" y="4961"/>
                      <a:pt x="13712" y="5405"/>
                    </a:cubicBezTo>
                    <a:cubicBezTo>
                      <a:pt x="12583" y="7341"/>
                      <a:pt x="10768" y="7381"/>
                      <a:pt x="8509" y="7583"/>
                    </a:cubicBezTo>
                    <a:cubicBezTo>
                      <a:pt x="8349" y="7597"/>
                      <a:pt x="8188" y="7604"/>
                      <a:pt x="8027" y="7604"/>
                    </a:cubicBezTo>
                    <a:cubicBezTo>
                      <a:pt x="5923" y="7604"/>
                      <a:pt x="3809" y="6411"/>
                      <a:pt x="2460" y="4800"/>
                    </a:cubicBezTo>
                    <a:cubicBezTo>
                      <a:pt x="1653" y="6332"/>
                      <a:pt x="726" y="8510"/>
                      <a:pt x="0" y="10043"/>
                    </a:cubicBezTo>
                    <a:cubicBezTo>
                      <a:pt x="2195" y="11698"/>
                      <a:pt x="4843" y="12560"/>
                      <a:pt x="7564" y="12560"/>
                    </a:cubicBezTo>
                    <a:cubicBezTo>
                      <a:pt x="8093" y="12560"/>
                      <a:pt x="8624" y="12528"/>
                      <a:pt x="9155" y="12462"/>
                    </a:cubicBezTo>
                    <a:cubicBezTo>
                      <a:pt x="12220" y="12140"/>
                      <a:pt x="15002" y="10567"/>
                      <a:pt x="16817" y="8107"/>
                    </a:cubicBezTo>
                    <a:cubicBezTo>
                      <a:pt x="17392" y="8921"/>
                      <a:pt x="18579" y="9295"/>
                      <a:pt x="19743" y="9295"/>
                    </a:cubicBezTo>
                    <a:cubicBezTo>
                      <a:pt x="20539" y="9295"/>
                      <a:pt x="21325" y="9120"/>
                      <a:pt x="21899" y="8792"/>
                    </a:cubicBezTo>
                    <a:cubicBezTo>
                      <a:pt x="23351" y="7905"/>
                      <a:pt x="23955" y="6050"/>
                      <a:pt x="23270" y="4477"/>
                    </a:cubicBezTo>
                    <a:cubicBezTo>
                      <a:pt x="22864" y="5435"/>
                      <a:pt x="22021" y="6192"/>
                      <a:pt x="21048" y="6192"/>
                    </a:cubicBezTo>
                    <a:cubicBezTo>
                      <a:pt x="20956" y="6192"/>
                      <a:pt x="20863" y="6185"/>
                      <a:pt x="20769" y="6171"/>
                    </a:cubicBezTo>
                    <a:cubicBezTo>
                      <a:pt x="22181" y="5163"/>
                      <a:pt x="22342" y="3106"/>
                      <a:pt x="21132" y="1856"/>
                    </a:cubicBezTo>
                    <a:lnTo>
                      <a:pt x="20890" y="1574"/>
                    </a:lnTo>
                    <a:cubicBezTo>
                      <a:pt x="21011" y="2824"/>
                      <a:pt x="20003" y="4155"/>
                      <a:pt x="18713" y="4155"/>
                    </a:cubicBezTo>
                    <a:cubicBezTo>
                      <a:pt x="19358" y="3630"/>
                      <a:pt x="19640" y="2864"/>
                      <a:pt x="19600" y="2098"/>
                    </a:cubicBezTo>
                    <a:cubicBezTo>
                      <a:pt x="19479" y="1332"/>
                      <a:pt x="19398" y="767"/>
                      <a:pt x="18713" y="444"/>
                    </a:cubicBezTo>
                    <a:cubicBezTo>
                      <a:pt x="18713" y="1728"/>
                      <a:pt x="17653" y="2799"/>
                      <a:pt x="16393" y="2799"/>
                    </a:cubicBezTo>
                    <a:cubicBezTo>
                      <a:pt x="16307" y="2799"/>
                      <a:pt x="16220" y="2794"/>
                      <a:pt x="16132" y="2783"/>
                    </a:cubicBezTo>
                    <a:cubicBezTo>
                      <a:pt x="14760" y="2662"/>
                      <a:pt x="13752" y="1372"/>
                      <a:pt x="14035" y="1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Google Shape;2266;p38"/>
              <p:cNvSpPr/>
              <p:nvPr/>
            </p:nvSpPr>
            <p:spPr>
              <a:xfrm flipH="1">
                <a:off x="7578360" y="2175480"/>
                <a:ext cx="311400" cy="326160"/>
              </a:xfrm>
              <a:custGeom>
                <a:avLst/>
                <a:gdLst/>
                <a:ahLst/>
                <a:rect l="l" t="t" r="r" b="b"/>
                <a:pathLst>
                  <a:path w="8712" h="9116">
                    <a:moveTo>
                      <a:pt x="8712" y="1"/>
                    </a:moveTo>
                    <a:lnTo>
                      <a:pt x="8712" y="1"/>
                    </a:lnTo>
                    <a:cubicBezTo>
                      <a:pt x="8711" y="1"/>
                      <a:pt x="1" y="7704"/>
                      <a:pt x="727" y="8752"/>
                    </a:cubicBezTo>
                    <a:cubicBezTo>
                      <a:pt x="907" y="9017"/>
                      <a:pt x="1515" y="9115"/>
                      <a:pt x="2312" y="9115"/>
                    </a:cubicBezTo>
                    <a:cubicBezTo>
                      <a:pt x="4546" y="9115"/>
                      <a:pt x="8268" y="8349"/>
                      <a:pt x="8268" y="8349"/>
                    </a:cubicBezTo>
                    <a:lnTo>
                      <a:pt x="8712" y="1"/>
                    </a:ln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Google Shape;2267;p38"/>
              <p:cNvSpPr/>
              <p:nvPr/>
            </p:nvSpPr>
            <p:spPr>
              <a:xfrm flipH="1">
                <a:off x="7578360" y="2516040"/>
                <a:ext cx="311400" cy="325440"/>
              </a:xfrm>
              <a:custGeom>
                <a:avLst/>
                <a:gdLst/>
                <a:ahLst/>
                <a:rect l="l" t="t" r="r" b="b"/>
                <a:pathLst>
                  <a:path w="8712" h="9099">
                    <a:moveTo>
                      <a:pt x="8712" y="0"/>
                    </a:moveTo>
                    <a:lnTo>
                      <a:pt x="8712" y="0"/>
                    </a:lnTo>
                    <a:cubicBezTo>
                      <a:pt x="8711" y="1"/>
                      <a:pt x="1" y="7703"/>
                      <a:pt x="727" y="8711"/>
                    </a:cubicBezTo>
                    <a:cubicBezTo>
                      <a:pt x="912" y="8995"/>
                      <a:pt x="1551" y="9099"/>
                      <a:pt x="2383" y="9099"/>
                    </a:cubicBezTo>
                    <a:cubicBezTo>
                      <a:pt x="4623" y="9099"/>
                      <a:pt x="8268" y="8349"/>
                      <a:pt x="8268" y="8349"/>
                    </a:cubicBezTo>
                    <a:lnTo>
                      <a:pt x="8712" y="0"/>
                    </a:ln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Google Shape;2268;p38"/>
              <p:cNvSpPr/>
              <p:nvPr/>
            </p:nvSpPr>
            <p:spPr>
              <a:xfrm flipH="1">
                <a:off x="7578360" y="2858040"/>
                <a:ext cx="311400" cy="324720"/>
              </a:xfrm>
              <a:custGeom>
                <a:avLst/>
                <a:gdLst/>
                <a:ahLst/>
                <a:rect l="l" t="t" r="r" b="b"/>
                <a:pathLst>
                  <a:path w="8712" h="9082">
                    <a:moveTo>
                      <a:pt x="8712" y="0"/>
                    </a:moveTo>
                    <a:lnTo>
                      <a:pt x="8712" y="0"/>
                    </a:lnTo>
                    <a:cubicBezTo>
                      <a:pt x="8711" y="1"/>
                      <a:pt x="1" y="7663"/>
                      <a:pt x="727" y="8711"/>
                    </a:cubicBezTo>
                    <a:cubicBezTo>
                      <a:pt x="911" y="8983"/>
                      <a:pt x="1541" y="9082"/>
                      <a:pt x="2364" y="9082"/>
                    </a:cubicBezTo>
                    <a:cubicBezTo>
                      <a:pt x="4603" y="9082"/>
                      <a:pt x="8268" y="8349"/>
                      <a:pt x="8268" y="8349"/>
                    </a:cubicBezTo>
                    <a:lnTo>
                      <a:pt x="8712" y="0"/>
                    </a:ln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Google Shape;2269;p38"/>
              <p:cNvSpPr/>
              <p:nvPr/>
            </p:nvSpPr>
            <p:spPr>
              <a:xfrm flipH="1">
                <a:off x="7578360" y="3197160"/>
                <a:ext cx="311400" cy="325440"/>
              </a:xfrm>
              <a:custGeom>
                <a:avLst/>
                <a:gdLst/>
                <a:ahLst/>
                <a:rect l="l" t="t" r="r" b="b"/>
                <a:pathLst>
                  <a:path w="8712" h="9100">
                    <a:moveTo>
                      <a:pt x="8712" y="1"/>
                    </a:moveTo>
                    <a:lnTo>
                      <a:pt x="8712" y="1"/>
                    </a:lnTo>
                    <a:cubicBezTo>
                      <a:pt x="8711" y="1"/>
                      <a:pt x="1" y="7704"/>
                      <a:pt x="727" y="8712"/>
                    </a:cubicBezTo>
                    <a:cubicBezTo>
                      <a:pt x="912" y="8996"/>
                      <a:pt x="1551" y="9099"/>
                      <a:pt x="2383" y="9099"/>
                    </a:cubicBezTo>
                    <a:cubicBezTo>
                      <a:pt x="4623" y="9099"/>
                      <a:pt x="8268" y="8349"/>
                      <a:pt x="8268" y="8349"/>
                    </a:cubicBezTo>
                    <a:lnTo>
                      <a:pt x="8712" y="1"/>
                    </a:ln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Google Shape;2270;p38"/>
              <p:cNvSpPr/>
              <p:nvPr/>
            </p:nvSpPr>
            <p:spPr>
              <a:xfrm flipH="1">
                <a:off x="7578360" y="3537720"/>
                <a:ext cx="311400" cy="324720"/>
              </a:xfrm>
              <a:custGeom>
                <a:avLst/>
                <a:gdLst/>
                <a:ahLst/>
                <a:rect l="l" t="t" r="r" b="b"/>
                <a:pathLst>
                  <a:path w="8712" h="9082">
                    <a:moveTo>
                      <a:pt x="8712" y="0"/>
                    </a:moveTo>
                    <a:lnTo>
                      <a:pt x="8712" y="0"/>
                    </a:lnTo>
                    <a:cubicBezTo>
                      <a:pt x="8711" y="1"/>
                      <a:pt x="1" y="7703"/>
                      <a:pt x="727" y="8711"/>
                    </a:cubicBezTo>
                    <a:cubicBezTo>
                      <a:pt x="911" y="8983"/>
                      <a:pt x="1541" y="9082"/>
                      <a:pt x="2364" y="9082"/>
                    </a:cubicBezTo>
                    <a:cubicBezTo>
                      <a:pt x="4603" y="9082"/>
                      <a:pt x="8268" y="8349"/>
                      <a:pt x="8268" y="8349"/>
                    </a:cubicBezTo>
                    <a:lnTo>
                      <a:pt x="8712" y="0"/>
                    </a:ln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Google Shape;2271;p38"/>
              <p:cNvSpPr/>
              <p:nvPr/>
            </p:nvSpPr>
            <p:spPr>
              <a:xfrm flipH="1">
                <a:off x="6245280" y="2140560"/>
                <a:ext cx="1348920" cy="1076400"/>
              </a:xfrm>
              <a:custGeom>
                <a:avLst/>
                <a:gdLst/>
                <a:ahLst/>
                <a:rect l="l" t="t" r="r" b="b"/>
                <a:pathLst>
                  <a:path w="37708" h="30087">
                    <a:moveTo>
                      <a:pt x="8348" y="1"/>
                    </a:moveTo>
                    <a:lnTo>
                      <a:pt x="0" y="8228"/>
                    </a:lnTo>
                    <a:lnTo>
                      <a:pt x="4396" y="23392"/>
                    </a:lnTo>
                    <a:lnTo>
                      <a:pt x="13389" y="30086"/>
                    </a:lnTo>
                    <a:lnTo>
                      <a:pt x="30207" y="27344"/>
                    </a:lnTo>
                    <a:cubicBezTo>
                      <a:pt x="29360" y="27021"/>
                      <a:pt x="29682" y="17141"/>
                      <a:pt x="-27828" y="10809"/>
                    </a:cubicBezTo>
                    <a:lnTo>
                      <a:pt x="-28191" y="9317"/>
                    </a:lnTo>
                    <a:lnTo>
                      <a:pt x="30771" y="4356"/>
                    </a:lnTo>
                    <a:lnTo>
                      <a:pt x="8348" y="1"/>
                    </a:lnTo>
                    <a:close/>
                  </a:path>
                </a:pathLst>
              </a:custGeom>
              <a:solidFill>
                <a:srgbClr val="7fc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Google Shape;2272;p38"/>
              <p:cNvSpPr/>
              <p:nvPr/>
            </p:nvSpPr>
            <p:spPr>
              <a:xfrm flipH="1">
                <a:off x="6346440" y="2384640"/>
                <a:ext cx="825120" cy="316080"/>
              </a:xfrm>
              <a:custGeom>
                <a:avLst/>
                <a:gdLst/>
                <a:ahLst/>
                <a:rect l="l" t="t" r="r" b="b"/>
                <a:pathLst>
                  <a:path w="23069" h="8833">
                    <a:moveTo>
                      <a:pt x="12180" y="2501"/>
                    </a:moveTo>
                    <a:lnTo>
                      <a:pt x="12062" y="2636"/>
                    </a:lnTo>
                    <a:lnTo>
                      <a:pt x="12225" y="2672"/>
                    </a:lnTo>
                    <a:lnTo>
                      <a:pt x="12180" y="2501"/>
                    </a:lnTo>
                    <a:close/>
                    <a:moveTo>
                      <a:pt x="1" y="0"/>
                    </a:moveTo>
                    <a:lnTo>
                      <a:pt x="2219" y="5122"/>
                    </a:lnTo>
                    <a:lnTo>
                      <a:pt x="5808" y="1412"/>
                    </a:lnTo>
                    <a:lnTo>
                      <a:pt x="8510" y="6695"/>
                    </a:lnTo>
                    <a:lnTo>
                      <a:pt x="12062" y="2636"/>
                    </a:lnTo>
                    <a:lnTo>
                      <a:pt x="1" y="0"/>
                    </a:lnTo>
                    <a:close/>
                    <a:moveTo>
                      <a:pt x="12225" y="2672"/>
                    </a:moveTo>
                    <a:lnTo>
                      <a:pt x="13672" y="8228"/>
                    </a:lnTo>
                    <a:lnTo>
                      <a:pt x="17382" y="3872"/>
                    </a:lnTo>
                    <a:lnTo>
                      <a:pt x="18955" y="8833"/>
                    </a:lnTo>
                    <a:lnTo>
                      <a:pt x="23069" y="5042"/>
                    </a:lnTo>
                    <a:lnTo>
                      <a:pt x="12225" y="2672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Google Shape;2273;p38"/>
              <p:cNvSpPr/>
              <p:nvPr/>
            </p:nvSpPr>
            <p:spPr>
              <a:xfrm flipH="1">
                <a:off x="6388560" y="2919960"/>
                <a:ext cx="524880" cy="269640"/>
              </a:xfrm>
              <a:custGeom>
                <a:avLst/>
                <a:gdLst/>
                <a:ahLst/>
                <a:rect l="l" t="t" r="r" b="b"/>
                <a:pathLst>
                  <a:path w="14681" h="7543">
                    <a:moveTo>
                      <a:pt x="3872" y="1"/>
                    </a:moveTo>
                    <a:lnTo>
                      <a:pt x="1" y="4598"/>
                    </a:lnTo>
                    <a:lnTo>
                      <a:pt x="5500" y="5459"/>
                    </a:lnTo>
                    <a:lnTo>
                      <a:pt x="3872" y="1"/>
                    </a:lnTo>
                    <a:close/>
                    <a:moveTo>
                      <a:pt x="9357" y="1614"/>
                    </a:moveTo>
                    <a:lnTo>
                      <a:pt x="6736" y="5653"/>
                    </a:lnTo>
                    <a:lnTo>
                      <a:pt x="10327" y="6215"/>
                    </a:lnTo>
                    <a:lnTo>
                      <a:pt x="9357" y="1614"/>
                    </a:lnTo>
                    <a:close/>
                    <a:moveTo>
                      <a:pt x="5500" y="5459"/>
                    </a:moveTo>
                    <a:lnTo>
                      <a:pt x="5929" y="6897"/>
                    </a:lnTo>
                    <a:lnTo>
                      <a:pt x="6736" y="5653"/>
                    </a:lnTo>
                    <a:lnTo>
                      <a:pt x="5500" y="5459"/>
                    </a:lnTo>
                    <a:close/>
                    <a:moveTo>
                      <a:pt x="14196" y="1614"/>
                    </a:moveTo>
                    <a:lnTo>
                      <a:pt x="11317" y="6370"/>
                    </a:lnTo>
                    <a:lnTo>
                      <a:pt x="14680" y="6897"/>
                    </a:lnTo>
                    <a:lnTo>
                      <a:pt x="14196" y="1614"/>
                    </a:lnTo>
                    <a:close/>
                    <a:moveTo>
                      <a:pt x="5929" y="6897"/>
                    </a:moveTo>
                    <a:lnTo>
                      <a:pt x="5929" y="6897"/>
                    </a:lnTo>
                    <a:close/>
                    <a:moveTo>
                      <a:pt x="10327" y="6215"/>
                    </a:moveTo>
                    <a:lnTo>
                      <a:pt x="10607" y="7542"/>
                    </a:lnTo>
                    <a:lnTo>
                      <a:pt x="11317" y="6370"/>
                    </a:lnTo>
                    <a:lnTo>
                      <a:pt x="10327" y="6215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Google Shape;2274;p38"/>
              <p:cNvSpPr/>
              <p:nvPr/>
            </p:nvSpPr>
            <p:spPr>
              <a:xfrm flipH="1">
                <a:off x="6099480" y="1878120"/>
                <a:ext cx="1842480" cy="2576520"/>
              </a:xfrm>
              <a:custGeom>
                <a:avLst/>
                <a:gdLst/>
                <a:ahLst/>
                <a:rect l="l" t="t" r="r" b="b"/>
                <a:pathLst>
                  <a:path w="51502" h="72007">
                    <a:moveTo>
                      <a:pt x="16222" y="1"/>
                    </a:moveTo>
                    <a:cubicBezTo>
                      <a:pt x="12015" y="1"/>
                      <a:pt x="8880" y="1877"/>
                      <a:pt x="8551" y="9078"/>
                    </a:cubicBezTo>
                    <a:cubicBezTo>
                      <a:pt x="8067" y="20491"/>
                      <a:pt x="8631" y="61788"/>
                      <a:pt x="8631" y="64409"/>
                    </a:cubicBezTo>
                    <a:cubicBezTo>
                      <a:pt x="8631" y="66993"/>
                      <a:pt x="501" y="67031"/>
                      <a:pt x="23" y="67031"/>
                    </a:cubicBezTo>
                    <a:cubicBezTo>
                      <a:pt x="8" y="67031"/>
                      <a:pt x="1" y="67031"/>
                      <a:pt x="1" y="67031"/>
                    </a:cubicBezTo>
                    <a:cubicBezTo>
                      <a:pt x="5407" y="70790"/>
                      <a:pt x="27309" y="72007"/>
                      <a:pt x="32581" y="72007"/>
                    </a:cubicBezTo>
                    <a:cubicBezTo>
                      <a:pt x="33247" y="72007"/>
                      <a:pt x="33648" y="71987"/>
                      <a:pt x="33716" y="71951"/>
                    </a:cubicBezTo>
                    <a:cubicBezTo>
                      <a:pt x="34966" y="71386"/>
                      <a:pt x="40693" y="50294"/>
                      <a:pt x="45331" y="32670"/>
                    </a:cubicBezTo>
                    <a:cubicBezTo>
                      <a:pt x="43122" y="33382"/>
                      <a:pt x="41053" y="33697"/>
                      <a:pt x="39121" y="33697"/>
                    </a:cubicBezTo>
                    <a:cubicBezTo>
                      <a:pt x="24189" y="33697"/>
                      <a:pt x="17423" y="14886"/>
                      <a:pt x="17423" y="14885"/>
                    </a:cubicBezTo>
                    <a:lnTo>
                      <a:pt x="48194" y="21580"/>
                    </a:lnTo>
                    <a:cubicBezTo>
                      <a:pt x="50049" y="14321"/>
                      <a:pt x="51340" y="9199"/>
                      <a:pt x="51380" y="9078"/>
                    </a:cubicBezTo>
                    <a:cubicBezTo>
                      <a:pt x="51501" y="8554"/>
                      <a:pt x="32184" y="2867"/>
                      <a:pt x="24440" y="1254"/>
                    </a:cubicBezTo>
                    <a:cubicBezTo>
                      <a:pt x="21565" y="655"/>
                      <a:pt x="18707" y="1"/>
                      <a:pt x="16222" y="1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Google Shape;2275;p38"/>
              <p:cNvSpPr/>
              <p:nvPr/>
            </p:nvSpPr>
            <p:spPr>
              <a:xfrm flipH="1">
                <a:off x="5846040" y="3438000"/>
                <a:ext cx="853920" cy="392760"/>
              </a:xfrm>
              <a:custGeom>
                <a:avLst/>
                <a:gdLst/>
                <a:ahLst/>
                <a:rect l="l" t="t" r="r" b="b"/>
                <a:pathLst>
                  <a:path w="23876" h="10978">
                    <a:moveTo>
                      <a:pt x="16558" y="0"/>
                    </a:moveTo>
                    <a:cubicBezTo>
                      <a:pt x="15747" y="0"/>
                      <a:pt x="14987" y="475"/>
                      <a:pt x="14599" y="1172"/>
                    </a:cubicBezTo>
                    <a:cubicBezTo>
                      <a:pt x="13833" y="2422"/>
                      <a:pt x="13954" y="4318"/>
                      <a:pt x="14519" y="4963"/>
                    </a:cubicBezTo>
                    <a:cubicBezTo>
                      <a:pt x="13712" y="5620"/>
                      <a:pt x="12896" y="5849"/>
                      <a:pt x="12034" y="5849"/>
                    </a:cubicBezTo>
                    <a:cubicBezTo>
                      <a:pt x="11045" y="5849"/>
                      <a:pt x="9996" y="5547"/>
                      <a:pt x="8832" y="5245"/>
                    </a:cubicBezTo>
                    <a:cubicBezTo>
                      <a:pt x="6655" y="4681"/>
                      <a:pt x="4920" y="2705"/>
                      <a:pt x="4114" y="608"/>
                    </a:cubicBezTo>
                    <a:cubicBezTo>
                      <a:pt x="2864" y="1777"/>
                      <a:pt x="1250" y="3511"/>
                      <a:pt x="0" y="4681"/>
                    </a:cubicBezTo>
                    <a:cubicBezTo>
                      <a:pt x="1815" y="7423"/>
                      <a:pt x="4638" y="9359"/>
                      <a:pt x="7824" y="10085"/>
                    </a:cubicBezTo>
                    <a:cubicBezTo>
                      <a:pt x="8679" y="10293"/>
                      <a:pt x="9547" y="10395"/>
                      <a:pt x="10411" y="10395"/>
                    </a:cubicBezTo>
                    <a:cubicBezTo>
                      <a:pt x="12564" y="10395"/>
                      <a:pt x="14693" y="9761"/>
                      <a:pt x="16535" y="8552"/>
                    </a:cubicBezTo>
                    <a:cubicBezTo>
                      <a:pt x="16894" y="9989"/>
                      <a:pt x="18916" y="10978"/>
                      <a:pt x="20494" y="10978"/>
                    </a:cubicBezTo>
                    <a:cubicBezTo>
                      <a:pt x="20688" y="10978"/>
                      <a:pt x="20875" y="10963"/>
                      <a:pt x="21052" y="10932"/>
                    </a:cubicBezTo>
                    <a:cubicBezTo>
                      <a:pt x="22746" y="10569"/>
                      <a:pt x="23875" y="9036"/>
                      <a:pt x="23794" y="7343"/>
                    </a:cubicBezTo>
                    <a:cubicBezTo>
                      <a:pt x="23264" y="7929"/>
                      <a:pt x="22559" y="8303"/>
                      <a:pt x="21840" y="8303"/>
                    </a:cubicBezTo>
                    <a:cubicBezTo>
                      <a:pt x="21522" y="8303"/>
                      <a:pt x="21200" y="8230"/>
                      <a:pt x="20891" y="8069"/>
                    </a:cubicBezTo>
                    <a:cubicBezTo>
                      <a:pt x="22544" y="7585"/>
                      <a:pt x="23391" y="5729"/>
                      <a:pt x="22665" y="4157"/>
                    </a:cubicBezTo>
                    <a:cubicBezTo>
                      <a:pt x="22665" y="4036"/>
                      <a:pt x="22625" y="3915"/>
                      <a:pt x="22585" y="3794"/>
                    </a:cubicBezTo>
                    <a:cubicBezTo>
                      <a:pt x="22317" y="4765"/>
                      <a:pt x="21297" y="5597"/>
                      <a:pt x="20267" y="5597"/>
                    </a:cubicBezTo>
                    <a:cubicBezTo>
                      <a:pt x="20056" y="5597"/>
                      <a:pt x="19846" y="5563"/>
                      <a:pt x="19641" y="5487"/>
                    </a:cubicBezTo>
                    <a:cubicBezTo>
                      <a:pt x="20407" y="5205"/>
                      <a:pt x="20971" y="4600"/>
                      <a:pt x="21173" y="3834"/>
                    </a:cubicBezTo>
                    <a:cubicBezTo>
                      <a:pt x="21334" y="3068"/>
                      <a:pt x="21455" y="2543"/>
                      <a:pt x="20891" y="1979"/>
                    </a:cubicBezTo>
                    <a:cubicBezTo>
                      <a:pt x="20525" y="2923"/>
                      <a:pt x="19608" y="3499"/>
                      <a:pt x="18643" y="3499"/>
                    </a:cubicBezTo>
                    <a:cubicBezTo>
                      <a:pt x="18329" y="3499"/>
                      <a:pt x="18011" y="3438"/>
                      <a:pt x="17705" y="3310"/>
                    </a:cubicBezTo>
                    <a:cubicBezTo>
                      <a:pt x="16495" y="2705"/>
                      <a:pt x="16011" y="1213"/>
                      <a:pt x="16656" y="3"/>
                    </a:cubicBezTo>
                    <a:cubicBezTo>
                      <a:pt x="16623" y="1"/>
                      <a:pt x="16590" y="0"/>
                      <a:pt x="16558" y="0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Google Shape;2276;p38"/>
              <p:cNvSpPr/>
              <p:nvPr/>
            </p:nvSpPr>
            <p:spPr>
              <a:xfrm flipH="1">
                <a:off x="6845400" y="2049120"/>
                <a:ext cx="337320" cy="297360"/>
              </a:xfrm>
              <a:custGeom>
                <a:avLst/>
                <a:gdLst/>
                <a:ahLst/>
                <a:rect l="l" t="t" r="r" b="b"/>
                <a:pathLst>
                  <a:path w="9437" h="8319">
                    <a:moveTo>
                      <a:pt x="4732" y="0"/>
                    </a:moveTo>
                    <a:cubicBezTo>
                      <a:pt x="3083" y="0"/>
                      <a:pt x="1522" y="973"/>
                      <a:pt x="847" y="2598"/>
                    </a:cubicBezTo>
                    <a:cubicBezTo>
                      <a:pt x="0" y="4736"/>
                      <a:pt x="1049" y="7155"/>
                      <a:pt x="3186" y="8002"/>
                    </a:cubicBezTo>
                    <a:cubicBezTo>
                      <a:pt x="3693" y="8217"/>
                      <a:pt x="4220" y="8318"/>
                      <a:pt x="4739" y="8318"/>
                    </a:cubicBezTo>
                    <a:cubicBezTo>
                      <a:pt x="6364" y="8318"/>
                      <a:pt x="7918" y="7324"/>
                      <a:pt x="8590" y="5703"/>
                    </a:cubicBezTo>
                    <a:cubicBezTo>
                      <a:pt x="9437" y="3566"/>
                      <a:pt x="8388" y="1146"/>
                      <a:pt x="6291" y="299"/>
                    </a:cubicBezTo>
                    <a:cubicBezTo>
                      <a:pt x="5779" y="97"/>
                      <a:pt x="5251" y="0"/>
                      <a:pt x="4732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Google Shape;2277;p38"/>
              <p:cNvSpPr/>
              <p:nvPr/>
            </p:nvSpPr>
            <p:spPr>
              <a:xfrm flipH="1">
                <a:off x="6929280" y="2184480"/>
                <a:ext cx="87480" cy="72000"/>
              </a:xfrm>
              <a:custGeom>
                <a:avLst/>
                <a:gdLst/>
                <a:ahLst/>
                <a:rect l="l" t="t" r="r" b="b"/>
                <a:pathLst>
                  <a:path w="2452" h="2016">
                    <a:moveTo>
                      <a:pt x="1321" y="1"/>
                    </a:moveTo>
                    <a:cubicBezTo>
                      <a:pt x="1123" y="1"/>
                      <a:pt x="917" y="59"/>
                      <a:pt x="727" y="189"/>
                    </a:cubicBezTo>
                    <a:cubicBezTo>
                      <a:pt x="1" y="714"/>
                      <a:pt x="283" y="1883"/>
                      <a:pt x="1170" y="2004"/>
                    </a:cubicBezTo>
                    <a:cubicBezTo>
                      <a:pt x="1220" y="2012"/>
                      <a:pt x="1269" y="2015"/>
                      <a:pt x="1317" y="2015"/>
                    </a:cubicBezTo>
                    <a:cubicBezTo>
                      <a:pt x="1789" y="2015"/>
                      <a:pt x="2227" y="1673"/>
                      <a:pt x="2300" y="1198"/>
                    </a:cubicBezTo>
                    <a:cubicBezTo>
                      <a:pt x="2451" y="531"/>
                      <a:pt x="1920" y="1"/>
                      <a:pt x="1321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19080" bIns="-19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Google Shape;2278;p38"/>
              <p:cNvSpPr/>
              <p:nvPr/>
            </p:nvSpPr>
            <p:spPr>
              <a:xfrm flipH="1">
                <a:off x="6481800" y="2117880"/>
                <a:ext cx="337320" cy="297000"/>
              </a:xfrm>
              <a:custGeom>
                <a:avLst/>
                <a:gdLst/>
                <a:ahLst/>
                <a:rect l="l" t="t" r="r" b="b"/>
                <a:pathLst>
                  <a:path w="9438" h="8307">
                    <a:moveTo>
                      <a:pt x="4722" y="0"/>
                    </a:moveTo>
                    <a:cubicBezTo>
                      <a:pt x="3900" y="0"/>
                      <a:pt x="3069" y="244"/>
                      <a:pt x="2340" y="756"/>
                    </a:cubicBezTo>
                    <a:cubicBezTo>
                      <a:pt x="485" y="2046"/>
                      <a:pt x="1" y="4627"/>
                      <a:pt x="1332" y="6523"/>
                    </a:cubicBezTo>
                    <a:cubicBezTo>
                      <a:pt x="2127" y="7690"/>
                      <a:pt x="3411" y="8307"/>
                      <a:pt x="4723" y="8307"/>
                    </a:cubicBezTo>
                    <a:cubicBezTo>
                      <a:pt x="5542" y="8307"/>
                      <a:pt x="6371" y="8067"/>
                      <a:pt x="7099" y="7571"/>
                    </a:cubicBezTo>
                    <a:cubicBezTo>
                      <a:pt x="8994" y="6241"/>
                      <a:pt x="9438" y="3660"/>
                      <a:pt x="8147" y="1764"/>
                    </a:cubicBezTo>
                    <a:cubicBezTo>
                      <a:pt x="7329" y="623"/>
                      <a:pt x="6037" y="0"/>
                      <a:pt x="4722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Google Shape;2279;p38"/>
              <p:cNvSpPr/>
              <p:nvPr/>
            </p:nvSpPr>
            <p:spPr>
              <a:xfrm flipH="1">
                <a:off x="6565680" y="2252520"/>
                <a:ext cx="87480" cy="72000"/>
              </a:xfrm>
              <a:custGeom>
                <a:avLst/>
                <a:gdLst/>
                <a:ahLst/>
                <a:rect l="l" t="t" r="r" b="b"/>
                <a:pathLst>
                  <a:path w="2452" h="2015">
                    <a:moveTo>
                      <a:pt x="1335" y="0"/>
                    </a:moveTo>
                    <a:cubicBezTo>
                      <a:pt x="1143" y="0"/>
                      <a:pt x="947" y="58"/>
                      <a:pt x="767" y="188"/>
                    </a:cubicBezTo>
                    <a:cubicBezTo>
                      <a:pt x="1" y="712"/>
                      <a:pt x="283" y="1882"/>
                      <a:pt x="1170" y="2003"/>
                    </a:cubicBezTo>
                    <a:cubicBezTo>
                      <a:pt x="1224" y="2011"/>
                      <a:pt x="1278" y="2015"/>
                      <a:pt x="1331" y="2015"/>
                    </a:cubicBezTo>
                    <a:cubicBezTo>
                      <a:pt x="1798" y="2015"/>
                      <a:pt x="2227" y="1707"/>
                      <a:pt x="2300" y="1236"/>
                    </a:cubicBezTo>
                    <a:cubicBezTo>
                      <a:pt x="2451" y="538"/>
                      <a:pt x="1918" y="0"/>
                      <a:pt x="1335" y="0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19080" bIns="-19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19040" y="1093320"/>
            <a:ext cx="4656240" cy="2527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5f1e6"/>
                </a:solidFill>
                <a:latin typeface="Sriracha"/>
                <a:ea typeface="Sriracha"/>
              </a:rPr>
              <a:t>Juego de las unidades y decen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1368360" y="3665160"/>
            <a:ext cx="2557440" cy="214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5f1e6"/>
                </a:solidFill>
                <a:latin typeface="Sriracha"/>
                <a:ea typeface="Nunito"/>
              </a:rPr>
              <a:t>Comen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oogle Shape;2282;p38"/>
          <p:cNvGrpSpPr/>
          <p:nvPr/>
        </p:nvGrpSpPr>
        <p:grpSpPr>
          <a:xfrm>
            <a:off x="4734000" y="274680"/>
            <a:ext cx="3285720" cy="2536920"/>
            <a:chOff x="4734000" y="274680"/>
            <a:chExt cx="3285720" cy="2536920"/>
          </a:xfrm>
        </p:grpSpPr>
        <p:sp>
          <p:nvSpPr>
            <p:cNvPr id="1276" name="Google Shape;2283;p38"/>
            <p:cNvSpPr/>
            <p:nvPr/>
          </p:nvSpPr>
          <p:spPr>
            <a:xfrm>
              <a:off x="5307120" y="2575080"/>
              <a:ext cx="190440" cy="236520"/>
            </a:xfrm>
            <a:custGeom>
              <a:avLst/>
              <a:gdLst/>
              <a:ahLst/>
              <a:rect l="l" t="t" r="r" b="b"/>
              <a:pathLst>
                <a:path w="4130" h="5119">
                  <a:moveTo>
                    <a:pt x="786" y="0"/>
                  </a:moveTo>
                  <a:cubicBezTo>
                    <a:pt x="669" y="0"/>
                    <a:pt x="524" y="29"/>
                    <a:pt x="437" y="87"/>
                  </a:cubicBezTo>
                  <a:cubicBezTo>
                    <a:pt x="320" y="116"/>
                    <a:pt x="262" y="204"/>
                    <a:pt x="204" y="291"/>
                  </a:cubicBezTo>
                  <a:cubicBezTo>
                    <a:pt x="117" y="349"/>
                    <a:pt x="88" y="465"/>
                    <a:pt x="59" y="553"/>
                  </a:cubicBezTo>
                  <a:cubicBezTo>
                    <a:pt x="29" y="669"/>
                    <a:pt x="29" y="785"/>
                    <a:pt x="29" y="902"/>
                  </a:cubicBezTo>
                  <a:lnTo>
                    <a:pt x="29" y="1047"/>
                  </a:lnTo>
                  <a:cubicBezTo>
                    <a:pt x="29" y="1076"/>
                    <a:pt x="29" y="1134"/>
                    <a:pt x="59" y="1192"/>
                  </a:cubicBezTo>
                  <a:lnTo>
                    <a:pt x="2501" y="2501"/>
                  </a:lnTo>
                  <a:lnTo>
                    <a:pt x="756" y="3374"/>
                  </a:lnTo>
                  <a:cubicBezTo>
                    <a:pt x="553" y="3461"/>
                    <a:pt x="378" y="3577"/>
                    <a:pt x="233" y="3752"/>
                  </a:cubicBezTo>
                  <a:cubicBezTo>
                    <a:pt x="0" y="4042"/>
                    <a:pt x="0" y="4450"/>
                    <a:pt x="233" y="4769"/>
                  </a:cubicBezTo>
                  <a:cubicBezTo>
                    <a:pt x="408" y="4944"/>
                    <a:pt x="640" y="5089"/>
                    <a:pt x="902" y="5118"/>
                  </a:cubicBezTo>
                  <a:lnTo>
                    <a:pt x="3635" y="3548"/>
                  </a:lnTo>
                  <a:cubicBezTo>
                    <a:pt x="3781" y="3461"/>
                    <a:pt x="3926" y="3315"/>
                    <a:pt x="3984" y="3170"/>
                  </a:cubicBezTo>
                  <a:cubicBezTo>
                    <a:pt x="4101" y="2966"/>
                    <a:pt x="4130" y="2734"/>
                    <a:pt x="4101" y="2501"/>
                  </a:cubicBezTo>
                  <a:cubicBezTo>
                    <a:pt x="4101" y="2181"/>
                    <a:pt x="4014" y="1861"/>
                    <a:pt x="3839" y="1600"/>
                  </a:cubicBezTo>
                  <a:lnTo>
                    <a:pt x="1716" y="349"/>
                  </a:lnTo>
                  <a:cubicBezTo>
                    <a:pt x="1513" y="233"/>
                    <a:pt x="1338" y="175"/>
                    <a:pt x="1193" y="87"/>
                  </a:cubicBezTo>
                  <a:cubicBezTo>
                    <a:pt x="1076" y="29"/>
                    <a:pt x="931" y="0"/>
                    <a:pt x="786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Google Shape;2284;p38"/>
            <p:cNvSpPr/>
            <p:nvPr/>
          </p:nvSpPr>
          <p:spPr>
            <a:xfrm>
              <a:off x="6583320" y="393480"/>
              <a:ext cx="223560" cy="226800"/>
            </a:xfrm>
            <a:custGeom>
              <a:avLst/>
              <a:gdLst/>
              <a:ahLst/>
              <a:rect l="l" t="t" r="r" b="b"/>
              <a:pathLst>
                <a:path w="4858" h="4931">
                  <a:moveTo>
                    <a:pt x="2493" y="1"/>
                  </a:moveTo>
                  <a:cubicBezTo>
                    <a:pt x="2456" y="1"/>
                    <a:pt x="2421" y="3"/>
                    <a:pt x="2386" y="8"/>
                  </a:cubicBezTo>
                  <a:cubicBezTo>
                    <a:pt x="2240" y="8"/>
                    <a:pt x="2124" y="8"/>
                    <a:pt x="1978" y="37"/>
                  </a:cubicBezTo>
                  <a:cubicBezTo>
                    <a:pt x="1862" y="66"/>
                    <a:pt x="1746" y="95"/>
                    <a:pt x="1688" y="95"/>
                  </a:cubicBezTo>
                  <a:lnTo>
                    <a:pt x="1688" y="1811"/>
                  </a:lnTo>
                  <a:lnTo>
                    <a:pt x="612" y="1811"/>
                  </a:lnTo>
                  <a:cubicBezTo>
                    <a:pt x="582" y="1806"/>
                    <a:pt x="553" y="1804"/>
                    <a:pt x="524" y="1804"/>
                  </a:cubicBezTo>
                  <a:cubicBezTo>
                    <a:pt x="388" y="1804"/>
                    <a:pt x="272" y="1860"/>
                    <a:pt x="175" y="1957"/>
                  </a:cubicBezTo>
                  <a:cubicBezTo>
                    <a:pt x="59" y="2102"/>
                    <a:pt x="1" y="2306"/>
                    <a:pt x="30" y="2480"/>
                  </a:cubicBezTo>
                  <a:cubicBezTo>
                    <a:pt x="30" y="2596"/>
                    <a:pt x="30" y="2742"/>
                    <a:pt x="59" y="2858"/>
                  </a:cubicBezTo>
                  <a:cubicBezTo>
                    <a:pt x="88" y="2945"/>
                    <a:pt x="117" y="3062"/>
                    <a:pt x="175" y="3149"/>
                  </a:cubicBezTo>
                  <a:lnTo>
                    <a:pt x="1688" y="3149"/>
                  </a:lnTo>
                  <a:lnTo>
                    <a:pt x="1688" y="4225"/>
                  </a:lnTo>
                  <a:cubicBezTo>
                    <a:pt x="1659" y="4428"/>
                    <a:pt x="1717" y="4661"/>
                    <a:pt x="1891" y="4807"/>
                  </a:cubicBezTo>
                  <a:cubicBezTo>
                    <a:pt x="2059" y="4878"/>
                    <a:pt x="2226" y="4930"/>
                    <a:pt x="2394" y="4930"/>
                  </a:cubicBezTo>
                  <a:cubicBezTo>
                    <a:pt x="2430" y="4930"/>
                    <a:pt x="2466" y="4928"/>
                    <a:pt x="2502" y="4923"/>
                  </a:cubicBezTo>
                  <a:lnTo>
                    <a:pt x="2909" y="4923"/>
                  </a:lnTo>
                  <a:cubicBezTo>
                    <a:pt x="3025" y="4894"/>
                    <a:pt x="3113" y="4894"/>
                    <a:pt x="3200" y="4836"/>
                  </a:cubicBezTo>
                  <a:lnTo>
                    <a:pt x="3229" y="3120"/>
                  </a:lnTo>
                  <a:lnTo>
                    <a:pt x="4276" y="3120"/>
                  </a:lnTo>
                  <a:cubicBezTo>
                    <a:pt x="4421" y="3120"/>
                    <a:pt x="4567" y="3062"/>
                    <a:pt x="4683" y="2945"/>
                  </a:cubicBezTo>
                  <a:cubicBezTo>
                    <a:pt x="4799" y="2800"/>
                    <a:pt x="4857" y="2625"/>
                    <a:pt x="4857" y="2451"/>
                  </a:cubicBezTo>
                  <a:cubicBezTo>
                    <a:pt x="4857" y="2306"/>
                    <a:pt x="4828" y="2189"/>
                    <a:pt x="4799" y="2073"/>
                  </a:cubicBezTo>
                  <a:cubicBezTo>
                    <a:pt x="4741" y="1957"/>
                    <a:pt x="4712" y="1869"/>
                    <a:pt x="4683" y="1782"/>
                  </a:cubicBezTo>
                  <a:lnTo>
                    <a:pt x="3200" y="1782"/>
                  </a:lnTo>
                  <a:lnTo>
                    <a:pt x="3200" y="735"/>
                  </a:lnTo>
                  <a:cubicBezTo>
                    <a:pt x="3258" y="503"/>
                    <a:pt x="3171" y="299"/>
                    <a:pt x="2996" y="154"/>
                  </a:cubicBezTo>
                  <a:cubicBezTo>
                    <a:pt x="2852" y="57"/>
                    <a:pt x="2667" y="1"/>
                    <a:pt x="2493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Google Shape;2285;p38"/>
            <p:cNvSpPr/>
            <p:nvPr/>
          </p:nvSpPr>
          <p:spPr>
            <a:xfrm>
              <a:off x="5688000" y="274680"/>
              <a:ext cx="137880" cy="61920"/>
            </a:xfrm>
            <a:custGeom>
              <a:avLst/>
              <a:gdLst/>
              <a:ahLst/>
              <a:rect l="l" t="t" r="r" b="b"/>
              <a:pathLst>
                <a:path w="2967" h="1346">
                  <a:moveTo>
                    <a:pt x="534" y="0"/>
                  </a:moveTo>
                  <a:cubicBezTo>
                    <a:pt x="408" y="0"/>
                    <a:pt x="271" y="57"/>
                    <a:pt x="175" y="153"/>
                  </a:cubicBezTo>
                  <a:cubicBezTo>
                    <a:pt x="59" y="298"/>
                    <a:pt x="0" y="502"/>
                    <a:pt x="0" y="706"/>
                  </a:cubicBezTo>
                  <a:cubicBezTo>
                    <a:pt x="0" y="822"/>
                    <a:pt x="30" y="938"/>
                    <a:pt x="88" y="1055"/>
                  </a:cubicBezTo>
                  <a:cubicBezTo>
                    <a:pt x="88" y="1171"/>
                    <a:pt x="146" y="1258"/>
                    <a:pt x="204" y="1345"/>
                  </a:cubicBezTo>
                  <a:lnTo>
                    <a:pt x="2327" y="1345"/>
                  </a:lnTo>
                  <a:cubicBezTo>
                    <a:pt x="2501" y="1345"/>
                    <a:pt x="2647" y="1287"/>
                    <a:pt x="2763" y="1171"/>
                  </a:cubicBezTo>
                  <a:cubicBezTo>
                    <a:pt x="2909" y="1025"/>
                    <a:pt x="2967" y="851"/>
                    <a:pt x="2938" y="647"/>
                  </a:cubicBezTo>
                  <a:cubicBezTo>
                    <a:pt x="2938" y="531"/>
                    <a:pt x="2909" y="415"/>
                    <a:pt x="2879" y="298"/>
                  </a:cubicBezTo>
                  <a:cubicBezTo>
                    <a:pt x="2850" y="182"/>
                    <a:pt x="2792" y="95"/>
                    <a:pt x="2763" y="8"/>
                  </a:cubicBezTo>
                  <a:lnTo>
                    <a:pt x="611" y="8"/>
                  </a:lnTo>
                  <a:cubicBezTo>
                    <a:pt x="586" y="3"/>
                    <a:pt x="560" y="0"/>
                    <a:pt x="534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9160" bIns="-29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Google Shape;2286;p38"/>
            <p:cNvSpPr/>
            <p:nvPr/>
          </p:nvSpPr>
          <p:spPr>
            <a:xfrm>
              <a:off x="6799320" y="1246320"/>
              <a:ext cx="349200" cy="287280"/>
            </a:xfrm>
            <a:custGeom>
              <a:avLst/>
              <a:gdLst/>
              <a:ahLst/>
              <a:rect l="l" t="t" r="r" b="b"/>
              <a:pathLst>
                <a:path w="7562" h="6231">
                  <a:moveTo>
                    <a:pt x="1629" y="1033"/>
                  </a:moveTo>
                  <a:cubicBezTo>
                    <a:pt x="1738" y="1033"/>
                    <a:pt x="1847" y="1076"/>
                    <a:pt x="1920" y="1163"/>
                  </a:cubicBezTo>
                  <a:cubicBezTo>
                    <a:pt x="2007" y="1309"/>
                    <a:pt x="2036" y="1454"/>
                    <a:pt x="2036" y="1600"/>
                  </a:cubicBezTo>
                  <a:cubicBezTo>
                    <a:pt x="2036" y="1745"/>
                    <a:pt x="2007" y="1920"/>
                    <a:pt x="1920" y="2036"/>
                  </a:cubicBezTo>
                  <a:cubicBezTo>
                    <a:pt x="1847" y="2123"/>
                    <a:pt x="1738" y="2167"/>
                    <a:pt x="1629" y="2167"/>
                  </a:cubicBezTo>
                  <a:cubicBezTo>
                    <a:pt x="1520" y="2167"/>
                    <a:pt x="1411" y="2123"/>
                    <a:pt x="1338" y="2036"/>
                  </a:cubicBezTo>
                  <a:cubicBezTo>
                    <a:pt x="1251" y="1920"/>
                    <a:pt x="1222" y="1745"/>
                    <a:pt x="1222" y="1600"/>
                  </a:cubicBezTo>
                  <a:cubicBezTo>
                    <a:pt x="1222" y="1454"/>
                    <a:pt x="1280" y="1280"/>
                    <a:pt x="1367" y="1163"/>
                  </a:cubicBezTo>
                  <a:lnTo>
                    <a:pt x="1338" y="1163"/>
                  </a:lnTo>
                  <a:cubicBezTo>
                    <a:pt x="1411" y="1076"/>
                    <a:pt x="1520" y="1033"/>
                    <a:pt x="1629" y="1033"/>
                  </a:cubicBezTo>
                  <a:close/>
                  <a:moveTo>
                    <a:pt x="1644" y="22"/>
                  </a:moveTo>
                  <a:cubicBezTo>
                    <a:pt x="1237" y="22"/>
                    <a:pt x="829" y="160"/>
                    <a:pt x="495" y="436"/>
                  </a:cubicBezTo>
                  <a:cubicBezTo>
                    <a:pt x="175" y="756"/>
                    <a:pt x="30" y="1163"/>
                    <a:pt x="30" y="1600"/>
                  </a:cubicBezTo>
                  <a:cubicBezTo>
                    <a:pt x="1" y="2036"/>
                    <a:pt x="175" y="2443"/>
                    <a:pt x="495" y="2763"/>
                  </a:cubicBezTo>
                  <a:cubicBezTo>
                    <a:pt x="829" y="3039"/>
                    <a:pt x="1237" y="3177"/>
                    <a:pt x="1644" y="3177"/>
                  </a:cubicBezTo>
                  <a:cubicBezTo>
                    <a:pt x="2051" y="3177"/>
                    <a:pt x="2458" y="3039"/>
                    <a:pt x="2792" y="2763"/>
                  </a:cubicBezTo>
                  <a:cubicBezTo>
                    <a:pt x="3112" y="2443"/>
                    <a:pt x="3258" y="2036"/>
                    <a:pt x="3258" y="1600"/>
                  </a:cubicBezTo>
                  <a:cubicBezTo>
                    <a:pt x="3258" y="1163"/>
                    <a:pt x="3112" y="756"/>
                    <a:pt x="2792" y="436"/>
                  </a:cubicBezTo>
                  <a:cubicBezTo>
                    <a:pt x="2458" y="160"/>
                    <a:pt x="2051" y="22"/>
                    <a:pt x="1644" y="22"/>
                  </a:cubicBezTo>
                  <a:close/>
                  <a:moveTo>
                    <a:pt x="5726" y="4093"/>
                  </a:moveTo>
                  <a:cubicBezTo>
                    <a:pt x="5747" y="4093"/>
                    <a:pt x="5767" y="4096"/>
                    <a:pt x="5788" y="4101"/>
                  </a:cubicBezTo>
                  <a:cubicBezTo>
                    <a:pt x="5904" y="4101"/>
                    <a:pt x="5991" y="4130"/>
                    <a:pt x="6079" y="4217"/>
                  </a:cubicBezTo>
                  <a:cubicBezTo>
                    <a:pt x="6166" y="4362"/>
                    <a:pt x="6195" y="4508"/>
                    <a:pt x="6195" y="4653"/>
                  </a:cubicBezTo>
                  <a:cubicBezTo>
                    <a:pt x="6195" y="4799"/>
                    <a:pt x="6166" y="4973"/>
                    <a:pt x="6079" y="5089"/>
                  </a:cubicBezTo>
                  <a:cubicBezTo>
                    <a:pt x="5991" y="5177"/>
                    <a:pt x="5904" y="5235"/>
                    <a:pt x="5788" y="5235"/>
                  </a:cubicBezTo>
                  <a:cubicBezTo>
                    <a:pt x="5671" y="5235"/>
                    <a:pt x="5555" y="5177"/>
                    <a:pt x="5497" y="5089"/>
                  </a:cubicBezTo>
                  <a:cubicBezTo>
                    <a:pt x="5410" y="4973"/>
                    <a:pt x="5381" y="4799"/>
                    <a:pt x="5381" y="4653"/>
                  </a:cubicBezTo>
                  <a:cubicBezTo>
                    <a:pt x="5381" y="4508"/>
                    <a:pt x="5439" y="4333"/>
                    <a:pt x="5526" y="4217"/>
                  </a:cubicBezTo>
                  <a:lnTo>
                    <a:pt x="5497" y="4217"/>
                  </a:lnTo>
                  <a:cubicBezTo>
                    <a:pt x="5545" y="4145"/>
                    <a:pt x="5632" y="4093"/>
                    <a:pt x="5726" y="4093"/>
                  </a:cubicBezTo>
                  <a:close/>
                  <a:moveTo>
                    <a:pt x="5090" y="0"/>
                  </a:moveTo>
                  <a:lnTo>
                    <a:pt x="1658" y="5002"/>
                  </a:lnTo>
                  <a:cubicBezTo>
                    <a:pt x="1571" y="5118"/>
                    <a:pt x="1542" y="5235"/>
                    <a:pt x="1513" y="5380"/>
                  </a:cubicBezTo>
                  <a:cubicBezTo>
                    <a:pt x="1484" y="5467"/>
                    <a:pt x="1484" y="5584"/>
                    <a:pt x="1484" y="5700"/>
                  </a:cubicBezTo>
                  <a:cubicBezTo>
                    <a:pt x="1484" y="5846"/>
                    <a:pt x="1571" y="5962"/>
                    <a:pt x="1716" y="6049"/>
                  </a:cubicBezTo>
                  <a:cubicBezTo>
                    <a:pt x="1862" y="6136"/>
                    <a:pt x="2065" y="6194"/>
                    <a:pt x="2240" y="6224"/>
                  </a:cubicBezTo>
                  <a:lnTo>
                    <a:pt x="5701" y="1251"/>
                  </a:lnTo>
                  <a:cubicBezTo>
                    <a:pt x="5759" y="1134"/>
                    <a:pt x="5846" y="1018"/>
                    <a:pt x="5904" y="873"/>
                  </a:cubicBezTo>
                  <a:cubicBezTo>
                    <a:pt x="5933" y="785"/>
                    <a:pt x="5962" y="669"/>
                    <a:pt x="5991" y="553"/>
                  </a:cubicBezTo>
                  <a:cubicBezTo>
                    <a:pt x="5962" y="378"/>
                    <a:pt x="5846" y="262"/>
                    <a:pt x="5701" y="204"/>
                  </a:cubicBezTo>
                  <a:cubicBezTo>
                    <a:pt x="5497" y="87"/>
                    <a:pt x="5293" y="29"/>
                    <a:pt x="5090" y="0"/>
                  </a:cubicBezTo>
                  <a:close/>
                  <a:moveTo>
                    <a:pt x="5802" y="3076"/>
                  </a:moveTo>
                  <a:cubicBezTo>
                    <a:pt x="5395" y="3076"/>
                    <a:pt x="4988" y="3214"/>
                    <a:pt x="4654" y="3490"/>
                  </a:cubicBezTo>
                  <a:cubicBezTo>
                    <a:pt x="4043" y="4159"/>
                    <a:pt x="4043" y="5148"/>
                    <a:pt x="4654" y="5816"/>
                  </a:cubicBezTo>
                  <a:cubicBezTo>
                    <a:pt x="4988" y="6093"/>
                    <a:pt x="5395" y="6231"/>
                    <a:pt x="5802" y="6231"/>
                  </a:cubicBezTo>
                  <a:cubicBezTo>
                    <a:pt x="6209" y="6231"/>
                    <a:pt x="6617" y="6093"/>
                    <a:pt x="6951" y="5816"/>
                  </a:cubicBezTo>
                  <a:cubicBezTo>
                    <a:pt x="7562" y="5148"/>
                    <a:pt x="7562" y="4159"/>
                    <a:pt x="6951" y="3490"/>
                  </a:cubicBezTo>
                  <a:cubicBezTo>
                    <a:pt x="6617" y="3214"/>
                    <a:pt x="6209" y="3076"/>
                    <a:pt x="5802" y="3076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Google Shape;2287;p38"/>
            <p:cNvSpPr/>
            <p:nvPr/>
          </p:nvSpPr>
          <p:spPr>
            <a:xfrm>
              <a:off x="6005520" y="1622520"/>
              <a:ext cx="196560" cy="153720"/>
            </a:xfrm>
            <a:custGeom>
              <a:avLst/>
              <a:gdLst/>
              <a:ahLst/>
              <a:rect l="l" t="t" r="r" b="b"/>
              <a:pathLst>
                <a:path w="4247" h="3323">
                  <a:moveTo>
                    <a:pt x="524" y="0"/>
                  </a:moveTo>
                  <a:cubicBezTo>
                    <a:pt x="388" y="0"/>
                    <a:pt x="272" y="56"/>
                    <a:pt x="175" y="153"/>
                  </a:cubicBezTo>
                  <a:cubicBezTo>
                    <a:pt x="59" y="298"/>
                    <a:pt x="1" y="502"/>
                    <a:pt x="1" y="676"/>
                  </a:cubicBezTo>
                  <a:cubicBezTo>
                    <a:pt x="1" y="793"/>
                    <a:pt x="30" y="938"/>
                    <a:pt x="59" y="1054"/>
                  </a:cubicBezTo>
                  <a:cubicBezTo>
                    <a:pt x="88" y="1142"/>
                    <a:pt x="117" y="1258"/>
                    <a:pt x="175" y="1345"/>
                  </a:cubicBezTo>
                  <a:lnTo>
                    <a:pt x="3636" y="1345"/>
                  </a:lnTo>
                  <a:cubicBezTo>
                    <a:pt x="3810" y="1345"/>
                    <a:pt x="3956" y="1287"/>
                    <a:pt x="4072" y="1171"/>
                  </a:cubicBezTo>
                  <a:cubicBezTo>
                    <a:pt x="4188" y="1025"/>
                    <a:pt x="4247" y="822"/>
                    <a:pt x="4218" y="647"/>
                  </a:cubicBezTo>
                  <a:cubicBezTo>
                    <a:pt x="4218" y="531"/>
                    <a:pt x="4218" y="415"/>
                    <a:pt x="4159" y="298"/>
                  </a:cubicBezTo>
                  <a:cubicBezTo>
                    <a:pt x="4130" y="182"/>
                    <a:pt x="4101" y="66"/>
                    <a:pt x="4072" y="7"/>
                  </a:cubicBezTo>
                  <a:lnTo>
                    <a:pt x="612" y="7"/>
                  </a:lnTo>
                  <a:cubicBezTo>
                    <a:pt x="582" y="2"/>
                    <a:pt x="552" y="0"/>
                    <a:pt x="524" y="0"/>
                  </a:cubicBezTo>
                  <a:close/>
                  <a:moveTo>
                    <a:pt x="543" y="1979"/>
                  </a:moveTo>
                  <a:cubicBezTo>
                    <a:pt x="399" y="1979"/>
                    <a:pt x="276" y="2055"/>
                    <a:pt x="175" y="2130"/>
                  </a:cubicBezTo>
                  <a:cubicBezTo>
                    <a:pt x="59" y="2276"/>
                    <a:pt x="1" y="2479"/>
                    <a:pt x="1" y="2654"/>
                  </a:cubicBezTo>
                  <a:cubicBezTo>
                    <a:pt x="1" y="2770"/>
                    <a:pt x="30" y="2916"/>
                    <a:pt x="59" y="3032"/>
                  </a:cubicBezTo>
                  <a:cubicBezTo>
                    <a:pt x="88" y="3119"/>
                    <a:pt x="117" y="3235"/>
                    <a:pt x="175" y="3323"/>
                  </a:cubicBezTo>
                  <a:lnTo>
                    <a:pt x="3636" y="3323"/>
                  </a:lnTo>
                  <a:cubicBezTo>
                    <a:pt x="3810" y="3323"/>
                    <a:pt x="3956" y="3265"/>
                    <a:pt x="4072" y="3148"/>
                  </a:cubicBezTo>
                  <a:cubicBezTo>
                    <a:pt x="4188" y="3003"/>
                    <a:pt x="4247" y="2828"/>
                    <a:pt x="4218" y="2625"/>
                  </a:cubicBezTo>
                  <a:cubicBezTo>
                    <a:pt x="4218" y="2508"/>
                    <a:pt x="4218" y="2392"/>
                    <a:pt x="4159" y="2276"/>
                  </a:cubicBezTo>
                  <a:cubicBezTo>
                    <a:pt x="4130" y="2159"/>
                    <a:pt x="4101" y="2043"/>
                    <a:pt x="4072" y="1985"/>
                  </a:cubicBezTo>
                  <a:lnTo>
                    <a:pt x="612" y="1985"/>
                  </a:lnTo>
                  <a:cubicBezTo>
                    <a:pt x="588" y="1981"/>
                    <a:pt x="565" y="1979"/>
                    <a:pt x="543" y="1979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2640" bIns="62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Google Shape;2288;p38"/>
            <p:cNvSpPr/>
            <p:nvPr/>
          </p:nvSpPr>
          <p:spPr>
            <a:xfrm>
              <a:off x="5110200" y="1274760"/>
              <a:ext cx="279360" cy="230040"/>
            </a:xfrm>
            <a:custGeom>
              <a:avLst/>
              <a:gdLst/>
              <a:ahLst/>
              <a:rect l="l" t="t" r="r" b="b"/>
              <a:pathLst>
                <a:path w="6050" h="4987">
                  <a:moveTo>
                    <a:pt x="524" y="1"/>
                  </a:moveTo>
                  <a:cubicBezTo>
                    <a:pt x="388" y="1"/>
                    <a:pt x="272" y="57"/>
                    <a:pt x="175" y="154"/>
                  </a:cubicBezTo>
                  <a:cubicBezTo>
                    <a:pt x="59" y="299"/>
                    <a:pt x="1" y="503"/>
                    <a:pt x="1" y="677"/>
                  </a:cubicBezTo>
                  <a:cubicBezTo>
                    <a:pt x="1" y="823"/>
                    <a:pt x="30" y="939"/>
                    <a:pt x="88" y="1055"/>
                  </a:cubicBezTo>
                  <a:cubicBezTo>
                    <a:pt x="117" y="1143"/>
                    <a:pt x="146" y="1230"/>
                    <a:pt x="205" y="1346"/>
                  </a:cubicBezTo>
                  <a:lnTo>
                    <a:pt x="873" y="1346"/>
                  </a:lnTo>
                  <a:lnTo>
                    <a:pt x="873" y="4167"/>
                  </a:lnTo>
                  <a:cubicBezTo>
                    <a:pt x="873" y="4312"/>
                    <a:pt x="873" y="4429"/>
                    <a:pt x="932" y="4574"/>
                  </a:cubicBezTo>
                  <a:cubicBezTo>
                    <a:pt x="961" y="4661"/>
                    <a:pt x="1019" y="4749"/>
                    <a:pt x="1077" y="4807"/>
                  </a:cubicBezTo>
                  <a:cubicBezTo>
                    <a:pt x="1164" y="4865"/>
                    <a:pt x="1281" y="4894"/>
                    <a:pt x="1368" y="4923"/>
                  </a:cubicBezTo>
                  <a:cubicBezTo>
                    <a:pt x="1484" y="4923"/>
                    <a:pt x="1630" y="4952"/>
                    <a:pt x="1746" y="4952"/>
                  </a:cubicBezTo>
                  <a:cubicBezTo>
                    <a:pt x="1891" y="4952"/>
                    <a:pt x="2037" y="4923"/>
                    <a:pt x="2182" y="4923"/>
                  </a:cubicBezTo>
                  <a:lnTo>
                    <a:pt x="2531" y="4865"/>
                  </a:lnTo>
                  <a:lnTo>
                    <a:pt x="2531" y="1346"/>
                  </a:lnTo>
                  <a:lnTo>
                    <a:pt x="3491" y="1346"/>
                  </a:lnTo>
                  <a:lnTo>
                    <a:pt x="3491" y="3614"/>
                  </a:lnTo>
                  <a:cubicBezTo>
                    <a:pt x="3491" y="4516"/>
                    <a:pt x="3898" y="4981"/>
                    <a:pt x="4712" y="4981"/>
                  </a:cubicBezTo>
                  <a:cubicBezTo>
                    <a:pt x="4745" y="4985"/>
                    <a:pt x="4778" y="4987"/>
                    <a:pt x="4811" y="4987"/>
                  </a:cubicBezTo>
                  <a:cubicBezTo>
                    <a:pt x="5046" y="4987"/>
                    <a:pt x="5294" y="4898"/>
                    <a:pt x="5497" y="4719"/>
                  </a:cubicBezTo>
                  <a:cubicBezTo>
                    <a:pt x="5643" y="4545"/>
                    <a:pt x="5730" y="4341"/>
                    <a:pt x="5730" y="4109"/>
                  </a:cubicBezTo>
                  <a:cubicBezTo>
                    <a:pt x="5730" y="3992"/>
                    <a:pt x="5730" y="3876"/>
                    <a:pt x="5701" y="3760"/>
                  </a:cubicBezTo>
                  <a:cubicBezTo>
                    <a:pt x="5675" y="3765"/>
                    <a:pt x="5649" y="3767"/>
                    <a:pt x="5624" y="3767"/>
                  </a:cubicBezTo>
                  <a:cubicBezTo>
                    <a:pt x="5505" y="3767"/>
                    <a:pt x="5389" y="3715"/>
                    <a:pt x="5294" y="3643"/>
                  </a:cubicBezTo>
                  <a:cubicBezTo>
                    <a:pt x="5177" y="3498"/>
                    <a:pt x="5148" y="3353"/>
                    <a:pt x="5148" y="3207"/>
                  </a:cubicBezTo>
                  <a:lnTo>
                    <a:pt x="5148" y="1346"/>
                  </a:lnTo>
                  <a:lnTo>
                    <a:pt x="5439" y="1346"/>
                  </a:lnTo>
                  <a:cubicBezTo>
                    <a:pt x="5614" y="1346"/>
                    <a:pt x="5759" y="1288"/>
                    <a:pt x="5875" y="1172"/>
                  </a:cubicBezTo>
                  <a:cubicBezTo>
                    <a:pt x="5992" y="1026"/>
                    <a:pt x="6050" y="823"/>
                    <a:pt x="6021" y="648"/>
                  </a:cubicBezTo>
                  <a:cubicBezTo>
                    <a:pt x="6021" y="532"/>
                    <a:pt x="6021" y="386"/>
                    <a:pt x="5963" y="270"/>
                  </a:cubicBezTo>
                  <a:cubicBezTo>
                    <a:pt x="5934" y="183"/>
                    <a:pt x="5904" y="96"/>
                    <a:pt x="5846" y="8"/>
                  </a:cubicBezTo>
                  <a:lnTo>
                    <a:pt x="612" y="8"/>
                  </a:lnTo>
                  <a:cubicBezTo>
                    <a:pt x="582" y="3"/>
                    <a:pt x="553" y="1"/>
                    <a:pt x="524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2" name="Google Shape;2289;p38"/>
            <p:cNvGrpSpPr/>
            <p:nvPr/>
          </p:nvGrpSpPr>
          <p:grpSpPr>
            <a:xfrm>
              <a:off x="5874120" y="921960"/>
              <a:ext cx="723600" cy="460800"/>
              <a:chOff x="5874120" y="921960"/>
              <a:chExt cx="723600" cy="460800"/>
            </a:xfrm>
          </p:grpSpPr>
          <p:sp>
            <p:nvSpPr>
              <p:cNvPr id="1283" name="Google Shape;2290;p38"/>
              <p:cNvSpPr/>
              <p:nvPr/>
            </p:nvSpPr>
            <p:spPr>
              <a:xfrm>
                <a:off x="5969520" y="933840"/>
                <a:ext cx="628200" cy="448920"/>
              </a:xfrm>
              <a:custGeom>
                <a:avLst/>
                <a:gdLst/>
                <a:ahLst/>
                <a:rect l="l" t="t" r="r" b="b"/>
                <a:pathLst>
                  <a:path w="24458" h="17479">
                    <a:moveTo>
                      <a:pt x="3113" y="1"/>
                    </a:moveTo>
                    <a:lnTo>
                      <a:pt x="1" y="5584"/>
                    </a:lnTo>
                    <a:lnTo>
                      <a:pt x="21346" y="17478"/>
                    </a:lnTo>
                    <a:lnTo>
                      <a:pt x="24458" y="11924"/>
                    </a:lnTo>
                    <a:lnTo>
                      <a:pt x="3113" y="1"/>
                    </a:ln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Google Shape;2291;p38"/>
              <p:cNvSpPr/>
              <p:nvPr/>
            </p:nvSpPr>
            <p:spPr>
              <a:xfrm>
                <a:off x="5874120" y="927720"/>
                <a:ext cx="175320" cy="149400"/>
              </a:xfrm>
              <a:custGeom>
                <a:avLst/>
                <a:gdLst/>
                <a:ahLst/>
                <a:rect l="l" t="t" r="r" b="b"/>
                <a:pathLst>
                  <a:path w="6835" h="5814">
                    <a:moveTo>
                      <a:pt x="2164" y="0"/>
                    </a:moveTo>
                    <a:cubicBezTo>
                      <a:pt x="1199" y="0"/>
                      <a:pt x="437" y="65"/>
                      <a:pt x="320" y="259"/>
                    </a:cubicBezTo>
                    <a:cubicBezTo>
                      <a:pt x="1" y="869"/>
                      <a:pt x="3723" y="5813"/>
                      <a:pt x="3723" y="5813"/>
                    </a:cubicBezTo>
                    <a:lnTo>
                      <a:pt x="6835" y="259"/>
                    </a:lnTo>
                    <a:cubicBezTo>
                      <a:pt x="6835" y="259"/>
                      <a:pt x="4094" y="0"/>
                      <a:pt x="2164" y="0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58320" bIns="583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Google Shape;2292;p38"/>
              <p:cNvSpPr/>
              <p:nvPr/>
            </p:nvSpPr>
            <p:spPr>
              <a:xfrm>
                <a:off x="5947920" y="921960"/>
                <a:ext cx="113400" cy="162000"/>
              </a:xfrm>
              <a:custGeom>
                <a:avLst/>
                <a:gdLst/>
                <a:ahLst/>
                <a:rect l="l" t="t" r="r" b="b"/>
                <a:pathLst>
                  <a:path w="4421" h="6311">
                    <a:moveTo>
                      <a:pt x="3112" y="0"/>
                    </a:moveTo>
                    <a:lnTo>
                      <a:pt x="1" y="5555"/>
                    </a:lnTo>
                    <a:lnTo>
                      <a:pt x="1309" y="6311"/>
                    </a:lnTo>
                    <a:lnTo>
                      <a:pt x="4421" y="727"/>
                    </a:lnTo>
                    <a:lnTo>
                      <a:pt x="3112" y="0"/>
                    </a:ln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0920" bIns="709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Google Shape;2293;p38"/>
              <p:cNvSpPr/>
              <p:nvPr/>
            </p:nvSpPr>
            <p:spPr>
              <a:xfrm>
                <a:off x="5996520" y="948600"/>
                <a:ext cx="557280" cy="409320"/>
              </a:xfrm>
              <a:custGeom>
                <a:avLst/>
                <a:gdLst/>
                <a:ahLst/>
                <a:rect l="l" t="t" r="r" b="b"/>
                <a:pathLst>
                  <a:path w="21696" h="15937">
                    <a:moveTo>
                      <a:pt x="3083" y="0"/>
                    </a:moveTo>
                    <a:lnTo>
                      <a:pt x="1" y="5584"/>
                    </a:lnTo>
                    <a:lnTo>
                      <a:pt x="18584" y="15937"/>
                    </a:lnTo>
                    <a:lnTo>
                      <a:pt x="21695" y="10382"/>
                    </a:lnTo>
                    <a:lnTo>
                      <a:pt x="3083" y="0"/>
                    </a:lnTo>
                    <a:close/>
                  </a:path>
                </a:pathLst>
              </a:custGeom>
              <a:solidFill>
                <a:srgbClr val="36a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Google Shape;2294;p38"/>
              <p:cNvSpPr/>
              <p:nvPr/>
            </p:nvSpPr>
            <p:spPr>
              <a:xfrm>
                <a:off x="6428160" y="1190160"/>
                <a:ext cx="99360" cy="153720"/>
              </a:xfrm>
              <a:custGeom>
                <a:avLst/>
                <a:gdLst/>
                <a:ahLst/>
                <a:rect l="l" t="t" r="r" b="b"/>
                <a:pathLst>
                  <a:path w="3869" h="5992">
                    <a:moveTo>
                      <a:pt x="3112" y="0"/>
                    </a:moveTo>
                    <a:lnTo>
                      <a:pt x="1" y="5555"/>
                    </a:lnTo>
                    <a:lnTo>
                      <a:pt x="786" y="5991"/>
                    </a:lnTo>
                    <a:lnTo>
                      <a:pt x="3868" y="437"/>
                    </a:lnTo>
                    <a:lnTo>
                      <a:pt x="3112" y="0"/>
                    </a:ln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62640" bIns="626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Google Shape;2295;p38"/>
              <p:cNvSpPr/>
              <p:nvPr/>
            </p:nvSpPr>
            <p:spPr>
              <a:xfrm>
                <a:off x="6396840" y="1172160"/>
                <a:ext cx="100080" cy="154440"/>
              </a:xfrm>
              <a:custGeom>
                <a:avLst/>
                <a:gdLst/>
                <a:ahLst/>
                <a:rect l="l" t="t" r="r" b="b"/>
                <a:pathLst>
                  <a:path w="3898" h="6021">
                    <a:moveTo>
                      <a:pt x="3112" y="0"/>
                    </a:moveTo>
                    <a:lnTo>
                      <a:pt x="0" y="5584"/>
                    </a:lnTo>
                    <a:lnTo>
                      <a:pt x="785" y="6020"/>
                    </a:lnTo>
                    <a:lnTo>
                      <a:pt x="3897" y="437"/>
                    </a:lnTo>
                    <a:lnTo>
                      <a:pt x="3112" y="0"/>
                    </a:ln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63360" bIns="63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Google Shape;2296;p38"/>
              <p:cNvSpPr/>
              <p:nvPr/>
            </p:nvSpPr>
            <p:spPr>
              <a:xfrm>
                <a:off x="6053400" y="980640"/>
                <a:ext cx="99360" cy="153720"/>
              </a:xfrm>
              <a:custGeom>
                <a:avLst/>
                <a:gdLst/>
                <a:ahLst/>
                <a:rect l="l" t="t" r="r" b="b"/>
                <a:pathLst>
                  <a:path w="3869" h="5992">
                    <a:moveTo>
                      <a:pt x="3113" y="1"/>
                    </a:moveTo>
                    <a:lnTo>
                      <a:pt x="1" y="5555"/>
                    </a:lnTo>
                    <a:lnTo>
                      <a:pt x="786" y="5991"/>
                    </a:lnTo>
                    <a:lnTo>
                      <a:pt x="3869" y="437"/>
                    </a:lnTo>
                    <a:lnTo>
                      <a:pt x="3113" y="1"/>
                    </a:ln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62640" bIns="626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Google Shape;2297;p38"/>
              <p:cNvSpPr/>
              <p:nvPr/>
            </p:nvSpPr>
            <p:spPr>
              <a:xfrm>
                <a:off x="6021720" y="963720"/>
                <a:ext cx="100080" cy="153720"/>
              </a:xfrm>
              <a:custGeom>
                <a:avLst/>
                <a:gdLst/>
                <a:ahLst/>
                <a:rect l="l" t="t" r="r" b="b"/>
                <a:pathLst>
                  <a:path w="3898" h="5992">
                    <a:moveTo>
                      <a:pt x="3112" y="1"/>
                    </a:moveTo>
                    <a:lnTo>
                      <a:pt x="1" y="5555"/>
                    </a:lnTo>
                    <a:lnTo>
                      <a:pt x="786" y="5992"/>
                    </a:lnTo>
                    <a:lnTo>
                      <a:pt x="3897" y="408"/>
                    </a:lnTo>
                    <a:lnTo>
                      <a:pt x="3112" y="1"/>
                    </a:ln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62640" bIns="626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Google Shape;2298;p38"/>
              <p:cNvSpPr/>
              <p:nvPr/>
            </p:nvSpPr>
            <p:spPr>
              <a:xfrm>
                <a:off x="6131520" y="1065240"/>
                <a:ext cx="286560" cy="176400"/>
              </a:xfrm>
              <a:custGeom>
                <a:avLst/>
                <a:gdLst/>
                <a:ahLst/>
                <a:rect l="l" t="t" r="r" b="b"/>
                <a:pathLst>
                  <a:path w="11168" h="6865">
                    <a:moveTo>
                      <a:pt x="2239" y="0"/>
                    </a:moveTo>
                    <a:cubicBezTo>
                      <a:pt x="1452" y="0"/>
                      <a:pt x="867" y="217"/>
                      <a:pt x="611" y="670"/>
                    </a:cubicBezTo>
                    <a:cubicBezTo>
                      <a:pt x="0" y="1804"/>
                      <a:pt x="1716" y="3927"/>
                      <a:pt x="4450" y="5468"/>
                    </a:cubicBezTo>
                    <a:cubicBezTo>
                      <a:pt x="6091" y="6376"/>
                      <a:pt x="7722" y="6865"/>
                      <a:pt x="8902" y="6865"/>
                    </a:cubicBezTo>
                    <a:cubicBezTo>
                      <a:pt x="9687" y="6865"/>
                      <a:pt x="10272" y="6648"/>
                      <a:pt x="10528" y="6195"/>
                    </a:cubicBezTo>
                    <a:cubicBezTo>
                      <a:pt x="11168" y="5061"/>
                      <a:pt x="9452" y="2909"/>
                      <a:pt x="6718" y="1397"/>
                    </a:cubicBezTo>
                    <a:cubicBezTo>
                      <a:pt x="5059" y="489"/>
                      <a:pt x="3422" y="0"/>
                      <a:pt x="2239" y="0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85320" bIns="853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2" name="Google Shape;2299;p38"/>
            <p:cNvGrpSpPr/>
            <p:nvPr/>
          </p:nvGrpSpPr>
          <p:grpSpPr>
            <a:xfrm>
              <a:off x="5120640" y="1735920"/>
              <a:ext cx="704520" cy="633240"/>
              <a:chOff x="5120640" y="1735920"/>
              <a:chExt cx="704520" cy="633240"/>
            </a:xfrm>
          </p:grpSpPr>
          <p:sp>
            <p:nvSpPr>
              <p:cNvPr id="1293" name="Google Shape;2300;p38"/>
              <p:cNvSpPr/>
              <p:nvPr/>
            </p:nvSpPr>
            <p:spPr>
              <a:xfrm>
                <a:off x="5120640" y="1837080"/>
                <a:ext cx="704520" cy="532080"/>
              </a:xfrm>
              <a:custGeom>
                <a:avLst/>
                <a:gdLst/>
                <a:ahLst/>
                <a:rect l="l" t="t" r="r" b="b"/>
                <a:pathLst>
                  <a:path w="17955" h="13551">
                    <a:moveTo>
                      <a:pt x="5671" y="0"/>
                    </a:moveTo>
                    <a:lnTo>
                      <a:pt x="5671" y="0"/>
                    </a:lnTo>
                    <a:cubicBezTo>
                      <a:pt x="0" y="2966"/>
                      <a:pt x="727" y="11283"/>
                      <a:pt x="6834" y="13203"/>
                    </a:cubicBezTo>
                    <a:cubicBezTo>
                      <a:pt x="7590" y="13440"/>
                      <a:pt x="8334" y="13550"/>
                      <a:pt x="9053" y="13550"/>
                    </a:cubicBezTo>
                    <a:cubicBezTo>
                      <a:pt x="14144" y="13550"/>
                      <a:pt x="17954" y="8023"/>
                      <a:pt x="15355" y="3054"/>
                    </a:cubicBezTo>
                    <a:lnTo>
                      <a:pt x="15355" y="3054"/>
                    </a:lnTo>
                    <a:lnTo>
                      <a:pt x="8986" y="6369"/>
                    </a:lnTo>
                    <a:lnTo>
                      <a:pt x="5671" y="0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Google Shape;2301;p38"/>
              <p:cNvSpPr/>
              <p:nvPr/>
            </p:nvSpPr>
            <p:spPr>
              <a:xfrm>
                <a:off x="5364360" y="1735920"/>
                <a:ext cx="379800" cy="282240"/>
              </a:xfrm>
              <a:custGeom>
                <a:avLst/>
                <a:gdLst/>
                <a:ahLst/>
                <a:rect l="l" t="t" r="r" b="b"/>
                <a:pathLst>
                  <a:path w="9685" h="7189">
                    <a:moveTo>
                      <a:pt x="3335" y="0"/>
                    </a:moveTo>
                    <a:cubicBezTo>
                      <a:pt x="2210" y="0"/>
                      <a:pt x="1068" y="264"/>
                      <a:pt x="0" y="820"/>
                    </a:cubicBezTo>
                    <a:lnTo>
                      <a:pt x="3345" y="7189"/>
                    </a:lnTo>
                    <a:lnTo>
                      <a:pt x="9684" y="3845"/>
                    </a:lnTo>
                    <a:cubicBezTo>
                      <a:pt x="8408" y="1393"/>
                      <a:pt x="5918" y="0"/>
                      <a:pt x="3335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5" name="Google Shape;2302;p38"/>
            <p:cNvSpPr/>
            <p:nvPr/>
          </p:nvSpPr>
          <p:spPr>
            <a:xfrm>
              <a:off x="4734000" y="606240"/>
              <a:ext cx="804600" cy="639720"/>
            </a:xfrm>
            <a:custGeom>
              <a:avLst/>
              <a:gdLst/>
              <a:ahLst/>
              <a:rect l="l" t="t" r="r" b="b"/>
              <a:pathLst>
                <a:path w="32194" h="25564">
                  <a:moveTo>
                    <a:pt x="8754" y="3694"/>
                  </a:moveTo>
                  <a:lnTo>
                    <a:pt x="24254" y="7707"/>
                  </a:lnTo>
                  <a:lnTo>
                    <a:pt x="4770" y="19223"/>
                  </a:lnTo>
                  <a:lnTo>
                    <a:pt x="8754" y="3694"/>
                  </a:lnTo>
                  <a:close/>
                  <a:moveTo>
                    <a:pt x="6573" y="1"/>
                  </a:moveTo>
                  <a:lnTo>
                    <a:pt x="5817" y="2938"/>
                  </a:lnTo>
                  <a:lnTo>
                    <a:pt x="1076" y="21404"/>
                  </a:lnTo>
                  <a:lnTo>
                    <a:pt x="524" y="23498"/>
                  </a:lnTo>
                  <a:lnTo>
                    <a:pt x="0" y="25563"/>
                  </a:lnTo>
                  <a:lnTo>
                    <a:pt x="32193" y="6544"/>
                  </a:lnTo>
                  <a:lnTo>
                    <a:pt x="27947" y="5497"/>
                  </a:lnTo>
                  <a:lnTo>
                    <a:pt x="9510" y="757"/>
                  </a:lnTo>
                  <a:lnTo>
                    <a:pt x="6573" y="1"/>
                  </a:ln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Google Shape;2303;p38"/>
            <p:cNvGrpSpPr/>
            <p:nvPr/>
          </p:nvGrpSpPr>
          <p:grpSpPr>
            <a:xfrm>
              <a:off x="7302960" y="679680"/>
              <a:ext cx="716760" cy="822960"/>
              <a:chOff x="7302960" y="679680"/>
              <a:chExt cx="716760" cy="822960"/>
            </a:xfrm>
          </p:grpSpPr>
          <p:sp>
            <p:nvSpPr>
              <p:cNvPr id="1297" name="Google Shape;2304;p38"/>
              <p:cNvSpPr/>
              <p:nvPr/>
            </p:nvSpPr>
            <p:spPr>
              <a:xfrm flipH="1">
                <a:off x="7302600" y="679680"/>
                <a:ext cx="703800" cy="822960"/>
              </a:xfrm>
              <a:custGeom>
                <a:avLst/>
                <a:gdLst/>
                <a:ahLst/>
                <a:rect l="l" t="t" r="r" b="b"/>
                <a:pathLst>
                  <a:path w="21608" h="25273">
                    <a:moveTo>
                      <a:pt x="6573" y="1"/>
                    </a:moveTo>
                    <a:lnTo>
                      <a:pt x="0" y="20416"/>
                    </a:lnTo>
                    <a:lnTo>
                      <a:pt x="15035" y="25272"/>
                    </a:lnTo>
                    <a:lnTo>
                      <a:pt x="21608" y="4857"/>
                    </a:lnTo>
                    <a:lnTo>
                      <a:pt x="6573" y="1"/>
                    </a:lnTo>
                    <a:close/>
                  </a:path>
                </a:pathLst>
              </a:custGeom>
              <a:solidFill>
                <a:srgbClr val="7fc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Google Shape;2305;p38"/>
              <p:cNvSpPr/>
              <p:nvPr/>
            </p:nvSpPr>
            <p:spPr>
              <a:xfrm flipH="1">
                <a:off x="7422840" y="846000"/>
                <a:ext cx="363600" cy="185760"/>
              </a:xfrm>
              <a:custGeom>
                <a:avLst/>
                <a:gdLst/>
                <a:ahLst/>
                <a:rect l="l" t="t" r="r" b="b"/>
                <a:pathLst>
                  <a:path w="11139" h="5700">
                    <a:moveTo>
                      <a:pt x="756" y="0"/>
                    </a:moveTo>
                    <a:lnTo>
                      <a:pt x="0" y="2385"/>
                    </a:lnTo>
                    <a:lnTo>
                      <a:pt x="10353" y="5700"/>
                    </a:lnTo>
                    <a:lnTo>
                      <a:pt x="11138" y="3344"/>
                    </a:lnTo>
                    <a:lnTo>
                      <a:pt x="756" y="0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Google Shape;2306;p38"/>
              <p:cNvSpPr/>
              <p:nvPr/>
            </p:nvSpPr>
            <p:spPr>
              <a:xfrm flipH="1">
                <a:off x="7794360" y="755640"/>
                <a:ext cx="53640" cy="31680"/>
              </a:xfrm>
              <a:custGeom>
                <a:avLst/>
                <a:gdLst/>
                <a:ahLst/>
                <a:rect l="l" t="t" r="r" b="b"/>
                <a:pathLst>
                  <a:path w="1659" h="965">
                    <a:moveTo>
                      <a:pt x="358" y="0"/>
                    </a:moveTo>
                    <a:cubicBezTo>
                      <a:pt x="224" y="0"/>
                      <a:pt x="105" y="84"/>
                      <a:pt x="59" y="222"/>
                    </a:cubicBezTo>
                    <a:cubicBezTo>
                      <a:pt x="1" y="396"/>
                      <a:pt x="88" y="600"/>
                      <a:pt x="263" y="658"/>
                    </a:cubicBezTo>
                    <a:lnTo>
                      <a:pt x="1193" y="949"/>
                    </a:lnTo>
                    <a:cubicBezTo>
                      <a:pt x="1224" y="959"/>
                      <a:pt x="1255" y="964"/>
                      <a:pt x="1285" y="964"/>
                    </a:cubicBezTo>
                    <a:cubicBezTo>
                      <a:pt x="1426" y="964"/>
                      <a:pt x="1553" y="860"/>
                      <a:pt x="1600" y="716"/>
                    </a:cubicBezTo>
                    <a:cubicBezTo>
                      <a:pt x="1659" y="542"/>
                      <a:pt x="1542" y="367"/>
                      <a:pt x="1397" y="309"/>
                    </a:cubicBezTo>
                    <a:lnTo>
                      <a:pt x="466" y="18"/>
                    </a:lnTo>
                    <a:cubicBezTo>
                      <a:pt x="430" y="6"/>
                      <a:pt x="393" y="0"/>
                      <a:pt x="358" y="0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9400" bIns="-59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Google Shape;2307;p38"/>
              <p:cNvSpPr/>
              <p:nvPr/>
            </p:nvSpPr>
            <p:spPr>
              <a:xfrm flipH="1">
                <a:off x="7778520" y="707760"/>
                <a:ext cx="53640" cy="29880"/>
              </a:xfrm>
              <a:custGeom>
                <a:avLst/>
                <a:gdLst/>
                <a:ahLst/>
                <a:rect l="l" t="t" r="r" b="b"/>
                <a:pathLst>
                  <a:path w="1629" h="964">
                    <a:moveTo>
                      <a:pt x="354" y="0"/>
                    </a:moveTo>
                    <a:cubicBezTo>
                      <a:pt x="214" y="0"/>
                      <a:pt x="81" y="84"/>
                      <a:pt x="58" y="222"/>
                    </a:cubicBezTo>
                    <a:cubicBezTo>
                      <a:pt x="0" y="396"/>
                      <a:pt x="88" y="600"/>
                      <a:pt x="262" y="658"/>
                    </a:cubicBezTo>
                    <a:lnTo>
                      <a:pt x="1164" y="949"/>
                    </a:lnTo>
                    <a:cubicBezTo>
                      <a:pt x="1194" y="959"/>
                      <a:pt x="1225" y="964"/>
                      <a:pt x="1256" y="964"/>
                    </a:cubicBezTo>
                    <a:cubicBezTo>
                      <a:pt x="1396" y="964"/>
                      <a:pt x="1523" y="860"/>
                      <a:pt x="1571" y="716"/>
                    </a:cubicBezTo>
                    <a:cubicBezTo>
                      <a:pt x="1629" y="542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2" y="0"/>
                      <a:pt x="354" y="0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200" bIns="-61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Google Shape;2308;p38"/>
              <p:cNvSpPr/>
              <p:nvPr/>
            </p:nvSpPr>
            <p:spPr>
              <a:xfrm flipH="1">
                <a:off x="7810200" y="803160"/>
                <a:ext cx="52200" cy="31680"/>
              </a:xfrm>
              <a:custGeom>
                <a:avLst/>
                <a:gdLst/>
                <a:ahLst/>
                <a:rect l="l" t="t" r="r" b="b"/>
                <a:pathLst>
                  <a:path w="1630" h="955">
                    <a:moveTo>
                      <a:pt x="358" y="1"/>
                    </a:moveTo>
                    <a:cubicBezTo>
                      <a:pt x="224" y="1"/>
                      <a:pt x="105" y="84"/>
                      <a:pt x="59" y="222"/>
                    </a:cubicBezTo>
                    <a:cubicBezTo>
                      <a:pt x="1" y="397"/>
                      <a:pt x="88" y="600"/>
                      <a:pt x="262" y="658"/>
                    </a:cubicBezTo>
                    <a:lnTo>
                      <a:pt x="1164" y="949"/>
                    </a:lnTo>
                    <a:cubicBezTo>
                      <a:pt x="1186" y="953"/>
                      <a:pt x="1208" y="955"/>
                      <a:pt x="1230" y="955"/>
                    </a:cubicBezTo>
                    <a:cubicBezTo>
                      <a:pt x="1381" y="955"/>
                      <a:pt x="1520" y="869"/>
                      <a:pt x="1571" y="716"/>
                    </a:cubicBezTo>
                    <a:cubicBezTo>
                      <a:pt x="1629" y="542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30" y="6"/>
                      <a:pt x="393" y="1"/>
                      <a:pt x="358" y="1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9400" bIns="-59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Google Shape;2309;p38"/>
              <p:cNvSpPr/>
              <p:nvPr/>
            </p:nvSpPr>
            <p:spPr>
              <a:xfrm flipH="1">
                <a:off x="7826040" y="852480"/>
                <a:ext cx="53640" cy="29880"/>
              </a:xfrm>
              <a:custGeom>
                <a:avLst/>
                <a:gdLst/>
                <a:ahLst/>
                <a:rect l="l" t="t" r="r" b="b"/>
                <a:pathLst>
                  <a:path w="1658" h="955">
                    <a:moveTo>
                      <a:pt x="383" y="1"/>
                    </a:moveTo>
                    <a:cubicBezTo>
                      <a:pt x="242" y="1"/>
                      <a:pt x="104" y="84"/>
                      <a:pt x="58" y="222"/>
                    </a:cubicBezTo>
                    <a:cubicBezTo>
                      <a:pt x="0" y="397"/>
                      <a:pt x="117" y="571"/>
                      <a:pt x="291" y="658"/>
                    </a:cubicBezTo>
                    <a:lnTo>
                      <a:pt x="1193" y="949"/>
                    </a:lnTo>
                    <a:cubicBezTo>
                      <a:pt x="1215" y="953"/>
                      <a:pt x="1237" y="955"/>
                      <a:pt x="1259" y="955"/>
                    </a:cubicBezTo>
                    <a:cubicBezTo>
                      <a:pt x="1410" y="955"/>
                      <a:pt x="1549" y="869"/>
                      <a:pt x="1600" y="717"/>
                    </a:cubicBezTo>
                    <a:cubicBezTo>
                      <a:pt x="1658" y="542"/>
                      <a:pt x="1571" y="368"/>
                      <a:pt x="1396" y="309"/>
                    </a:cubicBezTo>
                    <a:lnTo>
                      <a:pt x="495" y="19"/>
                    </a:lnTo>
                    <a:cubicBezTo>
                      <a:pt x="458" y="6"/>
                      <a:pt x="421" y="1"/>
                      <a:pt x="383" y="1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200" bIns="-61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Google Shape;2310;p38"/>
              <p:cNvSpPr/>
              <p:nvPr/>
            </p:nvSpPr>
            <p:spPr>
              <a:xfrm flipH="1">
                <a:off x="7840440" y="900000"/>
                <a:ext cx="53640" cy="29880"/>
              </a:xfrm>
              <a:custGeom>
                <a:avLst/>
                <a:gdLst/>
                <a:ahLst/>
                <a:rect l="l" t="t" r="r" b="b"/>
                <a:pathLst>
                  <a:path w="1659" h="939">
                    <a:moveTo>
                      <a:pt x="358" y="1"/>
                    </a:moveTo>
                    <a:cubicBezTo>
                      <a:pt x="224" y="1"/>
                      <a:pt x="105" y="84"/>
                      <a:pt x="59" y="222"/>
                    </a:cubicBezTo>
                    <a:cubicBezTo>
                      <a:pt x="1" y="397"/>
                      <a:pt x="117" y="571"/>
                      <a:pt x="292" y="629"/>
                    </a:cubicBezTo>
                    <a:lnTo>
                      <a:pt x="1193" y="920"/>
                    </a:lnTo>
                    <a:cubicBezTo>
                      <a:pt x="1230" y="932"/>
                      <a:pt x="1266" y="938"/>
                      <a:pt x="1301" y="938"/>
                    </a:cubicBezTo>
                    <a:cubicBezTo>
                      <a:pt x="1436" y="938"/>
                      <a:pt x="1554" y="855"/>
                      <a:pt x="1600" y="717"/>
                    </a:cubicBezTo>
                    <a:cubicBezTo>
                      <a:pt x="1659" y="542"/>
                      <a:pt x="1571" y="368"/>
                      <a:pt x="1397" y="310"/>
                    </a:cubicBezTo>
                    <a:lnTo>
                      <a:pt x="466" y="19"/>
                    </a:lnTo>
                    <a:cubicBezTo>
                      <a:pt x="430" y="7"/>
                      <a:pt x="393" y="1"/>
                      <a:pt x="358" y="1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200" bIns="-61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Google Shape;2311;p38"/>
              <p:cNvSpPr/>
              <p:nvPr/>
            </p:nvSpPr>
            <p:spPr>
              <a:xfrm flipH="1">
                <a:off x="7856280" y="949320"/>
                <a:ext cx="53640" cy="29880"/>
              </a:xfrm>
              <a:custGeom>
                <a:avLst/>
                <a:gdLst/>
                <a:ahLst/>
                <a:rect l="l" t="t" r="r" b="b"/>
                <a:pathLst>
                  <a:path w="1659" h="939">
                    <a:moveTo>
                      <a:pt x="384" y="1"/>
                    </a:moveTo>
                    <a:cubicBezTo>
                      <a:pt x="242" y="1"/>
                      <a:pt x="105" y="84"/>
                      <a:pt x="59" y="222"/>
                    </a:cubicBezTo>
                    <a:cubicBezTo>
                      <a:pt x="1" y="397"/>
                      <a:pt x="117" y="571"/>
                      <a:pt x="291" y="630"/>
                    </a:cubicBezTo>
                    <a:lnTo>
                      <a:pt x="1193" y="920"/>
                    </a:lnTo>
                    <a:cubicBezTo>
                      <a:pt x="1229" y="932"/>
                      <a:pt x="1266" y="938"/>
                      <a:pt x="1301" y="938"/>
                    </a:cubicBezTo>
                    <a:cubicBezTo>
                      <a:pt x="1435" y="938"/>
                      <a:pt x="1554" y="855"/>
                      <a:pt x="1600" y="717"/>
                    </a:cubicBezTo>
                    <a:cubicBezTo>
                      <a:pt x="1658" y="542"/>
                      <a:pt x="1571" y="368"/>
                      <a:pt x="1396" y="310"/>
                    </a:cubicBezTo>
                    <a:lnTo>
                      <a:pt x="495" y="19"/>
                    </a:lnTo>
                    <a:cubicBezTo>
                      <a:pt x="459" y="7"/>
                      <a:pt x="421" y="1"/>
                      <a:pt x="384" y="1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200" bIns="-61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Google Shape;2312;p38"/>
              <p:cNvSpPr/>
              <p:nvPr/>
            </p:nvSpPr>
            <p:spPr>
              <a:xfrm flipH="1">
                <a:off x="7872120" y="996840"/>
                <a:ext cx="53640" cy="29880"/>
              </a:xfrm>
              <a:custGeom>
                <a:avLst/>
                <a:gdLst/>
                <a:ahLst/>
                <a:rect l="l" t="t" r="r" b="b"/>
                <a:pathLst>
                  <a:path w="1658" h="938">
                    <a:moveTo>
                      <a:pt x="357" y="0"/>
                    </a:moveTo>
                    <a:cubicBezTo>
                      <a:pt x="223" y="0"/>
                      <a:pt x="104" y="83"/>
                      <a:pt x="58" y="222"/>
                    </a:cubicBezTo>
                    <a:cubicBezTo>
                      <a:pt x="0" y="396"/>
                      <a:pt x="88" y="571"/>
                      <a:pt x="262" y="629"/>
                    </a:cubicBezTo>
                    <a:lnTo>
                      <a:pt x="1164" y="919"/>
                    </a:lnTo>
                    <a:cubicBezTo>
                      <a:pt x="1200" y="932"/>
                      <a:pt x="1238" y="937"/>
                      <a:pt x="1275" y="937"/>
                    </a:cubicBezTo>
                    <a:cubicBezTo>
                      <a:pt x="1417" y="937"/>
                      <a:pt x="1554" y="854"/>
                      <a:pt x="1600" y="716"/>
                    </a:cubicBezTo>
                    <a:cubicBezTo>
                      <a:pt x="1658" y="541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3" y="0"/>
                      <a:pt x="357" y="0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200" bIns="-61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Google Shape;2313;p38"/>
              <p:cNvSpPr/>
              <p:nvPr/>
            </p:nvSpPr>
            <p:spPr>
              <a:xfrm flipH="1">
                <a:off x="7887960" y="1044720"/>
                <a:ext cx="53640" cy="31680"/>
              </a:xfrm>
              <a:custGeom>
                <a:avLst/>
                <a:gdLst/>
                <a:ahLst/>
                <a:rect l="l" t="t" r="r" b="b"/>
                <a:pathLst>
                  <a:path w="1659" h="938">
                    <a:moveTo>
                      <a:pt x="358" y="0"/>
                    </a:moveTo>
                    <a:cubicBezTo>
                      <a:pt x="224" y="0"/>
                      <a:pt x="105" y="84"/>
                      <a:pt x="59" y="222"/>
                    </a:cubicBezTo>
                    <a:cubicBezTo>
                      <a:pt x="1" y="396"/>
                      <a:pt x="117" y="571"/>
                      <a:pt x="292" y="629"/>
                    </a:cubicBezTo>
                    <a:lnTo>
                      <a:pt x="1193" y="920"/>
                    </a:lnTo>
                    <a:cubicBezTo>
                      <a:pt x="1230" y="932"/>
                      <a:pt x="1266" y="938"/>
                      <a:pt x="1301" y="938"/>
                    </a:cubicBezTo>
                    <a:cubicBezTo>
                      <a:pt x="1435" y="938"/>
                      <a:pt x="1554" y="854"/>
                      <a:pt x="1600" y="716"/>
                    </a:cubicBezTo>
                    <a:cubicBezTo>
                      <a:pt x="1659" y="542"/>
                      <a:pt x="1542" y="367"/>
                      <a:pt x="1397" y="309"/>
                    </a:cubicBezTo>
                    <a:lnTo>
                      <a:pt x="466" y="18"/>
                    </a:lnTo>
                    <a:cubicBezTo>
                      <a:pt x="430" y="6"/>
                      <a:pt x="393" y="0"/>
                      <a:pt x="358" y="0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9400" bIns="-59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Google Shape;2314;p38"/>
              <p:cNvSpPr/>
              <p:nvPr/>
            </p:nvSpPr>
            <p:spPr>
              <a:xfrm flipH="1">
                <a:off x="7903800" y="1092240"/>
                <a:ext cx="53640" cy="31680"/>
              </a:xfrm>
              <a:custGeom>
                <a:avLst/>
                <a:gdLst/>
                <a:ahLst/>
                <a:rect l="l" t="t" r="r" b="b"/>
                <a:pathLst>
                  <a:path w="1659" h="964">
                    <a:moveTo>
                      <a:pt x="374" y="0"/>
                    </a:moveTo>
                    <a:cubicBezTo>
                      <a:pt x="233" y="0"/>
                      <a:pt x="107" y="104"/>
                      <a:pt x="59" y="248"/>
                    </a:cubicBezTo>
                    <a:cubicBezTo>
                      <a:pt x="1" y="422"/>
                      <a:pt x="88" y="597"/>
                      <a:pt x="262" y="655"/>
                    </a:cubicBezTo>
                    <a:lnTo>
                      <a:pt x="1193" y="946"/>
                    </a:lnTo>
                    <a:cubicBezTo>
                      <a:pt x="1229" y="958"/>
                      <a:pt x="1266" y="964"/>
                      <a:pt x="1301" y="964"/>
                    </a:cubicBezTo>
                    <a:cubicBezTo>
                      <a:pt x="1435" y="964"/>
                      <a:pt x="1554" y="880"/>
                      <a:pt x="1600" y="742"/>
                    </a:cubicBezTo>
                    <a:cubicBezTo>
                      <a:pt x="1658" y="568"/>
                      <a:pt x="1542" y="364"/>
                      <a:pt x="1397" y="335"/>
                    </a:cubicBezTo>
                    <a:lnTo>
                      <a:pt x="466" y="15"/>
                    </a:lnTo>
                    <a:cubicBezTo>
                      <a:pt x="435" y="5"/>
                      <a:pt x="404" y="0"/>
                      <a:pt x="374" y="0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9400" bIns="-59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Google Shape;2315;p38"/>
              <p:cNvSpPr/>
              <p:nvPr/>
            </p:nvSpPr>
            <p:spPr>
              <a:xfrm flipH="1">
                <a:off x="7919640" y="114156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1629" h="938">
                    <a:moveTo>
                      <a:pt x="357" y="0"/>
                    </a:moveTo>
                    <a:cubicBezTo>
                      <a:pt x="223" y="0"/>
                      <a:pt x="105" y="84"/>
                      <a:pt x="58" y="222"/>
                    </a:cubicBezTo>
                    <a:cubicBezTo>
                      <a:pt x="0" y="396"/>
                      <a:pt x="88" y="571"/>
                      <a:pt x="262" y="629"/>
                    </a:cubicBezTo>
                    <a:lnTo>
                      <a:pt x="1164" y="920"/>
                    </a:lnTo>
                    <a:cubicBezTo>
                      <a:pt x="1200" y="932"/>
                      <a:pt x="1236" y="938"/>
                      <a:pt x="1272" y="938"/>
                    </a:cubicBezTo>
                    <a:cubicBezTo>
                      <a:pt x="1406" y="938"/>
                      <a:pt x="1525" y="854"/>
                      <a:pt x="1571" y="716"/>
                    </a:cubicBezTo>
                    <a:cubicBezTo>
                      <a:pt x="1629" y="542"/>
                      <a:pt x="1542" y="338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3" y="0"/>
                      <a:pt x="357" y="0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200" bIns="-61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Google Shape;2316;p38"/>
              <p:cNvSpPr/>
              <p:nvPr/>
            </p:nvSpPr>
            <p:spPr>
              <a:xfrm flipH="1">
                <a:off x="7934040" y="1189080"/>
                <a:ext cx="53640" cy="31680"/>
              </a:xfrm>
              <a:custGeom>
                <a:avLst/>
                <a:gdLst/>
                <a:ahLst/>
                <a:rect l="l" t="t" r="r" b="b"/>
                <a:pathLst>
                  <a:path w="1659" h="964">
                    <a:moveTo>
                      <a:pt x="401" y="0"/>
                    </a:moveTo>
                    <a:cubicBezTo>
                      <a:pt x="253" y="0"/>
                      <a:pt x="107" y="104"/>
                      <a:pt x="59" y="248"/>
                    </a:cubicBezTo>
                    <a:cubicBezTo>
                      <a:pt x="1" y="423"/>
                      <a:pt x="117" y="597"/>
                      <a:pt x="292" y="655"/>
                    </a:cubicBezTo>
                    <a:lnTo>
                      <a:pt x="1193" y="946"/>
                    </a:lnTo>
                    <a:cubicBezTo>
                      <a:pt x="1230" y="958"/>
                      <a:pt x="1266" y="964"/>
                      <a:pt x="1301" y="964"/>
                    </a:cubicBezTo>
                    <a:cubicBezTo>
                      <a:pt x="1436" y="964"/>
                      <a:pt x="1554" y="880"/>
                      <a:pt x="1600" y="742"/>
                    </a:cubicBezTo>
                    <a:cubicBezTo>
                      <a:pt x="1659" y="568"/>
                      <a:pt x="1571" y="364"/>
                      <a:pt x="1397" y="335"/>
                    </a:cubicBezTo>
                    <a:lnTo>
                      <a:pt x="495" y="15"/>
                    </a:lnTo>
                    <a:cubicBezTo>
                      <a:pt x="464" y="5"/>
                      <a:pt x="433" y="0"/>
                      <a:pt x="401" y="0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9400" bIns="-59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Google Shape;2317;p38"/>
              <p:cNvSpPr/>
              <p:nvPr/>
            </p:nvSpPr>
            <p:spPr>
              <a:xfrm flipH="1">
                <a:off x="7949880" y="1236960"/>
                <a:ext cx="53640" cy="31680"/>
              </a:xfrm>
              <a:custGeom>
                <a:avLst/>
                <a:gdLst/>
                <a:ahLst/>
                <a:rect l="l" t="t" r="r" b="b"/>
                <a:pathLst>
                  <a:path w="1630" h="965">
                    <a:moveTo>
                      <a:pt x="374" y="0"/>
                    </a:moveTo>
                    <a:cubicBezTo>
                      <a:pt x="233" y="0"/>
                      <a:pt x="107" y="105"/>
                      <a:pt x="59" y="248"/>
                    </a:cubicBezTo>
                    <a:cubicBezTo>
                      <a:pt x="1" y="423"/>
                      <a:pt x="88" y="597"/>
                      <a:pt x="262" y="655"/>
                    </a:cubicBezTo>
                    <a:lnTo>
                      <a:pt x="1164" y="946"/>
                    </a:lnTo>
                    <a:cubicBezTo>
                      <a:pt x="1200" y="958"/>
                      <a:pt x="1238" y="964"/>
                      <a:pt x="1275" y="964"/>
                    </a:cubicBezTo>
                    <a:cubicBezTo>
                      <a:pt x="1417" y="964"/>
                      <a:pt x="1554" y="881"/>
                      <a:pt x="1600" y="743"/>
                    </a:cubicBezTo>
                    <a:cubicBezTo>
                      <a:pt x="1629" y="568"/>
                      <a:pt x="1542" y="365"/>
                      <a:pt x="1367" y="306"/>
                    </a:cubicBezTo>
                    <a:lnTo>
                      <a:pt x="466" y="16"/>
                    </a:lnTo>
                    <a:cubicBezTo>
                      <a:pt x="435" y="5"/>
                      <a:pt x="404" y="0"/>
                      <a:pt x="374" y="0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9400" bIns="-59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Google Shape;2318;p38"/>
              <p:cNvSpPr/>
              <p:nvPr/>
            </p:nvSpPr>
            <p:spPr>
              <a:xfrm flipH="1">
                <a:off x="7965720" y="1285920"/>
                <a:ext cx="53640" cy="31680"/>
              </a:xfrm>
              <a:custGeom>
                <a:avLst/>
                <a:gdLst/>
                <a:ahLst/>
                <a:rect l="l" t="t" r="r" b="b"/>
                <a:pathLst>
                  <a:path w="1658" h="965">
                    <a:moveTo>
                      <a:pt x="400" y="1"/>
                    </a:moveTo>
                    <a:cubicBezTo>
                      <a:pt x="253" y="1"/>
                      <a:pt x="106" y="105"/>
                      <a:pt x="58" y="248"/>
                    </a:cubicBezTo>
                    <a:cubicBezTo>
                      <a:pt x="0" y="423"/>
                      <a:pt x="117" y="597"/>
                      <a:pt x="291" y="655"/>
                    </a:cubicBezTo>
                    <a:lnTo>
                      <a:pt x="1193" y="946"/>
                    </a:lnTo>
                    <a:cubicBezTo>
                      <a:pt x="1229" y="958"/>
                      <a:pt x="1265" y="964"/>
                      <a:pt x="1301" y="964"/>
                    </a:cubicBezTo>
                    <a:cubicBezTo>
                      <a:pt x="1435" y="964"/>
                      <a:pt x="1554" y="881"/>
                      <a:pt x="1600" y="743"/>
                    </a:cubicBezTo>
                    <a:cubicBezTo>
                      <a:pt x="1658" y="568"/>
                      <a:pt x="1571" y="365"/>
                      <a:pt x="1396" y="306"/>
                    </a:cubicBezTo>
                    <a:lnTo>
                      <a:pt x="495" y="16"/>
                    </a:lnTo>
                    <a:cubicBezTo>
                      <a:pt x="464" y="5"/>
                      <a:pt x="432" y="1"/>
                      <a:pt x="400" y="1"/>
                    </a:cubicBez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9400" bIns="-59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12" name="y2mate.com - Mix !! Musica Para Videos O Para Jugar Cualquier Juego! The Best Music Gamingw_1X8FL1nRfoY" descr=""/>
          <p:cNvPicPr/>
          <p:nvPr/>
        </p:nvPicPr>
        <p:blipFill>
          <a:blip r:embed="rId1"/>
          <a:stretch/>
        </p:blipFill>
        <p:spPr>
          <a:xfrm>
            <a:off x="9371160" y="45338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13" name="Imagen 3" descr="Imagen que contiene Logotipo&#10;&#10;Descripción generada automáticamente"/>
          <p:cNvPicPr/>
          <p:nvPr/>
        </p:nvPicPr>
        <p:blipFill>
          <a:blip r:embed="rId2"/>
          <a:stretch/>
        </p:blipFill>
        <p:spPr>
          <a:xfrm>
            <a:off x="100080" y="-3240"/>
            <a:ext cx="207972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Google Shape;2330;p40"/>
          <p:cNvGrpSpPr/>
          <p:nvPr/>
        </p:nvGrpSpPr>
        <p:grpSpPr>
          <a:xfrm>
            <a:off x="725400" y="542880"/>
            <a:ext cx="7693200" cy="566640"/>
            <a:chOff x="725400" y="542880"/>
            <a:chExt cx="7693200" cy="566640"/>
          </a:xfrm>
        </p:grpSpPr>
        <p:pic>
          <p:nvPicPr>
            <p:cNvPr id="1560" name="Google Shape;2330;p40" descr=""/>
            <p:cNvPicPr/>
            <p:nvPr/>
          </p:nvPicPr>
          <p:blipFill>
            <a:blip r:embed="rId1"/>
            <a:stretch/>
          </p:blipFill>
          <p:spPr>
            <a:xfrm>
              <a:off x="737640" y="545760"/>
              <a:ext cx="7668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1" name=""/>
            <p:cNvSpPr/>
            <p:nvPr/>
          </p:nvSpPr>
          <p:spPr>
            <a:xfrm>
              <a:off x="725400" y="542880"/>
              <a:ext cx="769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801800" y="539640"/>
            <a:ext cx="554040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5f1e6"/>
                </a:solidFill>
                <a:latin typeface="Sriracha"/>
                <a:ea typeface="Sriracha"/>
              </a:rPr>
              <a:t>3. ¿Cuántos cubitos h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3" name="Google Shape;2340;p40"/>
          <p:cNvGrpSpPr/>
          <p:nvPr/>
        </p:nvGrpSpPr>
        <p:grpSpPr>
          <a:xfrm>
            <a:off x="7624800" y="98280"/>
            <a:ext cx="1579680" cy="1443960"/>
            <a:chOff x="7624800" y="98280"/>
            <a:chExt cx="1579680" cy="1443960"/>
          </a:xfrm>
        </p:grpSpPr>
        <p:grpSp>
          <p:nvGrpSpPr>
            <p:cNvPr id="1564" name="Google Shape;2341;p40"/>
            <p:cNvGrpSpPr/>
            <p:nvPr/>
          </p:nvGrpSpPr>
          <p:grpSpPr>
            <a:xfrm>
              <a:off x="7828200" y="98280"/>
              <a:ext cx="1239120" cy="1201320"/>
              <a:chOff x="7828200" y="98280"/>
              <a:chExt cx="1239120" cy="1201320"/>
            </a:xfrm>
          </p:grpSpPr>
          <p:sp>
            <p:nvSpPr>
              <p:cNvPr id="1565" name="Google Shape;2342;p40"/>
              <p:cNvSpPr/>
              <p:nvPr/>
            </p:nvSpPr>
            <p:spPr>
              <a:xfrm>
                <a:off x="7850880" y="98280"/>
                <a:ext cx="1216440" cy="1201320"/>
              </a:xfrm>
              <a:custGeom>
                <a:avLst/>
                <a:gdLst/>
                <a:ahLst/>
                <a:rect l="l" t="t" r="r" b="b"/>
                <a:pathLst>
                  <a:path w="21608" h="25273">
                    <a:moveTo>
                      <a:pt x="6573" y="1"/>
                    </a:moveTo>
                    <a:lnTo>
                      <a:pt x="0" y="20416"/>
                    </a:lnTo>
                    <a:lnTo>
                      <a:pt x="15035" y="25272"/>
                    </a:lnTo>
                    <a:lnTo>
                      <a:pt x="21608" y="4857"/>
                    </a:lnTo>
                    <a:lnTo>
                      <a:pt x="6573" y="1"/>
                    </a:ln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Google Shape;2343;p40"/>
              <p:cNvSpPr/>
              <p:nvPr/>
            </p:nvSpPr>
            <p:spPr>
              <a:xfrm>
                <a:off x="8231040" y="341640"/>
                <a:ext cx="627120" cy="270720"/>
              </a:xfrm>
              <a:custGeom>
                <a:avLst/>
                <a:gdLst/>
                <a:ahLst/>
                <a:rect l="l" t="t" r="r" b="b"/>
                <a:pathLst>
                  <a:path w="11139" h="5700">
                    <a:moveTo>
                      <a:pt x="756" y="0"/>
                    </a:moveTo>
                    <a:lnTo>
                      <a:pt x="0" y="2385"/>
                    </a:lnTo>
                    <a:lnTo>
                      <a:pt x="10353" y="5700"/>
                    </a:lnTo>
                    <a:lnTo>
                      <a:pt x="11138" y="3344"/>
                    </a:lnTo>
                    <a:lnTo>
                      <a:pt x="756" y="0"/>
                    </a:ln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Google Shape;2344;p40"/>
              <p:cNvSpPr/>
              <p:nvPr/>
            </p:nvSpPr>
            <p:spPr>
              <a:xfrm>
                <a:off x="8124480" y="20916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5">
                    <a:moveTo>
                      <a:pt x="358" y="0"/>
                    </a:moveTo>
                    <a:cubicBezTo>
                      <a:pt x="224" y="0"/>
                      <a:pt x="105" y="84"/>
                      <a:pt x="59" y="222"/>
                    </a:cubicBezTo>
                    <a:cubicBezTo>
                      <a:pt x="1" y="396"/>
                      <a:pt x="88" y="600"/>
                      <a:pt x="263" y="658"/>
                    </a:cubicBezTo>
                    <a:lnTo>
                      <a:pt x="1193" y="949"/>
                    </a:lnTo>
                    <a:cubicBezTo>
                      <a:pt x="1224" y="959"/>
                      <a:pt x="1255" y="964"/>
                      <a:pt x="1285" y="964"/>
                    </a:cubicBezTo>
                    <a:cubicBezTo>
                      <a:pt x="1426" y="964"/>
                      <a:pt x="1553" y="860"/>
                      <a:pt x="1600" y="716"/>
                    </a:cubicBezTo>
                    <a:cubicBezTo>
                      <a:pt x="1659" y="542"/>
                      <a:pt x="1542" y="367"/>
                      <a:pt x="1397" y="309"/>
                    </a:cubicBezTo>
                    <a:lnTo>
                      <a:pt x="466" y="18"/>
                    </a:lnTo>
                    <a:cubicBezTo>
                      <a:pt x="430" y="6"/>
                      <a:pt x="393" y="0"/>
                      <a:pt x="358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Google Shape;2345;p40"/>
              <p:cNvSpPr/>
              <p:nvPr/>
            </p:nvSpPr>
            <p:spPr>
              <a:xfrm>
                <a:off x="8152200" y="138600"/>
                <a:ext cx="91440" cy="45720"/>
              </a:xfrm>
              <a:custGeom>
                <a:avLst/>
                <a:gdLst/>
                <a:ahLst/>
                <a:rect l="l" t="t" r="r" b="b"/>
                <a:pathLst>
                  <a:path w="1629" h="964">
                    <a:moveTo>
                      <a:pt x="354" y="0"/>
                    </a:moveTo>
                    <a:cubicBezTo>
                      <a:pt x="214" y="0"/>
                      <a:pt x="81" y="84"/>
                      <a:pt x="58" y="222"/>
                    </a:cubicBezTo>
                    <a:cubicBezTo>
                      <a:pt x="0" y="396"/>
                      <a:pt x="88" y="600"/>
                      <a:pt x="262" y="658"/>
                    </a:cubicBezTo>
                    <a:lnTo>
                      <a:pt x="1164" y="949"/>
                    </a:lnTo>
                    <a:cubicBezTo>
                      <a:pt x="1194" y="959"/>
                      <a:pt x="1225" y="964"/>
                      <a:pt x="1256" y="964"/>
                    </a:cubicBezTo>
                    <a:cubicBezTo>
                      <a:pt x="1396" y="964"/>
                      <a:pt x="1523" y="860"/>
                      <a:pt x="1571" y="716"/>
                    </a:cubicBezTo>
                    <a:cubicBezTo>
                      <a:pt x="1629" y="542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2" y="0"/>
                      <a:pt x="35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Google Shape;2346;p40"/>
              <p:cNvSpPr/>
              <p:nvPr/>
            </p:nvSpPr>
            <p:spPr>
              <a:xfrm>
                <a:off x="8098200" y="279720"/>
                <a:ext cx="91800" cy="45360"/>
              </a:xfrm>
              <a:custGeom>
                <a:avLst/>
                <a:gdLst/>
                <a:ahLst/>
                <a:rect l="l" t="t" r="r" b="b"/>
                <a:pathLst>
                  <a:path w="1630" h="955">
                    <a:moveTo>
                      <a:pt x="358" y="1"/>
                    </a:moveTo>
                    <a:cubicBezTo>
                      <a:pt x="224" y="1"/>
                      <a:pt x="105" y="84"/>
                      <a:pt x="59" y="222"/>
                    </a:cubicBezTo>
                    <a:cubicBezTo>
                      <a:pt x="1" y="397"/>
                      <a:pt x="88" y="600"/>
                      <a:pt x="262" y="658"/>
                    </a:cubicBezTo>
                    <a:lnTo>
                      <a:pt x="1164" y="949"/>
                    </a:lnTo>
                    <a:cubicBezTo>
                      <a:pt x="1186" y="953"/>
                      <a:pt x="1208" y="955"/>
                      <a:pt x="1230" y="955"/>
                    </a:cubicBezTo>
                    <a:cubicBezTo>
                      <a:pt x="1381" y="955"/>
                      <a:pt x="1520" y="869"/>
                      <a:pt x="1571" y="716"/>
                    </a:cubicBezTo>
                    <a:cubicBezTo>
                      <a:pt x="1629" y="542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30" y="6"/>
                      <a:pt x="393" y="1"/>
                      <a:pt x="358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720" bIns="-45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Google Shape;2347;p40"/>
              <p:cNvSpPr/>
              <p:nvPr/>
            </p:nvSpPr>
            <p:spPr>
              <a:xfrm>
                <a:off x="8070480" y="350280"/>
                <a:ext cx="93240" cy="45360"/>
              </a:xfrm>
              <a:custGeom>
                <a:avLst/>
                <a:gdLst/>
                <a:ahLst/>
                <a:rect l="l" t="t" r="r" b="b"/>
                <a:pathLst>
                  <a:path w="1658" h="955">
                    <a:moveTo>
                      <a:pt x="383" y="1"/>
                    </a:moveTo>
                    <a:cubicBezTo>
                      <a:pt x="242" y="1"/>
                      <a:pt x="104" y="84"/>
                      <a:pt x="58" y="222"/>
                    </a:cubicBezTo>
                    <a:cubicBezTo>
                      <a:pt x="0" y="397"/>
                      <a:pt x="117" y="571"/>
                      <a:pt x="291" y="658"/>
                    </a:cubicBezTo>
                    <a:lnTo>
                      <a:pt x="1193" y="949"/>
                    </a:lnTo>
                    <a:cubicBezTo>
                      <a:pt x="1215" y="953"/>
                      <a:pt x="1237" y="955"/>
                      <a:pt x="1259" y="955"/>
                    </a:cubicBezTo>
                    <a:cubicBezTo>
                      <a:pt x="1410" y="955"/>
                      <a:pt x="1549" y="869"/>
                      <a:pt x="1600" y="717"/>
                    </a:cubicBezTo>
                    <a:cubicBezTo>
                      <a:pt x="1658" y="542"/>
                      <a:pt x="1571" y="368"/>
                      <a:pt x="1396" y="309"/>
                    </a:cubicBezTo>
                    <a:lnTo>
                      <a:pt x="495" y="19"/>
                    </a:lnTo>
                    <a:cubicBezTo>
                      <a:pt x="458" y="6"/>
                      <a:pt x="421" y="1"/>
                      <a:pt x="383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720" bIns="-45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Google Shape;2348;p40"/>
              <p:cNvSpPr/>
              <p:nvPr/>
            </p:nvSpPr>
            <p:spPr>
              <a:xfrm>
                <a:off x="8044200" y="420840"/>
                <a:ext cx="93240" cy="44640"/>
              </a:xfrm>
              <a:custGeom>
                <a:avLst/>
                <a:gdLst/>
                <a:ahLst/>
                <a:rect l="l" t="t" r="r" b="b"/>
                <a:pathLst>
                  <a:path w="1659" h="939">
                    <a:moveTo>
                      <a:pt x="358" y="1"/>
                    </a:moveTo>
                    <a:cubicBezTo>
                      <a:pt x="224" y="1"/>
                      <a:pt x="105" y="84"/>
                      <a:pt x="59" y="222"/>
                    </a:cubicBezTo>
                    <a:cubicBezTo>
                      <a:pt x="1" y="397"/>
                      <a:pt x="117" y="571"/>
                      <a:pt x="292" y="629"/>
                    </a:cubicBezTo>
                    <a:lnTo>
                      <a:pt x="1193" y="920"/>
                    </a:lnTo>
                    <a:cubicBezTo>
                      <a:pt x="1230" y="932"/>
                      <a:pt x="1266" y="938"/>
                      <a:pt x="1301" y="938"/>
                    </a:cubicBezTo>
                    <a:cubicBezTo>
                      <a:pt x="1436" y="938"/>
                      <a:pt x="1554" y="855"/>
                      <a:pt x="1600" y="717"/>
                    </a:cubicBezTo>
                    <a:cubicBezTo>
                      <a:pt x="1659" y="542"/>
                      <a:pt x="1571" y="368"/>
                      <a:pt x="1397" y="310"/>
                    </a:cubicBezTo>
                    <a:lnTo>
                      <a:pt x="466" y="19"/>
                    </a:lnTo>
                    <a:cubicBezTo>
                      <a:pt x="430" y="7"/>
                      <a:pt x="393" y="1"/>
                      <a:pt x="358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440" bIns="-464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Google Shape;2349;p40"/>
              <p:cNvSpPr/>
              <p:nvPr/>
            </p:nvSpPr>
            <p:spPr>
              <a:xfrm>
                <a:off x="8016480" y="491400"/>
                <a:ext cx="93240" cy="44640"/>
              </a:xfrm>
              <a:custGeom>
                <a:avLst/>
                <a:gdLst/>
                <a:ahLst/>
                <a:rect l="l" t="t" r="r" b="b"/>
                <a:pathLst>
                  <a:path w="1659" h="939">
                    <a:moveTo>
                      <a:pt x="384" y="1"/>
                    </a:moveTo>
                    <a:cubicBezTo>
                      <a:pt x="242" y="1"/>
                      <a:pt x="105" y="84"/>
                      <a:pt x="59" y="222"/>
                    </a:cubicBezTo>
                    <a:cubicBezTo>
                      <a:pt x="1" y="397"/>
                      <a:pt x="117" y="571"/>
                      <a:pt x="291" y="630"/>
                    </a:cubicBezTo>
                    <a:lnTo>
                      <a:pt x="1193" y="920"/>
                    </a:lnTo>
                    <a:cubicBezTo>
                      <a:pt x="1229" y="932"/>
                      <a:pt x="1266" y="938"/>
                      <a:pt x="1301" y="938"/>
                    </a:cubicBezTo>
                    <a:cubicBezTo>
                      <a:pt x="1435" y="938"/>
                      <a:pt x="1554" y="855"/>
                      <a:pt x="1600" y="717"/>
                    </a:cubicBezTo>
                    <a:cubicBezTo>
                      <a:pt x="1658" y="542"/>
                      <a:pt x="1571" y="368"/>
                      <a:pt x="1396" y="310"/>
                    </a:cubicBezTo>
                    <a:lnTo>
                      <a:pt x="495" y="19"/>
                    </a:lnTo>
                    <a:cubicBezTo>
                      <a:pt x="459" y="7"/>
                      <a:pt x="421" y="1"/>
                      <a:pt x="384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440" bIns="-464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Google Shape;2350;p40"/>
              <p:cNvSpPr/>
              <p:nvPr/>
            </p:nvSpPr>
            <p:spPr>
              <a:xfrm>
                <a:off x="7990200" y="561960"/>
                <a:ext cx="93240" cy="44280"/>
              </a:xfrm>
              <a:custGeom>
                <a:avLst/>
                <a:gdLst/>
                <a:ahLst/>
                <a:rect l="l" t="t" r="r" b="b"/>
                <a:pathLst>
                  <a:path w="1658" h="938">
                    <a:moveTo>
                      <a:pt x="357" y="0"/>
                    </a:moveTo>
                    <a:cubicBezTo>
                      <a:pt x="223" y="0"/>
                      <a:pt x="104" y="83"/>
                      <a:pt x="58" y="222"/>
                    </a:cubicBezTo>
                    <a:cubicBezTo>
                      <a:pt x="0" y="396"/>
                      <a:pt x="88" y="571"/>
                      <a:pt x="262" y="629"/>
                    </a:cubicBezTo>
                    <a:lnTo>
                      <a:pt x="1164" y="919"/>
                    </a:lnTo>
                    <a:cubicBezTo>
                      <a:pt x="1200" y="932"/>
                      <a:pt x="1238" y="937"/>
                      <a:pt x="1275" y="937"/>
                    </a:cubicBezTo>
                    <a:cubicBezTo>
                      <a:pt x="1417" y="937"/>
                      <a:pt x="1554" y="854"/>
                      <a:pt x="1600" y="716"/>
                    </a:cubicBezTo>
                    <a:cubicBezTo>
                      <a:pt x="1658" y="541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3" y="0"/>
                      <a:pt x="357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Google Shape;2351;p40"/>
              <p:cNvSpPr/>
              <p:nvPr/>
            </p:nvSpPr>
            <p:spPr>
              <a:xfrm>
                <a:off x="7962120" y="632520"/>
                <a:ext cx="93240" cy="44280"/>
              </a:xfrm>
              <a:custGeom>
                <a:avLst/>
                <a:gdLst/>
                <a:ahLst/>
                <a:rect l="l" t="t" r="r" b="b"/>
                <a:pathLst>
                  <a:path w="1659" h="938">
                    <a:moveTo>
                      <a:pt x="358" y="0"/>
                    </a:moveTo>
                    <a:cubicBezTo>
                      <a:pt x="224" y="0"/>
                      <a:pt x="105" y="84"/>
                      <a:pt x="59" y="222"/>
                    </a:cubicBezTo>
                    <a:cubicBezTo>
                      <a:pt x="1" y="396"/>
                      <a:pt x="117" y="571"/>
                      <a:pt x="292" y="629"/>
                    </a:cubicBezTo>
                    <a:lnTo>
                      <a:pt x="1193" y="920"/>
                    </a:lnTo>
                    <a:cubicBezTo>
                      <a:pt x="1230" y="932"/>
                      <a:pt x="1266" y="938"/>
                      <a:pt x="1301" y="938"/>
                    </a:cubicBezTo>
                    <a:cubicBezTo>
                      <a:pt x="1435" y="938"/>
                      <a:pt x="1554" y="854"/>
                      <a:pt x="1600" y="716"/>
                    </a:cubicBezTo>
                    <a:cubicBezTo>
                      <a:pt x="1659" y="542"/>
                      <a:pt x="1542" y="367"/>
                      <a:pt x="1397" y="309"/>
                    </a:cubicBezTo>
                    <a:lnTo>
                      <a:pt x="466" y="18"/>
                    </a:lnTo>
                    <a:cubicBezTo>
                      <a:pt x="430" y="6"/>
                      <a:pt x="393" y="0"/>
                      <a:pt x="358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Google Shape;2352;p40"/>
              <p:cNvSpPr/>
              <p:nvPr/>
            </p:nvSpPr>
            <p:spPr>
              <a:xfrm>
                <a:off x="7936200" y="70164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4">
                    <a:moveTo>
                      <a:pt x="374" y="0"/>
                    </a:moveTo>
                    <a:cubicBezTo>
                      <a:pt x="233" y="0"/>
                      <a:pt x="107" y="104"/>
                      <a:pt x="59" y="248"/>
                    </a:cubicBezTo>
                    <a:cubicBezTo>
                      <a:pt x="1" y="422"/>
                      <a:pt x="88" y="597"/>
                      <a:pt x="262" y="655"/>
                    </a:cubicBezTo>
                    <a:lnTo>
                      <a:pt x="1193" y="946"/>
                    </a:lnTo>
                    <a:cubicBezTo>
                      <a:pt x="1229" y="958"/>
                      <a:pt x="1266" y="964"/>
                      <a:pt x="1301" y="964"/>
                    </a:cubicBezTo>
                    <a:cubicBezTo>
                      <a:pt x="1435" y="964"/>
                      <a:pt x="1554" y="880"/>
                      <a:pt x="1600" y="742"/>
                    </a:cubicBezTo>
                    <a:cubicBezTo>
                      <a:pt x="1658" y="568"/>
                      <a:pt x="1542" y="364"/>
                      <a:pt x="1397" y="335"/>
                    </a:cubicBezTo>
                    <a:lnTo>
                      <a:pt x="466" y="15"/>
                    </a:lnTo>
                    <a:cubicBezTo>
                      <a:pt x="435" y="5"/>
                      <a:pt x="404" y="0"/>
                      <a:pt x="37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Google Shape;2353;p40"/>
              <p:cNvSpPr/>
              <p:nvPr/>
            </p:nvSpPr>
            <p:spPr>
              <a:xfrm>
                <a:off x="7909920" y="773640"/>
                <a:ext cx="91440" cy="44280"/>
              </a:xfrm>
              <a:custGeom>
                <a:avLst/>
                <a:gdLst/>
                <a:ahLst/>
                <a:rect l="l" t="t" r="r" b="b"/>
                <a:pathLst>
                  <a:path w="1629" h="938">
                    <a:moveTo>
                      <a:pt x="357" y="0"/>
                    </a:moveTo>
                    <a:cubicBezTo>
                      <a:pt x="223" y="0"/>
                      <a:pt x="105" y="84"/>
                      <a:pt x="58" y="222"/>
                    </a:cubicBezTo>
                    <a:cubicBezTo>
                      <a:pt x="0" y="396"/>
                      <a:pt x="88" y="571"/>
                      <a:pt x="262" y="629"/>
                    </a:cubicBezTo>
                    <a:lnTo>
                      <a:pt x="1164" y="920"/>
                    </a:lnTo>
                    <a:cubicBezTo>
                      <a:pt x="1200" y="932"/>
                      <a:pt x="1236" y="938"/>
                      <a:pt x="1272" y="938"/>
                    </a:cubicBezTo>
                    <a:cubicBezTo>
                      <a:pt x="1406" y="938"/>
                      <a:pt x="1525" y="854"/>
                      <a:pt x="1571" y="716"/>
                    </a:cubicBezTo>
                    <a:cubicBezTo>
                      <a:pt x="1629" y="542"/>
                      <a:pt x="1542" y="338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3" y="0"/>
                      <a:pt x="357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Google Shape;2354;p40"/>
              <p:cNvSpPr/>
              <p:nvPr/>
            </p:nvSpPr>
            <p:spPr>
              <a:xfrm>
                <a:off x="7882200" y="84276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4">
                    <a:moveTo>
                      <a:pt x="401" y="0"/>
                    </a:moveTo>
                    <a:cubicBezTo>
                      <a:pt x="253" y="0"/>
                      <a:pt x="107" y="104"/>
                      <a:pt x="59" y="248"/>
                    </a:cubicBezTo>
                    <a:cubicBezTo>
                      <a:pt x="1" y="423"/>
                      <a:pt x="117" y="597"/>
                      <a:pt x="292" y="655"/>
                    </a:cubicBezTo>
                    <a:lnTo>
                      <a:pt x="1193" y="946"/>
                    </a:lnTo>
                    <a:cubicBezTo>
                      <a:pt x="1230" y="958"/>
                      <a:pt x="1266" y="964"/>
                      <a:pt x="1301" y="964"/>
                    </a:cubicBezTo>
                    <a:cubicBezTo>
                      <a:pt x="1436" y="964"/>
                      <a:pt x="1554" y="880"/>
                      <a:pt x="1600" y="742"/>
                    </a:cubicBezTo>
                    <a:cubicBezTo>
                      <a:pt x="1659" y="568"/>
                      <a:pt x="1571" y="364"/>
                      <a:pt x="1397" y="335"/>
                    </a:cubicBezTo>
                    <a:lnTo>
                      <a:pt x="495" y="15"/>
                    </a:lnTo>
                    <a:cubicBezTo>
                      <a:pt x="464" y="5"/>
                      <a:pt x="433" y="0"/>
                      <a:pt x="401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Google Shape;2355;p40"/>
              <p:cNvSpPr/>
              <p:nvPr/>
            </p:nvSpPr>
            <p:spPr>
              <a:xfrm>
                <a:off x="7855920" y="9133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1630" h="965">
                    <a:moveTo>
                      <a:pt x="374" y="0"/>
                    </a:moveTo>
                    <a:cubicBezTo>
                      <a:pt x="233" y="0"/>
                      <a:pt x="107" y="105"/>
                      <a:pt x="59" y="248"/>
                    </a:cubicBezTo>
                    <a:cubicBezTo>
                      <a:pt x="1" y="423"/>
                      <a:pt x="88" y="597"/>
                      <a:pt x="262" y="655"/>
                    </a:cubicBezTo>
                    <a:lnTo>
                      <a:pt x="1164" y="946"/>
                    </a:lnTo>
                    <a:cubicBezTo>
                      <a:pt x="1200" y="958"/>
                      <a:pt x="1238" y="964"/>
                      <a:pt x="1275" y="964"/>
                    </a:cubicBezTo>
                    <a:cubicBezTo>
                      <a:pt x="1417" y="964"/>
                      <a:pt x="1554" y="881"/>
                      <a:pt x="1600" y="743"/>
                    </a:cubicBezTo>
                    <a:cubicBezTo>
                      <a:pt x="1629" y="568"/>
                      <a:pt x="1542" y="365"/>
                      <a:pt x="1367" y="306"/>
                    </a:cubicBezTo>
                    <a:lnTo>
                      <a:pt x="466" y="16"/>
                    </a:lnTo>
                    <a:cubicBezTo>
                      <a:pt x="435" y="5"/>
                      <a:pt x="404" y="0"/>
                      <a:pt x="37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Google Shape;2356;p40"/>
              <p:cNvSpPr/>
              <p:nvPr/>
            </p:nvSpPr>
            <p:spPr>
              <a:xfrm>
                <a:off x="7828200" y="98388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8" h="965">
                    <a:moveTo>
                      <a:pt x="400" y="1"/>
                    </a:moveTo>
                    <a:cubicBezTo>
                      <a:pt x="253" y="1"/>
                      <a:pt x="106" y="105"/>
                      <a:pt x="58" y="248"/>
                    </a:cubicBezTo>
                    <a:cubicBezTo>
                      <a:pt x="0" y="423"/>
                      <a:pt x="117" y="597"/>
                      <a:pt x="291" y="655"/>
                    </a:cubicBezTo>
                    <a:lnTo>
                      <a:pt x="1193" y="946"/>
                    </a:lnTo>
                    <a:cubicBezTo>
                      <a:pt x="1229" y="958"/>
                      <a:pt x="1265" y="964"/>
                      <a:pt x="1301" y="964"/>
                    </a:cubicBezTo>
                    <a:cubicBezTo>
                      <a:pt x="1435" y="964"/>
                      <a:pt x="1554" y="881"/>
                      <a:pt x="1600" y="743"/>
                    </a:cubicBezTo>
                    <a:cubicBezTo>
                      <a:pt x="1658" y="568"/>
                      <a:pt x="1571" y="365"/>
                      <a:pt x="1396" y="306"/>
                    </a:cubicBezTo>
                    <a:lnTo>
                      <a:pt x="495" y="16"/>
                    </a:lnTo>
                    <a:cubicBezTo>
                      <a:pt x="464" y="5"/>
                      <a:pt x="432" y="1"/>
                      <a:pt x="400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Google Shape;2357;p40"/>
            <p:cNvGrpSpPr/>
            <p:nvPr/>
          </p:nvGrpSpPr>
          <p:grpSpPr>
            <a:xfrm>
              <a:off x="7624800" y="839520"/>
              <a:ext cx="888120" cy="565560"/>
              <a:chOff x="7624800" y="839520"/>
              <a:chExt cx="888120" cy="565560"/>
            </a:xfrm>
          </p:grpSpPr>
          <p:sp>
            <p:nvSpPr>
              <p:cNvPr id="1581" name="Google Shape;2358;p40"/>
              <p:cNvSpPr/>
              <p:nvPr/>
            </p:nvSpPr>
            <p:spPr>
              <a:xfrm>
                <a:off x="7624800" y="839520"/>
                <a:ext cx="888120" cy="565560"/>
              </a:xfrm>
              <a:custGeom>
                <a:avLst/>
                <a:gdLst/>
                <a:ahLst/>
                <a:rect l="l" t="t" r="r" b="b"/>
                <a:pathLst>
                  <a:path w="24995" h="18843">
                    <a:moveTo>
                      <a:pt x="13665" y="3499"/>
                    </a:moveTo>
                    <a:cubicBezTo>
                      <a:pt x="15830" y="3499"/>
                      <a:pt x="18006" y="4554"/>
                      <a:pt x="19411" y="7093"/>
                    </a:cubicBezTo>
                    <a:lnTo>
                      <a:pt x="7487" y="13666"/>
                    </a:lnTo>
                    <a:cubicBezTo>
                      <a:pt x="4501" y="8266"/>
                      <a:pt x="9061" y="3499"/>
                      <a:pt x="13665" y="3499"/>
                    </a:cubicBezTo>
                    <a:close/>
                    <a:moveTo>
                      <a:pt x="13793" y="1"/>
                    </a:moveTo>
                    <a:cubicBezTo>
                      <a:pt x="6872" y="1"/>
                      <a:pt x="0" y="7191"/>
                      <a:pt x="4492" y="15323"/>
                    </a:cubicBezTo>
                    <a:lnTo>
                      <a:pt x="3591" y="15818"/>
                    </a:lnTo>
                    <a:lnTo>
                      <a:pt x="5248" y="18842"/>
                    </a:lnTo>
                    <a:lnTo>
                      <a:pt x="24994" y="7937"/>
                    </a:lnTo>
                    <a:lnTo>
                      <a:pt x="23308" y="4912"/>
                    </a:lnTo>
                    <a:lnTo>
                      <a:pt x="22406" y="5407"/>
                    </a:lnTo>
                    <a:cubicBezTo>
                      <a:pt x="20306" y="1587"/>
                      <a:pt x="17044" y="1"/>
                      <a:pt x="13793" y="1"/>
                    </a:cubicBezTo>
                    <a:close/>
                  </a:path>
                </a:pathLst>
              </a:custGeom>
              <a:solidFill>
                <a:srgbClr val="36a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Google Shape;2359;p40"/>
              <p:cNvSpPr/>
              <p:nvPr/>
            </p:nvSpPr>
            <p:spPr>
              <a:xfrm>
                <a:off x="7752240" y="123048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990" h="728">
                    <a:moveTo>
                      <a:pt x="844" y="0"/>
                    </a:moveTo>
                    <a:lnTo>
                      <a:pt x="1" y="262"/>
                    </a:lnTo>
                    <a:cubicBezTo>
                      <a:pt x="59" y="407"/>
                      <a:pt x="88" y="582"/>
                      <a:pt x="146" y="727"/>
                    </a:cubicBezTo>
                    <a:lnTo>
                      <a:pt x="989" y="436"/>
                    </a:lnTo>
                    <a:cubicBezTo>
                      <a:pt x="960" y="291"/>
                      <a:pt x="902" y="145"/>
                      <a:pt x="844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9480" bIns="-694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Google Shape;2360;p40"/>
              <p:cNvSpPr/>
              <p:nvPr/>
            </p:nvSpPr>
            <p:spPr>
              <a:xfrm>
                <a:off x="7735680" y="1174680"/>
                <a:ext cx="33840" cy="15480"/>
              </a:xfrm>
              <a:custGeom>
                <a:avLst/>
                <a:gdLst/>
                <a:ahLst/>
                <a:rect l="l" t="t" r="r" b="b"/>
                <a:pathLst>
                  <a:path w="960" h="525">
                    <a:moveTo>
                      <a:pt x="902" y="1"/>
                    </a:moveTo>
                    <a:lnTo>
                      <a:pt x="0" y="88"/>
                    </a:lnTo>
                    <a:cubicBezTo>
                      <a:pt x="0" y="233"/>
                      <a:pt x="29" y="379"/>
                      <a:pt x="58" y="524"/>
                    </a:cubicBezTo>
                    <a:lnTo>
                      <a:pt x="960" y="408"/>
                    </a:lnTo>
                    <a:cubicBezTo>
                      <a:pt x="931" y="263"/>
                      <a:pt x="902" y="117"/>
                      <a:pt x="902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5600" bIns="-756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Google Shape;2361;p40"/>
              <p:cNvSpPr/>
              <p:nvPr/>
            </p:nvSpPr>
            <p:spPr>
              <a:xfrm>
                <a:off x="7733520" y="1117800"/>
                <a:ext cx="32760" cy="13680"/>
              </a:xfrm>
              <a:custGeom>
                <a:avLst/>
                <a:gdLst/>
                <a:ahLst/>
                <a:rect l="l" t="t" r="r" b="b"/>
                <a:pathLst>
                  <a:path w="931" h="466">
                    <a:moveTo>
                      <a:pt x="29" y="1"/>
                    </a:moveTo>
                    <a:cubicBezTo>
                      <a:pt x="29" y="146"/>
                      <a:pt x="0" y="291"/>
                      <a:pt x="0" y="408"/>
                    </a:cubicBezTo>
                    <a:lnTo>
                      <a:pt x="902" y="466"/>
                    </a:lnTo>
                    <a:cubicBezTo>
                      <a:pt x="902" y="350"/>
                      <a:pt x="902" y="233"/>
                      <a:pt x="931" y="117"/>
                    </a:cubicBez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7400" bIns="-77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Google Shape;2362;p40"/>
              <p:cNvSpPr/>
              <p:nvPr/>
            </p:nvSpPr>
            <p:spPr>
              <a:xfrm>
                <a:off x="7743960" y="106272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990" h="612">
                    <a:moveTo>
                      <a:pt x="117" y="0"/>
                    </a:moveTo>
                    <a:cubicBezTo>
                      <a:pt x="59" y="117"/>
                      <a:pt x="30" y="262"/>
                      <a:pt x="1" y="379"/>
                    </a:cubicBezTo>
                    <a:lnTo>
                      <a:pt x="873" y="611"/>
                    </a:lnTo>
                    <a:cubicBezTo>
                      <a:pt x="902" y="495"/>
                      <a:pt x="932" y="379"/>
                      <a:pt x="990" y="233"/>
                    </a:cubicBez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2720" bIns="-72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Google Shape;2363;p40"/>
              <p:cNvSpPr/>
              <p:nvPr/>
            </p:nvSpPr>
            <p:spPr>
              <a:xfrm>
                <a:off x="7765560" y="10112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990" h="728">
                    <a:moveTo>
                      <a:pt x="175" y="1"/>
                    </a:moveTo>
                    <a:cubicBezTo>
                      <a:pt x="117" y="117"/>
                      <a:pt x="59" y="233"/>
                      <a:pt x="1" y="379"/>
                    </a:cubicBezTo>
                    <a:lnTo>
                      <a:pt x="844" y="728"/>
                    </a:lnTo>
                    <a:lnTo>
                      <a:pt x="989" y="408"/>
                    </a:lnTo>
                    <a:lnTo>
                      <a:pt x="175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9480" bIns="-694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Google Shape;2364;p40"/>
              <p:cNvSpPr/>
              <p:nvPr/>
            </p:nvSpPr>
            <p:spPr>
              <a:xfrm>
                <a:off x="7799760" y="965880"/>
                <a:ext cx="33840" cy="24120"/>
              </a:xfrm>
              <a:custGeom>
                <a:avLst/>
                <a:gdLst/>
                <a:ahLst/>
                <a:rect l="l" t="t" r="r" b="b"/>
                <a:pathLst>
                  <a:path w="961" h="815">
                    <a:moveTo>
                      <a:pt x="233" y="0"/>
                    </a:moveTo>
                    <a:cubicBezTo>
                      <a:pt x="146" y="88"/>
                      <a:pt x="58" y="204"/>
                      <a:pt x="0" y="320"/>
                    </a:cubicBezTo>
                    <a:lnTo>
                      <a:pt x="727" y="815"/>
                    </a:lnTo>
                    <a:lnTo>
                      <a:pt x="960" y="524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6960" bIns="-669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Google Shape;2365;p40"/>
              <p:cNvSpPr/>
              <p:nvPr/>
            </p:nvSpPr>
            <p:spPr>
              <a:xfrm>
                <a:off x="7842240" y="9255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03" h="903">
                    <a:moveTo>
                      <a:pt x="291" y="1"/>
                    </a:moveTo>
                    <a:lnTo>
                      <a:pt x="1" y="262"/>
                    </a:lnTo>
                    <a:lnTo>
                      <a:pt x="640" y="902"/>
                    </a:lnTo>
                    <a:lnTo>
                      <a:pt x="902" y="670"/>
                    </a:lnTo>
                    <a:cubicBezTo>
                      <a:pt x="699" y="437"/>
                      <a:pt x="495" y="233"/>
                      <a:pt x="291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080" bIns="-64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Google Shape;2366;p40"/>
              <p:cNvSpPr/>
              <p:nvPr/>
            </p:nvSpPr>
            <p:spPr>
              <a:xfrm>
                <a:off x="7892640" y="89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815" h="961">
                    <a:moveTo>
                      <a:pt x="321" y="1"/>
                    </a:moveTo>
                    <a:cubicBezTo>
                      <a:pt x="233" y="59"/>
                      <a:pt x="117" y="146"/>
                      <a:pt x="1" y="233"/>
                    </a:cubicBezTo>
                    <a:lnTo>
                      <a:pt x="524" y="960"/>
                    </a:lnTo>
                    <a:cubicBezTo>
                      <a:pt x="611" y="873"/>
                      <a:pt x="728" y="815"/>
                      <a:pt x="815" y="757"/>
                    </a:cubicBezTo>
                    <a:cubicBezTo>
                      <a:pt x="640" y="495"/>
                      <a:pt x="495" y="262"/>
                      <a:pt x="321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Google Shape;2367;p40"/>
              <p:cNvSpPr/>
              <p:nvPr/>
            </p:nvSpPr>
            <p:spPr>
              <a:xfrm>
                <a:off x="7949520" y="866520"/>
                <a:ext cx="24840" cy="29520"/>
              </a:xfrm>
              <a:custGeom>
                <a:avLst/>
                <a:gdLst/>
                <a:ahLst/>
                <a:rect l="l" t="t" r="r" b="b"/>
                <a:pathLst>
                  <a:path w="699" h="990">
                    <a:moveTo>
                      <a:pt x="349" y="0"/>
                    </a:moveTo>
                    <a:cubicBezTo>
                      <a:pt x="233" y="58"/>
                      <a:pt x="116" y="117"/>
                      <a:pt x="0" y="175"/>
                    </a:cubicBezTo>
                    <a:cubicBezTo>
                      <a:pt x="116" y="436"/>
                      <a:pt x="233" y="727"/>
                      <a:pt x="349" y="989"/>
                    </a:cubicBezTo>
                    <a:cubicBezTo>
                      <a:pt x="465" y="931"/>
                      <a:pt x="582" y="902"/>
                      <a:pt x="698" y="844"/>
                    </a:cubicBez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Google Shape;2368;p40"/>
              <p:cNvSpPr/>
              <p:nvPr/>
            </p:nvSpPr>
            <p:spPr>
              <a:xfrm>
                <a:off x="8011800" y="8488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583" h="990">
                    <a:moveTo>
                      <a:pt x="350" y="1"/>
                    </a:moveTo>
                    <a:lnTo>
                      <a:pt x="1" y="117"/>
                    </a:lnTo>
                    <a:cubicBezTo>
                      <a:pt x="59" y="408"/>
                      <a:pt x="146" y="699"/>
                      <a:pt x="205" y="989"/>
                    </a:cubicBezTo>
                    <a:lnTo>
                      <a:pt x="583" y="873"/>
                    </a:lnTo>
                    <a:cubicBezTo>
                      <a:pt x="466" y="582"/>
                      <a:pt x="408" y="291"/>
                      <a:pt x="35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Google Shape;2369;p40"/>
              <p:cNvSpPr/>
              <p:nvPr/>
            </p:nvSpPr>
            <p:spPr>
              <a:xfrm>
                <a:off x="8074800" y="840240"/>
                <a:ext cx="15480" cy="28800"/>
              </a:xfrm>
              <a:custGeom>
                <a:avLst/>
                <a:gdLst/>
                <a:ahLst/>
                <a:rect l="l" t="t" r="r" b="b"/>
                <a:pathLst>
                  <a:path w="438" h="961">
                    <a:moveTo>
                      <a:pt x="379" y="1"/>
                    </a:moveTo>
                    <a:cubicBezTo>
                      <a:pt x="263" y="1"/>
                      <a:pt x="117" y="30"/>
                      <a:pt x="1" y="59"/>
                    </a:cubicBezTo>
                    <a:cubicBezTo>
                      <a:pt x="1" y="350"/>
                      <a:pt x="30" y="641"/>
                      <a:pt x="59" y="960"/>
                    </a:cubicBezTo>
                    <a:lnTo>
                      <a:pt x="437" y="902"/>
                    </a:lnTo>
                    <a:cubicBezTo>
                      <a:pt x="408" y="612"/>
                      <a:pt x="408" y="321"/>
                      <a:pt x="37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Google Shape;2370;p40"/>
              <p:cNvSpPr/>
              <p:nvPr/>
            </p:nvSpPr>
            <p:spPr>
              <a:xfrm>
                <a:off x="8135640" y="840240"/>
                <a:ext cx="17280" cy="27720"/>
              </a:xfrm>
              <a:custGeom>
                <a:avLst/>
                <a:gdLst/>
                <a:ahLst/>
                <a:rect l="l" t="t" r="r" b="b"/>
                <a:pathLst>
                  <a:path w="496" h="932">
                    <a:moveTo>
                      <a:pt x="88" y="1"/>
                    </a:moveTo>
                    <a:cubicBezTo>
                      <a:pt x="59" y="321"/>
                      <a:pt x="30" y="612"/>
                      <a:pt x="1" y="902"/>
                    </a:cubicBezTo>
                    <a:lnTo>
                      <a:pt x="379" y="931"/>
                    </a:lnTo>
                    <a:cubicBezTo>
                      <a:pt x="408" y="641"/>
                      <a:pt x="466" y="350"/>
                      <a:pt x="495" y="30"/>
                    </a:cubicBez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3360" bIns="-63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Google Shape;2371;p40"/>
              <p:cNvSpPr/>
              <p:nvPr/>
            </p:nvSpPr>
            <p:spPr>
              <a:xfrm>
                <a:off x="8194680" y="84960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641" h="990">
                    <a:moveTo>
                      <a:pt x="262" y="1"/>
                    </a:moveTo>
                    <a:lnTo>
                      <a:pt x="0" y="873"/>
                    </a:lnTo>
                    <a:lnTo>
                      <a:pt x="378" y="989"/>
                    </a:lnTo>
                    <a:lnTo>
                      <a:pt x="640" y="117"/>
                    </a:lnTo>
                    <a:lnTo>
                      <a:pt x="262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Google Shape;2372;p40"/>
              <p:cNvSpPr/>
              <p:nvPr/>
            </p:nvSpPr>
            <p:spPr>
              <a:xfrm>
                <a:off x="8251560" y="869760"/>
                <a:ext cx="27720" cy="29520"/>
              </a:xfrm>
              <a:custGeom>
                <a:avLst/>
                <a:gdLst/>
                <a:ahLst/>
                <a:rect l="l" t="t" r="r" b="b"/>
                <a:pathLst>
                  <a:path w="786" h="990">
                    <a:moveTo>
                      <a:pt x="408" y="1"/>
                    </a:moveTo>
                    <a:lnTo>
                      <a:pt x="1" y="815"/>
                    </a:lnTo>
                    <a:lnTo>
                      <a:pt x="350" y="989"/>
                    </a:lnTo>
                    <a:lnTo>
                      <a:pt x="786" y="204"/>
                    </a:lnTo>
                    <a:cubicBezTo>
                      <a:pt x="641" y="117"/>
                      <a:pt x="524" y="59"/>
                      <a:pt x="408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Google Shape;2373;p40"/>
              <p:cNvSpPr/>
              <p:nvPr/>
            </p:nvSpPr>
            <p:spPr>
              <a:xfrm>
                <a:off x="8305200" y="902160"/>
                <a:ext cx="30960" cy="29520"/>
              </a:xfrm>
              <a:custGeom>
                <a:avLst/>
                <a:gdLst/>
                <a:ahLst/>
                <a:rect l="l" t="t" r="r" b="b"/>
                <a:pathLst>
                  <a:path w="874" h="990">
                    <a:moveTo>
                      <a:pt x="553" y="1"/>
                    </a:moveTo>
                    <a:lnTo>
                      <a:pt x="1" y="728"/>
                    </a:lnTo>
                    <a:lnTo>
                      <a:pt x="292" y="989"/>
                    </a:lnTo>
                    <a:lnTo>
                      <a:pt x="873" y="291"/>
                    </a:lnTo>
                    <a:cubicBezTo>
                      <a:pt x="757" y="175"/>
                      <a:pt x="641" y="88"/>
                      <a:pt x="553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Google Shape;2374;p40"/>
              <p:cNvSpPr/>
              <p:nvPr/>
            </p:nvSpPr>
            <p:spPr>
              <a:xfrm>
                <a:off x="8353800" y="946800"/>
                <a:ext cx="33840" cy="28800"/>
              </a:xfrm>
              <a:custGeom>
                <a:avLst/>
                <a:gdLst/>
                <a:ahLst/>
                <a:rect l="l" t="t" r="r" b="b"/>
                <a:pathLst>
                  <a:path w="961" h="961">
                    <a:moveTo>
                      <a:pt x="670" y="1"/>
                    </a:moveTo>
                    <a:lnTo>
                      <a:pt x="1" y="611"/>
                    </a:lnTo>
                    <a:cubicBezTo>
                      <a:pt x="88" y="728"/>
                      <a:pt x="175" y="844"/>
                      <a:pt x="262" y="960"/>
                    </a:cubicBezTo>
                    <a:lnTo>
                      <a:pt x="960" y="379"/>
                    </a:lnTo>
                    <a:cubicBezTo>
                      <a:pt x="873" y="262"/>
                      <a:pt x="757" y="146"/>
                      <a:pt x="67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Google Shape;2375;p40"/>
            <p:cNvGrpSpPr/>
            <p:nvPr/>
          </p:nvGrpSpPr>
          <p:grpSpPr>
            <a:xfrm>
              <a:off x="8411040" y="614520"/>
              <a:ext cx="793440" cy="927720"/>
              <a:chOff x="8411040" y="614520"/>
              <a:chExt cx="793440" cy="927720"/>
            </a:xfrm>
          </p:grpSpPr>
          <p:sp>
            <p:nvSpPr>
              <p:cNvPr id="1599" name="Google Shape;2376;p40"/>
              <p:cNvSpPr/>
              <p:nvPr/>
            </p:nvSpPr>
            <p:spPr>
              <a:xfrm flipH="1" rot="13886400">
                <a:off x="8433360" y="910440"/>
                <a:ext cx="746280" cy="418680"/>
              </a:xfrm>
              <a:custGeom>
                <a:avLst/>
                <a:gdLst/>
                <a:ahLst/>
                <a:rect l="l" t="t" r="r" b="b"/>
                <a:pathLst>
                  <a:path w="32659" h="18554">
                    <a:moveTo>
                      <a:pt x="30391" y="0"/>
                    </a:moveTo>
                    <a:lnTo>
                      <a:pt x="1" y="13406"/>
                    </a:lnTo>
                    <a:lnTo>
                      <a:pt x="2269" y="18554"/>
                    </a:lnTo>
                    <a:lnTo>
                      <a:pt x="32659" y="5147"/>
                    </a:lnTo>
                    <a:lnTo>
                      <a:pt x="30391" y="0"/>
                    </a:ln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Google Shape;2377;p40"/>
              <p:cNvSpPr/>
              <p:nvPr/>
            </p:nvSpPr>
            <p:spPr>
              <a:xfrm flipH="1" rot="13886400">
                <a:off x="8594640" y="655200"/>
                <a:ext cx="161640" cy="117360"/>
              </a:xfrm>
              <a:custGeom>
                <a:avLst/>
                <a:gdLst/>
                <a:ahLst/>
                <a:rect l="l" t="t" r="r" b="b"/>
                <a:pathLst>
                  <a:path w="7068" h="5206">
                    <a:moveTo>
                      <a:pt x="4799" y="0"/>
                    </a:moveTo>
                    <a:lnTo>
                      <a:pt x="1" y="5206"/>
                    </a:lnTo>
                    <a:lnTo>
                      <a:pt x="7067" y="5148"/>
                    </a:lnTo>
                    <a:lnTo>
                      <a:pt x="4799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26280" bIns="26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Google Shape;2378;p40"/>
              <p:cNvSpPr/>
              <p:nvPr/>
            </p:nvSpPr>
            <p:spPr>
              <a:xfrm flipH="1" rot="13886400">
                <a:off x="8502120" y="940680"/>
                <a:ext cx="705600" cy="330120"/>
              </a:xfrm>
              <a:custGeom>
                <a:avLst/>
                <a:gdLst/>
                <a:ahLst/>
                <a:rect l="l" t="t" r="r" b="b"/>
                <a:pathLst>
                  <a:path w="30914" h="14570">
                    <a:moveTo>
                      <a:pt x="30390" y="0"/>
                    </a:moveTo>
                    <a:lnTo>
                      <a:pt x="1" y="13377"/>
                    </a:lnTo>
                    <a:lnTo>
                      <a:pt x="524" y="14570"/>
                    </a:lnTo>
                    <a:lnTo>
                      <a:pt x="30914" y="1192"/>
                    </a:lnTo>
                    <a:lnTo>
                      <a:pt x="30390" y="0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Google Shape;2379;p40"/>
              <p:cNvSpPr/>
              <p:nvPr/>
            </p:nvSpPr>
            <p:spPr>
              <a:xfrm flipH="1" rot="13886400">
                <a:off x="8453880" y="955800"/>
                <a:ext cx="705600" cy="327960"/>
              </a:xfrm>
              <a:custGeom>
                <a:avLst/>
                <a:gdLst/>
                <a:ahLst/>
                <a:rect l="l" t="t" r="r" b="b"/>
                <a:pathLst>
                  <a:path w="30885" h="14571">
                    <a:moveTo>
                      <a:pt x="30361" y="1"/>
                    </a:moveTo>
                    <a:lnTo>
                      <a:pt x="0" y="13378"/>
                    </a:lnTo>
                    <a:lnTo>
                      <a:pt x="524" y="14570"/>
                    </a:lnTo>
                    <a:lnTo>
                      <a:pt x="30884" y="1193"/>
                    </a:lnTo>
                    <a:lnTo>
                      <a:pt x="30361" y="1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Google Shape;2380;p40"/>
              <p:cNvSpPr/>
              <p:nvPr/>
            </p:nvSpPr>
            <p:spPr>
              <a:xfrm flipH="1" rot="13886400">
                <a:off x="8407080" y="967680"/>
                <a:ext cx="705600" cy="327960"/>
              </a:xfrm>
              <a:custGeom>
                <a:avLst/>
                <a:gdLst/>
                <a:ahLst/>
                <a:rect l="l" t="t" r="r" b="b"/>
                <a:pathLst>
                  <a:path w="30885" h="14570">
                    <a:moveTo>
                      <a:pt x="30361" y="0"/>
                    </a:moveTo>
                    <a:lnTo>
                      <a:pt x="1" y="13377"/>
                    </a:lnTo>
                    <a:lnTo>
                      <a:pt x="524" y="14570"/>
                    </a:lnTo>
                    <a:lnTo>
                      <a:pt x="30885" y="1192"/>
                    </a:lnTo>
                    <a:lnTo>
                      <a:pt x="30361" y="0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Google Shape;2381;p40"/>
              <p:cNvSpPr/>
              <p:nvPr/>
            </p:nvSpPr>
            <p:spPr>
              <a:xfrm flipH="1" rot="13886400">
                <a:off x="8649360" y="62676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2037" h="1484">
                    <a:moveTo>
                      <a:pt x="1396" y="1"/>
                    </a:moveTo>
                    <a:lnTo>
                      <a:pt x="1" y="1484"/>
                    </a:lnTo>
                    <a:lnTo>
                      <a:pt x="2036" y="1455"/>
                    </a:lnTo>
                    <a:lnTo>
                      <a:pt x="1396" y="1"/>
                    </a:ln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7600" bIns="-576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5" name="Rectángulo: esquinas redondeadas 17"/>
          <p:cNvGrpSpPr/>
          <p:nvPr/>
        </p:nvGrpSpPr>
        <p:grpSpPr>
          <a:xfrm>
            <a:off x="5151600" y="3449520"/>
            <a:ext cx="2474640" cy="1030320"/>
            <a:chOff x="5151600" y="3449520"/>
            <a:chExt cx="2474640" cy="1030320"/>
          </a:xfrm>
        </p:grpSpPr>
        <p:pic>
          <p:nvPicPr>
            <p:cNvPr id="1606" name="Rectángulo: esquinas redondeadas 1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151600" y="344952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7" name=""/>
            <p:cNvSpPr/>
            <p:nvPr/>
          </p:nvSpPr>
          <p:spPr>
            <a:xfrm>
              <a:off x="5259240" y="352260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Rectángulo: esquinas redondeadas 74"/>
          <p:cNvGrpSpPr/>
          <p:nvPr/>
        </p:nvGrpSpPr>
        <p:grpSpPr>
          <a:xfrm>
            <a:off x="5151600" y="1938240"/>
            <a:ext cx="2474640" cy="1030320"/>
            <a:chOff x="5151600" y="1938240"/>
            <a:chExt cx="2474640" cy="1030320"/>
          </a:xfrm>
        </p:grpSpPr>
        <p:pic>
          <p:nvPicPr>
            <p:cNvPr id="1609" name="Rectángulo: esquinas redondeadas 7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51600" y="193824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0" name=""/>
            <p:cNvSpPr/>
            <p:nvPr/>
          </p:nvSpPr>
          <p:spPr>
            <a:xfrm>
              <a:off x="5259240" y="201600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PlaceHolder 2"/>
          <p:cNvSpPr>
            <a:spLocks noGrp="1"/>
          </p:cNvSpPr>
          <p:nvPr>
            <p:ph type="title"/>
          </p:nvPr>
        </p:nvSpPr>
        <p:spPr>
          <a:xfrm>
            <a:off x="5520960" y="2223720"/>
            <a:ext cx="1792440" cy="506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20 decenas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2" name="Rectángulo: esquinas redondeadas 79"/>
          <p:cNvGrpSpPr/>
          <p:nvPr/>
        </p:nvGrpSpPr>
        <p:grpSpPr>
          <a:xfrm>
            <a:off x="1432080" y="3438360"/>
            <a:ext cx="2474640" cy="1030320"/>
            <a:chOff x="1432080" y="3438360"/>
            <a:chExt cx="2474640" cy="1030320"/>
          </a:xfrm>
        </p:grpSpPr>
        <p:pic>
          <p:nvPicPr>
            <p:cNvPr id="1613" name="Rectángulo: esquinas redondeadas 7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432080" y="343836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"/>
            <p:cNvSpPr/>
            <p:nvPr/>
          </p:nvSpPr>
          <p:spPr>
            <a:xfrm>
              <a:off x="1538280" y="3510000"/>
              <a:ext cx="226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5" name="Rectángulo: esquinas redondeadas 80"/>
          <p:cNvGrpSpPr/>
          <p:nvPr/>
        </p:nvGrpSpPr>
        <p:grpSpPr>
          <a:xfrm>
            <a:off x="1432080" y="2017800"/>
            <a:ext cx="2474640" cy="1030320"/>
            <a:chOff x="1432080" y="2017800"/>
            <a:chExt cx="2474640" cy="1030320"/>
          </a:xfrm>
        </p:grpSpPr>
        <p:pic>
          <p:nvPicPr>
            <p:cNvPr id="1616" name="Rectángulo: esquinas redondeadas 8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432080" y="201780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7" name=""/>
            <p:cNvSpPr/>
            <p:nvPr/>
          </p:nvSpPr>
          <p:spPr>
            <a:xfrm>
              <a:off x="1538280" y="2093760"/>
              <a:ext cx="226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8" name="Google Shape;2384;p40"/>
          <p:cNvSpPr/>
          <p:nvPr/>
        </p:nvSpPr>
        <p:spPr>
          <a:xfrm>
            <a:off x="1617840" y="3691080"/>
            <a:ext cx="21380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2 unidades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Google Shape;2384;p40"/>
          <p:cNvSpPr/>
          <p:nvPr/>
        </p:nvSpPr>
        <p:spPr>
          <a:xfrm>
            <a:off x="5159520" y="3691080"/>
            <a:ext cx="25160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2 decenas y 0 unidades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Google Shape;2605;p49"/>
          <p:cNvSpPr/>
          <p:nvPr/>
        </p:nvSpPr>
        <p:spPr>
          <a:xfrm rot="3948600">
            <a:off x="1361520" y="510840"/>
            <a:ext cx="641520" cy="365040"/>
          </a:xfrm>
          <a:custGeom>
            <a:avLst/>
            <a:gdLst/>
            <a:ahLst/>
            <a:rect l="l" t="t" r="r" b="b"/>
            <a:pathLst>
              <a:path w="12826" h="7299">
                <a:moveTo>
                  <a:pt x="1932" y="0"/>
                </a:moveTo>
                <a:cubicBezTo>
                  <a:pt x="1420" y="0"/>
                  <a:pt x="801" y="234"/>
                  <a:pt x="407" y="1079"/>
                </a:cubicBezTo>
                <a:cubicBezTo>
                  <a:pt x="0" y="1865"/>
                  <a:pt x="378" y="2824"/>
                  <a:pt x="1193" y="3173"/>
                </a:cubicBezTo>
                <a:lnTo>
                  <a:pt x="9684" y="7099"/>
                </a:lnTo>
                <a:cubicBezTo>
                  <a:pt x="9983" y="7232"/>
                  <a:pt x="10302" y="7299"/>
                  <a:pt x="10622" y="7299"/>
                </a:cubicBezTo>
                <a:cubicBezTo>
                  <a:pt x="10863" y="7299"/>
                  <a:pt x="11105" y="7261"/>
                  <a:pt x="11342" y="7186"/>
                </a:cubicBezTo>
                <a:cubicBezTo>
                  <a:pt x="11865" y="6983"/>
                  <a:pt x="12302" y="6547"/>
                  <a:pt x="12534" y="6023"/>
                </a:cubicBezTo>
                <a:cubicBezTo>
                  <a:pt x="12796" y="5500"/>
                  <a:pt x="12825" y="4889"/>
                  <a:pt x="12651" y="4366"/>
                </a:cubicBezTo>
                <a:cubicBezTo>
                  <a:pt x="12418" y="3842"/>
                  <a:pt x="11982" y="3435"/>
                  <a:pt x="11487" y="3202"/>
                </a:cubicBezTo>
                <a:lnTo>
                  <a:pt x="4828" y="120"/>
                </a:lnTo>
                <a:lnTo>
                  <a:pt x="4624" y="527"/>
                </a:lnTo>
                <a:lnTo>
                  <a:pt x="11313" y="3609"/>
                </a:lnTo>
                <a:cubicBezTo>
                  <a:pt x="11720" y="3784"/>
                  <a:pt x="12040" y="4104"/>
                  <a:pt x="12243" y="4511"/>
                </a:cubicBezTo>
                <a:cubicBezTo>
                  <a:pt x="12389" y="4947"/>
                  <a:pt x="12331" y="5442"/>
                  <a:pt x="12127" y="5820"/>
                </a:cubicBezTo>
                <a:cubicBezTo>
                  <a:pt x="11953" y="6256"/>
                  <a:pt x="11604" y="6605"/>
                  <a:pt x="11197" y="6779"/>
                </a:cubicBezTo>
                <a:cubicBezTo>
                  <a:pt x="11022" y="6826"/>
                  <a:pt x="10843" y="6849"/>
                  <a:pt x="10663" y="6849"/>
                </a:cubicBezTo>
                <a:cubicBezTo>
                  <a:pt x="10393" y="6849"/>
                  <a:pt x="10121" y="6797"/>
                  <a:pt x="9859" y="6692"/>
                </a:cubicBezTo>
                <a:lnTo>
                  <a:pt x="1367" y="2795"/>
                </a:lnTo>
                <a:cubicBezTo>
                  <a:pt x="786" y="2533"/>
                  <a:pt x="524" y="1836"/>
                  <a:pt x="815" y="1254"/>
                </a:cubicBezTo>
                <a:cubicBezTo>
                  <a:pt x="1122" y="588"/>
                  <a:pt x="1570" y="443"/>
                  <a:pt x="1905" y="443"/>
                </a:cubicBezTo>
                <a:cubicBezTo>
                  <a:pt x="2140" y="443"/>
                  <a:pt x="2320" y="515"/>
                  <a:pt x="2356" y="527"/>
                </a:cubicBezTo>
                <a:lnTo>
                  <a:pt x="8288" y="3261"/>
                </a:lnTo>
                <a:cubicBezTo>
                  <a:pt x="8696" y="3406"/>
                  <a:pt x="8870" y="3871"/>
                  <a:pt x="8666" y="4278"/>
                </a:cubicBezTo>
                <a:cubicBezTo>
                  <a:pt x="8544" y="4598"/>
                  <a:pt x="8213" y="4793"/>
                  <a:pt x="7868" y="4793"/>
                </a:cubicBezTo>
                <a:cubicBezTo>
                  <a:pt x="7804" y="4793"/>
                  <a:pt x="7741" y="4786"/>
                  <a:pt x="7678" y="4773"/>
                </a:cubicBezTo>
                <a:lnTo>
                  <a:pt x="3577" y="2853"/>
                </a:lnTo>
                <a:lnTo>
                  <a:pt x="3374" y="3261"/>
                </a:lnTo>
                <a:lnTo>
                  <a:pt x="7532" y="5180"/>
                </a:lnTo>
                <a:cubicBezTo>
                  <a:pt x="7657" y="5221"/>
                  <a:pt x="7783" y="5241"/>
                  <a:pt x="7909" y="5241"/>
                </a:cubicBezTo>
                <a:cubicBezTo>
                  <a:pt x="8399" y="5241"/>
                  <a:pt x="8865" y="4939"/>
                  <a:pt x="9074" y="4453"/>
                </a:cubicBezTo>
                <a:cubicBezTo>
                  <a:pt x="9364" y="3842"/>
                  <a:pt x="9103" y="3115"/>
                  <a:pt x="8492" y="2853"/>
                </a:cubicBezTo>
                <a:lnTo>
                  <a:pt x="2559" y="120"/>
                </a:lnTo>
                <a:cubicBezTo>
                  <a:pt x="2399" y="54"/>
                  <a:pt x="2178" y="0"/>
                  <a:pt x="1932" y="0"/>
                </a:cubicBezTo>
                <a:close/>
              </a:path>
            </a:pathLst>
          </a:custGeom>
          <a:solidFill>
            <a:srgbClr val="ffd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1" name=""/>
          <p:cNvGraphicFramePr/>
          <p:nvPr/>
        </p:nvGraphicFramePr>
        <p:xfrm>
          <a:off x="3409920" y="1163520"/>
          <a:ext cx="2497320" cy="304920"/>
        </p:xfrm>
        <a:graphic>
          <a:graphicData uri="http://schemas.openxmlformats.org/drawingml/2006/table">
            <a:tbl>
              <a:tblPr/>
              <a:tblGrid>
                <a:gridCol w="249120"/>
                <a:gridCol w="250920"/>
                <a:gridCol w="249120"/>
                <a:gridCol w="249480"/>
                <a:gridCol w="250920"/>
                <a:gridCol w="249120"/>
                <a:gridCol w="249120"/>
                <a:gridCol w="249480"/>
                <a:gridCol w="250560"/>
                <a:gridCol w="2494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2" name=""/>
          <p:cNvGraphicFramePr/>
          <p:nvPr/>
        </p:nvGraphicFramePr>
        <p:xfrm>
          <a:off x="3411360" y="1528920"/>
          <a:ext cx="2497320" cy="304560"/>
        </p:xfrm>
        <a:graphic>
          <a:graphicData uri="http://schemas.openxmlformats.org/drawingml/2006/table">
            <a:tbl>
              <a:tblPr/>
              <a:tblGrid>
                <a:gridCol w="249480"/>
                <a:gridCol w="250920"/>
                <a:gridCol w="249120"/>
                <a:gridCol w="249120"/>
                <a:gridCol w="250920"/>
                <a:gridCol w="249120"/>
                <a:gridCol w="249480"/>
                <a:gridCol w="249120"/>
                <a:gridCol w="250920"/>
                <a:gridCol w="24912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623" name="PlaceHolder 3"/>
          <p:cNvSpPr>
            <a:spLocks noGrp="1"/>
          </p:cNvSpPr>
          <p:nvPr>
            <p:ph type="title"/>
          </p:nvPr>
        </p:nvSpPr>
        <p:spPr>
          <a:xfrm>
            <a:off x="1582200" y="2252160"/>
            <a:ext cx="2173320" cy="506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1 decena y 1 unidad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741760" y="2082600"/>
            <a:ext cx="3660480" cy="1104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f5f1e6"/>
                </a:solidFill>
                <a:latin typeface="Sriracha"/>
                <a:ea typeface="Sriracha"/>
              </a:rPr>
              <a:t>Correc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Decágono 1"/>
          <p:cNvGrpSpPr/>
          <p:nvPr/>
        </p:nvGrpSpPr>
        <p:grpSpPr>
          <a:xfrm>
            <a:off x="6778800" y="3773520"/>
            <a:ext cx="1481040" cy="1279440"/>
            <a:chOff x="6778800" y="3773520"/>
            <a:chExt cx="1481040" cy="1279440"/>
          </a:xfrm>
        </p:grpSpPr>
        <p:pic>
          <p:nvPicPr>
            <p:cNvPr id="1626" name="Decágono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3773520"/>
              <a:ext cx="148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969240" y="4025880"/>
              <a:ext cx="1101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5473800" y="4136760"/>
            <a:ext cx="4092480" cy="401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5f1e6"/>
                </a:solidFill>
                <a:latin typeface="Sriracha"/>
                <a:ea typeface="Nunito"/>
              </a:rPr>
              <a:t>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Google Shape;2627;p50"/>
          <p:cNvGrpSpPr/>
          <p:nvPr/>
        </p:nvGrpSpPr>
        <p:grpSpPr>
          <a:xfrm>
            <a:off x="1025640" y="2093760"/>
            <a:ext cx="1662120" cy="2113200"/>
            <a:chOff x="1025640" y="2093760"/>
            <a:chExt cx="1662120" cy="2113200"/>
          </a:xfrm>
        </p:grpSpPr>
        <p:sp>
          <p:nvSpPr>
            <p:cNvPr id="1630" name="Google Shape;2628;p50"/>
            <p:cNvSpPr/>
            <p:nvPr/>
          </p:nvSpPr>
          <p:spPr>
            <a:xfrm>
              <a:off x="1189800" y="4047480"/>
              <a:ext cx="1332360" cy="1594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1" name="Google Shape;2629;p50"/>
            <p:cNvGrpSpPr/>
            <p:nvPr/>
          </p:nvGrpSpPr>
          <p:grpSpPr>
            <a:xfrm>
              <a:off x="1025640" y="2093760"/>
              <a:ext cx="1662120" cy="2047680"/>
              <a:chOff x="1025640" y="2093760"/>
              <a:chExt cx="1662120" cy="2047680"/>
            </a:xfrm>
          </p:grpSpPr>
          <p:sp>
            <p:nvSpPr>
              <p:cNvPr id="1632" name="Google Shape;2630;p50"/>
              <p:cNvSpPr/>
              <p:nvPr/>
            </p:nvSpPr>
            <p:spPr>
              <a:xfrm>
                <a:off x="1874880" y="2093760"/>
                <a:ext cx="131760" cy="195120"/>
              </a:xfrm>
              <a:custGeom>
                <a:avLst/>
                <a:gdLst/>
                <a:ahLst/>
                <a:rect l="l" t="t" r="r" b="b"/>
                <a:pathLst>
                  <a:path w="6305" h="9408">
                    <a:moveTo>
                      <a:pt x="3073" y="1"/>
                    </a:moveTo>
                    <a:cubicBezTo>
                      <a:pt x="3041" y="1"/>
                      <a:pt x="3009" y="4"/>
                      <a:pt x="2977" y="10"/>
                    </a:cubicBezTo>
                    <a:cubicBezTo>
                      <a:pt x="1109" y="360"/>
                      <a:pt x="0" y="6606"/>
                      <a:pt x="0" y="6606"/>
                    </a:cubicBezTo>
                    <a:lnTo>
                      <a:pt x="6304" y="9408"/>
                    </a:lnTo>
                    <a:cubicBezTo>
                      <a:pt x="6304" y="9408"/>
                      <a:pt x="4840" y="1"/>
                      <a:pt x="3073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Google Shape;2631;p50"/>
              <p:cNvSpPr/>
              <p:nvPr/>
            </p:nvSpPr>
            <p:spPr>
              <a:xfrm>
                <a:off x="1025640" y="2231280"/>
                <a:ext cx="1662120" cy="1910160"/>
              </a:xfrm>
              <a:custGeom>
                <a:avLst/>
                <a:gdLst/>
                <a:ahLst/>
                <a:rect l="l" t="t" r="r" b="b"/>
                <a:pathLst>
                  <a:path w="79793" h="91698">
                    <a:moveTo>
                      <a:pt x="39867" y="1"/>
                    </a:moveTo>
                    <a:cubicBezTo>
                      <a:pt x="26209" y="1"/>
                      <a:pt x="14535" y="18621"/>
                      <a:pt x="9631" y="38000"/>
                    </a:cubicBezTo>
                    <a:cubicBezTo>
                      <a:pt x="6830" y="40743"/>
                      <a:pt x="0" y="47690"/>
                      <a:pt x="1460" y="49032"/>
                    </a:cubicBezTo>
                    <a:cubicBezTo>
                      <a:pt x="1638" y="49211"/>
                      <a:pt x="1970" y="49290"/>
                      <a:pt x="2421" y="49290"/>
                    </a:cubicBezTo>
                    <a:cubicBezTo>
                      <a:pt x="3590" y="49290"/>
                      <a:pt x="5556" y="48756"/>
                      <a:pt x="7705" y="48040"/>
                    </a:cubicBezTo>
                    <a:cubicBezTo>
                      <a:pt x="7355" y="50842"/>
                      <a:pt x="7180" y="53702"/>
                      <a:pt x="7180" y="56503"/>
                    </a:cubicBezTo>
                    <a:cubicBezTo>
                      <a:pt x="7180" y="67652"/>
                      <a:pt x="10390" y="74890"/>
                      <a:pt x="15702" y="79385"/>
                    </a:cubicBezTo>
                    <a:cubicBezTo>
                      <a:pt x="15410" y="83237"/>
                      <a:pt x="15118" y="90125"/>
                      <a:pt x="16169" y="91467"/>
                    </a:cubicBezTo>
                    <a:cubicBezTo>
                      <a:pt x="16283" y="91625"/>
                      <a:pt x="16489" y="91697"/>
                      <a:pt x="16770" y="91697"/>
                    </a:cubicBezTo>
                    <a:cubicBezTo>
                      <a:pt x="18785" y="91697"/>
                      <a:pt x="24687" y="87988"/>
                      <a:pt x="28835" y="85222"/>
                    </a:cubicBezTo>
                    <a:cubicBezTo>
                      <a:pt x="32513" y="85864"/>
                      <a:pt x="36219" y="86185"/>
                      <a:pt x="39926" y="86185"/>
                    </a:cubicBezTo>
                    <a:cubicBezTo>
                      <a:pt x="43632" y="86185"/>
                      <a:pt x="47339" y="85864"/>
                      <a:pt x="51016" y="85222"/>
                    </a:cubicBezTo>
                    <a:cubicBezTo>
                      <a:pt x="55114" y="87988"/>
                      <a:pt x="61054" y="91697"/>
                      <a:pt x="63079" y="91697"/>
                    </a:cubicBezTo>
                    <a:cubicBezTo>
                      <a:pt x="63362" y="91697"/>
                      <a:pt x="63568" y="91625"/>
                      <a:pt x="63682" y="91467"/>
                    </a:cubicBezTo>
                    <a:cubicBezTo>
                      <a:pt x="64675" y="90125"/>
                      <a:pt x="64441" y="83237"/>
                      <a:pt x="64149" y="79385"/>
                    </a:cubicBezTo>
                    <a:cubicBezTo>
                      <a:pt x="69461" y="74890"/>
                      <a:pt x="72671" y="67652"/>
                      <a:pt x="72671" y="56503"/>
                    </a:cubicBezTo>
                    <a:cubicBezTo>
                      <a:pt x="72671" y="53702"/>
                      <a:pt x="72496" y="50842"/>
                      <a:pt x="72146" y="48040"/>
                    </a:cubicBezTo>
                    <a:cubicBezTo>
                      <a:pt x="74253" y="48756"/>
                      <a:pt x="76208" y="49290"/>
                      <a:pt x="77395" y="49290"/>
                    </a:cubicBezTo>
                    <a:cubicBezTo>
                      <a:pt x="77853" y="49290"/>
                      <a:pt x="78197" y="49211"/>
                      <a:pt x="78392" y="49032"/>
                    </a:cubicBezTo>
                    <a:cubicBezTo>
                      <a:pt x="79793" y="47690"/>
                      <a:pt x="72963" y="40743"/>
                      <a:pt x="70220" y="38000"/>
                    </a:cubicBezTo>
                    <a:cubicBezTo>
                      <a:pt x="65258" y="18621"/>
                      <a:pt x="53526" y="1"/>
                      <a:pt x="39867" y="1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Google Shape;2632;p50"/>
              <p:cNvSpPr/>
              <p:nvPr/>
            </p:nvSpPr>
            <p:spPr>
              <a:xfrm>
                <a:off x="1595880" y="2671920"/>
                <a:ext cx="463320" cy="207360"/>
              </a:xfrm>
              <a:custGeom>
                <a:avLst/>
                <a:gdLst/>
                <a:ahLst/>
                <a:rect l="l" t="t" r="r" b="b"/>
                <a:pathLst>
                  <a:path w="22240" h="9954">
                    <a:moveTo>
                      <a:pt x="6709" y="0"/>
                    </a:moveTo>
                    <a:cubicBezTo>
                      <a:pt x="2761" y="0"/>
                      <a:pt x="0" y="260"/>
                      <a:pt x="0" y="2307"/>
                    </a:cubicBezTo>
                    <a:cubicBezTo>
                      <a:pt x="0" y="4992"/>
                      <a:pt x="4962" y="9953"/>
                      <a:pt x="11090" y="9953"/>
                    </a:cubicBezTo>
                    <a:cubicBezTo>
                      <a:pt x="17219" y="9953"/>
                      <a:pt x="22239" y="4992"/>
                      <a:pt x="22239" y="2307"/>
                    </a:cubicBezTo>
                    <a:cubicBezTo>
                      <a:pt x="22239" y="260"/>
                      <a:pt x="19445" y="0"/>
                      <a:pt x="15481" y="0"/>
                    </a:cubicBezTo>
                    <a:cubicBezTo>
                      <a:pt x="14132" y="0"/>
                      <a:pt x="12647" y="30"/>
                      <a:pt x="11090" y="30"/>
                    </a:cubicBezTo>
                    <a:cubicBezTo>
                      <a:pt x="9534" y="30"/>
                      <a:pt x="8053" y="0"/>
                      <a:pt x="6709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Google Shape;2633;p50"/>
              <p:cNvSpPr/>
              <p:nvPr/>
            </p:nvSpPr>
            <p:spPr>
              <a:xfrm>
                <a:off x="1623960" y="2136600"/>
                <a:ext cx="255600" cy="277920"/>
              </a:xfrm>
              <a:custGeom>
                <a:avLst/>
                <a:gdLst/>
                <a:ahLst/>
                <a:rect l="l" t="t" r="r" b="b"/>
                <a:pathLst>
                  <a:path w="12317" h="13328">
                    <a:moveTo>
                      <a:pt x="2810" y="1"/>
                    </a:moveTo>
                    <a:cubicBezTo>
                      <a:pt x="2536" y="1"/>
                      <a:pt x="2296" y="61"/>
                      <a:pt x="2102" y="194"/>
                    </a:cubicBezTo>
                    <a:cubicBezTo>
                      <a:pt x="1" y="1595"/>
                      <a:pt x="7355" y="13328"/>
                      <a:pt x="7355" y="13328"/>
                    </a:cubicBezTo>
                    <a:cubicBezTo>
                      <a:pt x="12317" y="9767"/>
                      <a:pt x="11149" y="5448"/>
                      <a:pt x="11149" y="5448"/>
                    </a:cubicBezTo>
                    <a:cubicBezTo>
                      <a:pt x="11149" y="5448"/>
                      <a:pt x="5416" y="1"/>
                      <a:pt x="2810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Google Shape;2634;p50"/>
              <p:cNvSpPr/>
              <p:nvPr/>
            </p:nvSpPr>
            <p:spPr>
              <a:xfrm>
                <a:off x="1506600" y="2986200"/>
                <a:ext cx="638280" cy="773280"/>
              </a:xfrm>
              <a:custGeom>
                <a:avLst/>
                <a:gdLst/>
                <a:ahLst/>
                <a:rect l="l" t="t" r="r" b="b"/>
                <a:pathLst>
                  <a:path w="30645" h="37067">
                    <a:moveTo>
                      <a:pt x="15351" y="1"/>
                    </a:moveTo>
                    <a:cubicBezTo>
                      <a:pt x="6888" y="1"/>
                      <a:pt x="0" y="8640"/>
                      <a:pt x="0" y="19380"/>
                    </a:cubicBezTo>
                    <a:cubicBezTo>
                      <a:pt x="0" y="30120"/>
                      <a:pt x="6888" y="-28470"/>
                      <a:pt x="15351" y="-28470"/>
                    </a:cubicBezTo>
                    <a:cubicBezTo>
                      <a:pt x="23815" y="-28470"/>
                      <a:pt x="30644" y="30120"/>
                      <a:pt x="30644" y="19380"/>
                    </a:cubicBezTo>
                    <a:cubicBezTo>
                      <a:pt x="30644" y="8640"/>
                      <a:pt x="23815" y="1"/>
                      <a:pt x="15351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Google Shape;2635;p50"/>
              <p:cNvSpPr/>
              <p:nvPr/>
            </p:nvSpPr>
            <p:spPr>
              <a:xfrm>
                <a:off x="1680840" y="2687400"/>
                <a:ext cx="77760" cy="104400"/>
              </a:xfrm>
              <a:custGeom>
                <a:avLst/>
                <a:gdLst/>
                <a:ahLst/>
                <a:rect l="l" t="t" r="r" b="b"/>
                <a:pathLst>
                  <a:path w="3737" h="5021">
                    <a:moveTo>
                      <a:pt x="1869" y="1"/>
                    </a:moveTo>
                    <a:cubicBezTo>
                      <a:pt x="877" y="1"/>
                      <a:pt x="1" y="59"/>
                      <a:pt x="1" y="1460"/>
                    </a:cubicBezTo>
                    <a:cubicBezTo>
                      <a:pt x="1" y="2803"/>
                      <a:pt x="877" y="5021"/>
                      <a:pt x="1869" y="5021"/>
                    </a:cubicBezTo>
                    <a:cubicBezTo>
                      <a:pt x="2919" y="5021"/>
                      <a:pt x="3737" y="2803"/>
                      <a:pt x="3737" y="1460"/>
                    </a:cubicBezTo>
                    <a:cubicBezTo>
                      <a:pt x="3737" y="59"/>
                      <a:pt x="2919" y="1"/>
                      <a:pt x="186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13320" bIns="133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Google Shape;2636;p50"/>
              <p:cNvSpPr/>
              <p:nvPr/>
            </p:nvSpPr>
            <p:spPr>
              <a:xfrm>
                <a:off x="1899720" y="2687400"/>
                <a:ext cx="77760" cy="104400"/>
              </a:xfrm>
              <a:custGeom>
                <a:avLst/>
                <a:gdLst/>
                <a:ahLst/>
                <a:rect l="l" t="t" r="r" b="b"/>
                <a:pathLst>
                  <a:path w="3737" h="5021">
                    <a:moveTo>
                      <a:pt x="1869" y="1"/>
                    </a:moveTo>
                    <a:cubicBezTo>
                      <a:pt x="876" y="1"/>
                      <a:pt x="1" y="59"/>
                      <a:pt x="1" y="1460"/>
                    </a:cubicBezTo>
                    <a:cubicBezTo>
                      <a:pt x="1" y="2803"/>
                      <a:pt x="876" y="5021"/>
                      <a:pt x="1869" y="5021"/>
                    </a:cubicBezTo>
                    <a:cubicBezTo>
                      <a:pt x="2919" y="5021"/>
                      <a:pt x="3736" y="2803"/>
                      <a:pt x="3736" y="1460"/>
                    </a:cubicBezTo>
                    <a:cubicBezTo>
                      <a:pt x="3736" y="59"/>
                      <a:pt x="2919" y="1"/>
                      <a:pt x="186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13320" bIns="133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Google Shape;2637;p50"/>
              <p:cNvSpPr/>
              <p:nvPr/>
            </p:nvSpPr>
            <p:spPr>
              <a:xfrm>
                <a:off x="1839240" y="2399760"/>
                <a:ext cx="280800" cy="250560"/>
              </a:xfrm>
              <a:custGeom>
                <a:avLst/>
                <a:gdLst/>
                <a:ahLst/>
                <a:rect l="l" t="t" r="r" b="b"/>
                <a:pathLst>
                  <a:path w="13484" h="12035">
                    <a:moveTo>
                      <a:pt x="6756" y="0"/>
                    </a:moveTo>
                    <a:cubicBezTo>
                      <a:pt x="5035" y="0"/>
                      <a:pt x="3333" y="743"/>
                      <a:pt x="2160" y="2177"/>
                    </a:cubicBezTo>
                    <a:cubicBezTo>
                      <a:pt x="0" y="4687"/>
                      <a:pt x="350" y="8481"/>
                      <a:pt x="2860" y="10641"/>
                    </a:cubicBezTo>
                    <a:cubicBezTo>
                      <a:pt x="4000" y="11573"/>
                      <a:pt x="5382" y="12035"/>
                      <a:pt x="6754" y="12035"/>
                    </a:cubicBezTo>
                    <a:cubicBezTo>
                      <a:pt x="8474" y="12035"/>
                      <a:pt x="10181" y="11310"/>
                      <a:pt x="11382" y="9882"/>
                    </a:cubicBezTo>
                    <a:cubicBezTo>
                      <a:pt x="13484" y="7314"/>
                      <a:pt x="13192" y="3520"/>
                      <a:pt x="10624" y="1418"/>
                    </a:cubicBezTo>
                    <a:cubicBezTo>
                      <a:pt x="9489" y="465"/>
                      <a:pt x="8116" y="0"/>
                      <a:pt x="6756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Google Shape;2638;p50"/>
              <p:cNvSpPr/>
              <p:nvPr/>
            </p:nvSpPr>
            <p:spPr>
              <a:xfrm>
                <a:off x="1903680" y="2499120"/>
                <a:ext cx="70920" cy="61200"/>
              </a:xfrm>
              <a:custGeom>
                <a:avLst/>
                <a:gdLst/>
                <a:ahLst/>
                <a:rect l="l" t="t" r="r" b="b"/>
                <a:pathLst>
                  <a:path w="3421" h="2938">
                    <a:moveTo>
                      <a:pt x="1672" y="1"/>
                    </a:moveTo>
                    <a:cubicBezTo>
                      <a:pt x="1468" y="1"/>
                      <a:pt x="1258" y="47"/>
                      <a:pt x="1051" y="150"/>
                    </a:cubicBezTo>
                    <a:cubicBezTo>
                      <a:pt x="351" y="501"/>
                      <a:pt x="1" y="1318"/>
                      <a:pt x="351" y="2018"/>
                    </a:cubicBezTo>
                    <a:cubicBezTo>
                      <a:pt x="584" y="2631"/>
                      <a:pt x="1139" y="2938"/>
                      <a:pt x="1694" y="2938"/>
                    </a:cubicBezTo>
                    <a:cubicBezTo>
                      <a:pt x="2248" y="2938"/>
                      <a:pt x="2803" y="2631"/>
                      <a:pt x="3036" y="2018"/>
                    </a:cubicBezTo>
                    <a:cubicBezTo>
                      <a:pt x="3420" y="1009"/>
                      <a:pt x="2618" y="1"/>
                      <a:pt x="1672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9880" bIns="-298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Google Shape;2639;p50"/>
              <p:cNvSpPr/>
              <p:nvPr/>
            </p:nvSpPr>
            <p:spPr>
              <a:xfrm>
                <a:off x="1535040" y="2399760"/>
                <a:ext cx="280800" cy="250560"/>
              </a:xfrm>
              <a:custGeom>
                <a:avLst/>
                <a:gdLst/>
                <a:ahLst/>
                <a:rect l="l" t="t" r="r" b="b"/>
                <a:pathLst>
                  <a:path w="13485" h="12035">
                    <a:moveTo>
                      <a:pt x="6756" y="0"/>
                    </a:moveTo>
                    <a:cubicBezTo>
                      <a:pt x="5035" y="0"/>
                      <a:pt x="3334" y="743"/>
                      <a:pt x="2160" y="2177"/>
                    </a:cubicBezTo>
                    <a:cubicBezTo>
                      <a:pt x="1" y="4687"/>
                      <a:pt x="351" y="8481"/>
                      <a:pt x="2919" y="10641"/>
                    </a:cubicBezTo>
                    <a:cubicBezTo>
                      <a:pt x="4033" y="11573"/>
                      <a:pt x="5400" y="12035"/>
                      <a:pt x="6765" y="12035"/>
                    </a:cubicBezTo>
                    <a:cubicBezTo>
                      <a:pt x="8475" y="12035"/>
                      <a:pt x="10182" y="11310"/>
                      <a:pt x="11383" y="9882"/>
                    </a:cubicBezTo>
                    <a:cubicBezTo>
                      <a:pt x="13484" y="7314"/>
                      <a:pt x="13192" y="3520"/>
                      <a:pt x="10624" y="1418"/>
                    </a:cubicBezTo>
                    <a:cubicBezTo>
                      <a:pt x="9490" y="465"/>
                      <a:pt x="8117" y="0"/>
                      <a:pt x="6756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Google Shape;2640;p50"/>
              <p:cNvSpPr/>
              <p:nvPr/>
            </p:nvSpPr>
            <p:spPr>
              <a:xfrm>
                <a:off x="1599480" y="2499120"/>
                <a:ext cx="70920" cy="61200"/>
              </a:xfrm>
              <a:custGeom>
                <a:avLst/>
                <a:gdLst/>
                <a:ahLst/>
                <a:rect l="l" t="t" r="r" b="b"/>
                <a:pathLst>
                  <a:path w="3420" h="2938">
                    <a:moveTo>
                      <a:pt x="1671" y="1"/>
                    </a:moveTo>
                    <a:cubicBezTo>
                      <a:pt x="1468" y="1"/>
                      <a:pt x="1257" y="47"/>
                      <a:pt x="1051" y="150"/>
                    </a:cubicBezTo>
                    <a:cubicBezTo>
                      <a:pt x="350" y="501"/>
                      <a:pt x="0" y="1318"/>
                      <a:pt x="350" y="2018"/>
                    </a:cubicBezTo>
                    <a:cubicBezTo>
                      <a:pt x="584" y="2631"/>
                      <a:pt x="1138" y="2938"/>
                      <a:pt x="1693" y="2938"/>
                    </a:cubicBezTo>
                    <a:cubicBezTo>
                      <a:pt x="2247" y="2938"/>
                      <a:pt x="2802" y="2631"/>
                      <a:pt x="3035" y="2018"/>
                    </a:cubicBezTo>
                    <a:cubicBezTo>
                      <a:pt x="3420" y="1009"/>
                      <a:pt x="2618" y="1"/>
                      <a:pt x="1671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9880" bIns="-298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363400" y="2123640"/>
            <a:ext cx="4435560" cy="1104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f5f1e6"/>
                </a:solidFill>
                <a:latin typeface="Sriracha"/>
                <a:ea typeface="Sriracha"/>
              </a:rPr>
              <a:t>Incorrec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Decágono 1"/>
          <p:cNvGrpSpPr/>
          <p:nvPr/>
        </p:nvGrpSpPr>
        <p:grpSpPr>
          <a:xfrm>
            <a:off x="6778800" y="3773520"/>
            <a:ext cx="1481040" cy="1279440"/>
            <a:chOff x="6778800" y="3773520"/>
            <a:chExt cx="1481040" cy="1279440"/>
          </a:xfrm>
        </p:grpSpPr>
        <p:pic>
          <p:nvPicPr>
            <p:cNvPr id="1645" name="Decágono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3773520"/>
              <a:ext cx="148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6" name=""/>
            <p:cNvSpPr/>
            <p:nvPr/>
          </p:nvSpPr>
          <p:spPr>
            <a:xfrm>
              <a:off x="6969240" y="4025880"/>
              <a:ext cx="1101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6789240" y="4051080"/>
            <a:ext cx="1473480" cy="399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5f1e6"/>
                </a:solidFill>
                <a:latin typeface="Sriracha"/>
                <a:ea typeface="Nunito"/>
              </a:rPr>
              <a:t>Inténtalo otr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Google Shape;2462;p43"/>
          <p:cNvSpPr/>
          <p:nvPr/>
        </p:nvSpPr>
        <p:spPr>
          <a:xfrm>
            <a:off x="598320" y="4281480"/>
            <a:ext cx="1716120" cy="212760"/>
          </a:xfrm>
          <a:prstGeom prst="ellipse">
            <a:avLst/>
          </a:prstGeom>
          <a:solidFill>
            <a:srgbClr val="f5f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9400" bIns="594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Google Shape;2463;p43"/>
          <p:cNvGrpSpPr/>
          <p:nvPr/>
        </p:nvGrpSpPr>
        <p:grpSpPr>
          <a:xfrm>
            <a:off x="334800" y="2054160"/>
            <a:ext cx="2028960" cy="2389320"/>
            <a:chOff x="334800" y="2054160"/>
            <a:chExt cx="2028960" cy="2389320"/>
          </a:xfrm>
        </p:grpSpPr>
        <p:sp>
          <p:nvSpPr>
            <p:cNvPr id="1650" name="Google Shape;2464;p43"/>
            <p:cNvSpPr/>
            <p:nvPr/>
          </p:nvSpPr>
          <p:spPr>
            <a:xfrm flipH="1">
              <a:off x="334800" y="2691000"/>
              <a:ext cx="571680" cy="708120"/>
            </a:xfrm>
            <a:custGeom>
              <a:avLst/>
              <a:gdLst/>
              <a:ahLst/>
              <a:rect l="l" t="t" r="r" b="b"/>
              <a:pathLst>
                <a:path w="54765" h="61979">
                  <a:moveTo>
                    <a:pt x="-25857" y="0"/>
                  </a:moveTo>
                  <a:cubicBezTo>
                    <a:pt x="-26316" y="0"/>
                    <a:pt x="-26780" y="28"/>
                    <a:pt x="-27249" y="85"/>
                  </a:cubicBezTo>
                  <a:cubicBezTo>
                    <a:pt x="29257" y="1194"/>
                    <a:pt x="3063" y="28022"/>
                    <a:pt x="3063" y="28022"/>
                  </a:cubicBezTo>
                  <a:lnTo>
                    <a:pt x="0" y="-3558"/>
                  </a:lnTo>
                  <a:lnTo>
                    <a:pt x="28623" y="28761"/>
                  </a:lnTo>
                  <a:lnTo>
                    <a:pt x="-10772" y="9116"/>
                  </a:lnTo>
                  <a:cubicBezTo>
                    <a:pt x="-10772" y="9116"/>
                    <a:pt x="-17466" y="0"/>
                    <a:pt x="-25857" y="0"/>
                  </a:cubicBez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Google Shape;2465;p43"/>
            <p:cNvSpPr/>
            <p:nvPr/>
          </p:nvSpPr>
          <p:spPr>
            <a:xfrm flipH="1">
              <a:off x="1840320" y="3157200"/>
              <a:ext cx="523440" cy="738720"/>
            </a:xfrm>
            <a:custGeom>
              <a:avLst/>
              <a:gdLst/>
              <a:ahLst/>
              <a:rect l="l" t="t" r="r" b="b"/>
              <a:pathLst>
                <a:path w="50118" h="64654">
                  <a:moveTo>
                    <a:pt x="-17795" y="1"/>
                  </a:moveTo>
                  <a:cubicBezTo>
                    <a:pt x="-17795" y="1"/>
                    <a:pt x="1" y="-9029"/>
                    <a:pt x="10352" y="-1741"/>
                  </a:cubicBezTo>
                  <a:cubicBezTo>
                    <a:pt x="11193" y="-1153"/>
                    <a:pt x="12161" y="-882"/>
                    <a:pt x="13228" y="-882"/>
                  </a:cubicBezTo>
                  <a:cubicBezTo>
                    <a:pt x="25291" y="-882"/>
                    <a:pt x="-15419" y="30155"/>
                    <a:pt x="-15419" y="30155"/>
                  </a:cubicBezTo>
                  <a:lnTo>
                    <a:pt x="-17795" y="1"/>
                  </a:ln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Google Shape;2466;p43"/>
            <p:cNvSpPr/>
            <p:nvPr/>
          </p:nvSpPr>
          <p:spPr>
            <a:xfrm flipH="1">
              <a:off x="749880" y="2287080"/>
              <a:ext cx="1245240" cy="2156400"/>
            </a:xfrm>
            <a:custGeom>
              <a:avLst/>
              <a:gdLst/>
              <a:ahLst/>
              <a:rect l="l" t="t" r="r" b="b"/>
              <a:pathLst>
                <a:path w="119245" h="188727">
                  <a:moveTo>
                    <a:pt x="59411" y="1"/>
                  </a:moveTo>
                  <a:cubicBezTo>
                    <a:pt x="0" y="1"/>
                    <a:pt x="7763" y="52811"/>
                    <a:pt x="7763" y="52811"/>
                  </a:cubicBezTo>
                  <a:lnTo>
                    <a:pt x="23976" y="174485"/>
                  </a:lnTo>
                  <a:cubicBezTo>
                    <a:pt x="23976" y="174485"/>
                    <a:pt x="14523" y="185733"/>
                    <a:pt x="16054" y="187687"/>
                  </a:cubicBezTo>
                  <a:cubicBezTo>
                    <a:pt x="16604" y="188408"/>
                    <a:pt x="19001" y="188727"/>
                    <a:pt x="21979" y="188727"/>
                  </a:cubicBezTo>
                  <a:cubicBezTo>
                    <a:pt x="27291" y="188727"/>
                    <a:pt x="34453" y="187712"/>
                    <a:pt x="36280" y="186156"/>
                  </a:cubicBezTo>
                  <a:cubicBezTo>
                    <a:pt x="39132" y="183727"/>
                    <a:pt x="37601" y="151829"/>
                    <a:pt x="37601" y="151829"/>
                  </a:cubicBezTo>
                  <a:lnTo>
                    <a:pt x="78634" y="152463"/>
                  </a:lnTo>
                  <a:cubicBezTo>
                    <a:pt x="78634" y="152463"/>
                    <a:pt x="77314" y="179977"/>
                    <a:pt x="79584" y="183093"/>
                  </a:cubicBezTo>
                  <a:cubicBezTo>
                    <a:pt x="81245" y="185332"/>
                    <a:pt x="93350" y="188052"/>
                    <a:pt x="99740" y="188052"/>
                  </a:cubicBezTo>
                  <a:cubicBezTo>
                    <a:pt x="102089" y="188052"/>
                    <a:pt x="103666" y="187684"/>
                    <a:pt x="103666" y="186790"/>
                  </a:cubicBezTo>
                  <a:cubicBezTo>
                    <a:pt x="103666" y="183515"/>
                    <a:pt x="95374" y="174907"/>
                    <a:pt x="95374" y="172056"/>
                  </a:cubicBezTo>
                  <a:cubicBezTo>
                    <a:pt x="95374" y="169204"/>
                    <a:pt x="110742" y="59782"/>
                    <a:pt x="111217" y="49642"/>
                  </a:cubicBezTo>
                  <a:cubicBezTo>
                    <a:pt x="111746" y="39503"/>
                    <a:pt x="119244" y="1"/>
                    <a:pt x="59411" y="1"/>
                  </a:cubicBez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Google Shape;2467;p43"/>
            <p:cNvSpPr/>
            <p:nvPr/>
          </p:nvSpPr>
          <p:spPr>
            <a:xfrm flipH="1" rot="10800000">
              <a:off x="1058760" y="3182400"/>
              <a:ext cx="590400" cy="336600"/>
            </a:xfrm>
            <a:custGeom>
              <a:avLst/>
              <a:gdLst/>
              <a:ahLst/>
              <a:rect l="l" t="t" r="r" b="b"/>
              <a:pathLst>
                <a:path w="56613" h="29416">
                  <a:moveTo>
                    <a:pt x="1" y="0"/>
                  </a:moveTo>
                  <a:cubicBezTo>
                    <a:pt x="1" y="0"/>
                    <a:pt x="1" y="29416"/>
                    <a:pt x="27673" y="29416"/>
                  </a:cubicBezTo>
                  <a:cubicBezTo>
                    <a:pt x="-10191" y="29416"/>
                    <a:pt x="-8923" y="0"/>
                    <a:pt x="-892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Google Shape;2469;p43"/>
            <p:cNvSpPr/>
            <p:nvPr/>
          </p:nvSpPr>
          <p:spPr>
            <a:xfrm flipH="1">
              <a:off x="1685160" y="2058840"/>
              <a:ext cx="347400" cy="574560"/>
            </a:xfrm>
            <a:custGeom>
              <a:avLst/>
              <a:gdLst/>
              <a:ahLst/>
              <a:rect l="l" t="t" r="r" b="b"/>
              <a:pathLst>
                <a:path w="33271" h="50245">
                  <a:moveTo>
                    <a:pt x="7805" y="1"/>
                  </a:moveTo>
                  <a:cubicBezTo>
                    <a:pt x="7262" y="1"/>
                    <a:pt x="6739" y="196"/>
                    <a:pt x="6232" y="603"/>
                  </a:cubicBezTo>
                  <a:cubicBezTo>
                    <a:pt x="2957" y="3138"/>
                    <a:pt x="0" y="12802"/>
                    <a:pt x="2905" y="25899"/>
                  </a:cubicBezTo>
                  <a:cubicBezTo>
                    <a:pt x="5651" y="-27543"/>
                    <a:pt x="13466" y="-15291"/>
                    <a:pt x="13466" y="-15291"/>
                  </a:cubicBezTo>
                  <a:cubicBezTo>
                    <a:pt x="13466" y="-15291"/>
                    <a:pt x="22708" y="-15608"/>
                    <a:pt x="27989" y="-20889"/>
                  </a:cubicBezTo>
                  <a:cubicBezTo>
                    <a:pt x="-32266" y="-26170"/>
                    <a:pt x="31263" y="27378"/>
                    <a:pt x="31263" y="27378"/>
                  </a:cubicBezTo>
                  <a:cubicBezTo>
                    <a:pt x="31263" y="27378"/>
                    <a:pt x="24081" y="23417"/>
                    <a:pt x="18959" y="14228"/>
                  </a:cubicBezTo>
                  <a:cubicBezTo>
                    <a:pt x="14198" y="5596"/>
                    <a:pt x="10711" y="1"/>
                    <a:pt x="7805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Google Shape;2470;p43"/>
            <p:cNvSpPr/>
            <p:nvPr/>
          </p:nvSpPr>
          <p:spPr>
            <a:xfrm flipH="1">
              <a:off x="697680" y="2054160"/>
              <a:ext cx="345960" cy="574560"/>
            </a:xfrm>
            <a:custGeom>
              <a:avLst/>
              <a:gdLst/>
              <a:ahLst/>
              <a:rect l="l" t="t" r="r" b="b"/>
              <a:pathLst>
                <a:path w="33271" h="50295">
                  <a:moveTo>
                    <a:pt x="25475" y="1"/>
                  </a:moveTo>
                  <a:cubicBezTo>
                    <a:pt x="22566" y="1"/>
                    <a:pt x="19078" y="5636"/>
                    <a:pt x="14312" y="14278"/>
                  </a:cubicBezTo>
                  <a:cubicBezTo>
                    <a:pt x="9189" y="23414"/>
                    <a:pt x="2007" y="27375"/>
                    <a:pt x="2007" y="27375"/>
                  </a:cubicBezTo>
                  <a:cubicBezTo>
                    <a:pt x="2007" y="27375"/>
                    <a:pt x="0" y="-26174"/>
                    <a:pt x="5281" y="-20893"/>
                  </a:cubicBezTo>
                  <a:cubicBezTo>
                    <a:pt x="10562" y="-15612"/>
                    <a:pt x="19804" y="-15242"/>
                    <a:pt x="19804" y="-15242"/>
                  </a:cubicBezTo>
                  <a:cubicBezTo>
                    <a:pt x="19804" y="-15242"/>
                    <a:pt x="27672" y="-27547"/>
                    <a:pt x="30366" y="25896"/>
                  </a:cubicBezTo>
                  <a:cubicBezTo>
                    <a:pt x="-32266" y="12852"/>
                    <a:pt x="30313" y="3188"/>
                    <a:pt x="27039" y="600"/>
                  </a:cubicBezTo>
                  <a:cubicBezTo>
                    <a:pt x="26534" y="195"/>
                    <a:pt x="26015" y="1"/>
                    <a:pt x="25475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Google Shape;2471;p43"/>
            <p:cNvSpPr/>
            <p:nvPr/>
          </p:nvSpPr>
          <p:spPr>
            <a:xfrm flipH="1">
              <a:off x="1436040" y="2818800"/>
              <a:ext cx="289800" cy="271440"/>
            </a:xfrm>
            <a:custGeom>
              <a:avLst/>
              <a:gdLst/>
              <a:ahLst/>
              <a:rect l="l" t="t" r="r" b="b"/>
              <a:pathLst>
                <a:path w="27764" h="23770">
                  <a:moveTo>
                    <a:pt x="15868" y="0"/>
                  </a:moveTo>
                  <a:cubicBezTo>
                    <a:pt x="5297" y="0"/>
                    <a:pt x="1" y="12743"/>
                    <a:pt x="7484" y="20226"/>
                  </a:cubicBezTo>
                  <a:cubicBezTo>
                    <a:pt x="9916" y="22675"/>
                    <a:pt x="12903" y="23769"/>
                    <a:pt x="15830" y="23769"/>
                  </a:cubicBezTo>
                  <a:cubicBezTo>
                    <a:pt x="21928" y="23769"/>
                    <a:pt x="27763" y="19019"/>
                    <a:pt x="27763" y="11882"/>
                  </a:cubicBezTo>
                  <a:cubicBezTo>
                    <a:pt x="27763" y="5334"/>
                    <a:pt x="22482" y="0"/>
                    <a:pt x="15934" y="0"/>
                  </a:cubicBezTo>
                  <a:cubicBezTo>
                    <a:pt x="15912" y="0"/>
                    <a:pt x="15890" y="0"/>
                    <a:pt x="15868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Google Shape;2472;p43"/>
            <p:cNvSpPr/>
            <p:nvPr/>
          </p:nvSpPr>
          <p:spPr>
            <a:xfrm flipH="1">
              <a:off x="1487880" y="2913480"/>
              <a:ext cx="68760" cy="64080"/>
            </a:xfrm>
            <a:custGeom>
              <a:avLst/>
              <a:gdLst/>
              <a:ahLst/>
              <a:rect l="l" t="t" r="r" b="b"/>
              <a:pathLst>
                <a:path w="6588" h="5611">
                  <a:moveTo>
                    <a:pt x="3877" y="1"/>
                  </a:moveTo>
                  <a:cubicBezTo>
                    <a:pt x="3847" y="1"/>
                    <a:pt x="3818" y="1"/>
                    <a:pt x="3788" y="2"/>
                  </a:cubicBezTo>
                  <a:cubicBezTo>
                    <a:pt x="3767" y="2"/>
                    <a:pt x="3745" y="2"/>
                    <a:pt x="3724" y="2"/>
                  </a:cubicBezTo>
                  <a:cubicBezTo>
                    <a:pt x="1232" y="2"/>
                    <a:pt x="1" y="3027"/>
                    <a:pt x="1729" y="4755"/>
                  </a:cubicBezTo>
                  <a:cubicBezTo>
                    <a:pt x="2318" y="5345"/>
                    <a:pt x="3045" y="5610"/>
                    <a:pt x="3755" y="5610"/>
                  </a:cubicBezTo>
                  <a:cubicBezTo>
                    <a:pt x="5206" y="5610"/>
                    <a:pt x="6587" y="4503"/>
                    <a:pt x="6587" y="2801"/>
                  </a:cubicBezTo>
                  <a:cubicBezTo>
                    <a:pt x="6587" y="1300"/>
                    <a:pt x="5368" y="1"/>
                    <a:pt x="3877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7000" bIns="-2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Google Shape;2473;p43"/>
            <p:cNvSpPr/>
            <p:nvPr/>
          </p:nvSpPr>
          <p:spPr>
            <a:xfrm flipH="1">
              <a:off x="1016280" y="2818800"/>
              <a:ext cx="289800" cy="271440"/>
            </a:xfrm>
            <a:custGeom>
              <a:avLst/>
              <a:gdLst/>
              <a:ahLst/>
              <a:rect l="l" t="t" r="r" b="b"/>
              <a:pathLst>
                <a:path w="27779" h="23763">
                  <a:moveTo>
                    <a:pt x="15896" y="0"/>
                  </a:moveTo>
                  <a:cubicBezTo>
                    <a:pt x="5281" y="0"/>
                    <a:pt x="0" y="12780"/>
                    <a:pt x="7499" y="20279"/>
                  </a:cubicBezTo>
                  <a:cubicBezTo>
                    <a:pt x="9905" y="22685"/>
                    <a:pt x="12873" y="23762"/>
                    <a:pt x="15788" y="23762"/>
                  </a:cubicBezTo>
                  <a:cubicBezTo>
                    <a:pt x="21898" y="23762"/>
                    <a:pt x="27778" y="19032"/>
                    <a:pt x="27778" y="11882"/>
                  </a:cubicBezTo>
                  <a:cubicBezTo>
                    <a:pt x="27778" y="5281"/>
                    <a:pt x="22445" y="0"/>
                    <a:pt x="15896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Google Shape;2474;p43"/>
            <p:cNvSpPr/>
            <p:nvPr/>
          </p:nvSpPr>
          <p:spPr>
            <a:xfrm flipH="1">
              <a:off x="1139760" y="2923200"/>
              <a:ext cx="68760" cy="64440"/>
            </a:xfrm>
            <a:custGeom>
              <a:avLst/>
              <a:gdLst/>
              <a:ahLst/>
              <a:rect l="l" t="t" r="r" b="b"/>
              <a:pathLst>
                <a:path w="6602" h="5648">
                  <a:moveTo>
                    <a:pt x="3803" y="0"/>
                  </a:moveTo>
                  <a:cubicBezTo>
                    <a:pt x="1268" y="0"/>
                    <a:pt x="1" y="3011"/>
                    <a:pt x="1796" y="4806"/>
                  </a:cubicBezTo>
                  <a:cubicBezTo>
                    <a:pt x="2361" y="5388"/>
                    <a:pt x="3063" y="5648"/>
                    <a:pt x="3756" y="5648"/>
                  </a:cubicBezTo>
                  <a:cubicBezTo>
                    <a:pt x="5202" y="5648"/>
                    <a:pt x="6602" y="4513"/>
                    <a:pt x="6602" y="2799"/>
                  </a:cubicBezTo>
                  <a:cubicBezTo>
                    <a:pt x="6602" y="1268"/>
                    <a:pt x="5335" y="0"/>
                    <a:pt x="3803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6640" bIns="-26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Google Shape;2475;p43"/>
            <p:cNvSpPr/>
            <p:nvPr/>
          </p:nvSpPr>
          <p:spPr>
            <a:xfrm flipH="1">
              <a:off x="1257480" y="2599560"/>
              <a:ext cx="209520" cy="196200"/>
            </a:xfrm>
            <a:custGeom>
              <a:avLst/>
              <a:gdLst/>
              <a:ahLst/>
              <a:rect l="l" t="t" r="r" b="b"/>
              <a:pathLst>
                <a:path w="20069" h="17178">
                  <a:moveTo>
                    <a:pt x="11460" y="0"/>
                  </a:moveTo>
                  <a:cubicBezTo>
                    <a:pt x="3803" y="0"/>
                    <a:pt x="1" y="9242"/>
                    <a:pt x="5387" y="14629"/>
                  </a:cubicBezTo>
                  <a:cubicBezTo>
                    <a:pt x="7132" y="16390"/>
                    <a:pt x="9287" y="17177"/>
                    <a:pt x="11403" y="17177"/>
                  </a:cubicBezTo>
                  <a:cubicBezTo>
                    <a:pt x="15820" y="17177"/>
                    <a:pt x="20068" y="13750"/>
                    <a:pt x="20068" y="8608"/>
                  </a:cubicBezTo>
                  <a:cubicBezTo>
                    <a:pt x="20068" y="3855"/>
                    <a:pt x="16213" y="0"/>
                    <a:pt x="11460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Google Shape;2476;p43"/>
            <p:cNvSpPr/>
            <p:nvPr/>
          </p:nvSpPr>
          <p:spPr>
            <a:xfrm flipH="1">
              <a:off x="1330200" y="2673360"/>
              <a:ext cx="50040" cy="46800"/>
            </a:xfrm>
            <a:custGeom>
              <a:avLst/>
              <a:gdLst/>
              <a:ahLst/>
              <a:rect l="l" t="t" r="r" b="b"/>
              <a:pathLst>
                <a:path w="4807" h="4114">
                  <a:moveTo>
                    <a:pt x="2747" y="0"/>
                  </a:moveTo>
                  <a:cubicBezTo>
                    <a:pt x="952" y="0"/>
                    <a:pt x="1" y="2218"/>
                    <a:pt x="1321" y="3486"/>
                  </a:cubicBezTo>
                  <a:cubicBezTo>
                    <a:pt x="1737" y="3919"/>
                    <a:pt x="2256" y="4113"/>
                    <a:pt x="2765" y="4113"/>
                  </a:cubicBezTo>
                  <a:cubicBezTo>
                    <a:pt x="3806" y="4113"/>
                    <a:pt x="4807" y="3301"/>
                    <a:pt x="4807" y="2060"/>
                  </a:cubicBezTo>
                  <a:cubicBezTo>
                    <a:pt x="4807" y="951"/>
                    <a:pt x="3856" y="0"/>
                    <a:pt x="2747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4280" bIns="-44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2" name="Google Shape;2693;p53"/>
          <p:cNvGrpSpPr/>
          <p:nvPr/>
        </p:nvGrpSpPr>
        <p:grpSpPr>
          <a:xfrm>
            <a:off x="5792760" y="1346040"/>
            <a:ext cx="2266920" cy="2451240"/>
            <a:chOff x="5792760" y="1346040"/>
            <a:chExt cx="2266920" cy="2451240"/>
          </a:xfrm>
        </p:grpSpPr>
        <p:sp>
          <p:nvSpPr>
            <p:cNvPr id="1663" name="Google Shape;2694;p53"/>
            <p:cNvSpPr/>
            <p:nvPr/>
          </p:nvSpPr>
          <p:spPr>
            <a:xfrm>
              <a:off x="5792760" y="3595680"/>
              <a:ext cx="2266920" cy="20160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1120" bIns="5112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oogle Shape;2695;p53"/>
            <p:cNvGrpSpPr/>
            <p:nvPr/>
          </p:nvGrpSpPr>
          <p:grpSpPr>
            <a:xfrm>
              <a:off x="6039000" y="1346040"/>
              <a:ext cx="1803600" cy="2313000"/>
              <a:chOff x="6039000" y="1346040"/>
              <a:chExt cx="1803600" cy="2313000"/>
            </a:xfrm>
          </p:grpSpPr>
          <p:sp>
            <p:nvSpPr>
              <p:cNvPr id="1665" name="Google Shape;2696;p53"/>
              <p:cNvSpPr/>
              <p:nvPr/>
            </p:nvSpPr>
            <p:spPr>
              <a:xfrm>
                <a:off x="6039000" y="1346040"/>
                <a:ext cx="1803600" cy="2313000"/>
              </a:xfrm>
              <a:custGeom>
                <a:avLst/>
                <a:gdLst/>
                <a:ahLst/>
                <a:rect l="l" t="t" r="r" b="b"/>
                <a:pathLst>
                  <a:path w="71796" h="91877">
                    <a:moveTo>
                      <a:pt x="34504" y="0"/>
                    </a:moveTo>
                    <a:cubicBezTo>
                      <a:pt x="30827" y="0"/>
                      <a:pt x="34160" y="5860"/>
                      <a:pt x="35548" y="8057"/>
                    </a:cubicBezTo>
                    <a:cubicBezTo>
                      <a:pt x="27084" y="9166"/>
                      <a:pt x="19554" y="19381"/>
                      <a:pt x="14067" y="32106"/>
                    </a:cubicBezTo>
                    <a:cubicBezTo>
                      <a:pt x="12141" y="32514"/>
                      <a:pt x="8172" y="33623"/>
                      <a:pt x="8581" y="35433"/>
                    </a:cubicBezTo>
                    <a:cubicBezTo>
                      <a:pt x="8696" y="35895"/>
                      <a:pt x="9004" y="36083"/>
                      <a:pt x="9432" y="36083"/>
                    </a:cubicBezTo>
                    <a:cubicBezTo>
                      <a:pt x="10084" y="36083"/>
                      <a:pt x="11014" y="35646"/>
                      <a:pt x="11966" y="35082"/>
                    </a:cubicBezTo>
                    <a:lnTo>
                      <a:pt x="11966" y="35082"/>
                    </a:lnTo>
                    <a:cubicBezTo>
                      <a:pt x="9690" y="37651"/>
                      <a:pt x="5954" y="42204"/>
                      <a:pt x="6421" y="43955"/>
                    </a:cubicBezTo>
                    <a:cubicBezTo>
                      <a:pt x="6536" y="44339"/>
                      <a:pt x="6797" y="44502"/>
                      <a:pt x="7153" y="44502"/>
                    </a:cubicBezTo>
                    <a:cubicBezTo>
                      <a:pt x="7879" y="44502"/>
                      <a:pt x="9002" y="43824"/>
                      <a:pt x="10098" y="42962"/>
                    </a:cubicBezTo>
                    <a:lnTo>
                      <a:pt x="10098" y="42962"/>
                    </a:lnTo>
                    <a:cubicBezTo>
                      <a:pt x="7005" y="52885"/>
                      <a:pt x="5254" y="63100"/>
                      <a:pt x="5254" y="71272"/>
                    </a:cubicBezTo>
                    <a:lnTo>
                      <a:pt x="5254" y="71797"/>
                    </a:lnTo>
                    <a:cubicBezTo>
                      <a:pt x="5254" y="71797"/>
                      <a:pt x="0" y="76525"/>
                      <a:pt x="934" y="78685"/>
                    </a:cubicBezTo>
                    <a:cubicBezTo>
                      <a:pt x="1046" y="78957"/>
                      <a:pt x="1215" y="79076"/>
                      <a:pt x="1424" y="79076"/>
                    </a:cubicBezTo>
                    <a:cubicBezTo>
                      <a:pt x="1978" y="79076"/>
                      <a:pt x="2814" y="78243"/>
                      <a:pt x="3619" y="77226"/>
                    </a:cubicBezTo>
                    <a:lnTo>
                      <a:pt x="3619" y="77226"/>
                    </a:lnTo>
                    <a:cubicBezTo>
                      <a:pt x="2393" y="79969"/>
                      <a:pt x="1459" y="82829"/>
                      <a:pt x="2685" y="83413"/>
                    </a:cubicBezTo>
                    <a:cubicBezTo>
                      <a:pt x="2804" y="83475"/>
                      <a:pt x="2921" y="83505"/>
                      <a:pt x="3036" y="83505"/>
                    </a:cubicBezTo>
                    <a:cubicBezTo>
                      <a:pt x="4211" y="83505"/>
                      <a:pt x="5135" y="80395"/>
                      <a:pt x="5721" y="77576"/>
                    </a:cubicBezTo>
                    <a:cubicBezTo>
                      <a:pt x="6538" y="83121"/>
                      <a:pt x="8639" y="86565"/>
                      <a:pt x="11558" y="88608"/>
                    </a:cubicBezTo>
                    <a:cubicBezTo>
                      <a:pt x="9786" y="87699"/>
                      <a:pt x="7622" y="86632"/>
                      <a:pt x="6772" y="86632"/>
                    </a:cubicBezTo>
                    <a:cubicBezTo>
                      <a:pt x="6586" y="86632"/>
                      <a:pt x="6463" y="86683"/>
                      <a:pt x="6421" y="86799"/>
                    </a:cubicBezTo>
                    <a:cubicBezTo>
                      <a:pt x="6304" y="87207"/>
                      <a:pt x="7121" y="88024"/>
                      <a:pt x="8347" y="88783"/>
                    </a:cubicBezTo>
                    <a:cubicBezTo>
                      <a:pt x="7769" y="88742"/>
                      <a:pt x="7221" y="88701"/>
                      <a:pt x="6660" y="88701"/>
                    </a:cubicBezTo>
                    <a:cubicBezTo>
                      <a:pt x="6428" y="88701"/>
                      <a:pt x="6193" y="88708"/>
                      <a:pt x="5954" y="88725"/>
                    </a:cubicBezTo>
                    <a:cubicBezTo>
                      <a:pt x="3094" y="89017"/>
                      <a:pt x="3678" y="91819"/>
                      <a:pt x="3678" y="91819"/>
                    </a:cubicBezTo>
                    <a:lnTo>
                      <a:pt x="25216" y="91877"/>
                    </a:lnTo>
                    <a:lnTo>
                      <a:pt x="36073" y="91877"/>
                    </a:lnTo>
                    <a:lnTo>
                      <a:pt x="35606" y="91760"/>
                    </a:lnTo>
                    <a:lnTo>
                      <a:pt x="39342" y="91760"/>
                    </a:lnTo>
                    <a:lnTo>
                      <a:pt x="38875" y="91877"/>
                    </a:lnTo>
                    <a:lnTo>
                      <a:pt x="48973" y="91877"/>
                    </a:lnTo>
                    <a:lnTo>
                      <a:pt x="71329" y="91760"/>
                    </a:lnTo>
                    <a:cubicBezTo>
                      <a:pt x="71329" y="91760"/>
                      <a:pt x="71796" y="88900"/>
                      <a:pt x="68994" y="88667"/>
                    </a:cubicBezTo>
                    <a:cubicBezTo>
                      <a:pt x="68656" y="88642"/>
                      <a:pt x="68317" y="88628"/>
                      <a:pt x="67979" y="88628"/>
                    </a:cubicBezTo>
                    <a:cubicBezTo>
                      <a:pt x="67500" y="88628"/>
                      <a:pt x="67021" y="88657"/>
                      <a:pt x="66542" y="88725"/>
                    </a:cubicBezTo>
                    <a:cubicBezTo>
                      <a:pt x="67827" y="87908"/>
                      <a:pt x="68644" y="87149"/>
                      <a:pt x="68469" y="86682"/>
                    </a:cubicBezTo>
                    <a:cubicBezTo>
                      <a:pt x="68434" y="86576"/>
                      <a:pt x="68322" y="86529"/>
                      <a:pt x="68149" y="86529"/>
                    </a:cubicBezTo>
                    <a:cubicBezTo>
                      <a:pt x="67177" y="86529"/>
                      <a:pt x="64282" y="88034"/>
                      <a:pt x="62398" y="89075"/>
                    </a:cubicBezTo>
                    <a:lnTo>
                      <a:pt x="61814" y="89133"/>
                    </a:lnTo>
                    <a:cubicBezTo>
                      <a:pt x="66309" y="86448"/>
                      <a:pt x="69052" y="81253"/>
                      <a:pt x="69052" y="71214"/>
                    </a:cubicBezTo>
                    <a:cubicBezTo>
                      <a:pt x="68936" y="64618"/>
                      <a:pt x="68060" y="58022"/>
                      <a:pt x="66542" y="51601"/>
                    </a:cubicBezTo>
                    <a:lnTo>
                      <a:pt x="66542" y="51601"/>
                    </a:lnTo>
                    <a:cubicBezTo>
                      <a:pt x="67399" y="52380"/>
                      <a:pt x="68177" y="52950"/>
                      <a:pt x="68635" y="52950"/>
                    </a:cubicBezTo>
                    <a:cubicBezTo>
                      <a:pt x="68864" y="52950"/>
                      <a:pt x="69014" y="52808"/>
                      <a:pt x="69052" y="52477"/>
                    </a:cubicBezTo>
                    <a:cubicBezTo>
                      <a:pt x="69169" y="51193"/>
                      <a:pt x="67652" y="49033"/>
                      <a:pt x="66134" y="47282"/>
                    </a:cubicBezTo>
                    <a:lnTo>
                      <a:pt x="66134" y="47282"/>
                    </a:lnTo>
                    <a:cubicBezTo>
                      <a:pt x="66839" y="47685"/>
                      <a:pt x="67485" y="47914"/>
                      <a:pt x="67908" y="47914"/>
                    </a:cubicBezTo>
                    <a:cubicBezTo>
                      <a:pt x="68220" y="47914"/>
                      <a:pt x="68410" y="47788"/>
                      <a:pt x="68410" y="47515"/>
                    </a:cubicBezTo>
                    <a:cubicBezTo>
                      <a:pt x="68410" y="46873"/>
                      <a:pt x="66309" y="45472"/>
                      <a:pt x="64675" y="44597"/>
                    </a:cubicBezTo>
                    <a:cubicBezTo>
                      <a:pt x="59772" y="28078"/>
                      <a:pt x="51249" y="12260"/>
                      <a:pt x="41326" y="8699"/>
                    </a:cubicBezTo>
                    <a:cubicBezTo>
                      <a:pt x="43720" y="7356"/>
                      <a:pt x="46930" y="5313"/>
                      <a:pt x="46054" y="4438"/>
                    </a:cubicBezTo>
                    <a:cubicBezTo>
                      <a:pt x="45916" y="4290"/>
                      <a:pt x="45705" y="4224"/>
                      <a:pt x="45438" y="4224"/>
                    </a:cubicBezTo>
                    <a:cubicBezTo>
                      <a:pt x="44016" y="4224"/>
                      <a:pt x="41016" y="6097"/>
                      <a:pt x="39050" y="7473"/>
                    </a:cubicBezTo>
                    <a:cubicBezTo>
                      <a:pt x="40626" y="5255"/>
                      <a:pt x="42377" y="2395"/>
                      <a:pt x="41326" y="2103"/>
                    </a:cubicBezTo>
                    <a:cubicBezTo>
                      <a:pt x="41266" y="2083"/>
                      <a:pt x="41204" y="2073"/>
                      <a:pt x="41140" y="2073"/>
                    </a:cubicBezTo>
                    <a:cubicBezTo>
                      <a:pt x="40096" y="2073"/>
                      <a:pt x="38629" y="4689"/>
                      <a:pt x="37474" y="6889"/>
                    </a:cubicBezTo>
                    <a:cubicBezTo>
                      <a:pt x="37824" y="4380"/>
                      <a:pt x="37883" y="119"/>
                      <a:pt x="34614" y="2"/>
                    </a:cubicBezTo>
                    <a:cubicBezTo>
                      <a:pt x="34577" y="1"/>
                      <a:pt x="34540" y="0"/>
                      <a:pt x="34504" y="0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Google Shape;2697;p53"/>
              <p:cNvSpPr/>
              <p:nvPr/>
            </p:nvSpPr>
            <p:spPr>
              <a:xfrm>
                <a:off x="6665400" y="2475000"/>
                <a:ext cx="558720" cy="250560"/>
              </a:xfrm>
              <a:custGeom>
                <a:avLst/>
                <a:gdLst/>
                <a:ahLst/>
                <a:rect l="l" t="t" r="r" b="b"/>
                <a:pathLst>
                  <a:path w="22240" h="9964">
                    <a:moveTo>
                      <a:pt x="9058" y="0"/>
                    </a:moveTo>
                    <a:cubicBezTo>
                      <a:pt x="5829" y="0"/>
                      <a:pt x="0" y="275"/>
                      <a:pt x="0" y="2259"/>
                    </a:cubicBezTo>
                    <a:cubicBezTo>
                      <a:pt x="0" y="5002"/>
                      <a:pt x="4962" y="9964"/>
                      <a:pt x="11149" y="9964"/>
                    </a:cubicBezTo>
                    <a:cubicBezTo>
                      <a:pt x="17278" y="9964"/>
                      <a:pt x="22240" y="5002"/>
                      <a:pt x="22240" y="2259"/>
                    </a:cubicBezTo>
                    <a:cubicBezTo>
                      <a:pt x="22240" y="275"/>
                      <a:pt x="16441" y="0"/>
                      <a:pt x="13230" y="0"/>
                    </a:cubicBezTo>
                    <a:cubicBezTo>
                      <a:pt x="12000" y="0"/>
                      <a:pt x="11149" y="41"/>
                      <a:pt x="11149" y="41"/>
                    </a:cubicBezTo>
                    <a:cubicBezTo>
                      <a:pt x="11149" y="41"/>
                      <a:pt x="10294" y="0"/>
                      <a:pt x="9058" y="0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Google Shape;2698;p53"/>
              <p:cNvSpPr/>
              <p:nvPr/>
            </p:nvSpPr>
            <p:spPr>
              <a:xfrm>
                <a:off x="6961680" y="2011680"/>
                <a:ext cx="338760" cy="302760"/>
              </a:xfrm>
              <a:custGeom>
                <a:avLst/>
                <a:gdLst/>
                <a:ahLst/>
                <a:rect l="l" t="t" r="r" b="b"/>
                <a:pathLst>
                  <a:path w="13484" h="12035">
                    <a:moveTo>
                      <a:pt x="6730" y="1"/>
                    </a:moveTo>
                    <a:cubicBezTo>
                      <a:pt x="5009" y="1"/>
                      <a:pt x="3303" y="725"/>
                      <a:pt x="2102" y="2153"/>
                    </a:cubicBezTo>
                    <a:cubicBezTo>
                      <a:pt x="0" y="4722"/>
                      <a:pt x="292" y="8516"/>
                      <a:pt x="2860" y="10617"/>
                    </a:cubicBezTo>
                    <a:cubicBezTo>
                      <a:pt x="3994" y="11571"/>
                      <a:pt x="5368" y="12035"/>
                      <a:pt x="6728" y="12035"/>
                    </a:cubicBezTo>
                    <a:cubicBezTo>
                      <a:pt x="8449" y="12035"/>
                      <a:pt x="10151" y="11292"/>
                      <a:pt x="11324" y="9858"/>
                    </a:cubicBezTo>
                    <a:cubicBezTo>
                      <a:pt x="13484" y="7348"/>
                      <a:pt x="13134" y="3554"/>
                      <a:pt x="10624" y="1394"/>
                    </a:cubicBezTo>
                    <a:cubicBezTo>
                      <a:pt x="9484" y="462"/>
                      <a:pt x="8102" y="1"/>
                      <a:pt x="673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Google Shape;2699;p53"/>
              <p:cNvSpPr/>
              <p:nvPr/>
            </p:nvSpPr>
            <p:spPr>
              <a:xfrm>
                <a:off x="7039440" y="2131920"/>
                <a:ext cx="85680" cy="73440"/>
              </a:xfrm>
              <a:custGeom>
                <a:avLst/>
                <a:gdLst/>
                <a:ahLst/>
                <a:rect l="l" t="t" r="r" b="b"/>
                <a:pathLst>
                  <a:path w="3415" h="2925">
                    <a:moveTo>
                      <a:pt x="1644" y="1"/>
                    </a:moveTo>
                    <a:cubicBezTo>
                      <a:pt x="1449" y="1"/>
                      <a:pt x="1249" y="41"/>
                      <a:pt x="1052" y="130"/>
                    </a:cubicBezTo>
                    <a:cubicBezTo>
                      <a:pt x="293" y="480"/>
                      <a:pt x="1" y="1297"/>
                      <a:pt x="293" y="2056"/>
                    </a:cubicBezTo>
                    <a:cubicBezTo>
                      <a:pt x="552" y="2633"/>
                      <a:pt x="1096" y="2924"/>
                      <a:pt x="1637" y="2924"/>
                    </a:cubicBezTo>
                    <a:cubicBezTo>
                      <a:pt x="2191" y="2924"/>
                      <a:pt x="2741" y="2618"/>
                      <a:pt x="2978" y="1998"/>
                    </a:cubicBezTo>
                    <a:cubicBezTo>
                      <a:pt x="3414" y="979"/>
                      <a:pt x="2601" y="1"/>
                      <a:pt x="1644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17640" bIns="-176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Google Shape;2700;p53"/>
              <p:cNvSpPr/>
              <p:nvPr/>
            </p:nvSpPr>
            <p:spPr>
              <a:xfrm>
                <a:off x="6595200" y="2011680"/>
                <a:ext cx="338760" cy="302760"/>
              </a:xfrm>
              <a:custGeom>
                <a:avLst/>
                <a:gdLst/>
                <a:ahLst/>
                <a:rect l="l" t="t" r="r" b="b"/>
                <a:pathLst>
                  <a:path w="13485" h="12035">
                    <a:moveTo>
                      <a:pt x="6730" y="1"/>
                    </a:moveTo>
                    <a:cubicBezTo>
                      <a:pt x="5010" y="1"/>
                      <a:pt x="3303" y="725"/>
                      <a:pt x="2102" y="2153"/>
                    </a:cubicBezTo>
                    <a:cubicBezTo>
                      <a:pt x="1" y="4722"/>
                      <a:pt x="351" y="8516"/>
                      <a:pt x="2861" y="10617"/>
                    </a:cubicBezTo>
                    <a:cubicBezTo>
                      <a:pt x="3995" y="11571"/>
                      <a:pt x="5368" y="12035"/>
                      <a:pt x="6729" y="12035"/>
                    </a:cubicBezTo>
                    <a:cubicBezTo>
                      <a:pt x="8450" y="12035"/>
                      <a:pt x="10151" y="11292"/>
                      <a:pt x="11324" y="9858"/>
                    </a:cubicBezTo>
                    <a:cubicBezTo>
                      <a:pt x="13484" y="7348"/>
                      <a:pt x="13134" y="3554"/>
                      <a:pt x="10624" y="1394"/>
                    </a:cubicBezTo>
                    <a:cubicBezTo>
                      <a:pt x="9484" y="462"/>
                      <a:pt x="8103" y="1"/>
                      <a:pt x="673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Google Shape;2701;p53"/>
              <p:cNvSpPr/>
              <p:nvPr/>
            </p:nvSpPr>
            <p:spPr>
              <a:xfrm>
                <a:off x="6763680" y="2131920"/>
                <a:ext cx="85680" cy="73440"/>
              </a:xfrm>
              <a:custGeom>
                <a:avLst/>
                <a:gdLst/>
                <a:ahLst/>
                <a:rect l="l" t="t" r="r" b="b"/>
                <a:pathLst>
                  <a:path w="3424" h="2925">
                    <a:moveTo>
                      <a:pt x="1644" y="1"/>
                    </a:moveTo>
                    <a:cubicBezTo>
                      <a:pt x="1449" y="1"/>
                      <a:pt x="1248" y="41"/>
                      <a:pt x="1051" y="130"/>
                    </a:cubicBezTo>
                    <a:cubicBezTo>
                      <a:pt x="350" y="480"/>
                      <a:pt x="0" y="1297"/>
                      <a:pt x="350" y="2056"/>
                    </a:cubicBezTo>
                    <a:cubicBezTo>
                      <a:pt x="581" y="2633"/>
                      <a:pt x="1125" y="2924"/>
                      <a:pt x="1673" y="2924"/>
                    </a:cubicBezTo>
                    <a:cubicBezTo>
                      <a:pt x="2234" y="2924"/>
                      <a:pt x="2799" y="2618"/>
                      <a:pt x="3035" y="1998"/>
                    </a:cubicBezTo>
                    <a:cubicBezTo>
                      <a:pt x="3424" y="979"/>
                      <a:pt x="2602" y="1"/>
                      <a:pt x="1644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17640" bIns="-176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1" name="Google Shape;2702;p53"/>
          <p:cNvSpPr/>
          <p:nvPr/>
        </p:nvSpPr>
        <p:spPr>
          <a:xfrm>
            <a:off x="1085760" y="2295360"/>
            <a:ext cx="4532400" cy="1020960"/>
          </a:xfrm>
          <a:custGeom>
            <a:avLst/>
            <a:gdLst/>
            <a:ahLst/>
            <a:rect l="l" t="t" r="r" b="b"/>
            <a:pathLst>
              <a:path w="286778" h="39641">
                <a:moveTo>
                  <a:pt x="2485" y="0"/>
                </a:moveTo>
                <a:cubicBezTo>
                  <a:pt x="865" y="0"/>
                  <a:pt x="1" y="1944"/>
                  <a:pt x="1081" y="3186"/>
                </a:cubicBezTo>
                <a:lnTo>
                  <a:pt x="16473" y="20036"/>
                </a:lnTo>
                <a:lnTo>
                  <a:pt x="1189" y="36400"/>
                </a:lnTo>
                <a:cubicBezTo>
                  <a:pt x="55" y="37643"/>
                  <a:pt x="919" y="39641"/>
                  <a:pt x="2593" y="39641"/>
                </a:cubicBezTo>
                <a:lnTo>
                  <a:pt x="284239" y="39641"/>
                </a:lnTo>
                <a:cubicBezTo>
                  <a:pt x="285859" y="39641"/>
                  <a:pt x="286777" y="37697"/>
                  <a:pt x="285643" y="36454"/>
                </a:cubicBezTo>
                <a:lnTo>
                  <a:pt x="271169" y="19550"/>
                </a:lnTo>
                <a:lnTo>
                  <a:pt x="285589" y="3186"/>
                </a:lnTo>
                <a:cubicBezTo>
                  <a:pt x="286669" y="1944"/>
                  <a:pt x="285751" y="0"/>
                  <a:pt x="284131" y="0"/>
                </a:cubicBezTo>
                <a:lnTo>
                  <a:pt x="2485" y="0"/>
                </a:lnTo>
                <a:close/>
              </a:path>
            </a:pathLst>
          </a:custGeom>
          <a:solidFill>
            <a:srgbClr val="fd9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388880" y="2293920"/>
            <a:ext cx="3925800" cy="102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5f1e6"/>
                </a:solidFill>
                <a:latin typeface="Sriracha"/>
                <a:ea typeface="Sriracha"/>
              </a:rPr>
              <a:t>Acti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title"/>
          </p:nvPr>
        </p:nvSpPr>
        <p:spPr>
          <a:xfrm>
            <a:off x="2421000" y="1065240"/>
            <a:ext cx="1861920" cy="1176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0" spc="-1" strike="noStrike">
                <a:solidFill>
                  <a:srgbClr val="f5f1e6"/>
                </a:solidFill>
                <a:latin typeface="Sriracha"/>
                <a:ea typeface="Sriracha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subTitle"/>
          </p:nvPr>
        </p:nvSpPr>
        <p:spPr>
          <a:xfrm>
            <a:off x="1784160" y="3328560"/>
            <a:ext cx="3530520" cy="676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5f1e6"/>
                </a:solidFill>
                <a:latin typeface="Sriracha"/>
                <a:ea typeface="Nunito"/>
              </a:rPr>
              <a:t>Verdadero o f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Diagrama de flujo: conector 14"/>
          <p:cNvGrpSpPr/>
          <p:nvPr/>
        </p:nvGrpSpPr>
        <p:grpSpPr>
          <a:xfrm>
            <a:off x="1170000" y="3975120"/>
            <a:ext cx="1036800" cy="950760"/>
            <a:chOff x="1170000" y="3975120"/>
            <a:chExt cx="1036800" cy="950760"/>
          </a:xfrm>
        </p:grpSpPr>
        <p:pic>
          <p:nvPicPr>
            <p:cNvPr id="1676" name="Diagrama de flujo: conector 1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170000" y="3975120"/>
              <a:ext cx="10368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7" name=""/>
            <p:cNvSpPr/>
            <p:nvPr/>
          </p:nvSpPr>
          <p:spPr>
            <a:xfrm>
              <a:off x="1366920" y="4127400"/>
              <a:ext cx="647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Diagrama de flujo: conector 15"/>
          <p:cNvGrpSpPr/>
          <p:nvPr/>
        </p:nvGrpSpPr>
        <p:grpSpPr>
          <a:xfrm>
            <a:off x="3029040" y="3975120"/>
            <a:ext cx="1036440" cy="950760"/>
            <a:chOff x="3029040" y="3975120"/>
            <a:chExt cx="1036440" cy="950760"/>
          </a:xfrm>
        </p:grpSpPr>
        <p:pic>
          <p:nvPicPr>
            <p:cNvPr id="1679" name="Diagrama de flujo: conector 1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029040" y="3975120"/>
              <a:ext cx="10364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0" name=""/>
            <p:cNvSpPr/>
            <p:nvPr/>
          </p:nvSpPr>
          <p:spPr>
            <a:xfrm>
              <a:off x="3222720" y="4127400"/>
              <a:ext cx="647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Diagrama de flujo: conector 16"/>
          <p:cNvGrpSpPr/>
          <p:nvPr/>
        </p:nvGrpSpPr>
        <p:grpSpPr>
          <a:xfrm>
            <a:off x="5254560" y="3975120"/>
            <a:ext cx="1036800" cy="950760"/>
            <a:chOff x="5254560" y="3975120"/>
            <a:chExt cx="1036800" cy="950760"/>
          </a:xfrm>
        </p:grpSpPr>
        <p:pic>
          <p:nvPicPr>
            <p:cNvPr id="1682" name="Diagrama de flujo: conector 16" descr=""/>
            <p:cNvPicPr/>
            <p:nvPr/>
          </p:nvPicPr>
          <p:blipFill>
            <a:blip r:embed="rId5"/>
            <a:stretch/>
          </p:blipFill>
          <p:spPr>
            <a:xfrm>
              <a:off x="5254560" y="3975120"/>
              <a:ext cx="10368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3" name=""/>
            <p:cNvSpPr/>
            <p:nvPr/>
          </p:nvSpPr>
          <p:spPr>
            <a:xfrm>
              <a:off x="5448240" y="4127400"/>
              <a:ext cx="647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Google Shape;2705;p53"/>
          <p:cNvSpPr/>
          <p:nvPr/>
        </p:nvSpPr>
        <p:spPr>
          <a:xfrm>
            <a:off x="993600" y="4241880"/>
            <a:ext cx="1409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f1e6"/>
                </a:solidFill>
                <a:latin typeface="Sriracha"/>
                <a:ea typeface="Nunito"/>
              </a:rPr>
              <a:t>1 preg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Google Shape;2705;p53"/>
          <p:cNvSpPr/>
          <p:nvPr/>
        </p:nvSpPr>
        <p:spPr>
          <a:xfrm>
            <a:off x="2873520" y="4237200"/>
            <a:ext cx="1409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f1e6"/>
                </a:solidFill>
                <a:latin typeface="Sriracha"/>
                <a:ea typeface="Nunito"/>
              </a:rPr>
              <a:t>2 preg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Google Shape;2705;p53"/>
          <p:cNvSpPr/>
          <p:nvPr/>
        </p:nvSpPr>
        <p:spPr>
          <a:xfrm>
            <a:off x="5067360" y="4238640"/>
            <a:ext cx="1409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f1e6"/>
                </a:solidFill>
                <a:latin typeface="Sriracha"/>
                <a:ea typeface="Nunito"/>
              </a:rPr>
              <a:t>3 preg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Google Shape;2710;p54"/>
          <p:cNvSpPr/>
          <p:nvPr/>
        </p:nvSpPr>
        <p:spPr>
          <a:xfrm>
            <a:off x="1454040" y="3524400"/>
            <a:ext cx="1189080" cy="177480"/>
          </a:xfrm>
          <a:prstGeom prst="ellipse">
            <a:avLst/>
          </a:prstGeom>
          <a:solidFill>
            <a:srgbClr val="f5f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200" bIns="342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Google Shape;2711;p54"/>
          <p:cNvGrpSpPr/>
          <p:nvPr/>
        </p:nvGrpSpPr>
        <p:grpSpPr>
          <a:xfrm>
            <a:off x="712800" y="1441440"/>
            <a:ext cx="2409840" cy="2162160"/>
            <a:chOff x="712800" y="1441440"/>
            <a:chExt cx="2409840" cy="2162160"/>
          </a:xfrm>
        </p:grpSpPr>
        <p:sp>
          <p:nvSpPr>
            <p:cNvPr id="1689" name="Google Shape;2712;p54"/>
            <p:cNvSpPr/>
            <p:nvPr/>
          </p:nvSpPr>
          <p:spPr>
            <a:xfrm flipH="1">
              <a:off x="1564200" y="3251880"/>
              <a:ext cx="364680" cy="351720"/>
            </a:xfrm>
            <a:custGeom>
              <a:avLst/>
              <a:gdLst/>
              <a:ahLst/>
              <a:rect l="l" t="t" r="r" b="b"/>
              <a:pathLst>
                <a:path w="13148" h="12687">
                  <a:moveTo>
                    <a:pt x="5244" y="0"/>
                  </a:moveTo>
                  <a:cubicBezTo>
                    <a:pt x="5226" y="0"/>
                    <a:pt x="5217" y="0"/>
                    <a:pt x="5217" y="0"/>
                  </a:cubicBezTo>
                  <a:cubicBezTo>
                    <a:pt x="700" y="3670"/>
                    <a:pt x="3523" y="10930"/>
                    <a:pt x="3523" y="10930"/>
                  </a:cubicBezTo>
                  <a:cubicBezTo>
                    <a:pt x="3523" y="10930"/>
                    <a:pt x="175" y="12220"/>
                    <a:pt x="54" y="12543"/>
                  </a:cubicBezTo>
                  <a:cubicBezTo>
                    <a:pt x="1" y="12650"/>
                    <a:pt x="655" y="12686"/>
                    <a:pt x="1551" y="12686"/>
                  </a:cubicBezTo>
                  <a:cubicBezTo>
                    <a:pt x="3343" y="12686"/>
                    <a:pt x="6104" y="12543"/>
                    <a:pt x="6104" y="12543"/>
                  </a:cubicBezTo>
                  <a:cubicBezTo>
                    <a:pt x="6104" y="12543"/>
                    <a:pt x="5499" y="4477"/>
                    <a:pt x="9370" y="2219"/>
                  </a:cubicBezTo>
                  <a:cubicBezTo>
                    <a:pt x="13147" y="38"/>
                    <a:pt x="5759" y="0"/>
                    <a:pt x="5244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Google Shape;2713;p54"/>
            <p:cNvSpPr/>
            <p:nvPr/>
          </p:nvSpPr>
          <p:spPr>
            <a:xfrm flipH="1">
              <a:off x="2083680" y="3251880"/>
              <a:ext cx="364320" cy="351720"/>
            </a:xfrm>
            <a:custGeom>
              <a:avLst/>
              <a:gdLst/>
              <a:ahLst/>
              <a:rect l="l" t="t" r="r" b="b"/>
              <a:pathLst>
                <a:path w="13136" h="12687">
                  <a:moveTo>
                    <a:pt x="5271" y="0"/>
                  </a:moveTo>
                  <a:cubicBezTo>
                    <a:pt x="5253" y="0"/>
                    <a:pt x="5243" y="0"/>
                    <a:pt x="5243" y="0"/>
                  </a:cubicBezTo>
                  <a:cubicBezTo>
                    <a:pt x="726" y="3670"/>
                    <a:pt x="3549" y="10930"/>
                    <a:pt x="3549" y="10930"/>
                  </a:cubicBezTo>
                  <a:cubicBezTo>
                    <a:pt x="3549" y="10930"/>
                    <a:pt x="202" y="12220"/>
                    <a:pt x="41" y="12543"/>
                  </a:cubicBezTo>
                  <a:cubicBezTo>
                    <a:pt x="0" y="12650"/>
                    <a:pt x="659" y="12686"/>
                    <a:pt x="1555" y="12686"/>
                  </a:cubicBezTo>
                  <a:cubicBezTo>
                    <a:pt x="3348" y="12686"/>
                    <a:pt x="6090" y="12543"/>
                    <a:pt x="6090" y="12543"/>
                  </a:cubicBezTo>
                  <a:cubicBezTo>
                    <a:pt x="6090" y="12543"/>
                    <a:pt x="5525" y="4477"/>
                    <a:pt x="9397" y="2219"/>
                  </a:cubicBezTo>
                  <a:cubicBezTo>
                    <a:pt x="13135" y="38"/>
                    <a:pt x="5783" y="0"/>
                    <a:pt x="5271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Google Shape;2714;p54"/>
            <p:cNvSpPr/>
            <p:nvPr/>
          </p:nvSpPr>
          <p:spPr>
            <a:xfrm flipH="1">
              <a:off x="2184480" y="1441440"/>
              <a:ext cx="163440" cy="245880"/>
            </a:xfrm>
            <a:custGeom>
              <a:avLst/>
              <a:gdLst/>
              <a:ahLst/>
              <a:rect l="l" t="t" r="r" b="b"/>
              <a:pathLst>
                <a:path w="5848" h="8854">
                  <a:moveTo>
                    <a:pt x="3952" y="1"/>
                  </a:moveTo>
                  <a:lnTo>
                    <a:pt x="3952" y="1"/>
                  </a:lnTo>
                  <a:cubicBezTo>
                    <a:pt x="2621" y="323"/>
                    <a:pt x="1533" y="1170"/>
                    <a:pt x="847" y="2340"/>
                  </a:cubicBezTo>
                  <a:cubicBezTo>
                    <a:pt x="161" y="3429"/>
                    <a:pt x="0" y="4800"/>
                    <a:pt x="323" y="6050"/>
                  </a:cubicBezTo>
                  <a:cubicBezTo>
                    <a:pt x="565" y="6978"/>
                    <a:pt x="1129" y="7824"/>
                    <a:pt x="1976" y="8389"/>
                  </a:cubicBezTo>
                  <a:cubicBezTo>
                    <a:pt x="2453" y="8699"/>
                    <a:pt x="3000" y="8854"/>
                    <a:pt x="3559" y="8854"/>
                  </a:cubicBezTo>
                  <a:cubicBezTo>
                    <a:pt x="3946" y="8854"/>
                    <a:pt x="4339" y="8780"/>
                    <a:pt x="4719" y="8631"/>
                  </a:cubicBezTo>
                  <a:cubicBezTo>
                    <a:pt x="5606" y="8187"/>
                    <a:pt x="5848" y="7381"/>
                    <a:pt x="5767" y="6413"/>
                  </a:cubicBezTo>
                  <a:cubicBezTo>
                    <a:pt x="3186" y="5364"/>
                    <a:pt x="2299" y="2219"/>
                    <a:pt x="3952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Google Shape;2715;p54"/>
            <p:cNvSpPr/>
            <p:nvPr/>
          </p:nvSpPr>
          <p:spPr>
            <a:xfrm flipH="1">
              <a:off x="1224000" y="1481760"/>
              <a:ext cx="1419840" cy="1951200"/>
            </a:xfrm>
            <a:custGeom>
              <a:avLst/>
              <a:gdLst/>
              <a:ahLst/>
              <a:rect l="l" t="t" r="r" b="b"/>
              <a:pathLst>
                <a:path w="51179" h="70363">
                  <a:moveTo>
                    <a:pt x="24725" y="0"/>
                  </a:moveTo>
                  <a:cubicBezTo>
                    <a:pt x="20753" y="0"/>
                    <a:pt x="16831" y="1598"/>
                    <a:pt x="13955" y="4670"/>
                  </a:cubicBezTo>
                  <a:cubicBezTo>
                    <a:pt x="12059" y="6605"/>
                    <a:pt x="10849" y="9106"/>
                    <a:pt x="10486" y="11808"/>
                  </a:cubicBezTo>
                  <a:cubicBezTo>
                    <a:pt x="10123" y="14470"/>
                    <a:pt x="10849" y="17212"/>
                    <a:pt x="12543" y="19349"/>
                  </a:cubicBezTo>
                  <a:cubicBezTo>
                    <a:pt x="8833" y="20761"/>
                    <a:pt x="5849" y="24310"/>
                    <a:pt x="5486" y="28262"/>
                  </a:cubicBezTo>
                  <a:cubicBezTo>
                    <a:pt x="5163" y="32295"/>
                    <a:pt x="7099" y="36207"/>
                    <a:pt x="10527" y="38385"/>
                  </a:cubicBezTo>
                  <a:cubicBezTo>
                    <a:pt x="5647" y="40240"/>
                    <a:pt x="2058" y="44474"/>
                    <a:pt x="969" y="49556"/>
                  </a:cubicBezTo>
                  <a:cubicBezTo>
                    <a:pt x="1" y="54758"/>
                    <a:pt x="1654" y="60122"/>
                    <a:pt x="5405" y="63832"/>
                  </a:cubicBezTo>
                  <a:cubicBezTo>
                    <a:pt x="8954" y="67301"/>
                    <a:pt x="13955" y="68874"/>
                    <a:pt x="18875" y="69680"/>
                  </a:cubicBezTo>
                  <a:cubicBezTo>
                    <a:pt x="21385" y="70106"/>
                    <a:pt x="23952" y="70363"/>
                    <a:pt x="26509" y="70363"/>
                  </a:cubicBezTo>
                  <a:cubicBezTo>
                    <a:pt x="28800" y="70363"/>
                    <a:pt x="31083" y="70157"/>
                    <a:pt x="33313" y="69680"/>
                  </a:cubicBezTo>
                  <a:cubicBezTo>
                    <a:pt x="38071" y="68672"/>
                    <a:pt x="42629" y="66494"/>
                    <a:pt x="45936" y="62945"/>
                  </a:cubicBezTo>
                  <a:cubicBezTo>
                    <a:pt x="49243" y="59396"/>
                    <a:pt x="51178" y="54476"/>
                    <a:pt x="50654" y="49677"/>
                  </a:cubicBezTo>
                  <a:cubicBezTo>
                    <a:pt x="50130" y="44878"/>
                    <a:pt x="46984" y="40280"/>
                    <a:pt x="42467" y="38586"/>
                  </a:cubicBezTo>
                  <a:cubicBezTo>
                    <a:pt x="45452" y="35844"/>
                    <a:pt x="46863" y="31771"/>
                    <a:pt x="46137" y="27778"/>
                  </a:cubicBezTo>
                  <a:cubicBezTo>
                    <a:pt x="45411" y="23786"/>
                    <a:pt x="42548" y="20922"/>
                    <a:pt x="38757" y="19430"/>
                  </a:cubicBezTo>
                  <a:cubicBezTo>
                    <a:pt x="40935" y="12856"/>
                    <a:pt x="38233" y="5638"/>
                    <a:pt x="32304" y="2089"/>
                  </a:cubicBezTo>
                  <a:cubicBezTo>
                    <a:pt x="29943" y="685"/>
                    <a:pt x="27324" y="0"/>
                    <a:pt x="24725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Google Shape;2716;p54"/>
            <p:cNvSpPr/>
            <p:nvPr/>
          </p:nvSpPr>
          <p:spPr>
            <a:xfrm flipH="1">
              <a:off x="1886040" y="1638000"/>
              <a:ext cx="241560" cy="240480"/>
            </a:xfrm>
            <a:custGeom>
              <a:avLst/>
              <a:gdLst/>
              <a:ahLst/>
              <a:rect l="l" t="t" r="r" b="b"/>
              <a:pathLst>
                <a:path w="8712" h="8672">
                  <a:moveTo>
                    <a:pt x="4356" y="1"/>
                  </a:moveTo>
                  <a:cubicBezTo>
                    <a:pt x="1936" y="1"/>
                    <a:pt x="1" y="1936"/>
                    <a:pt x="1" y="4356"/>
                  </a:cubicBezTo>
                  <a:cubicBezTo>
                    <a:pt x="1" y="6735"/>
                    <a:pt x="1936" y="8671"/>
                    <a:pt x="4356" y="8671"/>
                  </a:cubicBezTo>
                  <a:cubicBezTo>
                    <a:pt x="6735" y="8671"/>
                    <a:pt x="8712" y="6735"/>
                    <a:pt x="8712" y="4356"/>
                  </a:cubicBezTo>
                  <a:cubicBezTo>
                    <a:pt x="8712" y="1936"/>
                    <a:pt x="6735" y="1"/>
                    <a:pt x="4356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Google Shape;2717;p54"/>
            <p:cNvSpPr/>
            <p:nvPr/>
          </p:nvSpPr>
          <p:spPr>
            <a:xfrm flipH="1">
              <a:off x="1952280" y="1699560"/>
              <a:ext cx="50040" cy="42840"/>
            </a:xfrm>
            <a:custGeom>
              <a:avLst/>
              <a:gdLst/>
              <a:ahLst/>
              <a:rect l="l" t="t" r="r" b="b"/>
              <a:pathLst>
                <a:path w="1816" h="1557">
                  <a:moveTo>
                    <a:pt x="1116" y="1"/>
                  </a:moveTo>
                  <a:cubicBezTo>
                    <a:pt x="1094" y="1"/>
                    <a:pt x="1072" y="2"/>
                    <a:pt x="1049" y="4"/>
                  </a:cubicBezTo>
                  <a:cubicBezTo>
                    <a:pt x="363" y="4"/>
                    <a:pt x="0" y="810"/>
                    <a:pt x="484" y="1334"/>
                  </a:cubicBezTo>
                  <a:cubicBezTo>
                    <a:pt x="638" y="1488"/>
                    <a:pt x="827" y="1556"/>
                    <a:pt x="1015" y="1556"/>
                  </a:cubicBezTo>
                  <a:cubicBezTo>
                    <a:pt x="1420" y="1556"/>
                    <a:pt x="1815" y="1238"/>
                    <a:pt x="1815" y="770"/>
                  </a:cubicBezTo>
                  <a:cubicBezTo>
                    <a:pt x="1815" y="349"/>
                    <a:pt x="1525" y="1"/>
                    <a:pt x="1116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8240" bIns="-48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Google Shape;2718;p54"/>
            <p:cNvSpPr/>
            <p:nvPr/>
          </p:nvSpPr>
          <p:spPr>
            <a:xfrm flipH="1">
              <a:off x="1920600" y="2719800"/>
              <a:ext cx="451080" cy="344880"/>
            </a:xfrm>
            <a:custGeom>
              <a:avLst/>
              <a:gdLst/>
              <a:ahLst/>
              <a:rect l="l" t="t" r="r" b="b"/>
              <a:pathLst>
                <a:path w="16259" h="12441">
                  <a:moveTo>
                    <a:pt x="8103" y="0"/>
                  </a:moveTo>
                  <a:cubicBezTo>
                    <a:pt x="6207" y="0"/>
                    <a:pt x="4332" y="861"/>
                    <a:pt x="3111" y="2489"/>
                  </a:cubicBezTo>
                  <a:cubicBezTo>
                    <a:pt x="0" y="6662"/>
                    <a:pt x="3063" y="12441"/>
                    <a:pt x="8036" y="12441"/>
                  </a:cubicBezTo>
                  <a:cubicBezTo>
                    <a:pt x="8350" y="12441"/>
                    <a:pt x="8671" y="12418"/>
                    <a:pt x="8999" y="12370"/>
                  </a:cubicBezTo>
                  <a:cubicBezTo>
                    <a:pt x="14484" y="11604"/>
                    <a:pt x="16258" y="4546"/>
                    <a:pt x="11822" y="1239"/>
                  </a:cubicBezTo>
                  <a:cubicBezTo>
                    <a:pt x="10708" y="403"/>
                    <a:pt x="9401" y="0"/>
                    <a:pt x="8103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Google Shape;2719;p54"/>
            <p:cNvSpPr/>
            <p:nvPr/>
          </p:nvSpPr>
          <p:spPr>
            <a:xfrm flipH="1">
              <a:off x="2121480" y="2790360"/>
              <a:ext cx="80640" cy="62280"/>
            </a:xfrm>
            <a:custGeom>
              <a:avLst/>
              <a:gdLst/>
              <a:ahLst/>
              <a:rect l="l" t="t" r="r" b="b"/>
              <a:pathLst>
                <a:path w="2917" h="2252">
                  <a:moveTo>
                    <a:pt x="1434" y="1"/>
                  </a:moveTo>
                  <a:cubicBezTo>
                    <a:pt x="1103" y="1"/>
                    <a:pt x="772" y="146"/>
                    <a:pt x="537" y="428"/>
                  </a:cubicBezTo>
                  <a:cubicBezTo>
                    <a:pt x="1" y="1194"/>
                    <a:pt x="556" y="2252"/>
                    <a:pt x="1478" y="2252"/>
                  </a:cubicBezTo>
                  <a:cubicBezTo>
                    <a:pt x="1526" y="2252"/>
                    <a:pt x="1576" y="2249"/>
                    <a:pt x="1626" y="2243"/>
                  </a:cubicBezTo>
                  <a:cubicBezTo>
                    <a:pt x="2594" y="2082"/>
                    <a:pt x="2916" y="831"/>
                    <a:pt x="2110" y="226"/>
                  </a:cubicBezTo>
                  <a:cubicBezTo>
                    <a:pt x="1908" y="75"/>
                    <a:pt x="1671" y="1"/>
                    <a:pt x="1434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800" bIns="-28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Google Shape;2720;p54"/>
            <p:cNvSpPr/>
            <p:nvPr/>
          </p:nvSpPr>
          <p:spPr>
            <a:xfrm flipH="1">
              <a:off x="2054160" y="2133360"/>
              <a:ext cx="286200" cy="241200"/>
            </a:xfrm>
            <a:custGeom>
              <a:avLst/>
              <a:gdLst/>
              <a:ahLst/>
              <a:rect l="l" t="t" r="r" b="b"/>
              <a:pathLst>
                <a:path w="10323" h="8710">
                  <a:moveTo>
                    <a:pt x="4543" y="0"/>
                  </a:moveTo>
                  <a:cubicBezTo>
                    <a:pt x="2288" y="0"/>
                    <a:pt x="354" y="1762"/>
                    <a:pt x="200" y="4043"/>
                  </a:cubicBezTo>
                  <a:cubicBezTo>
                    <a:pt x="0" y="6779"/>
                    <a:pt x="2218" y="8710"/>
                    <a:pt x="4575" y="8710"/>
                  </a:cubicBezTo>
                  <a:cubicBezTo>
                    <a:pt x="5553" y="8710"/>
                    <a:pt x="6555" y="8378"/>
                    <a:pt x="7419" y="7633"/>
                  </a:cubicBezTo>
                  <a:cubicBezTo>
                    <a:pt x="10322" y="5092"/>
                    <a:pt x="8709" y="252"/>
                    <a:pt x="4837" y="10"/>
                  </a:cubicBezTo>
                  <a:cubicBezTo>
                    <a:pt x="4739" y="4"/>
                    <a:pt x="4641" y="0"/>
                    <a:pt x="4543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Google Shape;2721;p54"/>
            <p:cNvSpPr/>
            <p:nvPr/>
          </p:nvSpPr>
          <p:spPr>
            <a:xfrm flipH="1">
              <a:off x="2219760" y="2196000"/>
              <a:ext cx="59040" cy="43560"/>
            </a:xfrm>
            <a:custGeom>
              <a:avLst/>
              <a:gdLst/>
              <a:ahLst/>
              <a:rect l="l" t="t" r="r" b="b"/>
              <a:pathLst>
                <a:path w="2128" h="1581">
                  <a:moveTo>
                    <a:pt x="1076" y="1"/>
                  </a:moveTo>
                  <a:cubicBezTo>
                    <a:pt x="105" y="1"/>
                    <a:pt x="1" y="1455"/>
                    <a:pt x="995" y="1575"/>
                  </a:cubicBezTo>
                  <a:cubicBezTo>
                    <a:pt x="1034" y="1579"/>
                    <a:pt x="1071" y="1581"/>
                    <a:pt x="1107" y="1581"/>
                  </a:cubicBezTo>
                  <a:cubicBezTo>
                    <a:pt x="2088" y="1581"/>
                    <a:pt x="2128" y="41"/>
                    <a:pt x="1116" y="2"/>
                  </a:cubicBezTo>
                  <a:cubicBezTo>
                    <a:pt x="1103" y="1"/>
                    <a:pt x="1090" y="1"/>
                    <a:pt x="1076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520" bIns="-47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Google Shape;2722;p54"/>
            <p:cNvSpPr/>
            <p:nvPr/>
          </p:nvSpPr>
          <p:spPr>
            <a:xfrm flipH="1">
              <a:off x="1768680" y="2133360"/>
              <a:ext cx="285480" cy="241200"/>
            </a:xfrm>
            <a:custGeom>
              <a:avLst/>
              <a:gdLst/>
              <a:ahLst/>
              <a:rect l="l" t="t" r="r" b="b"/>
              <a:pathLst>
                <a:path w="10295" h="8710">
                  <a:moveTo>
                    <a:pt x="4515" y="0"/>
                  </a:moveTo>
                  <a:cubicBezTo>
                    <a:pt x="2263" y="0"/>
                    <a:pt x="365" y="1762"/>
                    <a:pt x="172" y="4043"/>
                  </a:cubicBezTo>
                  <a:cubicBezTo>
                    <a:pt x="1" y="6779"/>
                    <a:pt x="2207" y="8710"/>
                    <a:pt x="4554" y="8710"/>
                  </a:cubicBezTo>
                  <a:cubicBezTo>
                    <a:pt x="5529" y="8710"/>
                    <a:pt x="6527" y="8378"/>
                    <a:pt x="7390" y="7633"/>
                  </a:cubicBezTo>
                  <a:cubicBezTo>
                    <a:pt x="10294" y="5092"/>
                    <a:pt x="8681" y="293"/>
                    <a:pt x="4809" y="10"/>
                  </a:cubicBezTo>
                  <a:cubicBezTo>
                    <a:pt x="4711" y="4"/>
                    <a:pt x="4613" y="0"/>
                    <a:pt x="4515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Google Shape;2723;p54"/>
            <p:cNvSpPr/>
            <p:nvPr/>
          </p:nvSpPr>
          <p:spPr>
            <a:xfrm flipH="1">
              <a:off x="1934640" y="2196000"/>
              <a:ext cx="60480" cy="43920"/>
            </a:xfrm>
            <a:custGeom>
              <a:avLst/>
              <a:gdLst/>
              <a:ahLst/>
              <a:rect l="l" t="t" r="r" b="b"/>
              <a:pathLst>
                <a:path w="2184" h="1586">
                  <a:moveTo>
                    <a:pt x="1061" y="0"/>
                  </a:moveTo>
                  <a:cubicBezTo>
                    <a:pt x="76" y="0"/>
                    <a:pt x="1" y="1541"/>
                    <a:pt x="1051" y="1580"/>
                  </a:cubicBezTo>
                  <a:cubicBezTo>
                    <a:pt x="1090" y="1584"/>
                    <a:pt x="1127" y="1586"/>
                    <a:pt x="1163" y="1586"/>
                  </a:cubicBezTo>
                  <a:cubicBezTo>
                    <a:pt x="2144" y="1586"/>
                    <a:pt x="2184" y="46"/>
                    <a:pt x="1172" y="7"/>
                  </a:cubicBezTo>
                  <a:cubicBezTo>
                    <a:pt x="1134" y="2"/>
                    <a:pt x="1097" y="0"/>
                    <a:pt x="1061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160" bIns="-47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Google Shape;2724;p54"/>
            <p:cNvSpPr/>
            <p:nvPr/>
          </p:nvSpPr>
          <p:spPr>
            <a:xfrm flipH="1">
              <a:off x="1740600" y="1757880"/>
              <a:ext cx="277920" cy="247680"/>
            </a:xfrm>
            <a:custGeom>
              <a:avLst/>
              <a:gdLst/>
              <a:ahLst/>
              <a:rect l="l" t="t" r="r" b="b"/>
              <a:pathLst>
                <a:path w="10023" h="8940">
                  <a:moveTo>
                    <a:pt x="7946" y="1"/>
                  </a:moveTo>
                  <a:cubicBezTo>
                    <a:pt x="8000" y="48"/>
                    <a:pt x="8054" y="96"/>
                    <a:pt x="8106" y="146"/>
                  </a:cubicBezTo>
                  <a:cubicBezTo>
                    <a:pt x="8106" y="138"/>
                    <a:pt x="8107" y="130"/>
                    <a:pt x="8107" y="122"/>
                  </a:cubicBezTo>
                  <a:lnTo>
                    <a:pt x="7946" y="1"/>
                  </a:lnTo>
                  <a:close/>
                  <a:moveTo>
                    <a:pt x="8106" y="146"/>
                  </a:moveTo>
                  <a:cubicBezTo>
                    <a:pt x="7952" y="3832"/>
                    <a:pt x="4931" y="6609"/>
                    <a:pt x="1432" y="6609"/>
                  </a:cubicBezTo>
                  <a:cubicBezTo>
                    <a:pt x="962" y="6609"/>
                    <a:pt x="483" y="6558"/>
                    <a:pt x="1" y="6453"/>
                  </a:cubicBezTo>
                  <a:cubicBezTo>
                    <a:pt x="1031" y="7999"/>
                    <a:pt x="2800" y="8940"/>
                    <a:pt x="4664" y="8940"/>
                  </a:cubicBezTo>
                  <a:cubicBezTo>
                    <a:pt x="4843" y="8940"/>
                    <a:pt x="5023" y="8931"/>
                    <a:pt x="5203" y="8913"/>
                  </a:cubicBezTo>
                  <a:cubicBezTo>
                    <a:pt x="7220" y="8631"/>
                    <a:pt x="8873" y="7220"/>
                    <a:pt x="9478" y="5284"/>
                  </a:cubicBezTo>
                  <a:cubicBezTo>
                    <a:pt x="10022" y="3419"/>
                    <a:pt x="9481" y="1442"/>
                    <a:pt x="8106" y="146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Google Shape;2725;p54"/>
            <p:cNvSpPr/>
            <p:nvPr/>
          </p:nvSpPr>
          <p:spPr>
            <a:xfrm flipH="1">
              <a:off x="1724400" y="2367360"/>
              <a:ext cx="654480" cy="205560"/>
            </a:xfrm>
            <a:custGeom>
              <a:avLst/>
              <a:gdLst/>
              <a:ahLst/>
              <a:rect l="l" t="t" r="r" b="b"/>
              <a:pathLst>
                <a:path w="23594" h="7422">
                  <a:moveTo>
                    <a:pt x="1" y="0"/>
                  </a:moveTo>
                  <a:cubicBezTo>
                    <a:pt x="2058" y="4275"/>
                    <a:pt x="6453" y="7340"/>
                    <a:pt x="11212" y="7421"/>
                  </a:cubicBezTo>
                  <a:cubicBezTo>
                    <a:pt x="11244" y="7421"/>
                    <a:pt x="11276" y="7421"/>
                    <a:pt x="11308" y="7421"/>
                  </a:cubicBezTo>
                  <a:cubicBezTo>
                    <a:pt x="16044" y="7421"/>
                    <a:pt x="21470" y="4448"/>
                    <a:pt x="23593" y="242"/>
                  </a:cubicBezTo>
                  <a:cubicBezTo>
                    <a:pt x="20126" y="2778"/>
                    <a:pt x="16045" y="4039"/>
                    <a:pt x="11968" y="4039"/>
                  </a:cubicBezTo>
                  <a:cubicBezTo>
                    <a:pt x="7747" y="4039"/>
                    <a:pt x="3529" y="2688"/>
                    <a:pt x="1" y="0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Google Shape;2726;p54"/>
            <p:cNvSpPr/>
            <p:nvPr/>
          </p:nvSpPr>
          <p:spPr>
            <a:xfrm flipH="1">
              <a:off x="2004120" y="3129120"/>
              <a:ext cx="286920" cy="187920"/>
            </a:xfrm>
            <a:custGeom>
              <a:avLst/>
              <a:gdLst/>
              <a:ahLst/>
              <a:rect l="l" t="t" r="r" b="b"/>
              <a:pathLst>
                <a:path w="10351" h="6777">
                  <a:moveTo>
                    <a:pt x="4584" y="1"/>
                  </a:moveTo>
                  <a:cubicBezTo>
                    <a:pt x="4254" y="1"/>
                    <a:pt x="3932" y="51"/>
                    <a:pt x="3630" y="160"/>
                  </a:cubicBezTo>
                  <a:cubicBezTo>
                    <a:pt x="0" y="1450"/>
                    <a:pt x="3065" y="6653"/>
                    <a:pt x="5969" y="6774"/>
                  </a:cubicBezTo>
                  <a:cubicBezTo>
                    <a:pt x="6011" y="6775"/>
                    <a:pt x="6054" y="6776"/>
                    <a:pt x="6096" y="6776"/>
                  </a:cubicBezTo>
                  <a:cubicBezTo>
                    <a:pt x="7061" y="6776"/>
                    <a:pt x="8013" y="6336"/>
                    <a:pt x="8631" y="5564"/>
                  </a:cubicBezTo>
                  <a:cubicBezTo>
                    <a:pt x="10350" y="3164"/>
                    <a:pt x="7203" y="1"/>
                    <a:pt x="4584" y="1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Google Shape;2727;p54"/>
            <p:cNvSpPr/>
            <p:nvPr/>
          </p:nvSpPr>
          <p:spPr>
            <a:xfrm flipH="1">
              <a:off x="2472480" y="2243160"/>
              <a:ext cx="649800" cy="693360"/>
            </a:xfrm>
            <a:custGeom>
              <a:avLst/>
              <a:gdLst/>
              <a:ahLst/>
              <a:rect l="l" t="t" r="r" b="b"/>
              <a:pathLst>
                <a:path w="23433" h="25005">
                  <a:moveTo>
                    <a:pt x="9075" y="1"/>
                  </a:moveTo>
                  <a:cubicBezTo>
                    <a:pt x="7542" y="2138"/>
                    <a:pt x="7059" y="5203"/>
                    <a:pt x="8470" y="7421"/>
                  </a:cubicBezTo>
                  <a:cubicBezTo>
                    <a:pt x="6212" y="6534"/>
                    <a:pt x="4477" y="4679"/>
                    <a:pt x="3792" y="2340"/>
                  </a:cubicBezTo>
                  <a:cubicBezTo>
                    <a:pt x="3026" y="4880"/>
                    <a:pt x="3953" y="7623"/>
                    <a:pt x="6131" y="9196"/>
                  </a:cubicBezTo>
                  <a:cubicBezTo>
                    <a:pt x="3429" y="9196"/>
                    <a:pt x="1009" y="7582"/>
                    <a:pt x="1" y="5082"/>
                  </a:cubicBezTo>
                  <a:cubicBezTo>
                    <a:pt x="384" y="9634"/>
                    <a:pt x="4213" y="13098"/>
                    <a:pt x="8702" y="13098"/>
                  </a:cubicBezTo>
                  <a:cubicBezTo>
                    <a:pt x="8946" y="13098"/>
                    <a:pt x="9191" y="13088"/>
                    <a:pt x="9438" y="13067"/>
                  </a:cubicBezTo>
                  <a:cubicBezTo>
                    <a:pt x="12261" y="18189"/>
                    <a:pt x="16536" y="22343"/>
                    <a:pt x="21779" y="25005"/>
                  </a:cubicBezTo>
                  <a:cubicBezTo>
                    <a:pt x="22182" y="22182"/>
                    <a:pt x="22989" y="19842"/>
                    <a:pt x="23432" y="17019"/>
                  </a:cubicBezTo>
                  <a:cubicBezTo>
                    <a:pt x="16536" y="14438"/>
                    <a:pt x="13874" y="9196"/>
                    <a:pt x="13874" y="9196"/>
                  </a:cubicBezTo>
                  <a:cubicBezTo>
                    <a:pt x="13874" y="9196"/>
                    <a:pt x="19803" y="6252"/>
                    <a:pt x="16455" y="2138"/>
                  </a:cubicBezTo>
                  <a:cubicBezTo>
                    <a:pt x="16455" y="2138"/>
                    <a:pt x="15321" y="6307"/>
                    <a:pt x="12786" y="6307"/>
                  </a:cubicBezTo>
                  <a:cubicBezTo>
                    <a:pt x="12413" y="6307"/>
                    <a:pt x="12010" y="6216"/>
                    <a:pt x="11575" y="6010"/>
                  </a:cubicBezTo>
                  <a:cubicBezTo>
                    <a:pt x="8188" y="4397"/>
                    <a:pt x="9075" y="1"/>
                    <a:pt x="9075" y="1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Google Shape;2728;p54"/>
            <p:cNvSpPr/>
            <p:nvPr/>
          </p:nvSpPr>
          <p:spPr>
            <a:xfrm flipH="1">
              <a:off x="712440" y="2349360"/>
              <a:ext cx="682200" cy="649800"/>
            </a:xfrm>
            <a:custGeom>
              <a:avLst/>
              <a:gdLst/>
              <a:ahLst/>
              <a:rect l="l" t="t" r="r" b="b"/>
              <a:pathLst>
                <a:path w="24601" h="23433">
                  <a:moveTo>
                    <a:pt x="16091" y="1"/>
                  </a:moveTo>
                  <a:cubicBezTo>
                    <a:pt x="16091" y="1"/>
                    <a:pt x="16494" y="4437"/>
                    <a:pt x="12946" y="5687"/>
                  </a:cubicBezTo>
                  <a:cubicBezTo>
                    <a:pt x="12590" y="5813"/>
                    <a:pt x="12260" y="5869"/>
                    <a:pt x="11956" y="5869"/>
                  </a:cubicBezTo>
                  <a:cubicBezTo>
                    <a:pt x="9228" y="5869"/>
                    <a:pt x="8510" y="1332"/>
                    <a:pt x="8509" y="1332"/>
                  </a:cubicBezTo>
                  <a:cubicBezTo>
                    <a:pt x="4799" y="5042"/>
                    <a:pt x="10324" y="8591"/>
                    <a:pt x="10324" y="8591"/>
                  </a:cubicBezTo>
                  <a:cubicBezTo>
                    <a:pt x="10324" y="8591"/>
                    <a:pt x="7138" y="13511"/>
                    <a:pt x="0" y="15326"/>
                  </a:cubicBezTo>
                  <a:cubicBezTo>
                    <a:pt x="121" y="18149"/>
                    <a:pt x="645" y="20609"/>
                    <a:pt x="766" y="23432"/>
                  </a:cubicBezTo>
                  <a:cubicBezTo>
                    <a:pt x="6251" y="21375"/>
                    <a:pt x="10970" y="17705"/>
                    <a:pt x="14317" y="12946"/>
                  </a:cubicBezTo>
                  <a:cubicBezTo>
                    <a:pt x="14884" y="13057"/>
                    <a:pt x="15449" y="13110"/>
                    <a:pt x="16006" y="13110"/>
                  </a:cubicBezTo>
                  <a:cubicBezTo>
                    <a:pt x="20120" y="13110"/>
                    <a:pt x="23784" y="10201"/>
                    <a:pt x="24601" y="6010"/>
                  </a:cubicBezTo>
                  <a:cubicBezTo>
                    <a:pt x="23436" y="8158"/>
                    <a:pt x="21219" y="9485"/>
                    <a:pt x="18840" y="9485"/>
                  </a:cubicBezTo>
                  <a:cubicBezTo>
                    <a:pt x="18584" y="9485"/>
                    <a:pt x="18326" y="9469"/>
                    <a:pt x="18067" y="9438"/>
                  </a:cubicBezTo>
                  <a:cubicBezTo>
                    <a:pt x="20366" y="8107"/>
                    <a:pt x="21576" y="5486"/>
                    <a:pt x="21132" y="2864"/>
                  </a:cubicBezTo>
                  <a:cubicBezTo>
                    <a:pt x="20205" y="5123"/>
                    <a:pt x="18269" y="6857"/>
                    <a:pt x="15890" y="7462"/>
                  </a:cubicBezTo>
                  <a:cubicBezTo>
                    <a:pt x="17543" y="5405"/>
                    <a:pt x="17422" y="2300"/>
                    <a:pt x="16091" y="1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Google Shape;2729;p54"/>
            <p:cNvSpPr/>
            <p:nvPr/>
          </p:nvSpPr>
          <p:spPr>
            <a:xfrm flipH="1">
              <a:off x="1581120" y="1441440"/>
              <a:ext cx="163440" cy="245880"/>
            </a:xfrm>
            <a:custGeom>
              <a:avLst/>
              <a:gdLst/>
              <a:ahLst/>
              <a:rect l="l" t="t" r="r" b="b"/>
              <a:pathLst>
                <a:path w="5889" h="8854">
                  <a:moveTo>
                    <a:pt x="1936" y="1"/>
                  </a:moveTo>
                  <a:lnTo>
                    <a:pt x="1936" y="1"/>
                  </a:lnTo>
                  <a:cubicBezTo>
                    <a:pt x="3590" y="2219"/>
                    <a:pt x="2662" y="5364"/>
                    <a:pt x="121" y="6413"/>
                  </a:cubicBezTo>
                  <a:cubicBezTo>
                    <a:pt x="0" y="7381"/>
                    <a:pt x="283" y="8187"/>
                    <a:pt x="1170" y="8631"/>
                  </a:cubicBezTo>
                  <a:cubicBezTo>
                    <a:pt x="1533" y="8780"/>
                    <a:pt x="1923" y="8854"/>
                    <a:pt x="2312" y="8854"/>
                  </a:cubicBezTo>
                  <a:cubicBezTo>
                    <a:pt x="2875" y="8854"/>
                    <a:pt x="3436" y="8699"/>
                    <a:pt x="3912" y="8389"/>
                  </a:cubicBezTo>
                  <a:cubicBezTo>
                    <a:pt x="4719" y="7824"/>
                    <a:pt x="5283" y="6978"/>
                    <a:pt x="5525" y="6050"/>
                  </a:cubicBezTo>
                  <a:cubicBezTo>
                    <a:pt x="5888" y="4800"/>
                    <a:pt x="5687" y="3429"/>
                    <a:pt x="5042" y="2340"/>
                  </a:cubicBezTo>
                  <a:cubicBezTo>
                    <a:pt x="4316" y="1170"/>
                    <a:pt x="3227" y="323"/>
                    <a:pt x="1936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Google Shape;2330;p40"/>
          <p:cNvGrpSpPr/>
          <p:nvPr/>
        </p:nvGrpSpPr>
        <p:grpSpPr>
          <a:xfrm>
            <a:off x="725400" y="542880"/>
            <a:ext cx="7693200" cy="566640"/>
            <a:chOff x="725400" y="542880"/>
            <a:chExt cx="7693200" cy="566640"/>
          </a:xfrm>
        </p:grpSpPr>
        <p:pic>
          <p:nvPicPr>
            <p:cNvPr id="1708" name="Google Shape;2330;p40" descr=""/>
            <p:cNvPicPr/>
            <p:nvPr/>
          </p:nvPicPr>
          <p:blipFill>
            <a:blip r:embed="rId1"/>
            <a:stretch/>
          </p:blipFill>
          <p:spPr>
            <a:xfrm>
              <a:off x="737640" y="545760"/>
              <a:ext cx="7668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9" name=""/>
            <p:cNvSpPr/>
            <p:nvPr/>
          </p:nvSpPr>
          <p:spPr>
            <a:xfrm>
              <a:off x="725400" y="542880"/>
              <a:ext cx="769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801800" y="539640"/>
            <a:ext cx="554040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5f1e6"/>
                </a:solidFill>
                <a:latin typeface="Sriracha"/>
                <a:ea typeface="Sriracha"/>
              </a:rPr>
              <a:t>1.Él número 16 ¿tiene 6 unid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1" name="Rectángulo: esquinas redondeadas 26"/>
          <p:cNvGrpSpPr/>
          <p:nvPr/>
        </p:nvGrpSpPr>
        <p:grpSpPr>
          <a:xfrm>
            <a:off x="4846680" y="1749600"/>
            <a:ext cx="2475000" cy="1029960"/>
            <a:chOff x="4846680" y="1749600"/>
            <a:chExt cx="2475000" cy="1029960"/>
          </a:xfrm>
        </p:grpSpPr>
        <p:pic>
          <p:nvPicPr>
            <p:cNvPr id="1712" name="Rectángulo: esquinas redondeadas 26" descr=""/>
            <p:cNvPicPr/>
            <p:nvPr/>
          </p:nvPicPr>
          <p:blipFill>
            <a:blip r:embed="rId2"/>
            <a:stretch/>
          </p:blipFill>
          <p:spPr>
            <a:xfrm>
              <a:off x="4846680" y="1749600"/>
              <a:ext cx="247500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3" name=""/>
            <p:cNvSpPr/>
            <p:nvPr/>
          </p:nvSpPr>
          <p:spPr>
            <a:xfrm>
              <a:off x="4950000" y="1827360"/>
              <a:ext cx="226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Google Shape;2382;p40"/>
          <p:cNvSpPr/>
          <p:nvPr/>
        </p:nvSpPr>
        <p:spPr>
          <a:xfrm>
            <a:off x="5097600" y="2013120"/>
            <a:ext cx="19922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riracha"/>
                <a:ea typeface="Sriracha"/>
              </a:rPr>
              <a:t>Verd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5" name="Rectángulo: esquinas redondeadas 31"/>
          <p:cNvGrpSpPr/>
          <p:nvPr/>
        </p:nvGrpSpPr>
        <p:grpSpPr>
          <a:xfrm>
            <a:off x="4846680" y="3200400"/>
            <a:ext cx="2475000" cy="1030320"/>
            <a:chOff x="4846680" y="3200400"/>
            <a:chExt cx="2475000" cy="1030320"/>
          </a:xfrm>
        </p:grpSpPr>
        <p:pic>
          <p:nvPicPr>
            <p:cNvPr id="1716" name="Rectángulo: esquinas redondeadas 31" descr=""/>
            <p:cNvPicPr/>
            <p:nvPr/>
          </p:nvPicPr>
          <p:blipFill>
            <a:blip r:embed="rId3"/>
            <a:stretch/>
          </p:blipFill>
          <p:spPr>
            <a:xfrm>
              <a:off x="4846680" y="3200400"/>
              <a:ext cx="2475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7" name=""/>
            <p:cNvSpPr/>
            <p:nvPr/>
          </p:nvSpPr>
          <p:spPr>
            <a:xfrm>
              <a:off x="4950000" y="3276720"/>
              <a:ext cx="22636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8" name="Google Shape;2382;p40"/>
          <p:cNvSpPr/>
          <p:nvPr/>
        </p:nvSpPr>
        <p:spPr>
          <a:xfrm>
            <a:off x="5067360" y="3449520"/>
            <a:ext cx="1993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riracha"/>
                <a:ea typeface="Sriracha"/>
              </a:rPr>
              <a:t>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9" name="Google Shape;2916;p63"/>
          <p:cNvGrpSpPr/>
          <p:nvPr/>
        </p:nvGrpSpPr>
        <p:grpSpPr>
          <a:xfrm>
            <a:off x="1636560" y="984240"/>
            <a:ext cx="2668680" cy="3090960"/>
            <a:chOff x="1636560" y="984240"/>
            <a:chExt cx="2668680" cy="3090960"/>
          </a:xfrm>
        </p:grpSpPr>
        <p:sp>
          <p:nvSpPr>
            <p:cNvPr id="1720" name="Google Shape;2917;p63"/>
            <p:cNvSpPr/>
            <p:nvPr/>
          </p:nvSpPr>
          <p:spPr>
            <a:xfrm>
              <a:off x="3139920" y="1163520"/>
              <a:ext cx="1165320" cy="1243080"/>
            </a:xfrm>
            <a:custGeom>
              <a:avLst/>
              <a:gdLst/>
              <a:ahLst/>
              <a:rect l="l" t="t" r="r" b="b"/>
              <a:pathLst>
                <a:path w="78416" h="83569">
                  <a:moveTo>
                    <a:pt x="55765" y="1"/>
                  </a:moveTo>
                  <a:cubicBezTo>
                    <a:pt x="53580" y="1"/>
                    <a:pt x="51394" y="332"/>
                    <a:pt x="49209" y="928"/>
                  </a:cubicBezTo>
                  <a:cubicBezTo>
                    <a:pt x="47752" y="1326"/>
                    <a:pt x="46228" y="1922"/>
                    <a:pt x="44838" y="2650"/>
                  </a:cubicBezTo>
                  <a:cubicBezTo>
                    <a:pt x="42851" y="3710"/>
                    <a:pt x="41063" y="5167"/>
                    <a:pt x="39539" y="6955"/>
                  </a:cubicBezTo>
                  <a:cubicBezTo>
                    <a:pt x="38480" y="8213"/>
                    <a:pt x="37619" y="9604"/>
                    <a:pt x="36956" y="11061"/>
                  </a:cubicBezTo>
                  <a:cubicBezTo>
                    <a:pt x="36625" y="11790"/>
                    <a:pt x="36493" y="12585"/>
                    <a:pt x="36559" y="13313"/>
                  </a:cubicBezTo>
                  <a:cubicBezTo>
                    <a:pt x="36691" y="15499"/>
                    <a:pt x="36956" y="17684"/>
                    <a:pt x="37354" y="19804"/>
                  </a:cubicBezTo>
                  <a:cubicBezTo>
                    <a:pt x="38546" y="28480"/>
                    <a:pt x="37751" y="41792"/>
                    <a:pt x="9405" y="60800"/>
                  </a:cubicBezTo>
                  <a:cubicBezTo>
                    <a:pt x="1524" y="66098"/>
                    <a:pt x="0" y="81662"/>
                    <a:pt x="15034" y="83450"/>
                  </a:cubicBezTo>
                  <a:cubicBezTo>
                    <a:pt x="15717" y="83531"/>
                    <a:pt x="16407" y="83568"/>
                    <a:pt x="17102" y="83568"/>
                  </a:cubicBezTo>
                  <a:cubicBezTo>
                    <a:pt x="23833" y="83568"/>
                    <a:pt x="31041" y="80042"/>
                    <a:pt x="35963" y="77821"/>
                  </a:cubicBezTo>
                  <a:cubicBezTo>
                    <a:pt x="50732" y="70867"/>
                    <a:pt x="64110" y="57488"/>
                    <a:pt x="71992" y="43183"/>
                  </a:cubicBezTo>
                  <a:lnTo>
                    <a:pt x="71992" y="43183"/>
                  </a:lnTo>
                  <a:lnTo>
                    <a:pt x="67554" y="43646"/>
                  </a:lnTo>
                  <a:lnTo>
                    <a:pt x="67554" y="43646"/>
                  </a:lnTo>
                  <a:cubicBezTo>
                    <a:pt x="67554" y="43646"/>
                    <a:pt x="78416" y="14439"/>
                    <a:pt x="68084" y="3909"/>
                  </a:cubicBezTo>
                  <a:cubicBezTo>
                    <a:pt x="67289" y="3114"/>
                    <a:pt x="66296" y="2451"/>
                    <a:pt x="65302" y="1922"/>
                  </a:cubicBezTo>
                  <a:cubicBezTo>
                    <a:pt x="63249" y="994"/>
                    <a:pt x="61130" y="398"/>
                    <a:pt x="58878" y="133"/>
                  </a:cubicBezTo>
                  <a:cubicBezTo>
                    <a:pt x="57885" y="67"/>
                    <a:pt x="56825" y="1"/>
                    <a:pt x="55765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Google Shape;2918;p63"/>
            <p:cNvSpPr/>
            <p:nvPr/>
          </p:nvSpPr>
          <p:spPr>
            <a:xfrm>
              <a:off x="4015080" y="1057680"/>
              <a:ext cx="95400" cy="135720"/>
            </a:xfrm>
            <a:custGeom>
              <a:avLst/>
              <a:gdLst/>
              <a:ahLst/>
              <a:rect l="l" t="t" r="r" b="b"/>
              <a:pathLst>
                <a:path w="6425" h="9152">
                  <a:moveTo>
                    <a:pt x="3948" y="1"/>
                  </a:moveTo>
                  <a:cubicBezTo>
                    <a:pt x="2169" y="1"/>
                    <a:pt x="772" y="4276"/>
                    <a:pt x="0" y="7364"/>
                  </a:cubicBezTo>
                  <a:cubicBezTo>
                    <a:pt x="2252" y="7562"/>
                    <a:pt x="4371" y="8158"/>
                    <a:pt x="6424" y="9152"/>
                  </a:cubicBezTo>
                  <a:cubicBezTo>
                    <a:pt x="6424" y="6105"/>
                    <a:pt x="6160" y="277"/>
                    <a:pt x="4106" y="12"/>
                  </a:cubicBezTo>
                  <a:cubicBezTo>
                    <a:pt x="4053" y="5"/>
                    <a:pt x="4000" y="1"/>
                    <a:pt x="3948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Google Shape;2919;p63"/>
            <p:cNvSpPr/>
            <p:nvPr/>
          </p:nvSpPr>
          <p:spPr>
            <a:xfrm>
              <a:off x="3872520" y="1044000"/>
              <a:ext cx="96120" cy="133560"/>
            </a:xfrm>
            <a:custGeom>
              <a:avLst/>
              <a:gdLst/>
              <a:ahLst/>
              <a:rect l="l" t="t" r="r" b="b"/>
              <a:pathLst>
                <a:path w="6492" h="9011">
                  <a:moveTo>
                    <a:pt x="2660" y="0"/>
                  </a:moveTo>
                  <a:cubicBezTo>
                    <a:pt x="2635" y="0"/>
                    <a:pt x="2609" y="1"/>
                    <a:pt x="2584" y="3"/>
                  </a:cubicBezTo>
                  <a:cubicBezTo>
                    <a:pt x="531" y="202"/>
                    <a:pt x="67" y="5831"/>
                    <a:pt x="1" y="9010"/>
                  </a:cubicBezTo>
                  <a:cubicBezTo>
                    <a:pt x="2120" y="8414"/>
                    <a:pt x="4306" y="8083"/>
                    <a:pt x="6491" y="8083"/>
                  </a:cubicBezTo>
                  <a:cubicBezTo>
                    <a:pt x="5903" y="5010"/>
                    <a:pt x="4605" y="0"/>
                    <a:pt x="2660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2480" bIns="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Google Shape;2920;p63"/>
            <p:cNvSpPr/>
            <p:nvPr/>
          </p:nvSpPr>
          <p:spPr>
            <a:xfrm>
              <a:off x="3685320" y="1116360"/>
              <a:ext cx="120960" cy="150840"/>
            </a:xfrm>
            <a:custGeom>
              <a:avLst/>
              <a:gdLst/>
              <a:ahLst/>
              <a:rect l="l" t="t" r="r" b="b"/>
              <a:pathLst>
                <a:path w="8147" h="10173">
                  <a:moveTo>
                    <a:pt x="2459" y="1"/>
                  </a:moveTo>
                  <a:cubicBezTo>
                    <a:pt x="2294" y="1"/>
                    <a:pt x="2136" y="34"/>
                    <a:pt x="1987" y="105"/>
                  </a:cubicBezTo>
                  <a:cubicBezTo>
                    <a:pt x="0" y="1032"/>
                    <a:pt x="1921" y="7390"/>
                    <a:pt x="2848" y="10172"/>
                  </a:cubicBezTo>
                  <a:cubicBezTo>
                    <a:pt x="4305" y="8384"/>
                    <a:pt x="6160" y="6927"/>
                    <a:pt x="8147" y="5867"/>
                  </a:cubicBezTo>
                  <a:cubicBezTo>
                    <a:pt x="6639" y="3455"/>
                    <a:pt x="4144" y="1"/>
                    <a:pt x="2459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9760" bIns="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Google Shape;2921;p63"/>
            <p:cNvSpPr/>
            <p:nvPr/>
          </p:nvSpPr>
          <p:spPr>
            <a:xfrm>
              <a:off x="3565440" y="1361880"/>
              <a:ext cx="129600" cy="96120"/>
            </a:xfrm>
            <a:custGeom>
              <a:avLst/>
              <a:gdLst/>
              <a:ahLst/>
              <a:rect l="l" t="t" r="r" b="b"/>
              <a:pathLst>
                <a:path w="8743" h="6491">
                  <a:moveTo>
                    <a:pt x="7948" y="0"/>
                  </a:moveTo>
                  <a:cubicBezTo>
                    <a:pt x="4835" y="662"/>
                    <a:pt x="0" y="1855"/>
                    <a:pt x="133" y="3841"/>
                  </a:cubicBezTo>
                  <a:cubicBezTo>
                    <a:pt x="265" y="5828"/>
                    <a:pt x="5564" y="6358"/>
                    <a:pt x="8743" y="6491"/>
                  </a:cubicBezTo>
                  <a:cubicBezTo>
                    <a:pt x="8345" y="4371"/>
                    <a:pt x="8080" y="2186"/>
                    <a:pt x="7948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040" bIns="5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Google Shape;2922;p63"/>
            <p:cNvSpPr/>
            <p:nvPr/>
          </p:nvSpPr>
          <p:spPr>
            <a:xfrm>
              <a:off x="1636560" y="984240"/>
              <a:ext cx="1995480" cy="3090960"/>
            </a:xfrm>
            <a:custGeom>
              <a:avLst/>
              <a:gdLst/>
              <a:ahLst/>
              <a:rect l="l" t="t" r="r" b="b"/>
              <a:pathLst>
                <a:path w="134314" h="208027">
                  <a:moveTo>
                    <a:pt x="70270" y="0"/>
                  </a:moveTo>
                  <a:cubicBezTo>
                    <a:pt x="70270" y="0"/>
                    <a:pt x="54772" y="1192"/>
                    <a:pt x="43315" y="11391"/>
                  </a:cubicBezTo>
                  <a:cubicBezTo>
                    <a:pt x="37420" y="16557"/>
                    <a:pt x="38679" y="19538"/>
                    <a:pt x="38679" y="19538"/>
                  </a:cubicBezTo>
                  <a:cubicBezTo>
                    <a:pt x="38679" y="19538"/>
                    <a:pt x="38418" y="19505"/>
                    <a:pt x="37950" y="19505"/>
                  </a:cubicBezTo>
                  <a:cubicBezTo>
                    <a:pt x="36417" y="19505"/>
                    <a:pt x="32656" y="19855"/>
                    <a:pt x="28546" y="22849"/>
                  </a:cubicBezTo>
                  <a:cubicBezTo>
                    <a:pt x="20333" y="28810"/>
                    <a:pt x="17419" y="34241"/>
                    <a:pt x="14108" y="44904"/>
                  </a:cubicBezTo>
                  <a:lnTo>
                    <a:pt x="21923" y="42254"/>
                  </a:lnTo>
                  <a:lnTo>
                    <a:pt x="21923" y="42254"/>
                  </a:lnTo>
                  <a:cubicBezTo>
                    <a:pt x="21592" y="42652"/>
                    <a:pt x="10730" y="57288"/>
                    <a:pt x="9140" y="75369"/>
                  </a:cubicBezTo>
                  <a:lnTo>
                    <a:pt x="15300" y="70667"/>
                  </a:lnTo>
                  <a:lnTo>
                    <a:pt x="15300" y="70667"/>
                  </a:lnTo>
                  <a:cubicBezTo>
                    <a:pt x="15299" y="70667"/>
                    <a:pt x="1" y="100735"/>
                    <a:pt x="9472" y="139810"/>
                  </a:cubicBezTo>
                  <a:lnTo>
                    <a:pt x="13644" y="128883"/>
                  </a:lnTo>
                  <a:cubicBezTo>
                    <a:pt x="13644" y="128883"/>
                    <a:pt x="14108" y="165574"/>
                    <a:pt x="26095" y="192926"/>
                  </a:cubicBezTo>
                  <a:lnTo>
                    <a:pt x="28943" y="186303"/>
                  </a:lnTo>
                  <a:cubicBezTo>
                    <a:pt x="28943" y="186303"/>
                    <a:pt x="32851" y="196370"/>
                    <a:pt x="44838" y="208027"/>
                  </a:cubicBezTo>
                  <a:lnTo>
                    <a:pt x="43845" y="71064"/>
                  </a:lnTo>
                  <a:lnTo>
                    <a:pt x="134314" y="69673"/>
                  </a:lnTo>
                  <a:cubicBezTo>
                    <a:pt x="131135" y="59408"/>
                    <a:pt x="124910" y="48679"/>
                    <a:pt x="124909" y="48679"/>
                  </a:cubicBezTo>
                  <a:lnTo>
                    <a:pt x="124909" y="48679"/>
                  </a:lnTo>
                  <a:lnTo>
                    <a:pt x="131532" y="51791"/>
                  </a:lnTo>
                  <a:cubicBezTo>
                    <a:pt x="131532" y="51791"/>
                    <a:pt x="129877" y="39340"/>
                    <a:pt x="122128" y="33578"/>
                  </a:cubicBezTo>
                  <a:lnTo>
                    <a:pt x="122128" y="33578"/>
                  </a:lnTo>
                  <a:lnTo>
                    <a:pt x="127625" y="34638"/>
                  </a:lnTo>
                  <a:cubicBezTo>
                    <a:pt x="122989" y="26426"/>
                    <a:pt x="114909" y="20664"/>
                    <a:pt x="105637" y="19008"/>
                  </a:cubicBezTo>
                  <a:cubicBezTo>
                    <a:pt x="105637" y="19008"/>
                    <a:pt x="111281" y="17840"/>
                    <a:pt x="116397" y="17840"/>
                  </a:cubicBezTo>
                  <a:cubicBezTo>
                    <a:pt x="117250" y="17840"/>
                    <a:pt x="118088" y="17872"/>
                    <a:pt x="118883" y="17948"/>
                  </a:cubicBezTo>
                  <a:cubicBezTo>
                    <a:pt x="118883" y="17948"/>
                    <a:pt x="102937" y="5325"/>
                    <a:pt x="80536" y="5325"/>
                  </a:cubicBezTo>
                  <a:cubicBezTo>
                    <a:pt x="75545" y="5325"/>
                    <a:pt x="70234" y="5951"/>
                    <a:pt x="64707" y="7484"/>
                  </a:cubicBezTo>
                  <a:lnTo>
                    <a:pt x="70270" y="0"/>
                  </a:ln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Google Shape;2923;p63"/>
            <p:cNvSpPr/>
            <p:nvPr/>
          </p:nvSpPr>
          <p:spPr>
            <a:xfrm>
              <a:off x="2735280" y="1436400"/>
              <a:ext cx="196560" cy="296640"/>
            </a:xfrm>
            <a:custGeom>
              <a:avLst/>
              <a:gdLst/>
              <a:ahLst/>
              <a:rect l="l" t="t" r="r" b="b"/>
              <a:pathLst>
                <a:path w="13245" h="19962">
                  <a:moveTo>
                    <a:pt x="7397" y="0"/>
                  </a:moveTo>
                  <a:cubicBezTo>
                    <a:pt x="3178" y="0"/>
                    <a:pt x="127" y="12599"/>
                    <a:pt x="65" y="15588"/>
                  </a:cubicBezTo>
                  <a:cubicBezTo>
                    <a:pt x="0" y="18627"/>
                    <a:pt x="2903" y="19962"/>
                    <a:pt x="5382" y="19962"/>
                  </a:cubicBezTo>
                  <a:cubicBezTo>
                    <a:pt x="5442" y="19962"/>
                    <a:pt x="5502" y="19961"/>
                    <a:pt x="5562" y="19960"/>
                  </a:cubicBezTo>
                  <a:cubicBezTo>
                    <a:pt x="9006" y="19827"/>
                    <a:pt x="9403" y="18436"/>
                    <a:pt x="10331" y="15522"/>
                  </a:cubicBezTo>
                  <a:cubicBezTo>
                    <a:pt x="11456" y="11813"/>
                    <a:pt x="13245" y="3005"/>
                    <a:pt x="9138" y="687"/>
                  </a:cubicBezTo>
                  <a:cubicBezTo>
                    <a:pt x="8874" y="488"/>
                    <a:pt x="8542" y="289"/>
                    <a:pt x="8211" y="157"/>
                  </a:cubicBezTo>
                  <a:cubicBezTo>
                    <a:pt x="7936" y="51"/>
                    <a:pt x="7664" y="0"/>
                    <a:pt x="7397" y="0"/>
                  </a:cubicBez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Google Shape;2924;p63"/>
            <p:cNvSpPr/>
            <p:nvPr/>
          </p:nvSpPr>
          <p:spPr>
            <a:xfrm>
              <a:off x="2347560" y="1339560"/>
              <a:ext cx="382320" cy="368280"/>
            </a:xfrm>
            <a:custGeom>
              <a:avLst/>
              <a:gdLst/>
              <a:ahLst/>
              <a:rect l="l" t="t" r="r" b="b"/>
              <a:pathLst>
                <a:path w="25764" h="24709">
                  <a:moveTo>
                    <a:pt x="11648" y="0"/>
                  </a:moveTo>
                  <a:cubicBezTo>
                    <a:pt x="10438" y="0"/>
                    <a:pt x="9234" y="188"/>
                    <a:pt x="8080" y="477"/>
                  </a:cubicBezTo>
                  <a:cubicBezTo>
                    <a:pt x="6358" y="940"/>
                    <a:pt x="4835" y="1801"/>
                    <a:pt x="3511" y="3060"/>
                  </a:cubicBezTo>
                  <a:cubicBezTo>
                    <a:pt x="2782" y="3722"/>
                    <a:pt x="2186" y="4450"/>
                    <a:pt x="1656" y="5311"/>
                  </a:cubicBezTo>
                  <a:cubicBezTo>
                    <a:pt x="1126" y="6239"/>
                    <a:pt x="729" y="7166"/>
                    <a:pt x="464" y="8226"/>
                  </a:cubicBezTo>
                  <a:cubicBezTo>
                    <a:pt x="199" y="9285"/>
                    <a:pt x="67" y="10345"/>
                    <a:pt x="0" y="11405"/>
                  </a:cubicBezTo>
                  <a:cubicBezTo>
                    <a:pt x="0" y="12530"/>
                    <a:pt x="133" y="13723"/>
                    <a:pt x="398" y="14782"/>
                  </a:cubicBezTo>
                  <a:cubicBezTo>
                    <a:pt x="861" y="17166"/>
                    <a:pt x="2120" y="19352"/>
                    <a:pt x="3908" y="21008"/>
                  </a:cubicBezTo>
                  <a:cubicBezTo>
                    <a:pt x="5696" y="22597"/>
                    <a:pt x="7882" y="23789"/>
                    <a:pt x="10200" y="24319"/>
                  </a:cubicBezTo>
                  <a:cubicBezTo>
                    <a:pt x="11260" y="24576"/>
                    <a:pt x="12337" y="24709"/>
                    <a:pt x="13413" y="24709"/>
                  </a:cubicBezTo>
                  <a:cubicBezTo>
                    <a:pt x="14555" y="24709"/>
                    <a:pt x="15698" y="24560"/>
                    <a:pt x="16823" y="24253"/>
                  </a:cubicBezTo>
                  <a:cubicBezTo>
                    <a:pt x="18743" y="23723"/>
                    <a:pt x="20598" y="22730"/>
                    <a:pt x="22055" y="21405"/>
                  </a:cubicBezTo>
                  <a:cubicBezTo>
                    <a:pt x="24439" y="19220"/>
                    <a:pt x="25764" y="16107"/>
                    <a:pt x="25565" y="12862"/>
                  </a:cubicBezTo>
                  <a:cubicBezTo>
                    <a:pt x="25499" y="11802"/>
                    <a:pt x="25300" y="10742"/>
                    <a:pt x="25035" y="9749"/>
                  </a:cubicBezTo>
                  <a:cubicBezTo>
                    <a:pt x="24462" y="8221"/>
                    <a:pt x="23950" y="7427"/>
                    <a:pt x="23794" y="7427"/>
                  </a:cubicBezTo>
                  <a:cubicBezTo>
                    <a:pt x="23788" y="7427"/>
                    <a:pt x="23782" y="7428"/>
                    <a:pt x="23777" y="7431"/>
                  </a:cubicBezTo>
                  <a:cubicBezTo>
                    <a:pt x="23644" y="7497"/>
                    <a:pt x="23909" y="8358"/>
                    <a:pt x="24240" y="10014"/>
                  </a:cubicBezTo>
                  <a:cubicBezTo>
                    <a:pt x="24638" y="12199"/>
                    <a:pt x="24373" y="14451"/>
                    <a:pt x="23512" y="16504"/>
                  </a:cubicBezTo>
                  <a:cubicBezTo>
                    <a:pt x="22916" y="17895"/>
                    <a:pt x="21989" y="19153"/>
                    <a:pt x="20796" y="20081"/>
                  </a:cubicBezTo>
                  <a:cubicBezTo>
                    <a:pt x="19538" y="21206"/>
                    <a:pt x="17949" y="22001"/>
                    <a:pt x="16227" y="22332"/>
                  </a:cubicBezTo>
                  <a:cubicBezTo>
                    <a:pt x="15299" y="22564"/>
                    <a:pt x="14356" y="22680"/>
                    <a:pt x="13412" y="22680"/>
                  </a:cubicBezTo>
                  <a:cubicBezTo>
                    <a:pt x="12468" y="22680"/>
                    <a:pt x="11524" y="22564"/>
                    <a:pt x="10597" y="22332"/>
                  </a:cubicBezTo>
                  <a:cubicBezTo>
                    <a:pt x="8610" y="21803"/>
                    <a:pt x="6822" y="20809"/>
                    <a:pt x="5233" y="19485"/>
                  </a:cubicBezTo>
                  <a:cubicBezTo>
                    <a:pt x="3775" y="18094"/>
                    <a:pt x="2782" y="16306"/>
                    <a:pt x="2318" y="14319"/>
                  </a:cubicBezTo>
                  <a:cubicBezTo>
                    <a:pt x="2120" y="13391"/>
                    <a:pt x="1987" y="12398"/>
                    <a:pt x="1987" y="11471"/>
                  </a:cubicBezTo>
                  <a:cubicBezTo>
                    <a:pt x="1987" y="10544"/>
                    <a:pt x="2053" y="9616"/>
                    <a:pt x="2252" y="8689"/>
                  </a:cubicBezTo>
                  <a:cubicBezTo>
                    <a:pt x="2517" y="7828"/>
                    <a:pt x="2782" y="6967"/>
                    <a:pt x="3179" y="6239"/>
                  </a:cubicBezTo>
                  <a:cubicBezTo>
                    <a:pt x="3378" y="5841"/>
                    <a:pt x="3643" y="5510"/>
                    <a:pt x="3842" y="5179"/>
                  </a:cubicBezTo>
                  <a:cubicBezTo>
                    <a:pt x="4107" y="4848"/>
                    <a:pt x="4372" y="4517"/>
                    <a:pt x="4703" y="4252"/>
                  </a:cubicBezTo>
                  <a:cubicBezTo>
                    <a:pt x="5762" y="3192"/>
                    <a:pt x="7021" y="2331"/>
                    <a:pt x="8478" y="1867"/>
                  </a:cubicBezTo>
                  <a:cubicBezTo>
                    <a:pt x="9670" y="1470"/>
                    <a:pt x="10928" y="1205"/>
                    <a:pt x="12187" y="1139"/>
                  </a:cubicBezTo>
                  <a:cubicBezTo>
                    <a:pt x="12683" y="1106"/>
                    <a:pt x="13180" y="1089"/>
                    <a:pt x="13677" y="1089"/>
                  </a:cubicBezTo>
                  <a:cubicBezTo>
                    <a:pt x="14173" y="1089"/>
                    <a:pt x="14670" y="1106"/>
                    <a:pt x="15167" y="1139"/>
                  </a:cubicBezTo>
                  <a:cubicBezTo>
                    <a:pt x="16190" y="1221"/>
                    <a:pt x="16935" y="1277"/>
                    <a:pt x="17355" y="1277"/>
                  </a:cubicBezTo>
                  <a:cubicBezTo>
                    <a:pt x="17615" y="1277"/>
                    <a:pt x="17750" y="1256"/>
                    <a:pt x="17750" y="1205"/>
                  </a:cubicBezTo>
                  <a:cubicBezTo>
                    <a:pt x="17750" y="1139"/>
                    <a:pt x="16955" y="742"/>
                    <a:pt x="15299" y="410"/>
                  </a:cubicBezTo>
                  <a:cubicBezTo>
                    <a:pt x="14306" y="146"/>
                    <a:pt x="13246" y="13"/>
                    <a:pt x="12187" y="13"/>
                  </a:cubicBezTo>
                  <a:cubicBezTo>
                    <a:pt x="12007" y="5"/>
                    <a:pt x="11827" y="0"/>
                    <a:pt x="11648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Google Shape;2925;p63"/>
            <p:cNvSpPr/>
            <p:nvPr/>
          </p:nvSpPr>
          <p:spPr>
            <a:xfrm>
              <a:off x="2352600" y="1325520"/>
              <a:ext cx="380880" cy="279360"/>
            </a:xfrm>
            <a:custGeom>
              <a:avLst/>
              <a:gdLst/>
              <a:ahLst/>
              <a:rect l="l" t="t" r="r" b="b"/>
              <a:pathLst>
                <a:path w="25698" h="18709">
                  <a:moveTo>
                    <a:pt x="13418" y="1"/>
                  </a:moveTo>
                  <a:cubicBezTo>
                    <a:pt x="12938" y="1"/>
                    <a:pt x="12460" y="31"/>
                    <a:pt x="11988" y="92"/>
                  </a:cubicBezTo>
                  <a:cubicBezTo>
                    <a:pt x="10531" y="225"/>
                    <a:pt x="9140" y="622"/>
                    <a:pt x="7816" y="1152"/>
                  </a:cubicBezTo>
                  <a:cubicBezTo>
                    <a:pt x="5564" y="2079"/>
                    <a:pt x="3577" y="3602"/>
                    <a:pt x="2120" y="5457"/>
                  </a:cubicBezTo>
                  <a:cubicBezTo>
                    <a:pt x="1060" y="6781"/>
                    <a:pt x="398" y="8238"/>
                    <a:pt x="133" y="9894"/>
                  </a:cubicBezTo>
                  <a:cubicBezTo>
                    <a:pt x="1" y="10291"/>
                    <a:pt x="1" y="10755"/>
                    <a:pt x="1" y="11152"/>
                  </a:cubicBezTo>
                  <a:cubicBezTo>
                    <a:pt x="67" y="11484"/>
                    <a:pt x="67" y="11616"/>
                    <a:pt x="133" y="11616"/>
                  </a:cubicBezTo>
                  <a:cubicBezTo>
                    <a:pt x="265" y="11616"/>
                    <a:pt x="332" y="11484"/>
                    <a:pt x="464" y="11219"/>
                  </a:cubicBezTo>
                  <a:cubicBezTo>
                    <a:pt x="597" y="10954"/>
                    <a:pt x="663" y="10556"/>
                    <a:pt x="928" y="10093"/>
                  </a:cubicBezTo>
                  <a:cubicBezTo>
                    <a:pt x="1458" y="8702"/>
                    <a:pt x="2252" y="7444"/>
                    <a:pt x="3246" y="6384"/>
                  </a:cubicBezTo>
                  <a:cubicBezTo>
                    <a:pt x="4769" y="4861"/>
                    <a:pt x="6557" y="3668"/>
                    <a:pt x="8544" y="2940"/>
                  </a:cubicBezTo>
                  <a:cubicBezTo>
                    <a:pt x="9736" y="2476"/>
                    <a:pt x="10995" y="2211"/>
                    <a:pt x="12187" y="2145"/>
                  </a:cubicBezTo>
                  <a:cubicBezTo>
                    <a:pt x="12611" y="2082"/>
                    <a:pt x="13036" y="2052"/>
                    <a:pt x="13461" y="2052"/>
                  </a:cubicBezTo>
                  <a:cubicBezTo>
                    <a:pt x="14361" y="2052"/>
                    <a:pt x="15261" y="2185"/>
                    <a:pt x="16161" y="2410"/>
                  </a:cubicBezTo>
                  <a:cubicBezTo>
                    <a:pt x="17419" y="2741"/>
                    <a:pt x="18545" y="3337"/>
                    <a:pt x="19604" y="4132"/>
                  </a:cubicBezTo>
                  <a:cubicBezTo>
                    <a:pt x="20598" y="4861"/>
                    <a:pt x="21393" y="5788"/>
                    <a:pt x="22121" y="6781"/>
                  </a:cubicBezTo>
                  <a:cubicBezTo>
                    <a:pt x="23313" y="8569"/>
                    <a:pt x="24042" y="10556"/>
                    <a:pt x="24241" y="12742"/>
                  </a:cubicBezTo>
                  <a:cubicBezTo>
                    <a:pt x="24307" y="14133"/>
                    <a:pt x="24241" y="15590"/>
                    <a:pt x="23843" y="17047"/>
                  </a:cubicBezTo>
                  <a:cubicBezTo>
                    <a:pt x="23512" y="18040"/>
                    <a:pt x="23380" y="18636"/>
                    <a:pt x="23512" y="18703"/>
                  </a:cubicBezTo>
                  <a:cubicBezTo>
                    <a:pt x="23520" y="18707"/>
                    <a:pt x="23530" y="18709"/>
                    <a:pt x="23540" y="18709"/>
                  </a:cubicBezTo>
                  <a:cubicBezTo>
                    <a:pt x="23695" y="18709"/>
                    <a:pt x="24075" y="18243"/>
                    <a:pt x="24572" y="17312"/>
                  </a:cubicBezTo>
                  <a:cubicBezTo>
                    <a:pt x="25300" y="15855"/>
                    <a:pt x="25698" y="14265"/>
                    <a:pt x="25698" y="12676"/>
                  </a:cubicBezTo>
                  <a:cubicBezTo>
                    <a:pt x="25698" y="10225"/>
                    <a:pt x="25035" y="7841"/>
                    <a:pt x="23711" y="5722"/>
                  </a:cubicBezTo>
                  <a:cubicBezTo>
                    <a:pt x="22982" y="4529"/>
                    <a:pt x="21989" y="3404"/>
                    <a:pt x="20863" y="2476"/>
                  </a:cubicBezTo>
                  <a:cubicBezTo>
                    <a:pt x="19604" y="1549"/>
                    <a:pt x="18147" y="821"/>
                    <a:pt x="16624" y="423"/>
                  </a:cubicBezTo>
                  <a:cubicBezTo>
                    <a:pt x="15572" y="149"/>
                    <a:pt x="14489" y="1"/>
                    <a:pt x="13418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Google Shape;2926;p63"/>
            <p:cNvSpPr/>
            <p:nvPr/>
          </p:nvSpPr>
          <p:spPr>
            <a:xfrm>
              <a:off x="2187360" y="1282680"/>
              <a:ext cx="182520" cy="198360"/>
            </a:xfrm>
            <a:custGeom>
              <a:avLst/>
              <a:gdLst/>
              <a:ahLst/>
              <a:rect l="l" t="t" r="r" b="b"/>
              <a:pathLst>
                <a:path w="12253" h="13277">
                  <a:moveTo>
                    <a:pt x="297" y="1"/>
                  </a:moveTo>
                  <a:cubicBezTo>
                    <a:pt x="286" y="1"/>
                    <a:pt x="275" y="2"/>
                    <a:pt x="265" y="5"/>
                  </a:cubicBezTo>
                  <a:cubicBezTo>
                    <a:pt x="0" y="71"/>
                    <a:pt x="0" y="1197"/>
                    <a:pt x="663" y="2786"/>
                  </a:cubicBezTo>
                  <a:cubicBezTo>
                    <a:pt x="1590" y="4773"/>
                    <a:pt x="2782" y="6694"/>
                    <a:pt x="4239" y="8350"/>
                  </a:cubicBezTo>
                  <a:cubicBezTo>
                    <a:pt x="5630" y="10072"/>
                    <a:pt x="7418" y="11529"/>
                    <a:pt x="9339" y="12588"/>
                  </a:cubicBezTo>
                  <a:cubicBezTo>
                    <a:pt x="10001" y="12920"/>
                    <a:pt x="10663" y="13184"/>
                    <a:pt x="11392" y="13251"/>
                  </a:cubicBezTo>
                  <a:cubicBezTo>
                    <a:pt x="11516" y="13268"/>
                    <a:pt x="11631" y="13277"/>
                    <a:pt x="11732" y="13277"/>
                  </a:cubicBezTo>
                  <a:cubicBezTo>
                    <a:pt x="12009" y="13277"/>
                    <a:pt x="12186" y="13215"/>
                    <a:pt x="12186" y="13118"/>
                  </a:cubicBezTo>
                  <a:cubicBezTo>
                    <a:pt x="12253" y="12986"/>
                    <a:pt x="11988" y="12787"/>
                    <a:pt x="11657" y="12456"/>
                  </a:cubicBezTo>
                  <a:cubicBezTo>
                    <a:pt x="11325" y="12191"/>
                    <a:pt x="10796" y="11860"/>
                    <a:pt x="10200" y="11330"/>
                  </a:cubicBezTo>
                  <a:cubicBezTo>
                    <a:pt x="8610" y="10005"/>
                    <a:pt x="7153" y="8548"/>
                    <a:pt x="5828" y="6959"/>
                  </a:cubicBezTo>
                  <a:cubicBezTo>
                    <a:pt x="4239" y="5104"/>
                    <a:pt x="2914" y="3382"/>
                    <a:pt x="1987" y="2058"/>
                  </a:cubicBezTo>
                  <a:cubicBezTo>
                    <a:pt x="1096" y="785"/>
                    <a:pt x="572" y="1"/>
                    <a:pt x="297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Google Shape;2927;p63"/>
            <p:cNvSpPr/>
            <p:nvPr/>
          </p:nvSpPr>
          <p:spPr>
            <a:xfrm>
              <a:off x="2928960" y="1466640"/>
              <a:ext cx="395280" cy="363240"/>
            </a:xfrm>
            <a:custGeom>
              <a:avLst/>
              <a:gdLst/>
              <a:ahLst/>
              <a:rect l="l" t="t" r="r" b="b"/>
              <a:pathLst>
                <a:path w="26626" h="24509">
                  <a:moveTo>
                    <a:pt x="13851" y="1"/>
                  </a:moveTo>
                  <a:cubicBezTo>
                    <a:pt x="13671" y="1"/>
                    <a:pt x="13578" y="23"/>
                    <a:pt x="13578" y="65"/>
                  </a:cubicBezTo>
                  <a:cubicBezTo>
                    <a:pt x="13512" y="263"/>
                    <a:pt x="14373" y="528"/>
                    <a:pt x="15896" y="1124"/>
                  </a:cubicBezTo>
                  <a:cubicBezTo>
                    <a:pt x="16823" y="1522"/>
                    <a:pt x="17750" y="1919"/>
                    <a:pt x="18611" y="2383"/>
                  </a:cubicBezTo>
                  <a:cubicBezTo>
                    <a:pt x="19737" y="2979"/>
                    <a:pt x="20797" y="3707"/>
                    <a:pt x="21724" y="4568"/>
                  </a:cubicBezTo>
                  <a:cubicBezTo>
                    <a:pt x="22850" y="5628"/>
                    <a:pt x="23645" y="6953"/>
                    <a:pt x="24175" y="8343"/>
                  </a:cubicBezTo>
                  <a:cubicBezTo>
                    <a:pt x="24440" y="9138"/>
                    <a:pt x="24638" y="9933"/>
                    <a:pt x="24638" y="10728"/>
                  </a:cubicBezTo>
                  <a:cubicBezTo>
                    <a:pt x="24705" y="11589"/>
                    <a:pt x="24638" y="12516"/>
                    <a:pt x="24440" y="13377"/>
                  </a:cubicBezTo>
                  <a:cubicBezTo>
                    <a:pt x="24307" y="14238"/>
                    <a:pt x="23976" y="15165"/>
                    <a:pt x="23579" y="15960"/>
                  </a:cubicBezTo>
                  <a:cubicBezTo>
                    <a:pt x="23181" y="16887"/>
                    <a:pt x="22651" y="17748"/>
                    <a:pt x="22055" y="18476"/>
                  </a:cubicBezTo>
                  <a:cubicBezTo>
                    <a:pt x="20863" y="20066"/>
                    <a:pt x="19141" y="21258"/>
                    <a:pt x="17221" y="21920"/>
                  </a:cubicBezTo>
                  <a:cubicBezTo>
                    <a:pt x="16051" y="22283"/>
                    <a:pt x="14808" y="22450"/>
                    <a:pt x="13566" y="22450"/>
                  </a:cubicBezTo>
                  <a:cubicBezTo>
                    <a:pt x="12768" y="22450"/>
                    <a:pt x="11971" y="22381"/>
                    <a:pt x="11194" y="22252"/>
                  </a:cubicBezTo>
                  <a:cubicBezTo>
                    <a:pt x="9273" y="21920"/>
                    <a:pt x="7551" y="21059"/>
                    <a:pt x="6028" y="19934"/>
                  </a:cubicBezTo>
                  <a:cubicBezTo>
                    <a:pt x="4703" y="18874"/>
                    <a:pt x="3577" y="17483"/>
                    <a:pt x="2849" y="15894"/>
                  </a:cubicBezTo>
                  <a:cubicBezTo>
                    <a:pt x="2187" y="14569"/>
                    <a:pt x="1922" y="13046"/>
                    <a:pt x="1922" y="11589"/>
                  </a:cubicBezTo>
                  <a:cubicBezTo>
                    <a:pt x="2054" y="9337"/>
                    <a:pt x="2783" y="7151"/>
                    <a:pt x="4107" y="5297"/>
                  </a:cubicBezTo>
                  <a:cubicBezTo>
                    <a:pt x="5034" y="4038"/>
                    <a:pt x="5697" y="3310"/>
                    <a:pt x="5564" y="3177"/>
                  </a:cubicBezTo>
                  <a:cubicBezTo>
                    <a:pt x="5556" y="3173"/>
                    <a:pt x="5545" y="3171"/>
                    <a:pt x="5532" y="3171"/>
                  </a:cubicBezTo>
                  <a:cubicBezTo>
                    <a:pt x="5332" y="3171"/>
                    <a:pt x="4564" y="3652"/>
                    <a:pt x="3445" y="4833"/>
                  </a:cubicBezTo>
                  <a:cubicBezTo>
                    <a:pt x="2716" y="5562"/>
                    <a:pt x="2120" y="6423"/>
                    <a:pt x="1657" y="7350"/>
                  </a:cubicBezTo>
                  <a:cubicBezTo>
                    <a:pt x="200" y="10198"/>
                    <a:pt x="1" y="13575"/>
                    <a:pt x="1259" y="16556"/>
                  </a:cubicBezTo>
                  <a:cubicBezTo>
                    <a:pt x="2054" y="18476"/>
                    <a:pt x="3312" y="20066"/>
                    <a:pt x="4836" y="21391"/>
                  </a:cubicBezTo>
                  <a:cubicBezTo>
                    <a:pt x="6558" y="22781"/>
                    <a:pt x="8611" y="23775"/>
                    <a:pt x="10796" y="24238"/>
                  </a:cubicBezTo>
                  <a:cubicBezTo>
                    <a:pt x="11724" y="24419"/>
                    <a:pt x="12651" y="24509"/>
                    <a:pt x="13574" y="24509"/>
                  </a:cubicBezTo>
                  <a:cubicBezTo>
                    <a:pt x="15025" y="24509"/>
                    <a:pt x="16466" y="24286"/>
                    <a:pt x="17883" y="23841"/>
                  </a:cubicBezTo>
                  <a:cubicBezTo>
                    <a:pt x="20201" y="23113"/>
                    <a:pt x="22188" y="21655"/>
                    <a:pt x="23645" y="19735"/>
                  </a:cubicBezTo>
                  <a:cubicBezTo>
                    <a:pt x="25036" y="17947"/>
                    <a:pt x="25963" y="15894"/>
                    <a:pt x="26360" y="13708"/>
                  </a:cubicBezTo>
                  <a:cubicBezTo>
                    <a:pt x="26559" y="12714"/>
                    <a:pt x="26625" y="11655"/>
                    <a:pt x="26493" y="10595"/>
                  </a:cubicBezTo>
                  <a:cubicBezTo>
                    <a:pt x="26427" y="9602"/>
                    <a:pt x="26162" y="8608"/>
                    <a:pt x="25764" y="7747"/>
                  </a:cubicBezTo>
                  <a:cubicBezTo>
                    <a:pt x="25102" y="6092"/>
                    <a:pt x="24108" y="4634"/>
                    <a:pt x="22718" y="3509"/>
                  </a:cubicBezTo>
                  <a:cubicBezTo>
                    <a:pt x="21658" y="2581"/>
                    <a:pt x="20466" y="1853"/>
                    <a:pt x="19141" y="1323"/>
                  </a:cubicBezTo>
                  <a:cubicBezTo>
                    <a:pt x="18214" y="926"/>
                    <a:pt x="17221" y="595"/>
                    <a:pt x="16161" y="330"/>
                  </a:cubicBezTo>
                  <a:cubicBezTo>
                    <a:pt x="15029" y="103"/>
                    <a:pt x="14238" y="1"/>
                    <a:pt x="13851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Google Shape;2928;p63"/>
            <p:cNvSpPr/>
            <p:nvPr/>
          </p:nvSpPr>
          <p:spPr>
            <a:xfrm>
              <a:off x="2938320" y="1447560"/>
              <a:ext cx="384120" cy="255600"/>
            </a:xfrm>
            <a:custGeom>
              <a:avLst/>
              <a:gdLst/>
              <a:ahLst/>
              <a:rect l="l" t="t" r="r" b="b"/>
              <a:pathLst>
                <a:path w="25830" h="17268">
                  <a:moveTo>
                    <a:pt x="12440" y="0"/>
                  </a:moveTo>
                  <a:cubicBezTo>
                    <a:pt x="11533" y="0"/>
                    <a:pt x="10623" y="103"/>
                    <a:pt x="9736" y="296"/>
                  </a:cubicBezTo>
                  <a:cubicBezTo>
                    <a:pt x="8279" y="627"/>
                    <a:pt x="6954" y="1157"/>
                    <a:pt x="5762" y="1952"/>
                  </a:cubicBezTo>
                  <a:cubicBezTo>
                    <a:pt x="3643" y="3276"/>
                    <a:pt x="2053" y="5197"/>
                    <a:pt x="994" y="7449"/>
                  </a:cubicBezTo>
                  <a:cubicBezTo>
                    <a:pt x="331" y="8906"/>
                    <a:pt x="0" y="10495"/>
                    <a:pt x="66" y="12151"/>
                  </a:cubicBezTo>
                  <a:cubicBezTo>
                    <a:pt x="133" y="13277"/>
                    <a:pt x="331" y="13873"/>
                    <a:pt x="464" y="13873"/>
                  </a:cubicBezTo>
                  <a:cubicBezTo>
                    <a:pt x="596" y="13873"/>
                    <a:pt x="729" y="13211"/>
                    <a:pt x="861" y="12151"/>
                  </a:cubicBezTo>
                  <a:cubicBezTo>
                    <a:pt x="1126" y="10760"/>
                    <a:pt x="1590" y="9369"/>
                    <a:pt x="2318" y="8111"/>
                  </a:cubicBezTo>
                  <a:cubicBezTo>
                    <a:pt x="3378" y="6257"/>
                    <a:pt x="4901" y="4667"/>
                    <a:pt x="6756" y="3607"/>
                  </a:cubicBezTo>
                  <a:cubicBezTo>
                    <a:pt x="7815" y="3011"/>
                    <a:pt x="8941" y="2548"/>
                    <a:pt x="10133" y="2283"/>
                  </a:cubicBezTo>
                  <a:cubicBezTo>
                    <a:pt x="10808" y="2141"/>
                    <a:pt x="11501" y="2075"/>
                    <a:pt x="12203" y="2075"/>
                  </a:cubicBezTo>
                  <a:cubicBezTo>
                    <a:pt x="12811" y="2075"/>
                    <a:pt x="13426" y="2124"/>
                    <a:pt x="14041" y="2217"/>
                  </a:cubicBezTo>
                  <a:cubicBezTo>
                    <a:pt x="15299" y="2415"/>
                    <a:pt x="16558" y="2945"/>
                    <a:pt x="17750" y="3607"/>
                  </a:cubicBezTo>
                  <a:cubicBezTo>
                    <a:pt x="18809" y="4204"/>
                    <a:pt x="19803" y="4998"/>
                    <a:pt x="20730" y="5859"/>
                  </a:cubicBezTo>
                  <a:cubicBezTo>
                    <a:pt x="22187" y="7383"/>
                    <a:pt x="23379" y="9237"/>
                    <a:pt x="24042" y="11290"/>
                  </a:cubicBezTo>
                  <a:cubicBezTo>
                    <a:pt x="24505" y="12681"/>
                    <a:pt x="24704" y="14138"/>
                    <a:pt x="24571" y="15595"/>
                  </a:cubicBezTo>
                  <a:cubicBezTo>
                    <a:pt x="24638" y="16125"/>
                    <a:pt x="24571" y="16522"/>
                    <a:pt x="24505" y="16787"/>
                  </a:cubicBezTo>
                  <a:cubicBezTo>
                    <a:pt x="24505" y="17052"/>
                    <a:pt x="24571" y="17251"/>
                    <a:pt x="24638" y="17251"/>
                  </a:cubicBezTo>
                  <a:cubicBezTo>
                    <a:pt x="24649" y="17262"/>
                    <a:pt x="24662" y="17268"/>
                    <a:pt x="24677" y="17268"/>
                  </a:cubicBezTo>
                  <a:cubicBezTo>
                    <a:pt x="24749" y="17268"/>
                    <a:pt x="24859" y="17139"/>
                    <a:pt x="24969" y="16920"/>
                  </a:cubicBezTo>
                  <a:cubicBezTo>
                    <a:pt x="25167" y="16522"/>
                    <a:pt x="25300" y="16125"/>
                    <a:pt x="25432" y="15661"/>
                  </a:cubicBezTo>
                  <a:cubicBezTo>
                    <a:pt x="25830" y="14138"/>
                    <a:pt x="25830" y="12482"/>
                    <a:pt x="25432" y="10893"/>
                  </a:cubicBezTo>
                  <a:cubicBezTo>
                    <a:pt x="24903" y="8508"/>
                    <a:pt x="23710" y="6323"/>
                    <a:pt x="22055" y="4535"/>
                  </a:cubicBezTo>
                  <a:cubicBezTo>
                    <a:pt x="21127" y="3475"/>
                    <a:pt x="20002" y="2548"/>
                    <a:pt x="18743" y="1819"/>
                  </a:cubicBezTo>
                  <a:cubicBezTo>
                    <a:pt x="17419" y="1025"/>
                    <a:pt x="15962" y="428"/>
                    <a:pt x="14372" y="164"/>
                  </a:cubicBezTo>
                  <a:cubicBezTo>
                    <a:pt x="13736" y="53"/>
                    <a:pt x="13089" y="0"/>
                    <a:pt x="12440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Google Shape;2929;p63"/>
            <p:cNvSpPr/>
            <p:nvPr/>
          </p:nvSpPr>
          <p:spPr>
            <a:xfrm>
              <a:off x="3300480" y="1523880"/>
              <a:ext cx="212760" cy="163440"/>
            </a:xfrm>
            <a:custGeom>
              <a:avLst/>
              <a:gdLst/>
              <a:ahLst/>
              <a:rect l="l" t="t" r="r" b="b"/>
              <a:pathLst>
                <a:path w="14373" h="10999">
                  <a:moveTo>
                    <a:pt x="14071" y="0"/>
                  </a:moveTo>
                  <a:cubicBezTo>
                    <a:pt x="13737" y="0"/>
                    <a:pt x="13210" y="842"/>
                    <a:pt x="12253" y="1991"/>
                  </a:cubicBezTo>
                  <a:cubicBezTo>
                    <a:pt x="10862" y="3514"/>
                    <a:pt x="9339" y="4971"/>
                    <a:pt x="7749" y="6230"/>
                  </a:cubicBezTo>
                  <a:cubicBezTo>
                    <a:pt x="6094" y="7554"/>
                    <a:pt x="4372" y="8614"/>
                    <a:pt x="2517" y="9475"/>
                  </a:cubicBezTo>
                  <a:cubicBezTo>
                    <a:pt x="2120" y="9607"/>
                    <a:pt x="1789" y="9740"/>
                    <a:pt x="1524" y="9806"/>
                  </a:cubicBezTo>
                  <a:cubicBezTo>
                    <a:pt x="1259" y="9872"/>
                    <a:pt x="994" y="10005"/>
                    <a:pt x="795" y="10005"/>
                  </a:cubicBezTo>
                  <a:cubicBezTo>
                    <a:pt x="332" y="10137"/>
                    <a:pt x="67" y="10203"/>
                    <a:pt x="67" y="10402"/>
                  </a:cubicBezTo>
                  <a:cubicBezTo>
                    <a:pt x="0" y="10534"/>
                    <a:pt x="199" y="10667"/>
                    <a:pt x="729" y="10866"/>
                  </a:cubicBezTo>
                  <a:cubicBezTo>
                    <a:pt x="1060" y="10932"/>
                    <a:pt x="1325" y="10998"/>
                    <a:pt x="1656" y="10998"/>
                  </a:cubicBezTo>
                  <a:cubicBezTo>
                    <a:pt x="2054" y="10998"/>
                    <a:pt x="2517" y="10932"/>
                    <a:pt x="2915" y="10866"/>
                  </a:cubicBezTo>
                  <a:cubicBezTo>
                    <a:pt x="5166" y="10402"/>
                    <a:pt x="7219" y="9342"/>
                    <a:pt x="9008" y="7885"/>
                  </a:cubicBezTo>
                  <a:cubicBezTo>
                    <a:pt x="10862" y="6494"/>
                    <a:pt x="12385" y="4772"/>
                    <a:pt x="13445" y="2786"/>
                  </a:cubicBezTo>
                  <a:cubicBezTo>
                    <a:pt x="14306" y="1196"/>
                    <a:pt x="14372" y="70"/>
                    <a:pt x="14107" y="4"/>
                  </a:cubicBezTo>
                  <a:cubicBezTo>
                    <a:pt x="14095" y="2"/>
                    <a:pt x="14083" y="0"/>
                    <a:pt x="14071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2360" bIns="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Google Shape;2930;p63"/>
            <p:cNvSpPr/>
            <p:nvPr/>
          </p:nvSpPr>
          <p:spPr>
            <a:xfrm>
              <a:off x="2706480" y="1519200"/>
              <a:ext cx="244440" cy="93600"/>
            </a:xfrm>
            <a:custGeom>
              <a:avLst/>
              <a:gdLst/>
              <a:ahLst/>
              <a:rect l="l" t="t" r="r" b="b"/>
              <a:pathLst>
                <a:path w="16492" h="6241">
                  <a:moveTo>
                    <a:pt x="6768" y="0"/>
                  </a:moveTo>
                  <a:cubicBezTo>
                    <a:pt x="5321" y="0"/>
                    <a:pt x="3892" y="233"/>
                    <a:pt x="2517" y="650"/>
                  </a:cubicBezTo>
                  <a:cubicBezTo>
                    <a:pt x="861" y="1180"/>
                    <a:pt x="0" y="1908"/>
                    <a:pt x="133" y="2240"/>
                  </a:cubicBezTo>
                  <a:cubicBezTo>
                    <a:pt x="174" y="2322"/>
                    <a:pt x="298" y="2353"/>
                    <a:pt x="496" y="2353"/>
                  </a:cubicBezTo>
                  <a:cubicBezTo>
                    <a:pt x="938" y="2353"/>
                    <a:pt x="1751" y="2199"/>
                    <a:pt x="2848" y="2107"/>
                  </a:cubicBezTo>
                  <a:cubicBezTo>
                    <a:pt x="3593" y="2033"/>
                    <a:pt x="4357" y="1995"/>
                    <a:pt x="5125" y="1995"/>
                  </a:cubicBezTo>
                  <a:cubicBezTo>
                    <a:pt x="6406" y="1995"/>
                    <a:pt x="7699" y="2099"/>
                    <a:pt x="8941" y="2306"/>
                  </a:cubicBezTo>
                  <a:cubicBezTo>
                    <a:pt x="10928" y="2571"/>
                    <a:pt x="12782" y="3366"/>
                    <a:pt x="14372" y="4558"/>
                  </a:cubicBezTo>
                  <a:cubicBezTo>
                    <a:pt x="15454" y="5399"/>
                    <a:pt x="15990" y="6241"/>
                    <a:pt x="16328" y="6241"/>
                  </a:cubicBezTo>
                  <a:cubicBezTo>
                    <a:pt x="16362" y="6241"/>
                    <a:pt x="16394" y="6232"/>
                    <a:pt x="16425" y="6213"/>
                  </a:cubicBezTo>
                  <a:cubicBezTo>
                    <a:pt x="16491" y="6213"/>
                    <a:pt x="16491" y="5882"/>
                    <a:pt x="16425" y="5352"/>
                  </a:cubicBezTo>
                  <a:cubicBezTo>
                    <a:pt x="16359" y="5087"/>
                    <a:pt x="16226" y="4823"/>
                    <a:pt x="16094" y="4558"/>
                  </a:cubicBezTo>
                  <a:cubicBezTo>
                    <a:pt x="15895" y="4160"/>
                    <a:pt x="15696" y="3829"/>
                    <a:pt x="15432" y="3498"/>
                  </a:cubicBezTo>
                  <a:cubicBezTo>
                    <a:pt x="15100" y="3101"/>
                    <a:pt x="14769" y="2769"/>
                    <a:pt x="14372" y="2438"/>
                  </a:cubicBezTo>
                  <a:cubicBezTo>
                    <a:pt x="14173" y="2306"/>
                    <a:pt x="13975" y="2107"/>
                    <a:pt x="13710" y="1908"/>
                  </a:cubicBezTo>
                  <a:lnTo>
                    <a:pt x="12981" y="1445"/>
                  </a:lnTo>
                  <a:cubicBezTo>
                    <a:pt x="11789" y="849"/>
                    <a:pt x="10597" y="451"/>
                    <a:pt x="9338" y="253"/>
                  </a:cubicBezTo>
                  <a:cubicBezTo>
                    <a:pt x="8479" y="81"/>
                    <a:pt x="7620" y="0"/>
                    <a:pt x="6768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520" bIns="2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Google Shape;2931;p63"/>
            <p:cNvSpPr/>
            <p:nvPr/>
          </p:nvSpPr>
          <p:spPr>
            <a:xfrm>
              <a:off x="2235600" y="1718280"/>
              <a:ext cx="115920" cy="110880"/>
            </a:xfrm>
            <a:custGeom>
              <a:avLst/>
              <a:gdLst/>
              <a:ahLst/>
              <a:rect l="l" t="t" r="r" b="b"/>
              <a:pathLst>
                <a:path w="7816" h="7470">
                  <a:moveTo>
                    <a:pt x="994" y="0"/>
                  </a:moveTo>
                  <a:cubicBezTo>
                    <a:pt x="994" y="0"/>
                    <a:pt x="0" y="6358"/>
                    <a:pt x="1193" y="7352"/>
                  </a:cubicBezTo>
                  <a:cubicBezTo>
                    <a:pt x="1283" y="7432"/>
                    <a:pt x="1399" y="7470"/>
                    <a:pt x="1535" y="7470"/>
                  </a:cubicBezTo>
                  <a:cubicBezTo>
                    <a:pt x="3181" y="7470"/>
                    <a:pt x="7816" y="1987"/>
                    <a:pt x="7816" y="1987"/>
                  </a:cubicBezTo>
                  <a:lnTo>
                    <a:pt x="994" y="0"/>
                  </a:ln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9800" bIns="19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Google Shape;2932;p63"/>
            <p:cNvSpPr/>
            <p:nvPr/>
          </p:nvSpPr>
          <p:spPr>
            <a:xfrm>
              <a:off x="3043800" y="1915200"/>
              <a:ext cx="99360" cy="122040"/>
            </a:xfrm>
            <a:custGeom>
              <a:avLst/>
              <a:gdLst/>
              <a:ahLst/>
              <a:rect l="l" t="t" r="r" b="b"/>
              <a:pathLst>
                <a:path w="6690" h="8215">
                  <a:moveTo>
                    <a:pt x="1" y="0"/>
                  </a:moveTo>
                  <a:cubicBezTo>
                    <a:pt x="1" y="0"/>
                    <a:pt x="522" y="8214"/>
                    <a:pt x="2083" y="8214"/>
                  </a:cubicBezTo>
                  <a:cubicBezTo>
                    <a:pt x="2095" y="8214"/>
                    <a:pt x="2108" y="8214"/>
                    <a:pt x="2120" y="8213"/>
                  </a:cubicBezTo>
                  <a:cubicBezTo>
                    <a:pt x="3710" y="8146"/>
                    <a:pt x="6690" y="2384"/>
                    <a:pt x="6690" y="238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Google Shape;2933;p63"/>
            <p:cNvSpPr/>
            <p:nvPr/>
          </p:nvSpPr>
          <p:spPr>
            <a:xfrm>
              <a:off x="2174760" y="1589400"/>
              <a:ext cx="1202400" cy="386640"/>
            </a:xfrm>
            <a:custGeom>
              <a:avLst/>
              <a:gdLst/>
              <a:ahLst/>
              <a:rect l="l" t="t" r="r" b="b"/>
              <a:pathLst>
                <a:path w="80933" h="26037">
                  <a:moveTo>
                    <a:pt x="66" y="0"/>
                  </a:moveTo>
                  <a:cubicBezTo>
                    <a:pt x="0" y="0"/>
                    <a:pt x="0" y="331"/>
                    <a:pt x="0" y="927"/>
                  </a:cubicBezTo>
                  <a:cubicBezTo>
                    <a:pt x="0" y="1855"/>
                    <a:pt x="133" y="2716"/>
                    <a:pt x="331" y="3643"/>
                  </a:cubicBezTo>
                  <a:cubicBezTo>
                    <a:pt x="795" y="5034"/>
                    <a:pt x="1524" y="6292"/>
                    <a:pt x="2517" y="7352"/>
                  </a:cubicBezTo>
                  <a:cubicBezTo>
                    <a:pt x="3908" y="8676"/>
                    <a:pt x="5564" y="9736"/>
                    <a:pt x="7352" y="10332"/>
                  </a:cubicBezTo>
                  <a:cubicBezTo>
                    <a:pt x="9537" y="11060"/>
                    <a:pt x="11723" y="11657"/>
                    <a:pt x="13975" y="11988"/>
                  </a:cubicBezTo>
                  <a:lnTo>
                    <a:pt x="17683" y="12650"/>
                  </a:lnTo>
                  <a:cubicBezTo>
                    <a:pt x="18942" y="12915"/>
                    <a:pt x="20266" y="13114"/>
                    <a:pt x="21591" y="13246"/>
                  </a:cubicBezTo>
                  <a:cubicBezTo>
                    <a:pt x="27088" y="13842"/>
                    <a:pt x="32982" y="13643"/>
                    <a:pt x="39009" y="14968"/>
                  </a:cubicBezTo>
                  <a:cubicBezTo>
                    <a:pt x="41923" y="15630"/>
                    <a:pt x="44771" y="16557"/>
                    <a:pt x="47553" y="17750"/>
                  </a:cubicBezTo>
                  <a:lnTo>
                    <a:pt x="49474" y="18611"/>
                  </a:lnTo>
                  <a:lnTo>
                    <a:pt x="51394" y="19538"/>
                  </a:lnTo>
                  <a:cubicBezTo>
                    <a:pt x="52653" y="20134"/>
                    <a:pt x="53911" y="20862"/>
                    <a:pt x="55169" y="21392"/>
                  </a:cubicBezTo>
                  <a:cubicBezTo>
                    <a:pt x="59540" y="23512"/>
                    <a:pt x="64177" y="24969"/>
                    <a:pt x="69011" y="25697"/>
                  </a:cubicBezTo>
                  <a:cubicBezTo>
                    <a:pt x="70576" y="25924"/>
                    <a:pt x="72044" y="26036"/>
                    <a:pt x="73388" y="26036"/>
                  </a:cubicBezTo>
                  <a:cubicBezTo>
                    <a:pt x="75569" y="26036"/>
                    <a:pt x="77419" y="25741"/>
                    <a:pt x="78813" y="25167"/>
                  </a:cubicBezTo>
                  <a:cubicBezTo>
                    <a:pt x="79740" y="24902"/>
                    <a:pt x="80469" y="24174"/>
                    <a:pt x="80800" y="23313"/>
                  </a:cubicBezTo>
                  <a:cubicBezTo>
                    <a:pt x="80933" y="22651"/>
                    <a:pt x="80668" y="22319"/>
                    <a:pt x="80668" y="22319"/>
                  </a:cubicBezTo>
                  <a:cubicBezTo>
                    <a:pt x="80601" y="22319"/>
                    <a:pt x="80668" y="22651"/>
                    <a:pt x="80469" y="23180"/>
                  </a:cubicBezTo>
                  <a:cubicBezTo>
                    <a:pt x="80072" y="23909"/>
                    <a:pt x="79409" y="24439"/>
                    <a:pt x="78548" y="24637"/>
                  </a:cubicBezTo>
                  <a:cubicBezTo>
                    <a:pt x="77497" y="24976"/>
                    <a:pt x="76099" y="25159"/>
                    <a:pt x="74461" y="25159"/>
                  </a:cubicBezTo>
                  <a:cubicBezTo>
                    <a:pt x="72898" y="25159"/>
                    <a:pt x="71117" y="24993"/>
                    <a:pt x="69210" y="24637"/>
                  </a:cubicBezTo>
                  <a:cubicBezTo>
                    <a:pt x="64508" y="23710"/>
                    <a:pt x="60004" y="22187"/>
                    <a:pt x="55765" y="20068"/>
                  </a:cubicBezTo>
                  <a:cubicBezTo>
                    <a:pt x="54573" y="19472"/>
                    <a:pt x="53381" y="18876"/>
                    <a:pt x="52123" y="18213"/>
                  </a:cubicBezTo>
                  <a:lnTo>
                    <a:pt x="50202" y="17220"/>
                  </a:lnTo>
                  <a:lnTo>
                    <a:pt x="48215" y="16359"/>
                  </a:lnTo>
                  <a:cubicBezTo>
                    <a:pt x="45367" y="15100"/>
                    <a:pt x="42387" y="14107"/>
                    <a:pt x="39407" y="13445"/>
                  </a:cubicBezTo>
                  <a:cubicBezTo>
                    <a:pt x="33181" y="12054"/>
                    <a:pt x="27088" y="12253"/>
                    <a:pt x="21790" y="11789"/>
                  </a:cubicBezTo>
                  <a:cubicBezTo>
                    <a:pt x="20465" y="11657"/>
                    <a:pt x="19207" y="11524"/>
                    <a:pt x="17948" y="11325"/>
                  </a:cubicBezTo>
                  <a:lnTo>
                    <a:pt x="14240" y="10729"/>
                  </a:lnTo>
                  <a:cubicBezTo>
                    <a:pt x="12054" y="10398"/>
                    <a:pt x="9935" y="9935"/>
                    <a:pt x="7815" y="9272"/>
                  </a:cubicBezTo>
                  <a:cubicBezTo>
                    <a:pt x="6093" y="8742"/>
                    <a:pt x="4570" y="7881"/>
                    <a:pt x="3245" y="6689"/>
                  </a:cubicBezTo>
                  <a:cubicBezTo>
                    <a:pt x="2252" y="5762"/>
                    <a:pt x="1524" y="4636"/>
                    <a:pt x="994" y="3378"/>
                  </a:cubicBezTo>
                  <a:cubicBezTo>
                    <a:pt x="729" y="2583"/>
                    <a:pt x="464" y="1788"/>
                    <a:pt x="331" y="927"/>
                  </a:cubicBezTo>
                  <a:cubicBezTo>
                    <a:pt x="199" y="331"/>
                    <a:pt x="133" y="0"/>
                    <a:pt x="66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Google Shape;2934;p63"/>
            <p:cNvSpPr/>
            <p:nvPr/>
          </p:nvSpPr>
          <p:spPr>
            <a:xfrm>
              <a:off x="2418480" y="1418400"/>
              <a:ext cx="238320" cy="203400"/>
            </a:xfrm>
            <a:custGeom>
              <a:avLst/>
              <a:gdLst/>
              <a:ahLst/>
              <a:rect l="l" t="t" r="r" b="b"/>
              <a:pathLst>
                <a:path w="16048" h="13706">
                  <a:moveTo>
                    <a:pt x="8224" y="1"/>
                  </a:moveTo>
                  <a:cubicBezTo>
                    <a:pt x="3674" y="1"/>
                    <a:pt x="1" y="4675"/>
                    <a:pt x="1941" y="9442"/>
                  </a:cubicBezTo>
                  <a:cubicBezTo>
                    <a:pt x="3077" y="12282"/>
                    <a:pt x="5662" y="13706"/>
                    <a:pt x="8251" y="13706"/>
                  </a:cubicBezTo>
                  <a:cubicBezTo>
                    <a:pt x="10795" y="13706"/>
                    <a:pt x="13343" y="12331"/>
                    <a:pt x="14524" y="9574"/>
                  </a:cubicBezTo>
                  <a:cubicBezTo>
                    <a:pt x="16048" y="6064"/>
                    <a:pt x="14392" y="2024"/>
                    <a:pt x="10948" y="567"/>
                  </a:cubicBezTo>
                  <a:cubicBezTo>
                    <a:pt x="10030" y="178"/>
                    <a:pt x="9110" y="1"/>
                    <a:pt x="8224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Google Shape;2935;p63"/>
            <p:cNvSpPr/>
            <p:nvPr/>
          </p:nvSpPr>
          <p:spPr>
            <a:xfrm>
              <a:off x="2545200" y="1504080"/>
              <a:ext cx="57600" cy="48600"/>
            </a:xfrm>
            <a:custGeom>
              <a:avLst/>
              <a:gdLst/>
              <a:ahLst/>
              <a:rect l="l" t="t" r="r" b="b"/>
              <a:pathLst>
                <a:path w="3878" h="3281">
                  <a:moveTo>
                    <a:pt x="1958" y="0"/>
                  </a:moveTo>
                  <a:cubicBezTo>
                    <a:pt x="894" y="0"/>
                    <a:pt x="0" y="1092"/>
                    <a:pt x="433" y="2229"/>
                  </a:cubicBezTo>
                  <a:cubicBezTo>
                    <a:pt x="735" y="2933"/>
                    <a:pt x="1376" y="3281"/>
                    <a:pt x="2013" y="3281"/>
                  </a:cubicBezTo>
                  <a:cubicBezTo>
                    <a:pt x="2634" y="3281"/>
                    <a:pt x="3251" y="2949"/>
                    <a:pt x="3546" y="2295"/>
                  </a:cubicBezTo>
                  <a:cubicBezTo>
                    <a:pt x="3877" y="1434"/>
                    <a:pt x="3480" y="507"/>
                    <a:pt x="2685" y="176"/>
                  </a:cubicBezTo>
                  <a:cubicBezTo>
                    <a:pt x="2443" y="55"/>
                    <a:pt x="2196" y="0"/>
                    <a:pt x="1958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2480" bIns="-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Google Shape;2936;p63"/>
            <p:cNvSpPr/>
            <p:nvPr/>
          </p:nvSpPr>
          <p:spPr>
            <a:xfrm>
              <a:off x="3008880" y="1541520"/>
              <a:ext cx="238320" cy="203400"/>
            </a:xfrm>
            <a:custGeom>
              <a:avLst/>
              <a:gdLst/>
              <a:ahLst/>
              <a:rect l="l" t="t" r="r" b="b"/>
              <a:pathLst>
                <a:path w="16048" h="13706">
                  <a:moveTo>
                    <a:pt x="8223" y="1"/>
                  </a:moveTo>
                  <a:cubicBezTo>
                    <a:pt x="3674" y="1"/>
                    <a:pt x="0" y="4675"/>
                    <a:pt x="1940" y="9442"/>
                  </a:cubicBezTo>
                  <a:cubicBezTo>
                    <a:pt x="3076" y="12281"/>
                    <a:pt x="5662" y="13706"/>
                    <a:pt x="8251" y="13706"/>
                  </a:cubicBezTo>
                  <a:cubicBezTo>
                    <a:pt x="10795" y="13706"/>
                    <a:pt x="13342" y="12331"/>
                    <a:pt x="14524" y="9574"/>
                  </a:cubicBezTo>
                  <a:cubicBezTo>
                    <a:pt x="16047" y="6064"/>
                    <a:pt x="14392" y="2024"/>
                    <a:pt x="10948" y="567"/>
                  </a:cubicBezTo>
                  <a:cubicBezTo>
                    <a:pt x="10030" y="178"/>
                    <a:pt x="9110" y="1"/>
                    <a:pt x="8223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Google Shape;2937;p63"/>
            <p:cNvSpPr/>
            <p:nvPr/>
          </p:nvSpPr>
          <p:spPr>
            <a:xfrm>
              <a:off x="3135600" y="1627200"/>
              <a:ext cx="57600" cy="48600"/>
            </a:xfrm>
            <a:custGeom>
              <a:avLst/>
              <a:gdLst/>
              <a:ahLst/>
              <a:rect l="l" t="t" r="r" b="b"/>
              <a:pathLst>
                <a:path w="3878" h="3282">
                  <a:moveTo>
                    <a:pt x="1959" y="1"/>
                  </a:moveTo>
                  <a:cubicBezTo>
                    <a:pt x="895" y="1"/>
                    <a:pt x="1" y="1093"/>
                    <a:pt x="434" y="2230"/>
                  </a:cubicBezTo>
                  <a:cubicBezTo>
                    <a:pt x="735" y="2934"/>
                    <a:pt x="1376" y="3281"/>
                    <a:pt x="2013" y="3281"/>
                  </a:cubicBezTo>
                  <a:cubicBezTo>
                    <a:pt x="2635" y="3281"/>
                    <a:pt x="3252" y="2950"/>
                    <a:pt x="3547" y="2296"/>
                  </a:cubicBezTo>
                  <a:cubicBezTo>
                    <a:pt x="3878" y="1435"/>
                    <a:pt x="3480" y="508"/>
                    <a:pt x="2686" y="177"/>
                  </a:cubicBezTo>
                  <a:cubicBezTo>
                    <a:pt x="2443" y="55"/>
                    <a:pt x="2197" y="1"/>
                    <a:pt x="1959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2480" bIns="-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Google Shape;2938;p63"/>
          <p:cNvSpPr/>
          <p:nvPr/>
        </p:nvSpPr>
        <p:spPr>
          <a:xfrm>
            <a:off x="2179800" y="2025720"/>
            <a:ext cx="5327640" cy="2133360"/>
          </a:xfrm>
          <a:prstGeom prst="roundRect">
            <a:avLst>
              <a:gd name="adj" fmla="val 7907"/>
            </a:avLst>
          </a:prstGeom>
          <a:solidFill>
            <a:srgbClr val="f86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2786040" y="2266920"/>
            <a:ext cx="41781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5f1e6"/>
                </a:solidFill>
                <a:latin typeface="Sriracha"/>
                <a:ea typeface="Sriracha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Google Shape;2941;p63"/>
          <p:cNvGrpSpPr/>
          <p:nvPr/>
        </p:nvGrpSpPr>
        <p:grpSpPr>
          <a:xfrm>
            <a:off x="1887480" y="1967040"/>
            <a:ext cx="1003320" cy="1442880"/>
            <a:chOff x="1887480" y="1967040"/>
            <a:chExt cx="1003320" cy="1442880"/>
          </a:xfrm>
        </p:grpSpPr>
        <p:sp>
          <p:nvSpPr>
            <p:cNvPr id="1744" name="Google Shape;2942;p63"/>
            <p:cNvSpPr/>
            <p:nvPr/>
          </p:nvSpPr>
          <p:spPr>
            <a:xfrm>
              <a:off x="1887480" y="1967040"/>
              <a:ext cx="878040" cy="1405080"/>
            </a:xfrm>
            <a:custGeom>
              <a:avLst/>
              <a:gdLst/>
              <a:ahLst/>
              <a:rect l="l" t="t" r="r" b="b"/>
              <a:pathLst>
                <a:path w="59143" h="94543">
                  <a:moveTo>
                    <a:pt x="20222" y="1"/>
                  </a:moveTo>
                  <a:cubicBezTo>
                    <a:pt x="17162" y="1"/>
                    <a:pt x="13843" y="1402"/>
                    <a:pt x="10663" y="4869"/>
                  </a:cubicBezTo>
                  <a:cubicBezTo>
                    <a:pt x="5762" y="10168"/>
                    <a:pt x="4172" y="19241"/>
                    <a:pt x="3047" y="25069"/>
                  </a:cubicBezTo>
                  <a:cubicBezTo>
                    <a:pt x="0" y="41163"/>
                    <a:pt x="2980" y="59840"/>
                    <a:pt x="10067" y="74609"/>
                  </a:cubicBezTo>
                  <a:lnTo>
                    <a:pt x="12252" y="70701"/>
                  </a:lnTo>
                  <a:cubicBezTo>
                    <a:pt x="12252" y="70701"/>
                    <a:pt x="28228" y="94542"/>
                    <a:pt x="42393" y="94542"/>
                  </a:cubicBezTo>
                  <a:cubicBezTo>
                    <a:pt x="42991" y="94542"/>
                    <a:pt x="43585" y="94500"/>
                    <a:pt x="44175" y="94412"/>
                  </a:cubicBezTo>
                  <a:cubicBezTo>
                    <a:pt x="45301" y="94213"/>
                    <a:pt x="46427" y="93815"/>
                    <a:pt x="47420" y="93286"/>
                  </a:cubicBezTo>
                  <a:cubicBezTo>
                    <a:pt x="49407" y="92226"/>
                    <a:pt x="51129" y="90769"/>
                    <a:pt x="52586" y="89113"/>
                  </a:cubicBezTo>
                  <a:cubicBezTo>
                    <a:pt x="53315" y="88385"/>
                    <a:pt x="53977" y="87524"/>
                    <a:pt x="54573" y="86729"/>
                  </a:cubicBezTo>
                  <a:cubicBezTo>
                    <a:pt x="55831" y="84875"/>
                    <a:pt x="56891" y="82954"/>
                    <a:pt x="57620" y="80835"/>
                  </a:cubicBezTo>
                  <a:cubicBezTo>
                    <a:pt x="58216" y="79377"/>
                    <a:pt x="58547" y="77854"/>
                    <a:pt x="58812" y="76265"/>
                  </a:cubicBezTo>
                  <a:cubicBezTo>
                    <a:pt x="59143" y="74013"/>
                    <a:pt x="59010" y="71695"/>
                    <a:pt x="58481" y="69443"/>
                  </a:cubicBezTo>
                  <a:cubicBezTo>
                    <a:pt x="58083" y="67854"/>
                    <a:pt x="57421" y="66330"/>
                    <a:pt x="56626" y="64939"/>
                  </a:cubicBezTo>
                  <a:cubicBezTo>
                    <a:pt x="56163" y="64277"/>
                    <a:pt x="55633" y="63681"/>
                    <a:pt x="55037" y="63284"/>
                  </a:cubicBezTo>
                  <a:cubicBezTo>
                    <a:pt x="53116" y="62158"/>
                    <a:pt x="51262" y="61098"/>
                    <a:pt x="49275" y="60171"/>
                  </a:cubicBezTo>
                  <a:cubicBezTo>
                    <a:pt x="41592" y="55998"/>
                    <a:pt x="31194" y="47587"/>
                    <a:pt x="32386" y="13545"/>
                  </a:cubicBezTo>
                  <a:cubicBezTo>
                    <a:pt x="32569" y="6962"/>
                    <a:pt x="27040" y="1"/>
                    <a:pt x="20222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Google Shape;2943;p63"/>
            <p:cNvSpPr/>
            <p:nvPr/>
          </p:nvSpPr>
          <p:spPr>
            <a:xfrm>
              <a:off x="2592000" y="3291120"/>
              <a:ext cx="148320" cy="118800"/>
            </a:xfrm>
            <a:custGeom>
              <a:avLst/>
              <a:gdLst/>
              <a:ahLst/>
              <a:rect l="l" t="t" r="r" b="b"/>
              <a:pathLst>
                <a:path w="10001" h="8018">
                  <a:moveTo>
                    <a:pt x="5166" y="0"/>
                  </a:moveTo>
                  <a:cubicBezTo>
                    <a:pt x="3709" y="1656"/>
                    <a:pt x="1987" y="3047"/>
                    <a:pt x="0" y="4106"/>
                  </a:cubicBezTo>
                  <a:cubicBezTo>
                    <a:pt x="2001" y="5620"/>
                    <a:pt x="5635" y="8017"/>
                    <a:pt x="7659" y="8017"/>
                  </a:cubicBezTo>
                  <a:cubicBezTo>
                    <a:pt x="8114" y="8017"/>
                    <a:pt x="8487" y="7896"/>
                    <a:pt x="8743" y="7617"/>
                  </a:cubicBezTo>
                  <a:cubicBezTo>
                    <a:pt x="10001" y="6226"/>
                    <a:pt x="7286" y="2517"/>
                    <a:pt x="5166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7720" bIns="27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Google Shape;2944;p63"/>
            <p:cNvSpPr/>
            <p:nvPr/>
          </p:nvSpPr>
          <p:spPr>
            <a:xfrm>
              <a:off x="2698200" y="3168000"/>
              <a:ext cx="146520" cy="119520"/>
            </a:xfrm>
            <a:custGeom>
              <a:avLst/>
              <a:gdLst/>
              <a:ahLst/>
              <a:rect l="l" t="t" r="r" b="b"/>
              <a:pathLst>
                <a:path w="9869" h="8061">
                  <a:moveTo>
                    <a:pt x="3047" y="1"/>
                  </a:moveTo>
                  <a:cubicBezTo>
                    <a:pt x="2318" y="2120"/>
                    <a:pt x="1258" y="4041"/>
                    <a:pt x="0" y="5895"/>
                  </a:cubicBezTo>
                  <a:cubicBezTo>
                    <a:pt x="2059" y="6805"/>
                    <a:pt x="5227" y="8061"/>
                    <a:pt x="7198" y="8061"/>
                  </a:cubicBezTo>
                  <a:cubicBezTo>
                    <a:pt x="7954" y="8061"/>
                    <a:pt x="8533" y="7877"/>
                    <a:pt x="8809" y="7418"/>
                  </a:cubicBezTo>
                  <a:cubicBezTo>
                    <a:pt x="9868" y="5630"/>
                    <a:pt x="5563" y="1987"/>
                    <a:pt x="3047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8440" bIns="28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Google Shape;2945;p63"/>
            <p:cNvSpPr/>
            <p:nvPr/>
          </p:nvSpPr>
          <p:spPr>
            <a:xfrm>
              <a:off x="2756160" y="2999520"/>
              <a:ext cx="134640" cy="101880"/>
            </a:xfrm>
            <a:custGeom>
              <a:avLst/>
              <a:gdLst/>
              <a:ahLst/>
              <a:rect l="l" t="t" r="r" b="b"/>
              <a:pathLst>
                <a:path w="9075" h="6873">
                  <a:moveTo>
                    <a:pt x="1" y="0"/>
                  </a:moveTo>
                  <a:cubicBezTo>
                    <a:pt x="530" y="2186"/>
                    <a:pt x="663" y="4504"/>
                    <a:pt x="332" y="6822"/>
                  </a:cubicBezTo>
                  <a:cubicBezTo>
                    <a:pt x="1012" y="6850"/>
                    <a:pt x="1765" y="6873"/>
                    <a:pt x="2531" y="6873"/>
                  </a:cubicBezTo>
                  <a:cubicBezTo>
                    <a:pt x="5348" y="6873"/>
                    <a:pt x="8350" y="6572"/>
                    <a:pt x="8610" y="5166"/>
                  </a:cubicBezTo>
                  <a:cubicBezTo>
                    <a:pt x="9074" y="2981"/>
                    <a:pt x="2782" y="795"/>
                    <a:pt x="1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0800" bIns="10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Google Shape;2946;p63"/>
            <p:cNvSpPr/>
            <p:nvPr/>
          </p:nvSpPr>
          <p:spPr>
            <a:xfrm>
              <a:off x="2619360" y="2777760"/>
              <a:ext cx="131760" cy="129240"/>
            </a:xfrm>
            <a:custGeom>
              <a:avLst/>
              <a:gdLst/>
              <a:ahLst/>
              <a:rect l="l" t="t" r="r" b="b"/>
              <a:pathLst>
                <a:path w="8876" h="8720">
                  <a:moveTo>
                    <a:pt x="6522" y="0"/>
                  </a:moveTo>
                  <a:cubicBezTo>
                    <a:pt x="4720" y="0"/>
                    <a:pt x="1762" y="3376"/>
                    <a:pt x="1" y="5607"/>
                  </a:cubicBezTo>
                  <a:cubicBezTo>
                    <a:pt x="1988" y="6534"/>
                    <a:pt x="3908" y="7594"/>
                    <a:pt x="5763" y="8720"/>
                  </a:cubicBezTo>
                  <a:cubicBezTo>
                    <a:pt x="7021" y="5806"/>
                    <a:pt x="8875" y="1170"/>
                    <a:pt x="7153" y="176"/>
                  </a:cubicBezTo>
                  <a:cubicBezTo>
                    <a:pt x="6965" y="56"/>
                    <a:pt x="6753" y="0"/>
                    <a:pt x="6522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160" bIns="38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9" name="Google Shape;3353;p73"/>
          <p:cNvGrpSpPr/>
          <p:nvPr/>
        </p:nvGrpSpPr>
        <p:grpSpPr>
          <a:xfrm>
            <a:off x="6156360" y="3011400"/>
            <a:ext cx="1614600" cy="1623960"/>
            <a:chOff x="6156360" y="3011400"/>
            <a:chExt cx="1614600" cy="1623960"/>
          </a:xfrm>
        </p:grpSpPr>
        <p:sp>
          <p:nvSpPr>
            <p:cNvPr id="1750" name="Google Shape;3354;p73"/>
            <p:cNvSpPr/>
            <p:nvPr/>
          </p:nvSpPr>
          <p:spPr>
            <a:xfrm>
              <a:off x="6493680" y="4518000"/>
              <a:ext cx="939600" cy="117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920" bIns="-792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1" name="Google Shape;3355;p73"/>
            <p:cNvGrpSpPr/>
            <p:nvPr/>
          </p:nvGrpSpPr>
          <p:grpSpPr>
            <a:xfrm>
              <a:off x="6156360" y="3011400"/>
              <a:ext cx="1614600" cy="1570320"/>
              <a:chOff x="6156360" y="3011400"/>
              <a:chExt cx="1614600" cy="1570320"/>
            </a:xfrm>
          </p:grpSpPr>
          <p:sp>
            <p:nvSpPr>
              <p:cNvPr id="1752" name="Google Shape;3356;p73"/>
              <p:cNvSpPr/>
              <p:nvPr/>
            </p:nvSpPr>
            <p:spPr>
              <a:xfrm>
                <a:off x="6748560" y="4332600"/>
                <a:ext cx="258480" cy="249120"/>
              </a:xfrm>
              <a:custGeom>
                <a:avLst/>
                <a:gdLst/>
                <a:ahLst/>
                <a:rect l="l" t="t" r="r" b="b"/>
                <a:pathLst>
                  <a:path w="13136" h="12687">
                    <a:moveTo>
                      <a:pt x="5271" y="0"/>
                    </a:moveTo>
                    <a:cubicBezTo>
                      <a:pt x="5253" y="0"/>
                      <a:pt x="5243" y="0"/>
                      <a:pt x="5243" y="0"/>
                    </a:cubicBezTo>
                    <a:cubicBezTo>
                      <a:pt x="686" y="3670"/>
                      <a:pt x="3509" y="10930"/>
                      <a:pt x="3509" y="10930"/>
                    </a:cubicBezTo>
                    <a:cubicBezTo>
                      <a:pt x="3509" y="10930"/>
                      <a:pt x="162" y="12220"/>
                      <a:pt x="41" y="12543"/>
                    </a:cubicBezTo>
                    <a:cubicBezTo>
                      <a:pt x="1" y="12650"/>
                      <a:pt x="659" y="12686"/>
                      <a:pt x="1555" y="12686"/>
                    </a:cubicBezTo>
                    <a:cubicBezTo>
                      <a:pt x="3348" y="12686"/>
                      <a:pt x="6090" y="12543"/>
                      <a:pt x="6090" y="12543"/>
                    </a:cubicBezTo>
                    <a:cubicBezTo>
                      <a:pt x="6090" y="12543"/>
                      <a:pt x="5526" y="4477"/>
                      <a:pt x="9397" y="2219"/>
                    </a:cubicBezTo>
                    <a:cubicBezTo>
                      <a:pt x="13135" y="38"/>
                      <a:pt x="5783" y="0"/>
                      <a:pt x="5271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Google Shape;3357;p73"/>
              <p:cNvSpPr/>
              <p:nvPr/>
            </p:nvSpPr>
            <p:spPr>
              <a:xfrm>
                <a:off x="6966000" y="4332600"/>
                <a:ext cx="258480" cy="249120"/>
              </a:xfrm>
              <a:custGeom>
                <a:avLst/>
                <a:gdLst/>
                <a:ahLst/>
                <a:rect l="l" t="t" r="r" b="b"/>
                <a:pathLst>
                  <a:path w="13135" h="12687">
                    <a:moveTo>
                      <a:pt x="7905" y="0"/>
                    </a:moveTo>
                    <a:cubicBezTo>
                      <a:pt x="7390" y="0"/>
                      <a:pt x="0" y="38"/>
                      <a:pt x="3738" y="2219"/>
                    </a:cubicBezTo>
                    <a:cubicBezTo>
                      <a:pt x="7650" y="4477"/>
                      <a:pt x="7045" y="12543"/>
                      <a:pt x="7045" y="12543"/>
                    </a:cubicBezTo>
                    <a:cubicBezTo>
                      <a:pt x="7045" y="12543"/>
                      <a:pt x="9788" y="12686"/>
                      <a:pt x="11580" y="12686"/>
                    </a:cubicBezTo>
                    <a:cubicBezTo>
                      <a:pt x="12476" y="12686"/>
                      <a:pt x="13135" y="12650"/>
                      <a:pt x="13095" y="12543"/>
                    </a:cubicBezTo>
                    <a:cubicBezTo>
                      <a:pt x="12974" y="12220"/>
                      <a:pt x="9626" y="10930"/>
                      <a:pt x="9626" y="10930"/>
                    </a:cubicBezTo>
                    <a:cubicBezTo>
                      <a:pt x="9626" y="10930"/>
                      <a:pt x="12449" y="3670"/>
                      <a:pt x="7933" y="0"/>
                    </a:cubicBezTo>
                    <a:cubicBezTo>
                      <a:pt x="7933" y="0"/>
                      <a:pt x="7923" y="0"/>
                      <a:pt x="7905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Google Shape;3358;p73"/>
              <p:cNvSpPr/>
              <p:nvPr/>
            </p:nvSpPr>
            <p:spPr>
              <a:xfrm>
                <a:off x="6156360" y="3557520"/>
                <a:ext cx="690480" cy="500040"/>
              </a:xfrm>
              <a:custGeom>
                <a:avLst/>
                <a:gdLst/>
                <a:ahLst/>
                <a:rect l="l" t="t" r="r" b="b"/>
                <a:pathLst>
                  <a:path w="35047" h="25397">
                    <a:moveTo>
                      <a:pt x="4880" y="1"/>
                    </a:moveTo>
                    <a:lnTo>
                      <a:pt x="4880" y="1"/>
                    </a:lnTo>
                    <a:cubicBezTo>
                      <a:pt x="3428" y="969"/>
                      <a:pt x="2541" y="2582"/>
                      <a:pt x="2541" y="4316"/>
                    </a:cubicBezTo>
                    <a:cubicBezTo>
                      <a:pt x="2541" y="6171"/>
                      <a:pt x="3388" y="7865"/>
                      <a:pt x="4880" y="8994"/>
                    </a:cubicBezTo>
                    <a:cubicBezTo>
                      <a:pt x="4746" y="9042"/>
                      <a:pt x="4595" y="9063"/>
                      <a:pt x="4435" y="9063"/>
                    </a:cubicBezTo>
                    <a:cubicBezTo>
                      <a:pt x="3774" y="9063"/>
                      <a:pt x="2955" y="8706"/>
                      <a:pt x="2501" y="8349"/>
                    </a:cubicBezTo>
                    <a:cubicBezTo>
                      <a:pt x="1331" y="7421"/>
                      <a:pt x="605" y="6050"/>
                      <a:pt x="565" y="4558"/>
                    </a:cubicBezTo>
                    <a:lnTo>
                      <a:pt x="565" y="4558"/>
                    </a:lnTo>
                    <a:cubicBezTo>
                      <a:pt x="0" y="7099"/>
                      <a:pt x="323" y="9962"/>
                      <a:pt x="2541" y="11333"/>
                    </a:cubicBezTo>
                    <a:cubicBezTo>
                      <a:pt x="3885" y="12149"/>
                      <a:pt x="5500" y="12608"/>
                      <a:pt x="6851" y="12608"/>
                    </a:cubicBezTo>
                    <a:cubicBezTo>
                      <a:pt x="7771" y="12608"/>
                      <a:pt x="8568" y="12396"/>
                      <a:pt x="9074" y="11938"/>
                    </a:cubicBezTo>
                    <a:cubicBezTo>
                      <a:pt x="11091" y="16092"/>
                      <a:pt x="15204" y="21133"/>
                      <a:pt x="19237" y="23351"/>
                    </a:cubicBezTo>
                    <a:cubicBezTo>
                      <a:pt x="21354" y="24555"/>
                      <a:pt x="23767" y="25396"/>
                      <a:pt x="26179" y="25396"/>
                    </a:cubicBezTo>
                    <a:cubicBezTo>
                      <a:pt x="26433" y="25396"/>
                      <a:pt x="26687" y="25387"/>
                      <a:pt x="26940" y="25368"/>
                    </a:cubicBezTo>
                    <a:cubicBezTo>
                      <a:pt x="29642" y="25166"/>
                      <a:pt x="32344" y="23755"/>
                      <a:pt x="-31982" y="21335"/>
                    </a:cubicBezTo>
                    <a:cubicBezTo>
                      <a:pt x="-30732" y="18915"/>
                      <a:pt x="-30490" y="16334"/>
                      <a:pt x="-32748" y="14882"/>
                    </a:cubicBezTo>
                    <a:cubicBezTo>
                      <a:pt x="30727" y="17262"/>
                      <a:pt x="27915" y="17971"/>
                      <a:pt x="25432" y="17971"/>
                    </a:cubicBezTo>
                    <a:cubicBezTo>
                      <a:pt x="24465" y="17971"/>
                      <a:pt x="23549" y="17864"/>
                      <a:pt x="22746" y="17705"/>
                    </a:cubicBezTo>
                    <a:cubicBezTo>
                      <a:pt x="18471" y="16818"/>
                      <a:pt x="13833" y="13430"/>
                      <a:pt x="13430" y="9075"/>
                    </a:cubicBezTo>
                    <a:cubicBezTo>
                      <a:pt x="14519" y="8510"/>
                      <a:pt x="15003" y="7744"/>
                      <a:pt x="15850" y="6857"/>
                    </a:cubicBezTo>
                    <a:cubicBezTo>
                      <a:pt x="16737" y="5970"/>
                      <a:pt x="17221" y="4800"/>
                      <a:pt x="17261" y="3550"/>
                    </a:cubicBezTo>
                    <a:cubicBezTo>
                      <a:pt x="17221" y="2300"/>
                      <a:pt x="16414" y="1170"/>
                      <a:pt x="15245" y="767"/>
                    </a:cubicBezTo>
                    <a:cubicBezTo>
                      <a:pt x="15245" y="2259"/>
                      <a:pt x="15124" y="3792"/>
                      <a:pt x="14035" y="4881"/>
                    </a:cubicBezTo>
                    <a:cubicBezTo>
                      <a:pt x="13439" y="5402"/>
                      <a:pt x="12705" y="5657"/>
                      <a:pt x="11973" y="5657"/>
                    </a:cubicBezTo>
                    <a:cubicBezTo>
                      <a:pt x="11119" y="5657"/>
                      <a:pt x="10268" y="5311"/>
                      <a:pt x="9639" y="4639"/>
                    </a:cubicBezTo>
                    <a:cubicBezTo>
                      <a:pt x="8590" y="3308"/>
                      <a:pt x="8550" y="1453"/>
                      <a:pt x="9558" y="82"/>
                    </a:cubicBezTo>
                    <a:lnTo>
                      <a:pt x="9558" y="82"/>
                    </a:lnTo>
                    <a:cubicBezTo>
                      <a:pt x="8107" y="404"/>
                      <a:pt x="6977" y="1533"/>
                      <a:pt x="6655" y="2985"/>
                    </a:cubicBezTo>
                    <a:cubicBezTo>
                      <a:pt x="6332" y="4477"/>
                      <a:pt x="6897" y="6050"/>
                      <a:pt x="8107" y="7018"/>
                    </a:cubicBezTo>
                    <a:cubicBezTo>
                      <a:pt x="6735" y="6696"/>
                      <a:pt x="5525" y="5405"/>
                      <a:pt x="4880" y="4114"/>
                    </a:cubicBezTo>
                    <a:cubicBezTo>
                      <a:pt x="4275" y="2824"/>
                      <a:pt x="4235" y="1332"/>
                      <a:pt x="4880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Google Shape;3359;p73"/>
              <p:cNvSpPr/>
              <p:nvPr/>
            </p:nvSpPr>
            <p:spPr>
              <a:xfrm>
                <a:off x="7155000" y="3176280"/>
                <a:ext cx="615960" cy="612720"/>
              </a:xfrm>
              <a:custGeom>
                <a:avLst/>
                <a:gdLst/>
                <a:ahLst/>
                <a:rect l="l" t="t" r="r" b="b"/>
                <a:pathLst>
                  <a:path w="31215" h="31084">
                    <a:moveTo>
                      <a:pt x="23915" y="0"/>
                    </a:moveTo>
                    <a:lnTo>
                      <a:pt x="23915" y="0"/>
                    </a:lnTo>
                    <a:cubicBezTo>
                      <a:pt x="24883" y="1089"/>
                      <a:pt x="25286" y="2541"/>
                      <a:pt x="25085" y="3952"/>
                    </a:cubicBezTo>
                    <a:cubicBezTo>
                      <a:pt x="24883" y="5364"/>
                      <a:pt x="24117" y="6937"/>
                      <a:pt x="22907" y="7663"/>
                    </a:cubicBezTo>
                    <a:cubicBezTo>
                      <a:pt x="23754" y="6372"/>
                      <a:pt x="23794" y="4719"/>
                      <a:pt x="23068" y="3388"/>
                    </a:cubicBezTo>
                    <a:cubicBezTo>
                      <a:pt x="22373" y="2217"/>
                      <a:pt x="21146" y="1510"/>
                      <a:pt x="19840" y="1510"/>
                    </a:cubicBezTo>
                    <a:cubicBezTo>
                      <a:pt x="19707" y="1510"/>
                      <a:pt x="19573" y="1518"/>
                      <a:pt x="19439" y="1533"/>
                    </a:cubicBezTo>
                    <a:cubicBezTo>
                      <a:pt x="20810" y="2501"/>
                      <a:pt x="21334" y="4315"/>
                      <a:pt x="20729" y="5888"/>
                    </a:cubicBezTo>
                    <a:cubicBezTo>
                      <a:pt x="20165" y="7017"/>
                      <a:pt x="19031" y="7687"/>
                      <a:pt x="17844" y="7687"/>
                    </a:cubicBezTo>
                    <a:cubicBezTo>
                      <a:pt x="17420" y="7687"/>
                      <a:pt x="16989" y="7601"/>
                      <a:pt x="16575" y="7421"/>
                    </a:cubicBezTo>
                    <a:cubicBezTo>
                      <a:pt x="15244" y="6735"/>
                      <a:pt x="14680" y="5324"/>
                      <a:pt x="14236" y="3872"/>
                    </a:cubicBezTo>
                    <a:cubicBezTo>
                      <a:pt x="13228" y="4598"/>
                      <a:pt x="12784" y="5929"/>
                      <a:pt x="13147" y="7138"/>
                    </a:cubicBezTo>
                    <a:cubicBezTo>
                      <a:pt x="13551" y="8308"/>
                      <a:pt x="14398" y="9276"/>
                      <a:pt x="15486" y="9841"/>
                    </a:cubicBezTo>
                    <a:cubicBezTo>
                      <a:pt x="16575" y="10445"/>
                      <a:pt x="17221" y="11010"/>
                      <a:pt x="18430" y="11252"/>
                    </a:cubicBezTo>
                    <a:cubicBezTo>
                      <a:pt x="19358" y="15527"/>
                      <a:pt x="15970" y="20165"/>
                      <a:pt x="12139" y="22262"/>
                    </a:cubicBezTo>
                    <a:cubicBezTo>
                      <a:pt x="10627" y="23102"/>
                      <a:pt x="8529" y="23871"/>
                      <a:pt x="6296" y="23871"/>
                    </a:cubicBezTo>
                    <a:cubicBezTo>
                      <a:pt x="4777" y="23871"/>
                      <a:pt x="3196" y="23515"/>
                      <a:pt x="1694" y="22585"/>
                    </a:cubicBezTo>
                    <a:lnTo>
                      <a:pt x="1694" y="22585"/>
                    </a:lnTo>
                    <a:cubicBezTo>
                      <a:pt x="0" y="24641"/>
                      <a:pt x="1008" y="27061"/>
                      <a:pt x="2904" y="28997"/>
                    </a:cubicBezTo>
                    <a:cubicBezTo>
                      <a:pt x="4317" y="30411"/>
                      <a:pt x="6337" y="31084"/>
                      <a:pt x="8360" y="31084"/>
                    </a:cubicBezTo>
                    <a:cubicBezTo>
                      <a:pt x="9049" y="31084"/>
                      <a:pt x="9739" y="31006"/>
                      <a:pt x="10405" y="30852"/>
                    </a:cubicBezTo>
                    <a:cubicBezTo>
                      <a:pt x="13026" y="30207"/>
                      <a:pt x="15325" y="28553"/>
                      <a:pt x="17180" y="26617"/>
                    </a:cubicBezTo>
                    <a:cubicBezTo>
                      <a:pt x="20326" y="23230"/>
                      <a:pt x="22786" y="17180"/>
                      <a:pt x="23472" y="12664"/>
                    </a:cubicBezTo>
                    <a:cubicBezTo>
                      <a:pt x="23760" y="12793"/>
                      <a:pt x="24091" y="12853"/>
                      <a:pt x="24450" y="12853"/>
                    </a:cubicBezTo>
                    <a:cubicBezTo>
                      <a:pt x="26000" y="12853"/>
                      <a:pt x="28073" y="11727"/>
                      <a:pt x="29481" y="10123"/>
                    </a:cubicBezTo>
                    <a:cubicBezTo>
                      <a:pt x="31215" y="8187"/>
                      <a:pt x="30650" y="5364"/>
                      <a:pt x="29360" y="3065"/>
                    </a:cubicBezTo>
                    <a:lnTo>
                      <a:pt x="29360" y="3065"/>
                    </a:lnTo>
                    <a:cubicBezTo>
                      <a:pt x="29763" y="4517"/>
                      <a:pt x="29481" y="6050"/>
                      <a:pt x="28634" y="7300"/>
                    </a:cubicBezTo>
                    <a:cubicBezTo>
                      <a:pt x="28230" y="7864"/>
                      <a:pt x="27262" y="8631"/>
                      <a:pt x="26577" y="8631"/>
                    </a:cubicBezTo>
                    <a:cubicBezTo>
                      <a:pt x="27666" y="7098"/>
                      <a:pt x="27988" y="5203"/>
                      <a:pt x="27464" y="3428"/>
                    </a:cubicBezTo>
                    <a:cubicBezTo>
                      <a:pt x="26900" y="1775"/>
                      <a:pt x="25609" y="484"/>
                      <a:pt x="23915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Google Shape;3360;p73"/>
              <p:cNvSpPr/>
              <p:nvPr/>
            </p:nvSpPr>
            <p:spPr>
              <a:xfrm>
                <a:off x="6712920" y="3174480"/>
                <a:ext cx="480960" cy="513720"/>
              </a:xfrm>
              <a:custGeom>
                <a:avLst/>
                <a:gdLst/>
                <a:ahLst/>
                <a:rect l="l" t="t" r="r" b="b"/>
                <a:pathLst>
                  <a:path w="24400" h="26066">
                    <a:moveTo>
                      <a:pt x="15133" y="0"/>
                    </a:moveTo>
                    <a:cubicBezTo>
                      <a:pt x="10919" y="0"/>
                      <a:pt x="6861" y="1515"/>
                      <a:pt x="3590" y="4228"/>
                    </a:cubicBezTo>
                    <a:cubicBezTo>
                      <a:pt x="2299" y="5317"/>
                      <a:pt x="243" y="6930"/>
                      <a:pt x="323" y="8825"/>
                    </a:cubicBezTo>
                    <a:cubicBezTo>
                      <a:pt x="444" y="11406"/>
                      <a:pt x="1332" y="13947"/>
                      <a:pt x="1372" y="16649"/>
                    </a:cubicBezTo>
                    <a:cubicBezTo>
                      <a:pt x="1412" y="19714"/>
                      <a:pt x="928" y="22779"/>
                      <a:pt x="1" y="25764"/>
                    </a:cubicBezTo>
                    <a:cubicBezTo>
                      <a:pt x="1204" y="25967"/>
                      <a:pt x="2406" y="26066"/>
                      <a:pt x="3595" y="26066"/>
                    </a:cubicBezTo>
                    <a:cubicBezTo>
                      <a:pt x="11619" y="26066"/>
                      <a:pt x="19099" y="21570"/>
                      <a:pt x="22787" y="14229"/>
                    </a:cubicBezTo>
                    <a:cubicBezTo>
                      <a:pt x="23835" y="12253"/>
                      <a:pt x="24400" y="10035"/>
                      <a:pt x="24400" y="7817"/>
                    </a:cubicBezTo>
                    <a:cubicBezTo>
                      <a:pt x="24400" y="5559"/>
                      <a:pt x="23432" y="3381"/>
                      <a:pt x="21738" y="1889"/>
                    </a:cubicBezTo>
                    <a:cubicBezTo>
                      <a:pt x="20246" y="639"/>
                      <a:pt x="18229" y="155"/>
                      <a:pt x="16213" y="34"/>
                    </a:cubicBezTo>
                    <a:cubicBezTo>
                      <a:pt x="15852" y="11"/>
                      <a:pt x="15492" y="0"/>
                      <a:pt x="15133" y="0"/>
                    </a:cubicBezTo>
                    <a:close/>
                  </a:path>
                </a:pathLst>
              </a:custGeom>
              <a:solidFill>
                <a:srgbClr val="7fc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Google Shape;3361;p73"/>
              <p:cNvSpPr/>
              <p:nvPr/>
            </p:nvSpPr>
            <p:spPr>
              <a:xfrm>
                <a:off x="6684840" y="3310200"/>
                <a:ext cx="402840" cy="163440"/>
              </a:xfrm>
              <a:custGeom>
                <a:avLst/>
                <a:gdLst/>
                <a:ahLst/>
                <a:rect l="l" t="t" r="r" b="b"/>
                <a:pathLst>
                  <a:path w="20448" h="8304">
                    <a:moveTo>
                      <a:pt x="20003" y="1"/>
                    </a:moveTo>
                    <a:lnTo>
                      <a:pt x="0" y="4114"/>
                    </a:lnTo>
                    <a:cubicBezTo>
                      <a:pt x="0" y="4114"/>
                      <a:pt x="2099" y="8272"/>
                      <a:pt x="3206" y="8272"/>
                    </a:cubicBezTo>
                    <a:cubicBezTo>
                      <a:pt x="3227" y="8272"/>
                      <a:pt x="3247" y="8271"/>
                      <a:pt x="3267" y="8268"/>
                    </a:cubicBezTo>
                    <a:cubicBezTo>
                      <a:pt x="4356" y="8107"/>
                      <a:pt x="5767" y="4114"/>
                      <a:pt x="5767" y="4114"/>
                    </a:cubicBezTo>
                    <a:cubicBezTo>
                      <a:pt x="5767" y="4114"/>
                      <a:pt x="7370" y="8303"/>
                      <a:pt x="9052" y="8303"/>
                    </a:cubicBezTo>
                    <a:cubicBezTo>
                      <a:pt x="9140" y="8303"/>
                      <a:pt x="9228" y="8292"/>
                      <a:pt x="9316" y="8268"/>
                    </a:cubicBezTo>
                    <a:cubicBezTo>
                      <a:pt x="11091" y="7784"/>
                      <a:pt x="10970" y="3348"/>
                      <a:pt x="10970" y="3348"/>
                    </a:cubicBezTo>
                    <a:cubicBezTo>
                      <a:pt x="10970" y="3348"/>
                      <a:pt x="13776" y="7221"/>
                      <a:pt x="14654" y="7221"/>
                    </a:cubicBezTo>
                    <a:cubicBezTo>
                      <a:pt x="14663" y="7221"/>
                      <a:pt x="14671" y="7220"/>
                      <a:pt x="14680" y="7219"/>
                    </a:cubicBezTo>
                    <a:cubicBezTo>
                      <a:pt x="15487" y="7098"/>
                      <a:pt x="15850" y="1896"/>
                      <a:pt x="15850" y="1896"/>
                    </a:cubicBezTo>
                    <a:cubicBezTo>
                      <a:pt x="15850" y="1896"/>
                      <a:pt x="18123" y="5698"/>
                      <a:pt x="19236" y="5698"/>
                    </a:cubicBezTo>
                    <a:cubicBezTo>
                      <a:pt x="19309" y="5698"/>
                      <a:pt x="19377" y="5681"/>
                      <a:pt x="19439" y="5647"/>
                    </a:cubicBezTo>
                    <a:cubicBezTo>
                      <a:pt x="20447" y="5082"/>
                      <a:pt x="20003" y="1"/>
                      <a:pt x="20003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2360" bIns="72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Google Shape;3362;p73"/>
              <p:cNvSpPr/>
              <p:nvPr/>
            </p:nvSpPr>
            <p:spPr>
              <a:xfrm>
                <a:off x="6753960" y="3543120"/>
                <a:ext cx="325800" cy="199800"/>
              </a:xfrm>
              <a:custGeom>
                <a:avLst/>
                <a:gdLst/>
                <a:ahLst/>
                <a:rect l="l" t="t" r="r" b="b"/>
                <a:pathLst>
                  <a:path w="16536" h="10137">
                    <a:moveTo>
                      <a:pt x="11837" y="1"/>
                    </a:moveTo>
                    <a:cubicBezTo>
                      <a:pt x="11813" y="1"/>
                      <a:pt x="11792" y="4"/>
                      <a:pt x="11777" y="11"/>
                    </a:cubicBezTo>
                    <a:cubicBezTo>
                      <a:pt x="11333" y="253"/>
                      <a:pt x="12342" y="3963"/>
                      <a:pt x="12342" y="3963"/>
                    </a:cubicBezTo>
                    <a:lnTo>
                      <a:pt x="10648" y="6181"/>
                    </a:lnTo>
                    <a:cubicBezTo>
                      <a:pt x="10648" y="6181"/>
                      <a:pt x="8274" y="1817"/>
                      <a:pt x="6921" y="1817"/>
                    </a:cubicBezTo>
                    <a:cubicBezTo>
                      <a:pt x="6885" y="1817"/>
                      <a:pt x="6851" y="1820"/>
                      <a:pt x="6816" y="1826"/>
                    </a:cubicBezTo>
                    <a:cubicBezTo>
                      <a:pt x="5526" y="2027"/>
                      <a:pt x="6816" y="6867"/>
                      <a:pt x="6816" y="6867"/>
                    </a:cubicBezTo>
                    <a:lnTo>
                      <a:pt x="4195" y="7552"/>
                    </a:lnTo>
                    <a:cubicBezTo>
                      <a:pt x="4195" y="7552"/>
                      <a:pt x="1856" y="2350"/>
                      <a:pt x="1170" y="2350"/>
                    </a:cubicBezTo>
                    <a:cubicBezTo>
                      <a:pt x="485" y="2350"/>
                      <a:pt x="1" y="6867"/>
                      <a:pt x="1" y="6867"/>
                    </a:cubicBezTo>
                    <a:cubicBezTo>
                      <a:pt x="1" y="6867"/>
                      <a:pt x="10161" y="10137"/>
                      <a:pt x="11091" y="10137"/>
                    </a:cubicBezTo>
                    <a:cubicBezTo>
                      <a:pt x="11107" y="10137"/>
                      <a:pt x="11121" y="10136"/>
                      <a:pt x="11132" y="10134"/>
                    </a:cubicBezTo>
                    <a:cubicBezTo>
                      <a:pt x="11696" y="10053"/>
                      <a:pt x="16536" y="2592"/>
                      <a:pt x="16536" y="2592"/>
                    </a:cubicBezTo>
                    <a:cubicBezTo>
                      <a:pt x="16536" y="2592"/>
                      <a:pt x="12517" y="1"/>
                      <a:pt x="11837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Google Shape;3363;p73"/>
              <p:cNvSpPr/>
              <p:nvPr/>
            </p:nvSpPr>
            <p:spPr>
              <a:xfrm>
                <a:off x="6642000" y="3011400"/>
                <a:ext cx="744480" cy="1395720"/>
              </a:xfrm>
              <a:custGeom>
                <a:avLst/>
                <a:gdLst/>
                <a:ahLst/>
                <a:rect l="l" t="t" r="r" b="b"/>
                <a:pathLst>
                  <a:path w="37789" h="70848">
                    <a:moveTo>
                      <a:pt x="18565" y="1"/>
                    </a:moveTo>
                    <a:cubicBezTo>
                      <a:pt x="12954" y="1"/>
                      <a:pt x="7316" y="2560"/>
                      <a:pt x="3670" y="7832"/>
                    </a:cubicBezTo>
                    <a:cubicBezTo>
                      <a:pt x="1170" y="11421"/>
                      <a:pt x="81" y="15857"/>
                      <a:pt x="0" y="20293"/>
                    </a:cubicBezTo>
                    <a:cubicBezTo>
                      <a:pt x="2559" y="21098"/>
                      <a:pt x="5186" y="21492"/>
                      <a:pt x="7793" y="21492"/>
                    </a:cubicBezTo>
                    <a:cubicBezTo>
                      <a:pt x="13939" y="21492"/>
                      <a:pt x="19977" y="19306"/>
                      <a:pt x="24762" y="15172"/>
                    </a:cubicBezTo>
                    <a:lnTo>
                      <a:pt x="24762" y="15172"/>
                    </a:lnTo>
                    <a:cubicBezTo>
                      <a:pt x="25206" y="21947"/>
                      <a:pt x="20891" y="28601"/>
                      <a:pt x="14680" y="31303"/>
                    </a:cubicBezTo>
                    <a:cubicBezTo>
                      <a:pt x="12563" y="32190"/>
                      <a:pt x="10315" y="32634"/>
                      <a:pt x="8071" y="32634"/>
                    </a:cubicBezTo>
                    <a:cubicBezTo>
                      <a:pt x="5828" y="32634"/>
                      <a:pt x="3590" y="32190"/>
                      <a:pt x="1493" y="31303"/>
                    </a:cubicBezTo>
                    <a:lnTo>
                      <a:pt x="1493" y="31303"/>
                    </a:lnTo>
                    <a:cubicBezTo>
                      <a:pt x="1614" y="31787"/>
                      <a:pt x="1735" y="32231"/>
                      <a:pt x="1856" y="32715"/>
                    </a:cubicBezTo>
                    <a:cubicBezTo>
                      <a:pt x="2864" y="36183"/>
                      <a:pt x="5082" y="39934"/>
                      <a:pt x="5001" y="43563"/>
                    </a:cubicBezTo>
                    <a:cubicBezTo>
                      <a:pt x="4921" y="48685"/>
                      <a:pt x="4154" y="53565"/>
                      <a:pt x="4679" y="58687"/>
                    </a:cubicBezTo>
                    <a:cubicBezTo>
                      <a:pt x="4961" y="61510"/>
                      <a:pt x="5485" y="64454"/>
                      <a:pt x="7219" y="66672"/>
                    </a:cubicBezTo>
                    <a:cubicBezTo>
                      <a:pt x="9437" y="69516"/>
                      <a:pt x="12893" y="70847"/>
                      <a:pt x="16382" y="70847"/>
                    </a:cubicBezTo>
                    <a:cubicBezTo>
                      <a:pt x="18732" y="70847"/>
                      <a:pt x="21097" y="70244"/>
                      <a:pt x="23109" y="69092"/>
                    </a:cubicBezTo>
                    <a:cubicBezTo>
                      <a:pt x="27787" y="66430"/>
                      <a:pt x="30610" y="61308"/>
                      <a:pt x="32546" y="56549"/>
                    </a:cubicBezTo>
                    <a:cubicBezTo>
                      <a:pt x="36821" y="46064"/>
                      <a:pt x="37789" y="33360"/>
                      <a:pt x="37345" y="22108"/>
                    </a:cubicBezTo>
                    <a:cubicBezTo>
                      <a:pt x="37144" y="17954"/>
                      <a:pt x="36660" y="13760"/>
                      <a:pt x="34804" y="10050"/>
                    </a:cubicBezTo>
                    <a:cubicBezTo>
                      <a:pt x="31516" y="3429"/>
                      <a:pt x="25058" y="1"/>
                      <a:pt x="18565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Google Shape;3364;p73"/>
              <p:cNvSpPr/>
              <p:nvPr/>
            </p:nvSpPr>
            <p:spPr>
              <a:xfrm>
                <a:off x="6690600" y="3202200"/>
                <a:ext cx="179640" cy="164160"/>
              </a:xfrm>
              <a:custGeom>
                <a:avLst/>
                <a:gdLst/>
                <a:ahLst/>
                <a:rect l="l" t="t" r="r" b="b"/>
                <a:pathLst>
                  <a:path w="9115" h="8330">
                    <a:moveTo>
                      <a:pt x="4557" y="0"/>
                    </a:moveTo>
                    <a:cubicBezTo>
                      <a:pt x="4238" y="0"/>
                      <a:pt x="3915" y="36"/>
                      <a:pt x="3590" y="112"/>
                    </a:cubicBezTo>
                    <a:cubicBezTo>
                      <a:pt x="1372" y="636"/>
                      <a:pt x="1" y="2894"/>
                      <a:pt x="525" y="5113"/>
                    </a:cubicBezTo>
                    <a:cubicBezTo>
                      <a:pt x="974" y="7046"/>
                      <a:pt x="2664" y="8329"/>
                      <a:pt x="4559" y="8329"/>
                    </a:cubicBezTo>
                    <a:cubicBezTo>
                      <a:pt x="4877" y="8329"/>
                      <a:pt x="5201" y="8293"/>
                      <a:pt x="5526" y="8218"/>
                    </a:cubicBezTo>
                    <a:cubicBezTo>
                      <a:pt x="7744" y="7694"/>
                      <a:pt x="9115" y="5435"/>
                      <a:pt x="8591" y="3217"/>
                    </a:cubicBezTo>
                    <a:cubicBezTo>
                      <a:pt x="8142" y="1283"/>
                      <a:pt x="6451" y="0"/>
                      <a:pt x="4557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3080" bIns="73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Google Shape;3365;p73"/>
              <p:cNvSpPr/>
              <p:nvPr/>
            </p:nvSpPr>
            <p:spPr>
              <a:xfrm>
                <a:off x="6734160" y="3256920"/>
                <a:ext cx="38880" cy="38880"/>
              </a:xfrm>
              <a:custGeom>
                <a:avLst/>
                <a:gdLst/>
                <a:ahLst/>
                <a:rect l="l" t="t" r="r" b="b"/>
                <a:pathLst>
                  <a:path w="1977" h="1977">
                    <a:moveTo>
                      <a:pt x="969" y="0"/>
                    </a:moveTo>
                    <a:cubicBezTo>
                      <a:pt x="444" y="0"/>
                      <a:pt x="1" y="404"/>
                      <a:pt x="1" y="968"/>
                    </a:cubicBezTo>
                    <a:cubicBezTo>
                      <a:pt x="1" y="1533"/>
                      <a:pt x="444" y="1977"/>
                      <a:pt x="969" y="1977"/>
                    </a:cubicBezTo>
                    <a:cubicBezTo>
                      <a:pt x="1533" y="1977"/>
                      <a:pt x="1977" y="1533"/>
                      <a:pt x="1977" y="968"/>
                    </a:cubicBezTo>
                    <a:cubicBezTo>
                      <a:pt x="1977" y="404"/>
                      <a:pt x="1533" y="0"/>
                      <a:pt x="969" y="0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2200" bIns="-52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Google Shape;3366;p73"/>
              <p:cNvSpPr/>
              <p:nvPr/>
            </p:nvSpPr>
            <p:spPr>
              <a:xfrm>
                <a:off x="6881400" y="3160800"/>
                <a:ext cx="179640" cy="163440"/>
              </a:xfrm>
              <a:custGeom>
                <a:avLst/>
                <a:gdLst/>
                <a:ahLst/>
                <a:rect l="l" t="t" r="r" b="b"/>
                <a:pathLst>
                  <a:path w="9115" h="8309">
                    <a:moveTo>
                      <a:pt x="4558" y="1"/>
                    </a:moveTo>
                    <a:cubicBezTo>
                      <a:pt x="3489" y="1"/>
                      <a:pt x="2420" y="404"/>
                      <a:pt x="1614" y="1211"/>
                    </a:cubicBezTo>
                    <a:cubicBezTo>
                      <a:pt x="0" y="2864"/>
                      <a:pt x="0" y="5485"/>
                      <a:pt x="1614" y="7099"/>
                    </a:cubicBezTo>
                    <a:cubicBezTo>
                      <a:pt x="2420" y="7905"/>
                      <a:pt x="3489" y="8308"/>
                      <a:pt x="4558" y="8308"/>
                    </a:cubicBezTo>
                    <a:cubicBezTo>
                      <a:pt x="5626" y="8308"/>
                      <a:pt x="6695" y="7905"/>
                      <a:pt x="7502" y="7099"/>
                    </a:cubicBezTo>
                    <a:cubicBezTo>
                      <a:pt x="9115" y="5485"/>
                      <a:pt x="9115" y="2864"/>
                      <a:pt x="7502" y="1211"/>
                    </a:cubicBezTo>
                    <a:cubicBezTo>
                      <a:pt x="6695" y="404"/>
                      <a:pt x="5626" y="1"/>
                      <a:pt x="4558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2360" bIns="72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Google Shape;3367;p73"/>
              <p:cNvSpPr/>
              <p:nvPr/>
            </p:nvSpPr>
            <p:spPr>
              <a:xfrm>
                <a:off x="6924960" y="3214800"/>
                <a:ext cx="46080" cy="39240"/>
              </a:xfrm>
              <a:custGeom>
                <a:avLst/>
                <a:gdLst/>
                <a:ahLst/>
                <a:rect l="l" t="t" r="r" b="b"/>
                <a:pathLst>
                  <a:path w="2340" h="2004">
                    <a:moveTo>
                      <a:pt x="943" y="1"/>
                    </a:moveTo>
                    <a:cubicBezTo>
                      <a:pt x="410" y="1"/>
                      <a:pt x="1" y="469"/>
                      <a:pt x="1" y="1011"/>
                    </a:cubicBezTo>
                    <a:cubicBezTo>
                      <a:pt x="1" y="1607"/>
                      <a:pt x="492" y="2003"/>
                      <a:pt x="1010" y="2003"/>
                    </a:cubicBezTo>
                    <a:cubicBezTo>
                      <a:pt x="1263" y="2003"/>
                      <a:pt x="1523" y="1909"/>
                      <a:pt x="1735" y="1697"/>
                    </a:cubicBezTo>
                    <a:cubicBezTo>
                      <a:pt x="2340" y="1092"/>
                      <a:pt x="1896" y="3"/>
                      <a:pt x="1009" y="3"/>
                    </a:cubicBezTo>
                    <a:cubicBezTo>
                      <a:pt x="987" y="1"/>
                      <a:pt x="965" y="1"/>
                      <a:pt x="943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1840" bIns="-518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4" name="Decágono 47"/>
          <p:cNvGrpSpPr/>
          <p:nvPr/>
        </p:nvGrpSpPr>
        <p:grpSpPr>
          <a:xfrm>
            <a:off x="7589880" y="3749760"/>
            <a:ext cx="1481040" cy="1279440"/>
            <a:chOff x="7589880" y="3749760"/>
            <a:chExt cx="1481040" cy="1279440"/>
          </a:xfrm>
        </p:grpSpPr>
        <p:pic>
          <p:nvPicPr>
            <p:cNvPr id="1765" name="Decágono 47" descr=""/>
            <p:cNvPicPr/>
            <p:nvPr/>
          </p:nvPicPr>
          <p:blipFill>
            <a:blip r:embed="rId1"/>
            <a:stretch/>
          </p:blipFill>
          <p:spPr>
            <a:xfrm>
              <a:off x="7589880" y="3749760"/>
              <a:ext cx="148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"/>
            <p:cNvSpPr/>
            <p:nvPr/>
          </p:nvSpPr>
          <p:spPr>
            <a:xfrm>
              <a:off x="7781760" y="4000680"/>
              <a:ext cx="1100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6284880" y="4138200"/>
            <a:ext cx="4092480" cy="399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5f1e6"/>
                </a:solidFill>
                <a:latin typeface="Sriracha"/>
                <a:ea typeface="Nunito"/>
              </a:rPr>
              <a:t>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8" name="Google Shape;3245;p71"/>
          <p:cNvGrpSpPr/>
          <p:nvPr/>
        </p:nvGrpSpPr>
        <p:grpSpPr>
          <a:xfrm>
            <a:off x="3452760" y="1436760"/>
            <a:ext cx="2238480" cy="2530440"/>
            <a:chOff x="3452760" y="1436760"/>
            <a:chExt cx="2238480" cy="2530440"/>
          </a:xfrm>
        </p:grpSpPr>
        <p:sp>
          <p:nvSpPr>
            <p:cNvPr id="1769" name="Google Shape;3246;p71"/>
            <p:cNvSpPr/>
            <p:nvPr/>
          </p:nvSpPr>
          <p:spPr>
            <a:xfrm>
              <a:off x="4008960" y="1652400"/>
              <a:ext cx="330840" cy="394920"/>
            </a:xfrm>
            <a:custGeom>
              <a:avLst/>
              <a:gdLst/>
              <a:ahLst/>
              <a:rect l="l" t="t" r="r" b="b"/>
              <a:pathLst>
                <a:path w="13245" h="15796">
                  <a:moveTo>
                    <a:pt x="3012" y="0"/>
                  </a:moveTo>
                  <a:cubicBezTo>
                    <a:pt x="2724" y="0"/>
                    <a:pt x="2457" y="58"/>
                    <a:pt x="2219" y="181"/>
                  </a:cubicBezTo>
                  <a:cubicBezTo>
                    <a:pt x="0" y="1324"/>
                    <a:pt x="1009" y="7710"/>
                    <a:pt x="3025" y="11744"/>
                  </a:cubicBezTo>
                  <a:cubicBezTo>
                    <a:pt x="4534" y="14615"/>
                    <a:pt x="6359" y="15795"/>
                    <a:pt x="8119" y="15795"/>
                  </a:cubicBezTo>
                  <a:cubicBezTo>
                    <a:pt x="8790" y="15795"/>
                    <a:pt x="9453" y="15623"/>
                    <a:pt x="10084" y="15307"/>
                  </a:cubicBezTo>
                  <a:cubicBezTo>
                    <a:pt x="12303" y="14164"/>
                    <a:pt x="13244" y="11475"/>
                    <a:pt x="11160" y="7509"/>
                  </a:cubicBezTo>
                  <a:cubicBezTo>
                    <a:pt x="9300" y="3969"/>
                    <a:pt x="5405" y="0"/>
                    <a:pt x="3012" y="0"/>
                  </a:cubicBezTo>
                  <a:close/>
                </a:path>
              </a:pathLst>
            </a:custGeom>
            <a:solidFill>
              <a:srgbClr val="7fc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Google Shape;3247;p71"/>
            <p:cNvSpPr/>
            <p:nvPr/>
          </p:nvSpPr>
          <p:spPr>
            <a:xfrm>
              <a:off x="4803840" y="1652400"/>
              <a:ext cx="329400" cy="394920"/>
            </a:xfrm>
            <a:custGeom>
              <a:avLst/>
              <a:gdLst/>
              <a:ahLst/>
              <a:rect l="l" t="t" r="r" b="b"/>
              <a:pathLst>
                <a:path w="13178" h="15796">
                  <a:moveTo>
                    <a:pt x="10166" y="0"/>
                  </a:moveTo>
                  <a:cubicBezTo>
                    <a:pt x="7773" y="0"/>
                    <a:pt x="3878" y="3969"/>
                    <a:pt x="2018" y="7509"/>
                  </a:cubicBezTo>
                  <a:cubicBezTo>
                    <a:pt x="1" y="11475"/>
                    <a:pt x="875" y="14164"/>
                    <a:pt x="3161" y="15307"/>
                  </a:cubicBezTo>
                  <a:cubicBezTo>
                    <a:pt x="3774" y="15623"/>
                    <a:pt x="4423" y="15795"/>
                    <a:pt x="5085" y="15795"/>
                  </a:cubicBezTo>
                  <a:cubicBezTo>
                    <a:pt x="6819" y="15795"/>
                    <a:pt x="8644" y="14615"/>
                    <a:pt x="10152" y="11744"/>
                  </a:cubicBezTo>
                  <a:cubicBezTo>
                    <a:pt x="12236" y="7710"/>
                    <a:pt x="13178" y="1324"/>
                    <a:pt x="10959" y="181"/>
                  </a:cubicBezTo>
                  <a:cubicBezTo>
                    <a:pt x="10721" y="58"/>
                    <a:pt x="10454" y="0"/>
                    <a:pt x="10166" y="0"/>
                  </a:cubicBezTo>
                  <a:close/>
                </a:path>
              </a:pathLst>
            </a:custGeom>
            <a:solidFill>
              <a:srgbClr val="7fc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Google Shape;3248;p71"/>
            <p:cNvSpPr/>
            <p:nvPr/>
          </p:nvSpPr>
          <p:spPr>
            <a:xfrm>
              <a:off x="4348080" y="1436760"/>
              <a:ext cx="379440" cy="393480"/>
            </a:xfrm>
            <a:custGeom>
              <a:avLst/>
              <a:gdLst/>
              <a:ahLst/>
              <a:rect l="l" t="t" r="r" b="b"/>
              <a:pathLst>
                <a:path w="15176" h="15740">
                  <a:moveTo>
                    <a:pt x="7833" y="1"/>
                  </a:moveTo>
                  <a:cubicBezTo>
                    <a:pt x="5054" y="1"/>
                    <a:pt x="6124" y="10873"/>
                    <a:pt x="6166" y="11290"/>
                  </a:cubicBezTo>
                  <a:lnTo>
                    <a:pt x="6166" y="11290"/>
                  </a:lnTo>
                  <a:cubicBezTo>
                    <a:pt x="6136" y="11000"/>
                    <a:pt x="5537" y="5667"/>
                    <a:pt x="2268" y="3706"/>
                  </a:cubicBezTo>
                  <a:cubicBezTo>
                    <a:pt x="2047" y="3570"/>
                    <a:pt x="1877" y="3507"/>
                    <a:pt x="1751" y="3507"/>
                  </a:cubicBezTo>
                  <a:cubicBezTo>
                    <a:pt x="1" y="3507"/>
                    <a:pt x="6907" y="15739"/>
                    <a:pt x="6907" y="15739"/>
                  </a:cubicBezTo>
                  <a:cubicBezTo>
                    <a:pt x="6907" y="15739"/>
                    <a:pt x="15176" y="7067"/>
                    <a:pt x="14033" y="5924"/>
                  </a:cubicBezTo>
                  <a:cubicBezTo>
                    <a:pt x="13931" y="5822"/>
                    <a:pt x="13805" y="5776"/>
                    <a:pt x="13661" y="5776"/>
                  </a:cubicBezTo>
                  <a:cubicBezTo>
                    <a:pt x="12086" y="5776"/>
                    <a:pt x="8251" y="11302"/>
                    <a:pt x="8251" y="11302"/>
                  </a:cubicBezTo>
                  <a:cubicBezTo>
                    <a:pt x="8251" y="11302"/>
                    <a:pt x="11545" y="1218"/>
                    <a:pt x="8251" y="75"/>
                  </a:cubicBezTo>
                  <a:cubicBezTo>
                    <a:pt x="8103" y="25"/>
                    <a:pt x="7963" y="1"/>
                    <a:pt x="7833" y="1"/>
                  </a:cubicBez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Google Shape;3249;p71"/>
            <p:cNvSpPr/>
            <p:nvPr/>
          </p:nvSpPr>
          <p:spPr>
            <a:xfrm>
              <a:off x="5283360" y="2764080"/>
              <a:ext cx="407880" cy="374400"/>
            </a:xfrm>
            <a:custGeom>
              <a:avLst/>
              <a:gdLst/>
              <a:ahLst/>
              <a:rect l="l" t="t" r="r" b="b"/>
              <a:pathLst>
                <a:path w="16338" h="14993">
                  <a:moveTo>
                    <a:pt x="4387" y="0"/>
                  </a:moveTo>
                  <a:cubicBezTo>
                    <a:pt x="3372" y="0"/>
                    <a:pt x="2495" y="362"/>
                    <a:pt x="1816" y="1016"/>
                  </a:cubicBezTo>
                  <a:cubicBezTo>
                    <a:pt x="1" y="2764"/>
                    <a:pt x="135" y="5924"/>
                    <a:pt x="3631" y="9689"/>
                  </a:cubicBezTo>
                  <a:cubicBezTo>
                    <a:pt x="6397" y="12614"/>
                    <a:pt x="10383" y="14993"/>
                    <a:pt x="12860" y="14993"/>
                  </a:cubicBezTo>
                  <a:cubicBezTo>
                    <a:pt x="13514" y="14993"/>
                    <a:pt x="14062" y="14827"/>
                    <a:pt x="14455" y="14462"/>
                  </a:cubicBezTo>
                  <a:cubicBezTo>
                    <a:pt x="16337" y="12714"/>
                    <a:pt x="13850" y="7067"/>
                    <a:pt x="10354" y="3369"/>
                  </a:cubicBezTo>
                  <a:cubicBezTo>
                    <a:pt x="8166" y="1013"/>
                    <a:pt x="6084" y="0"/>
                    <a:pt x="4387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Google Shape;3250;p71"/>
            <p:cNvSpPr/>
            <p:nvPr/>
          </p:nvSpPr>
          <p:spPr>
            <a:xfrm>
              <a:off x="3889080" y="3517920"/>
              <a:ext cx="291960" cy="449280"/>
            </a:xfrm>
            <a:custGeom>
              <a:avLst/>
              <a:gdLst/>
              <a:ahLst/>
              <a:rect l="l" t="t" r="r" b="b"/>
              <a:pathLst>
                <a:path w="11699" h="17969">
                  <a:moveTo>
                    <a:pt x="6887" y="1"/>
                  </a:moveTo>
                  <a:cubicBezTo>
                    <a:pt x="4773" y="1"/>
                    <a:pt x="2623" y="1935"/>
                    <a:pt x="1413" y="6143"/>
                  </a:cubicBezTo>
                  <a:cubicBezTo>
                    <a:pt x="1" y="11051"/>
                    <a:pt x="404" y="17236"/>
                    <a:pt x="2825" y="17908"/>
                  </a:cubicBezTo>
                  <a:cubicBezTo>
                    <a:pt x="2971" y="17949"/>
                    <a:pt x="3123" y="17969"/>
                    <a:pt x="3278" y="17969"/>
                  </a:cubicBezTo>
                  <a:cubicBezTo>
                    <a:pt x="5677" y="17969"/>
                    <a:pt x="8961" y="13240"/>
                    <a:pt x="10287" y="8631"/>
                  </a:cubicBezTo>
                  <a:cubicBezTo>
                    <a:pt x="11699" y="3723"/>
                    <a:pt x="10421" y="899"/>
                    <a:pt x="7934" y="160"/>
                  </a:cubicBezTo>
                  <a:cubicBezTo>
                    <a:pt x="7589" y="54"/>
                    <a:pt x="7238" y="1"/>
                    <a:pt x="6887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Google Shape;3251;p71"/>
            <p:cNvSpPr/>
            <p:nvPr/>
          </p:nvSpPr>
          <p:spPr>
            <a:xfrm>
              <a:off x="3452760" y="2764080"/>
              <a:ext cx="409320" cy="374400"/>
            </a:xfrm>
            <a:custGeom>
              <a:avLst/>
              <a:gdLst/>
              <a:ahLst/>
              <a:rect l="l" t="t" r="r" b="b"/>
              <a:pathLst>
                <a:path w="16405" h="14993">
                  <a:moveTo>
                    <a:pt x="11922" y="0"/>
                  </a:moveTo>
                  <a:cubicBezTo>
                    <a:pt x="10228" y="0"/>
                    <a:pt x="8172" y="1013"/>
                    <a:pt x="5984" y="3369"/>
                  </a:cubicBezTo>
                  <a:cubicBezTo>
                    <a:pt x="2488" y="7067"/>
                    <a:pt x="1" y="12714"/>
                    <a:pt x="1883" y="14462"/>
                  </a:cubicBezTo>
                  <a:cubicBezTo>
                    <a:pt x="2262" y="14827"/>
                    <a:pt x="2802" y="14993"/>
                    <a:pt x="3452" y="14993"/>
                  </a:cubicBezTo>
                  <a:cubicBezTo>
                    <a:pt x="5912" y="14993"/>
                    <a:pt x="9941" y="12614"/>
                    <a:pt x="12707" y="9689"/>
                  </a:cubicBezTo>
                  <a:cubicBezTo>
                    <a:pt x="16203" y="5924"/>
                    <a:pt x="16404" y="2764"/>
                    <a:pt x="14522" y="1016"/>
                  </a:cubicBezTo>
                  <a:cubicBezTo>
                    <a:pt x="13818" y="362"/>
                    <a:pt x="12934" y="0"/>
                    <a:pt x="11922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Google Shape;3252;p71"/>
            <p:cNvSpPr/>
            <p:nvPr/>
          </p:nvSpPr>
          <p:spPr>
            <a:xfrm>
              <a:off x="4961160" y="3517920"/>
              <a:ext cx="291960" cy="449280"/>
            </a:xfrm>
            <a:custGeom>
              <a:avLst/>
              <a:gdLst/>
              <a:ahLst/>
              <a:rect l="l" t="t" r="r" b="b"/>
              <a:pathLst>
                <a:path w="11698" h="17969">
                  <a:moveTo>
                    <a:pt x="4833" y="1"/>
                  </a:moveTo>
                  <a:cubicBezTo>
                    <a:pt x="4477" y="1"/>
                    <a:pt x="4120" y="54"/>
                    <a:pt x="3765" y="160"/>
                  </a:cubicBezTo>
                  <a:cubicBezTo>
                    <a:pt x="1345" y="899"/>
                    <a:pt x="0" y="3723"/>
                    <a:pt x="1412" y="8631"/>
                  </a:cubicBezTo>
                  <a:cubicBezTo>
                    <a:pt x="2738" y="13240"/>
                    <a:pt x="6021" y="17969"/>
                    <a:pt x="8421" y="17969"/>
                  </a:cubicBezTo>
                  <a:cubicBezTo>
                    <a:pt x="8576" y="17969"/>
                    <a:pt x="8727" y="17949"/>
                    <a:pt x="8874" y="17908"/>
                  </a:cubicBezTo>
                  <a:cubicBezTo>
                    <a:pt x="11362" y="17236"/>
                    <a:pt x="11698" y="11051"/>
                    <a:pt x="10286" y="6143"/>
                  </a:cubicBezTo>
                  <a:cubicBezTo>
                    <a:pt x="9076" y="1935"/>
                    <a:pt x="6976" y="1"/>
                    <a:pt x="4833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Google Shape;3253;p71"/>
            <p:cNvSpPr/>
            <p:nvPr/>
          </p:nvSpPr>
          <p:spPr>
            <a:xfrm>
              <a:off x="3693960" y="1751040"/>
              <a:ext cx="1756080" cy="2102040"/>
            </a:xfrm>
            <a:custGeom>
              <a:avLst/>
              <a:gdLst/>
              <a:ahLst/>
              <a:rect l="l" t="t" r="r" b="b"/>
              <a:pathLst>
                <a:path w="70187" h="84036">
                  <a:moveTo>
                    <a:pt x="35094" y="1"/>
                  </a:moveTo>
                  <a:cubicBezTo>
                    <a:pt x="15732" y="1"/>
                    <a:pt x="1" y="27228"/>
                    <a:pt x="1" y="50422"/>
                  </a:cubicBezTo>
                  <a:cubicBezTo>
                    <a:pt x="1" y="73615"/>
                    <a:pt x="15665" y="84036"/>
                    <a:pt x="35094" y="84036"/>
                  </a:cubicBezTo>
                  <a:cubicBezTo>
                    <a:pt x="54455" y="84036"/>
                    <a:pt x="70187" y="73615"/>
                    <a:pt x="70187" y="50422"/>
                  </a:cubicBezTo>
                  <a:cubicBezTo>
                    <a:pt x="70187" y="27161"/>
                    <a:pt x="54455" y="1"/>
                    <a:pt x="35094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Google Shape;3254;p71"/>
            <p:cNvSpPr/>
            <p:nvPr/>
          </p:nvSpPr>
          <p:spPr>
            <a:xfrm rot="10961400">
              <a:off x="3860640" y="2704320"/>
              <a:ext cx="1388160" cy="257040"/>
            </a:xfrm>
            <a:custGeom>
              <a:avLst/>
              <a:gdLst/>
              <a:ahLst/>
              <a:rect l="l" t="t" r="r" b="b"/>
              <a:pathLst>
                <a:path w="55531" h="10287">
                  <a:moveTo>
                    <a:pt x="0" y="1"/>
                  </a:moveTo>
                  <a:cubicBezTo>
                    <a:pt x="0" y="5715"/>
                    <a:pt x="12168" y="10287"/>
                    <a:pt x="27765" y="10287"/>
                  </a:cubicBezTo>
                  <a:cubicBezTo>
                    <a:pt x="-22241" y="10287"/>
                    <a:pt x="-10006" y="5715"/>
                    <a:pt x="-10006" y="1"/>
                  </a:cubicBezTo>
                  <a:lnTo>
                    <a:pt x="-10880" y="1"/>
                  </a:lnTo>
                  <a:cubicBezTo>
                    <a:pt x="-10880" y="5110"/>
                    <a:pt x="-23250" y="9413"/>
                    <a:pt x="27765" y="9413"/>
                  </a:cubicBezTo>
                  <a:cubicBezTo>
                    <a:pt x="13177" y="9413"/>
                    <a:pt x="874" y="5110"/>
                    <a:pt x="874" y="1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Google Shape;3255;p71"/>
            <p:cNvSpPr/>
            <p:nvPr/>
          </p:nvSpPr>
          <p:spPr>
            <a:xfrm>
              <a:off x="4133160" y="2265120"/>
              <a:ext cx="388080" cy="346680"/>
            </a:xfrm>
            <a:custGeom>
              <a:avLst/>
              <a:gdLst/>
              <a:ahLst/>
              <a:rect l="l" t="t" r="r" b="b"/>
              <a:pathLst>
                <a:path w="15530" h="13862">
                  <a:moveTo>
                    <a:pt x="7781" y="1"/>
                  </a:moveTo>
                  <a:cubicBezTo>
                    <a:pt x="5798" y="1"/>
                    <a:pt x="3839" y="856"/>
                    <a:pt x="2487" y="2508"/>
                  </a:cubicBezTo>
                  <a:cubicBezTo>
                    <a:pt x="0" y="5399"/>
                    <a:pt x="403" y="9769"/>
                    <a:pt x="3294" y="12256"/>
                  </a:cubicBezTo>
                  <a:cubicBezTo>
                    <a:pt x="4607" y="13330"/>
                    <a:pt x="6198" y="13861"/>
                    <a:pt x="7779" y="13861"/>
                  </a:cubicBezTo>
                  <a:cubicBezTo>
                    <a:pt x="9760" y="13861"/>
                    <a:pt x="11726" y="13027"/>
                    <a:pt x="13109" y="11382"/>
                  </a:cubicBezTo>
                  <a:cubicBezTo>
                    <a:pt x="15530" y="8424"/>
                    <a:pt x="15194" y="4054"/>
                    <a:pt x="12236" y="1634"/>
                  </a:cubicBezTo>
                  <a:cubicBezTo>
                    <a:pt x="10929" y="536"/>
                    <a:pt x="9348" y="1"/>
                    <a:pt x="7781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Google Shape;3256;p71"/>
            <p:cNvSpPr/>
            <p:nvPr/>
          </p:nvSpPr>
          <p:spPr>
            <a:xfrm>
              <a:off x="4264560" y="2382480"/>
              <a:ext cx="98280" cy="83160"/>
            </a:xfrm>
            <a:custGeom>
              <a:avLst/>
              <a:gdLst/>
              <a:ahLst/>
              <a:rect l="l" t="t" r="r" b="b"/>
              <a:pathLst>
                <a:path w="3937" h="3331">
                  <a:moveTo>
                    <a:pt x="1949" y="0"/>
                  </a:moveTo>
                  <a:cubicBezTo>
                    <a:pt x="1707" y="0"/>
                    <a:pt x="1457" y="56"/>
                    <a:pt x="1211" y="179"/>
                  </a:cubicBezTo>
                  <a:cubicBezTo>
                    <a:pt x="404" y="515"/>
                    <a:pt x="1" y="1456"/>
                    <a:pt x="337" y="2330"/>
                  </a:cubicBezTo>
                  <a:cubicBezTo>
                    <a:pt x="636" y="2994"/>
                    <a:pt x="1263" y="3330"/>
                    <a:pt x="1893" y="3330"/>
                  </a:cubicBezTo>
                  <a:cubicBezTo>
                    <a:pt x="2540" y="3330"/>
                    <a:pt x="3190" y="2977"/>
                    <a:pt x="3497" y="2263"/>
                  </a:cubicBezTo>
                  <a:cubicBezTo>
                    <a:pt x="3936" y="1109"/>
                    <a:pt x="3029" y="0"/>
                    <a:pt x="1949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" bIns="-7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Google Shape;3257;p71"/>
            <p:cNvSpPr/>
            <p:nvPr/>
          </p:nvSpPr>
          <p:spPr>
            <a:xfrm>
              <a:off x="4573800" y="2265120"/>
              <a:ext cx="389880" cy="346680"/>
            </a:xfrm>
            <a:custGeom>
              <a:avLst/>
              <a:gdLst/>
              <a:ahLst/>
              <a:rect l="l" t="t" r="r" b="b"/>
              <a:pathLst>
                <a:path w="15598" h="13862">
                  <a:moveTo>
                    <a:pt x="7831" y="1"/>
                  </a:moveTo>
                  <a:cubicBezTo>
                    <a:pt x="5853" y="1"/>
                    <a:pt x="3877" y="856"/>
                    <a:pt x="2488" y="2508"/>
                  </a:cubicBezTo>
                  <a:cubicBezTo>
                    <a:pt x="1" y="5399"/>
                    <a:pt x="404" y="9769"/>
                    <a:pt x="3362" y="12256"/>
                  </a:cubicBezTo>
                  <a:cubicBezTo>
                    <a:pt x="4675" y="13330"/>
                    <a:pt x="6266" y="13861"/>
                    <a:pt x="7841" y="13861"/>
                  </a:cubicBezTo>
                  <a:cubicBezTo>
                    <a:pt x="9815" y="13861"/>
                    <a:pt x="11764" y="13027"/>
                    <a:pt x="13110" y="11382"/>
                  </a:cubicBezTo>
                  <a:cubicBezTo>
                    <a:pt x="15598" y="8424"/>
                    <a:pt x="15194" y="4054"/>
                    <a:pt x="12236" y="1634"/>
                  </a:cubicBezTo>
                  <a:cubicBezTo>
                    <a:pt x="10960" y="536"/>
                    <a:pt x="9395" y="1"/>
                    <a:pt x="7831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Google Shape;3258;p71"/>
            <p:cNvSpPr/>
            <p:nvPr/>
          </p:nvSpPr>
          <p:spPr>
            <a:xfrm>
              <a:off x="4706280" y="2382480"/>
              <a:ext cx="96480" cy="83160"/>
            </a:xfrm>
            <a:custGeom>
              <a:avLst/>
              <a:gdLst/>
              <a:ahLst/>
              <a:rect l="l" t="t" r="r" b="b"/>
              <a:pathLst>
                <a:path w="3869" h="3331">
                  <a:moveTo>
                    <a:pt x="1906" y="0"/>
                  </a:moveTo>
                  <a:cubicBezTo>
                    <a:pt x="1660" y="0"/>
                    <a:pt x="1402" y="56"/>
                    <a:pt x="1144" y="179"/>
                  </a:cubicBezTo>
                  <a:cubicBezTo>
                    <a:pt x="337" y="515"/>
                    <a:pt x="1" y="1456"/>
                    <a:pt x="337" y="2330"/>
                  </a:cubicBezTo>
                  <a:cubicBezTo>
                    <a:pt x="603" y="2994"/>
                    <a:pt x="1229" y="3330"/>
                    <a:pt x="1860" y="3330"/>
                  </a:cubicBezTo>
                  <a:cubicBezTo>
                    <a:pt x="2506" y="3330"/>
                    <a:pt x="3157" y="2977"/>
                    <a:pt x="3429" y="2263"/>
                  </a:cubicBezTo>
                  <a:cubicBezTo>
                    <a:pt x="3869" y="1109"/>
                    <a:pt x="3006" y="0"/>
                    <a:pt x="1906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" bIns="-7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2" name="Google Shape;3259;p71"/>
          <p:cNvSpPr/>
          <p:nvPr/>
        </p:nvSpPr>
        <p:spPr>
          <a:xfrm>
            <a:off x="3333600" y="3235320"/>
            <a:ext cx="2476800" cy="835200"/>
          </a:xfrm>
          <a:prstGeom prst="roundRect">
            <a:avLst>
              <a:gd name="adj" fmla="val 7907"/>
            </a:avLst>
          </a:prstGeom>
          <a:solidFill>
            <a:srgbClr val="fd9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Google Shape;3272;p71"/>
          <p:cNvSpPr/>
          <p:nvPr/>
        </p:nvSpPr>
        <p:spPr>
          <a:xfrm>
            <a:off x="712800" y="539640"/>
            <a:ext cx="7718400" cy="573120"/>
          </a:xfrm>
          <a:custGeom>
            <a:avLst/>
            <a:gdLst/>
            <a:ahLst/>
            <a:rect l="l" t="t" r="r" b="b"/>
            <a:pathLst>
              <a:path w="286778" h="39641">
                <a:moveTo>
                  <a:pt x="2485" y="0"/>
                </a:moveTo>
                <a:cubicBezTo>
                  <a:pt x="865" y="0"/>
                  <a:pt x="1" y="1944"/>
                  <a:pt x="1081" y="3186"/>
                </a:cubicBezTo>
                <a:lnTo>
                  <a:pt x="16473" y="20036"/>
                </a:lnTo>
                <a:lnTo>
                  <a:pt x="1189" y="36400"/>
                </a:lnTo>
                <a:cubicBezTo>
                  <a:pt x="55" y="37643"/>
                  <a:pt x="919" y="39641"/>
                  <a:pt x="2593" y="39641"/>
                </a:cubicBezTo>
                <a:lnTo>
                  <a:pt x="284239" y="39641"/>
                </a:lnTo>
                <a:cubicBezTo>
                  <a:pt x="285859" y="39641"/>
                  <a:pt x="286777" y="37697"/>
                  <a:pt x="285643" y="36454"/>
                </a:cubicBezTo>
                <a:lnTo>
                  <a:pt x="271169" y="19550"/>
                </a:lnTo>
                <a:lnTo>
                  <a:pt x="285589" y="3186"/>
                </a:lnTo>
                <a:cubicBezTo>
                  <a:pt x="286669" y="1944"/>
                  <a:pt x="285751" y="0"/>
                  <a:pt x="284131" y="0"/>
                </a:cubicBezTo>
                <a:lnTo>
                  <a:pt x="2485" y="0"/>
                </a:lnTo>
                <a:close/>
              </a:path>
            </a:pathLst>
          </a:custGeom>
          <a:solidFill>
            <a:srgbClr val="7fc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5f1e6"/>
                </a:solidFill>
                <a:latin typeface="Sriracha"/>
                <a:ea typeface="Sriracha"/>
              </a:rPr>
              <a:t>Incorr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title"/>
          </p:nvPr>
        </p:nvSpPr>
        <p:spPr>
          <a:xfrm>
            <a:off x="3539880" y="3672000"/>
            <a:ext cx="2151000" cy="504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Inténtalo otr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Google Shape;2710;p54"/>
          <p:cNvSpPr/>
          <p:nvPr/>
        </p:nvSpPr>
        <p:spPr>
          <a:xfrm>
            <a:off x="1454040" y="3524400"/>
            <a:ext cx="1189080" cy="177480"/>
          </a:xfrm>
          <a:prstGeom prst="ellipse">
            <a:avLst/>
          </a:prstGeom>
          <a:solidFill>
            <a:srgbClr val="f5f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200" bIns="342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oogle Shape;2711;p54"/>
          <p:cNvGrpSpPr/>
          <p:nvPr/>
        </p:nvGrpSpPr>
        <p:grpSpPr>
          <a:xfrm>
            <a:off x="712800" y="1441440"/>
            <a:ext cx="2409840" cy="2162160"/>
            <a:chOff x="712800" y="1441440"/>
            <a:chExt cx="2409840" cy="2162160"/>
          </a:xfrm>
        </p:grpSpPr>
        <p:sp>
          <p:nvSpPr>
            <p:cNvPr id="1788" name="Google Shape;2712;p54"/>
            <p:cNvSpPr/>
            <p:nvPr/>
          </p:nvSpPr>
          <p:spPr>
            <a:xfrm flipH="1">
              <a:off x="1564200" y="3251880"/>
              <a:ext cx="364680" cy="351720"/>
            </a:xfrm>
            <a:custGeom>
              <a:avLst/>
              <a:gdLst/>
              <a:ahLst/>
              <a:rect l="l" t="t" r="r" b="b"/>
              <a:pathLst>
                <a:path w="13148" h="12687">
                  <a:moveTo>
                    <a:pt x="5244" y="0"/>
                  </a:moveTo>
                  <a:cubicBezTo>
                    <a:pt x="5226" y="0"/>
                    <a:pt x="5217" y="0"/>
                    <a:pt x="5217" y="0"/>
                  </a:cubicBezTo>
                  <a:cubicBezTo>
                    <a:pt x="700" y="3670"/>
                    <a:pt x="3523" y="10930"/>
                    <a:pt x="3523" y="10930"/>
                  </a:cubicBezTo>
                  <a:cubicBezTo>
                    <a:pt x="3523" y="10930"/>
                    <a:pt x="175" y="12220"/>
                    <a:pt x="54" y="12543"/>
                  </a:cubicBezTo>
                  <a:cubicBezTo>
                    <a:pt x="1" y="12650"/>
                    <a:pt x="655" y="12686"/>
                    <a:pt x="1551" y="12686"/>
                  </a:cubicBezTo>
                  <a:cubicBezTo>
                    <a:pt x="3343" y="12686"/>
                    <a:pt x="6104" y="12543"/>
                    <a:pt x="6104" y="12543"/>
                  </a:cubicBezTo>
                  <a:cubicBezTo>
                    <a:pt x="6104" y="12543"/>
                    <a:pt x="5499" y="4477"/>
                    <a:pt x="9370" y="2219"/>
                  </a:cubicBezTo>
                  <a:cubicBezTo>
                    <a:pt x="13147" y="38"/>
                    <a:pt x="5759" y="0"/>
                    <a:pt x="5244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Google Shape;2713;p54"/>
            <p:cNvSpPr/>
            <p:nvPr/>
          </p:nvSpPr>
          <p:spPr>
            <a:xfrm flipH="1">
              <a:off x="2083680" y="3251880"/>
              <a:ext cx="364320" cy="351720"/>
            </a:xfrm>
            <a:custGeom>
              <a:avLst/>
              <a:gdLst/>
              <a:ahLst/>
              <a:rect l="l" t="t" r="r" b="b"/>
              <a:pathLst>
                <a:path w="13136" h="12687">
                  <a:moveTo>
                    <a:pt x="5271" y="0"/>
                  </a:moveTo>
                  <a:cubicBezTo>
                    <a:pt x="5253" y="0"/>
                    <a:pt x="5243" y="0"/>
                    <a:pt x="5243" y="0"/>
                  </a:cubicBezTo>
                  <a:cubicBezTo>
                    <a:pt x="726" y="3670"/>
                    <a:pt x="3549" y="10930"/>
                    <a:pt x="3549" y="10930"/>
                  </a:cubicBezTo>
                  <a:cubicBezTo>
                    <a:pt x="3549" y="10930"/>
                    <a:pt x="202" y="12220"/>
                    <a:pt x="41" y="12543"/>
                  </a:cubicBezTo>
                  <a:cubicBezTo>
                    <a:pt x="0" y="12650"/>
                    <a:pt x="659" y="12686"/>
                    <a:pt x="1555" y="12686"/>
                  </a:cubicBezTo>
                  <a:cubicBezTo>
                    <a:pt x="3348" y="12686"/>
                    <a:pt x="6090" y="12543"/>
                    <a:pt x="6090" y="12543"/>
                  </a:cubicBezTo>
                  <a:cubicBezTo>
                    <a:pt x="6090" y="12543"/>
                    <a:pt x="5525" y="4477"/>
                    <a:pt x="9397" y="2219"/>
                  </a:cubicBezTo>
                  <a:cubicBezTo>
                    <a:pt x="13135" y="38"/>
                    <a:pt x="5783" y="0"/>
                    <a:pt x="5271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Google Shape;2714;p54"/>
            <p:cNvSpPr/>
            <p:nvPr/>
          </p:nvSpPr>
          <p:spPr>
            <a:xfrm flipH="1">
              <a:off x="2184480" y="1441440"/>
              <a:ext cx="163440" cy="245880"/>
            </a:xfrm>
            <a:custGeom>
              <a:avLst/>
              <a:gdLst/>
              <a:ahLst/>
              <a:rect l="l" t="t" r="r" b="b"/>
              <a:pathLst>
                <a:path w="5848" h="8854">
                  <a:moveTo>
                    <a:pt x="3952" y="1"/>
                  </a:moveTo>
                  <a:lnTo>
                    <a:pt x="3952" y="1"/>
                  </a:lnTo>
                  <a:cubicBezTo>
                    <a:pt x="2621" y="323"/>
                    <a:pt x="1533" y="1170"/>
                    <a:pt x="847" y="2340"/>
                  </a:cubicBezTo>
                  <a:cubicBezTo>
                    <a:pt x="161" y="3429"/>
                    <a:pt x="0" y="4800"/>
                    <a:pt x="323" y="6050"/>
                  </a:cubicBezTo>
                  <a:cubicBezTo>
                    <a:pt x="565" y="6978"/>
                    <a:pt x="1129" y="7824"/>
                    <a:pt x="1976" y="8389"/>
                  </a:cubicBezTo>
                  <a:cubicBezTo>
                    <a:pt x="2453" y="8699"/>
                    <a:pt x="3000" y="8854"/>
                    <a:pt x="3559" y="8854"/>
                  </a:cubicBezTo>
                  <a:cubicBezTo>
                    <a:pt x="3946" y="8854"/>
                    <a:pt x="4339" y="8780"/>
                    <a:pt x="4719" y="8631"/>
                  </a:cubicBezTo>
                  <a:cubicBezTo>
                    <a:pt x="5606" y="8187"/>
                    <a:pt x="5848" y="7381"/>
                    <a:pt x="5767" y="6413"/>
                  </a:cubicBezTo>
                  <a:cubicBezTo>
                    <a:pt x="3186" y="5364"/>
                    <a:pt x="2299" y="2219"/>
                    <a:pt x="3952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Google Shape;2715;p54"/>
            <p:cNvSpPr/>
            <p:nvPr/>
          </p:nvSpPr>
          <p:spPr>
            <a:xfrm flipH="1">
              <a:off x="1224000" y="1481760"/>
              <a:ext cx="1419840" cy="1951200"/>
            </a:xfrm>
            <a:custGeom>
              <a:avLst/>
              <a:gdLst/>
              <a:ahLst/>
              <a:rect l="l" t="t" r="r" b="b"/>
              <a:pathLst>
                <a:path w="51179" h="70363">
                  <a:moveTo>
                    <a:pt x="24725" y="0"/>
                  </a:moveTo>
                  <a:cubicBezTo>
                    <a:pt x="20753" y="0"/>
                    <a:pt x="16831" y="1598"/>
                    <a:pt x="13955" y="4670"/>
                  </a:cubicBezTo>
                  <a:cubicBezTo>
                    <a:pt x="12059" y="6605"/>
                    <a:pt x="10849" y="9106"/>
                    <a:pt x="10486" y="11808"/>
                  </a:cubicBezTo>
                  <a:cubicBezTo>
                    <a:pt x="10123" y="14470"/>
                    <a:pt x="10849" y="17212"/>
                    <a:pt x="12543" y="19349"/>
                  </a:cubicBezTo>
                  <a:cubicBezTo>
                    <a:pt x="8833" y="20761"/>
                    <a:pt x="5849" y="24310"/>
                    <a:pt x="5486" y="28262"/>
                  </a:cubicBezTo>
                  <a:cubicBezTo>
                    <a:pt x="5163" y="32295"/>
                    <a:pt x="7099" y="36207"/>
                    <a:pt x="10527" y="38385"/>
                  </a:cubicBezTo>
                  <a:cubicBezTo>
                    <a:pt x="5647" y="40240"/>
                    <a:pt x="2058" y="44474"/>
                    <a:pt x="969" y="49556"/>
                  </a:cubicBezTo>
                  <a:cubicBezTo>
                    <a:pt x="1" y="54758"/>
                    <a:pt x="1654" y="60122"/>
                    <a:pt x="5405" y="63832"/>
                  </a:cubicBezTo>
                  <a:cubicBezTo>
                    <a:pt x="8954" y="67301"/>
                    <a:pt x="13955" y="68874"/>
                    <a:pt x="18875" y="69680"/>
                  </a:cubicBezTo>
                  <a:cubicBezTo>
                    <a:pt x="21385" y="70106"/>
                    <a:pt x="23952" y="70363"/>
                    <a:pt x="26509" y="70363"/>
                  </a:cubicBezTo>
                  <a:cubicBezTo>
                    <a:pt x="28800" y="70363"/>
                    <a:pt x="31083" y="70157"/>
                    <a:pt x="33313" y="69680"/>
                  </a:cubicBezTo>
                  <a:cubicBezTo>
                    <a:pt x="38071" y="68672"/>
                    <a:pt x="42629" y="66494"/>
                    <a:pt x="45936" y="62945"/>
                  </a:cubicBezTo>
                  <a:cubicBezTo>
                    <a:pt x="49243" y="59396"/>
                    <a:pt x="51178" y="54476"/>
                    <a:pt x="50654" y="49677"/>
                  </a:cubicBezTo>
                  <a:cubicBezTo>
                    <a:pt x="50130" y="44878"/>
                    <a:pt x="46984" y="40280"/>
                    <a:pt x="42467" y="38586"/>
                  </a:cubicBezTo>
                  <a:cubicBezTo>
                    <a:pt x="45452" y="35844"/>
                    <a:pt x="46863" y="31771"/>
                    <a:pt x="46137" y="27778"/>
                  </a:cubicBezTo>
                  <a:cubicBezTo>
                    <a:pt x="45411" y="23786"/>
                    <a:pt x="42548" y="20922"/>
                    <a:pt x="38757" y="19430"/>
                  </a:cubicBezTo>
                  <a:cubicBezTo>
                    <a:pt x="40935" y="12856"/>
                    <a:pt x="38233" y="5638"/>
                    <a:pt x="32304" y="2089"/>
                  </a:cubicBezTo>
                  <a:cubicBezTo>
                    <a:pt x="29943" y="685"/>
                    <a:pt x="27324" y="0"/>
                    <a:pt x="24725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Google Shape;2716;p54"/>
            <p:cNvSpPr/>
            <p:nvPr/>
          </p:nvSpPr>
          <p:spPr>
            <a:xfrm flipH="1">
              <a:off x="1886040" y="1638000"/>
              <a:ext cx="241560" cy="240480"/>
            </a:xfrm>
            <a:custGeom>
              <a:avLst/>
              <a:gdLst/>
              <a:ahLst/>
              <a:rect l="l" t="t" r="r" b="b"/>
              <a:pathLst>
                <a:path w="8712" h="8672">
                  <a:moveTo>
                    <a:pt x="4356" y="1"/>
                  </a:moveTo>
                  <a:cubicBezTo>
                    <a:pt x="1936" y="1"/>
                    <a:pt x="1" y="1936"/>
                    <a:pt x="1" y="4356"/>
                  </a:cubicBezTo>
                  <a:cubicBezTo>
                    <a:pt x="1" y="6735"/>
                    <a:pt x="1936" y="8671"/>
                    <a:pt x="4356" y="8671"/>
                  </a:cubicBezTo>
                  <a:cubicBezTo>
                    <a:pt x="6735" y="8671"/>
                    <a:pt x="8712" y="6735"/>
                    <a:pt x="8712" y="4356"/>
                  </a:cubicBezTo>
                  <a:cubicBezTo>
                    <a:pt x="8712" y="1936"/>
                    <a:pt x="6735" y="1"/>
                    <a:pt x="4356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Google Shape;2717;p54"/>
            <p:cNvSpPr/>
            <p:nvPr/>
          </p:nvSpPr>
          <p:spPr>
            <a:xfrm flipH="1">
              <a:off x="1952280" y="1699560"/>
              <a:ext cx="50040" cy="42840"/>
            </a:xfrm>
            <a:custGeom>
              <a:avLst/>
              <a:gdLst/>
              <a:ahLst/>
              <a:rect l="l" t="t" r="r" b="b"/>
              <a:pathLst>
                <a:path w="1816" h="1557">
                  <a:moveTo>
                    <a:pt x="1116" y="1"/>
                  </a:moveTo>
                  <a:cubicBezTo>
                    <a:pt x="1094" y="1"/>
                    <a:pt x="1072" y="2"/>
                    <a:pt x="1049" y="4"/>
                  </a:cubicBezTo>
                  <a:cubicBezTo>
                    <a:pt x="363" y="4"/>
                    <a:pt x="0" y="810"/>
                    <a:pt x="484" y="1334"/>
                  </a:cubicBezTo>
                  <a:cubicBezTo>
                    <a:pt x="638" y="1488"/>
                    <a:pt x="827" y="1556"/>
                    <a:pt x="1015" y="1556"/>
                  </a:cubicBezTo>
                  <a:cubicBezTo>
                    <a:pt x="1420" y="1556"/>
                    <a:pt x="1815" y="1238"/>
                    <a:pt x="1815" y="770"/>
                  </a:cubicBezTo>
                  <a:cubicBezTo>
                    <a:pt x="1815" y="349"/>
                    <a:pt x="1525" y="1"/>
                    <a:pt x="1116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8240" bIns="-48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Google Shape;2718;p54"/>
            <p:cNvSpPr/>
            <p:nvPr/>
          </p:nvSpPr>
          <p:spPr>
            <a:xfrm flipH="1">
              <a:off x="1920600" y="2719800"/>
              <a:ext cx="451080" cy="344880"/>
            </a:xfrm>
            <a:custGeom>
              <a:avLst/>
              <a:gdLst/>
              <a:ahLst/>
              <a:rect l="l" t="t" r="r" b="b"/>
              <a:pathLst>
                <a:path w="16259" h="12441">
                  <a:moveTo>
                    <a:pt x="8103" y="0"/>
                  </a:moveTo>
                  <a:cubicBezTo>
                    <a:pt x="6207" y="0"/>
                    <a:pt x="4332" y="861"/>
                    <a:pt x="3111" y="2489"/>
                  </a:cubicBezTo>
                  <a:cubicBezTo>
                    <a:pt x="0" y="6662"/>
                    <a:pt x="3063" y="12441"/>
                    <a:pt x="8036" y="12441"/>
                  </a:cubicBezTo>
                  <a:cubicBezTo>
                    <a:pt x="8350" y="12441"/>
                    <a:pt x="8671" y="12418"/>
                    <a:pt x="8999" y="12370"/>
                  </a:cubicBezTo>
                  <a:cubicBezTo>
                    <a:pt x="14484" y="11604"/>
                    <a:pt x="16258" y="4546"/>
                    <a:pt x="11822" y="1239"/>
                  </a:cubicBezTo>
                  <a:cubicBezTo>
                    <a:pt x="10708" y="403"/>
                    <a:pt x="9401" y="0"/>
                    <a:pt x="8103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Google Shape;2719;p54"/>
            <p:cNvSpPr/>
            <p:nvPr/>
          </p:nvSpPr>
          <p:spPr>
            <a:xfrm flipH="1">
              <a:off x="2121480" y="2790360"/>
              <a:ext cx="80640" cy="62280"/>
            </a:xfrm>
            <a:custGeom>
              <a:avLst/>
              <a:gdLst/>
              <a:ahLst/>
              <a:rect l="l" t="t" r="r" b="b"/>
              <a:pathLst>
                <a:path w="2917" h="2252">
                  <a:moveTo>
                    <a:pt x="1434" y="1"/>
                  </a:moveTo>
                  <a:cubicBezTo>
                    <a:pt x="1103" y="1"/>
                    <a:pt x="772" y="146"/>
                    <a:pt x="537" y="428"/>
                  </a:cubicBezTo>
                  <a:cubicBezTo>
                    <a:pt x="1" y="1194"/>
                    <a:pt x="556" y="2252"/>
                    <a:pt x="1478" y="2252"/>
                  </a:cubicBezTo>
                  <a:cubicBezTo>
                    <a:pt x="1526" y="2252"/>
                    <a:pt x="1576" y="2249"/>
                    <a:pt x="1626" y="2243"/>
                  </a:cubicBezTo>
                  <a:cubicBezTo>
                    <a:pt x="2594" y="2082"/>
                    <a:pt x="2916" y="831"/>
                    <a:pt x="2110" y="226"/>
                  </a:cubicBezTo>
                  <a:cubicBezTo>
                    <a:pt x="1908" y="75"/>
                    <a:pt x="1671" y="1"/>
                    <a:pt x="1434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800" bIns="-28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Google Shape;2720;p54"/>
            <p:cNvSpPr/>
            <p:nvPr/>
          </p:nvSpPr>
          <p:spPr>
            <a:xfrm flipH="1">
              <a:off x="2054160" y="2133360"/>
              <a:ext cx="286200" cy="241200"/>
            </a:xfrm>
            <a:custGeom>
              <a:avLst/>
              <a:gdLst/>
              <a:ahLst/>
              <a:rect l="l" t="t" r="r" b="b"/>
              <a:pathLst>
                <a:path w="10323" h="8710">
                  <a:moveTo>
                    <a:pt x="4543" y="0"/>
                  </a:moveTo>
                  <a:cubicBezTo>
                    <a:pt x="2288" y="0"/>
                    <a:pt x="354" y="1762"/>
                    <a:pt x="200" y="4043"/>
                  </a:cubicBezTo>
                  <a:cubicBezTo>
                    <a:pt x="0" y="6779"/>
                    <a:pt x="2218" y="8710"/>
                    <a:pt x="4575" y="8710"/>
                  </a:cubicBezTo>
                  <a:cubicBezTo>
                    <a:pt x="5553" y="8710"/>
                    <a:pt x="6555" y="8378"/>
                    <a:pt x="7419" y="7633"/>
                  </a:cubicBezTo>
                  <a:cubicBezTo>
                    <a:pt x="10322" y="5092"/>
                    <a:pt x="8709" y="252"/>
                    <a:pt x="4837" y="10"/>
                  </a:cubicBezTo>
                  <a:cubicBezTo>
                    <a:pt x="4739" y="4"/>
                    <a:pt x="4641" y="0"/>
                    <a:pt x="4543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Google Shape;2721;p54"/>
            <p:cNvSpPr/>
            <p:nvPr/>
          </p:nvSpPr>
          <p:spPr>
            <a:xfrm flipH="1">
              <a:off x="2219760" y="2196000"/>
              <a:ext cx="59040" cy="43560"/>
            </a:xfrm>
            <a:custGeom>
              <a:avLst/>
              <a:gdLst/>
              <a:ahLst/>
              <a:rect l="l" t="t" r="r" b="b"/>
              <a:pathLst>
                <a:path w="2128" h="1581">
                  <a:moveTo>
                    <a:pt x="1076" y="1"/>
                  </a:moveTo>
                  <a:cubicBezTo>
                    <a:pt x="105" y="1"/>
                    <a:pt x="1" y="1455"/>
                    <a:pt x="995" y="1575"/>
                  </a:cubicBezTo>
                  <a:cubicBezTo>
                    <a:pt x="1034" y="1579"/>
                    <a:pt x="1071" y="1581"/>
                    <a:pt x="1107" y="1581"/>
                  </a:cubicBezTo>
                  <a:cubicBezTo>
                    <a:pt x="2088" y="1581"/>
                    <a:pt x="2128" y="41"/>
                    <a:pt x="1116" y="2"/>
                  </a:cubicBezTo>
                  <a:cubicBezTo>
                    <a:pt x="1103" y="1"/>
                    <a:pt x="1090" y="1"/>
                    <a:pt x="1076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520" bIns="-47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Google Shape;2722;p54"/>
            <p:cNvSpPr/>
            <p:nvPr/>
          </p:nvSpPr>
          <p:spPr>
            <a:xfrm flipH="1">
              <a:off x="1768680" y="2133360"/>
              <a:ext cx="285480" cy="241200"/>
            </a:xfrm>
            <a:custGeom>
              <a:avLst/>
              <a:gdLst/>
              <a:ahLst/>
              <a:rect l="l" t="t" r="r" b="b"/>
              <a:pathLst>
                <a:path w="10295" h="8710">
                  <a:moveTo>
                    <a:pt x="4515" y="0"/>
                  </a:moveTo>
                  <a:cubicBezTo>
                    <a:pt x="2263" y="0"/>
                    <a:pt x="365" y="1762"/>
                    <a:pt x="172" y="4043"/>
                  </a:cubicBezTo>
                  <a:cubicBezTo>
                    <a:pt x="1" y="6779"/>
                    <a:pt x="2207" y="8710"/>
                    <a:pt x="4554" y="8710"/>
                  </a:cubicBezTo>
                  <a:cubicBezTo>
                    <a:pt x="5529" y="8710"/>
                    <a:pt x="6527" y="8378"/>
                    <a:pt x="7390" y="7633"/>
                  </a:cubicBezTo>
                  <a:cubicBezTo>
                    <a:pt x="10294" y="5092"/>
                    <a:pt x="8681" y="293"/>
                    <a:pt x="4809" y="10"/>
                  </a:cubicBezTo>
                  <a:cubicBezTo>
                    <a:pt x="4711" y="4"/>
                    <a:pt x="4613" y="0"/>
                    <a:pt x="4515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Google Shape;2723;p54"/>
            <p:cNvSpPr/>
            <p:nvPr/>
          </p:nvSpPr>
          <p:spPr>
            <a:xfrm flipH="1">
              <a:off x="1934640" y="2196000"/>
              <a:ext cx="60480" cy="43920"/>
            </a:xfrm>
            <a:custGeom>
              <a:avLst/>
              <a:gdLst/>
              <a:ahLst/>
              <a:rect l="l" t="t" r="r" b="b"/>
              <a:pathLst>
                <a:path w="2184" h="1586">
                  <a:moveTo>
                    <a:pt x="1061" y="0"/>
                  </a:moveTo>
                  <a:cubicBezTo>
                    <a:pt x="76" y="0"/>
                    <a:pt x="1" y="1541"/>
                    <a:pt x="1051" y="1580"/>
                  </a:cubicBezTo>
                  <a:cubicBezTo>
                    <a:pt x="1090" y="1584"/>
                    <a:pt x="1127" y="1586"/>
                    <a:pt x="1163" y="1586"/>
                  </a:cubicBezTo>
                  <a:cubicBezTo>
                    <a:pt x="2144" y="1586"/>
                    <a:pt x="2184" y="46"/>
                    <a:pt x="1172" y="7"/>
                  </a:cubicBezTo>
                  <a:cubicBezTo>
                    <a:pt x="1134" y="2"/>
                    <a:pt x="1097" y="0"/>
                    <a:pt x="1061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160" bIns="-47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Google Shape;2724;p54"/>
            <p:cNvSpPr/>
            <p:nvPr/>
          </p:nvSpPr>
          <p:spPr>
            <a:xfrm flipH="1">
              <a:off x="1740600" y="1757880"/>
              <a:ext cx="277920" cy="247680"/>
            </a:xfrm>
            <a:custGeom>
              <a:avLst/>
              <a:gdLst/>
              <a:ahLst/>
              <a:rect l="l" t="t" r="r" b="b"/>
              <a:pathLst>
                <a:path w="10023" h="8940">
                  <a:moveTo>
                    <a:pt x="7946" y="1"/>
                  </a:moveTo>
                  <a:cubicBezTo>
                    <a:pt x="8000" y="48"/>
                    <a:pt x="8054" y="96"/>
                    <a:pt x="8106" y="146"/>
                  </a:cubicBezTo>
                  <a:cubicBezTo>
                    <a:pt x="8106" y="138"/>
                    <a:pt x="8107" y="130"/>
                    <a:pt x="8107" y="122"/>
                  </a:cubicBezTo>
                  <a:lnTo>
                    <a:pt x="7946" y="1"/>
                  </a:lnTo>
                  <a:close/>
                  <a:moveTo>
                    <a:pt x="8106" y="146"/>
                  </a:moveTo>
                  <a:cubicBezTo>
                    <a:pt x="7952" y="3832"/>
                    <a:pt x="4931" y="6609"/>
                    <a:pt x="1432" y="6609"/>
                  </a:cubicBezTo>
                  <a:cubicBezTo>
                    <a:pt x="962" y="6609"/>
                    <a:pt x="483" y="6558"/>
                    <a:pt x="1" y="6453"/>
                  </a:cubicBezTo>
                  <a:cubicBezTo>
                    <a:pt x="1031" y="7999"/>
                    <a:pt x="2800" y="8940"/>
                    <a:pt x="4664" y="8940"/>
                  </a:cubicBezTo>
                  <a:cubicBezTo>
                    <a:pt x="4843" y="8940"/>
                    <a:pt x="5023" y="8931"/>
                    <a:pt x="5203" y="8913"/>
                  </a:cubicBezTo>
                  <a:cubicBezTo>
                    <a:pt x="7220" y="8631"/>
                    <a:pt x="8873" y="7220"/>
                    <a:pt x="9478" y="5284"/>
                  </a:cubicBezTo>
                  <a:cubicBezTo>
                    <a:pt x="10022" y="3419"/>
                    <a:pt x="9481" y="1442"/>
                    <a:pt x="8106" y="146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Google Shape;2725;p54"/>
            <p:cNvSpPr/>
            <p:nvPr/>
          </p:nvSpPr>
          <p:spPr>
            <a:xfrm flipH="1">
              <a:off x="1724400" y="2367360"/>
              <a:ext cx="654480" cy="205560"/>
            </a:xfrm>
            <a:custGeom>
              <a:avLst/>
              <a:gdLst/>
              <a:ahLst/>
              <a:rect l="l" t="t" r="r" b="b"/>
              <a:pathLst>
                <a:path w="23594" h="7422">
                  <a:moveTo>
                    <a:pt x="1" y="0"/>
                  </a:moveTo>
                  <a:cubicBezTo>
                    <a:pt x="2058" y="4275"/>
                    <a:pt x="6453" y="7340"/>
                    <a:pt x="11212" y="7421"/>
                  </a:cubicBezTo>
                  <a:cubicBezTo>
                    <a:pt x="11244" y="7421"/>
                    <a:pt x="11276" y="7421"/>
                    <a:pt x="11308" y="7421"/>
                  </a:cubicBezTo>
                  <a:cubicBezTo>
                    <a:pt x="16044" y="7421"/>
                    <a:pt x="21470" y="4448"/>
                    <a:pt x="23593" y="242"/>
                  </a:cubicBezTo>
                  <a:cubicBezTo>
                    <a:pt x="20126" y="2778"/>
                    <a:pt x="16045" y="4039"/>
                    <a:pt x="11968" y="4039"/>
                  </a:cubicBezTo>
                  <a:cubicBezTo>
                    <a:pt x="7747" y="4039"/>
                    <a:pt x="3529" y="2688"/>
                    <a:pt x="1" y="0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Google Shape;2726;p54"/>
            <p:cNvSpPr/>
            <p:nvPr/>
          </p:nvSpPr>
          <p:spPr>
            <a:xfrm flipH="1">
              <a:off x="2004120" y="3129120"/>
              <a:ext cx="286920" cy="187920"/>
            </a:xfrm>
            <a:custGeom>
              <a:avLst/>
              <a:gdLst/>
              <a:ahLst/>
              <a:rect l="l" t="t" r="r" b="b"/>
              <a:pathLst>
                <a:path w="10351" h="6777">
                  <a:moveTo>
                    <a:pt x="4584" y="1"/>
                  </a:moveTo>
                  <a:cubicBezTo>
                    <a:pt x="4254" y="1"/>
                    <a:pt x="3932" y="51"/>
                    <a:pt x="3630" y="160"/>
                  </a:cubicBezTo>
                  <a:cubicBezTo>
                    <a:pt x="0" y="1450"/>
                    <a:pt x="3065" y="6653"/>
                    <a:pt x="5969" y="6774"/>
                  </a:cubicBezTo>
                  <a:cubicBezTo>
                    <a:pt x="6011" y="6775"/>
                    <a:pt x="6054" y="6776"/>
                    <a:pt x="6096" y="6776"/>
                  </a:cubicBezTo>
                  <a:cubicBezTo>
                    <a:pt x="7061" y="6776"/>
                    <a:pt x="8013" y="6336"/>
                    <a:pt x="8631" y="5564"/>
                  </a:cubicBezTo>
                  <a:cubicBezTo>
                    <a:pt x="10350" y="3164"/>
                    <a:pt x="7203" y="1"/>
                    <a:pt x="4584" y="1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Google Shape;2727;p54"/>
            <p:cNvSpPr/>
            <p:nvPr/>
          </p:nvSpPr>
          <p:spPr>
            <a:xfrm flipH="1">
              <a:off x="2472480" y="2243160"/>
              <a:ext cx="649800" cy="693360"/>
            </a:xfrm>
            <a:custGeom>
              <a:avLst/>
              <a:gdLst/>
              <a:ahLst/>
              <a:rect l="l" t="t" r="r" b="b"/>
              <a:pathLst>
                <a:path w="23433" h="25005">
                  <a:moveTo>
                    <a:pt x="9075" y="1"/>
                  </a:moveTo>
                  <a:cubicBezTo>
                    <a:pt x="7542" y="2138"/>
                    <a:pt x="7059" y="5203"/>
                    <a:pt x="8470" y="7421"/>
                  </a:cubicBezTo>
                  <a:cubicBezTo>
                    <a:pt x="6212" y="6534"/>
                    <a:pt x="4477" y="4679"/>
                    <a:pt x="3792" y="2340"/>
                  </a:cubicBezTo>
                  <a:cubicBezTo>
                    <a:pt x="3026" y="4880"/>
                    <a:pt x="3953" y="7623"/>
                    <a:pt x="6131" y="9196"/>
                  </a:cubicBezTo>
                  <a:cubicBezTo>
                    <a:pt x="3429" y="9196"/>
                    <a:pt x="1009" y="7582"/>
                    <a:pt x="1" y="5082"/>
                  </a:cubicBezTo>
                  <a:cubicBezTo>
                    <a:pt x="384" y="9634"/>
                    <a:pt x="4213" y="13098"/>
                    <a:pt x="8702" y="13098"/>
                  </a:cubicBezTo>
                  <a:cubicBezTo>
                    <a:pt x="8946" y="13098"/>
                    <a:pt x="9191" y="13088"/>
                    <a:pt x="9438" y="13067"/>
                  </a:cubicBezTo>
                  <a:cubicBezTo>
                    <a:pt x="12261" y="18189"/>
                    <a:pt x="16536" y="22343"/>
                    <a:pt x="21779" y="25005"/>
                  </a:cubicBezTo>
                  <a:cubicBezTo>
                    <a:pt x="22182" y="22182"/>
                    <a:pt x="22989" y="19842"/>
                    <a:pt x="23432" y="17019"/>
                  </a:cubicBezTo>
                  <a:cubicBezTo>
                    <a:pt x="16536" y="14438"/>
                    <a:pt x="13874" y="9196"/>
                    <a:pt x="13874" y="9196"/>
                  </a:cubicBezTo>
                  <a:cubicBezTo>
                    <a:pt x="13874" y="9196"/>
                    <a:pt x="19803" y="6252"/>
                    <a:pt x="16455" y="2138"/>
                  </a:cubicBezTo>
                  <a:cubicBezTo>
                    <a:pt x="16455" y="2138"/>
                    <a:pt x="15321" y="6307"/>
                    <a:pt x="12786" y="6307"/>
                  </a:cubicBezTo>
                  <a:cubicBezTo>
                    <a:pt x="12413" y="6307"/>
                    <a:pt x="12010" y="6216"/>
                    <a:pt x="11575" y="6010"/>
                  </a:cubicBezTo>
                  <a:cubicBezTo>
                    <a:pt x="8188" y="4397"/>
                    <a:pt x="9075" y="1"/>
                    <a:pt x="9075" y="1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Google Shape;2728;p54"/>
            <p:cNvSpPr/>
            <p:nvPr/>
          </p:nvSpPr>
          <p:spPr>
            <a:xfrm flipH="1">
              <a:off x="712440" y="2349360"/>
              <a:ext cx="682200" cy="649800"/>
            </a:xfrm>
            <a:custGeom>
              <a:avLst/>
              <a:gdLst/>
              <a:ahLst/>
              <a:rect l="l" t="t" r="r" b="b"/>
              <a:pathLst>
                <a:path w="24601" h="23433">
                  <a:moveTo>
                    <a:pt x="16091" y="1"/>
                  </a:moveTo>
                  <a:cubicBezTo>
                    <a:pt x="16091" y="1"/>
                    <a:pt x="16494" y="4437"/>
                    <a:pt x="12946" y="5687"/>
                  </a:cubicBezTo>
                  <a:cubicBezTo>
                    <a:pt x="12590" y="5813"/>
                    <a:pt x="12260" y="5869"/>
                    <a:pt x="11956" y="5869"/>
                  </a:cubicBezTo>
                  <a:cubicBezTo>
                    <a:pt x="9228" y="5869"/>
                    <a:pt x="8510" y="1332"/>
                    <a:pt x="8509" y="1332"/>
                  </a:cubicBezTo>
                  <a:cubicBezTo>
                    <a:pt x="4799" y="5042"/>
                    <a:pt x="10324" y="8591"/>
                    <a:pt x="10324" y="8591"/>
                  </a:cubicBezTo>
                  <a:cubicBezTo>
                    <a:pt x="10324" y="8591"/>
                    <a:pt x="7138" y="13511"/>
                    <a:pt x="0" y="15326"/>
                  </a:cubicBezTo>
                  <a:cubicBezTo>
                    <a:pt x="121" y="18149"/>
                    <a:pt x="645" y="20609"/>
                    <a:pt x="766" y="23432"/>
                  </a:cubicBezTo>
                  <a:cubicBezTo>
                    <a:pt x="6251" y="21375"/>
                    <a:pt x="10970" y="17705"/>
                    <a:pt x="14317" y="12946"/>
                  </a:cubicBezTo>
                  <a:cubicBezTo>
                    <a:pt x="14884" y="13057"/>
                    <a:pt x="15449" y="13110"/>
                    <a:pt x="16006" y="13110"/>
                  </a:cubicBezTo>
                  <a:cubicBezTo>
                    <a:pt x="20120" y="13110"/>
                    <a:pt x="23784" y="10201"/>
                    <a:pt x="24601" y="6010"/>
                  </a:cubicBezTo>
                  <a:cubicBezTo>
                    <a:pt x="23436" y="8158"/>
                    <a:pt x="21219" y="9485"/>
                    <a:pt x="18840" y="9485"/>
                  </a:cubicBezTo>
                  <a:cubicBezTo>
                    <a:pt x="18584" y="9485"/>
                    <a:pt x="18326" y="9469"/>
                    <a:pt x="18067" y="9438"/>
                  </a:cubicBezTo>
                  <a:cubicBezTo>
                    <a:pt x="20366" y="8107"/>
                    <a:pt x="21576" y="5486"/>
                    <a:pt x="21132" y="2864"/>
                  </a:cubicBezTo>
                  <a:cubicBezTo>
                    <a:pt x="20205" y="5123"/>
                    <a:pt x="18269" y="6857"/>
                    <a:pt x="15890" y="7462"/>
                  </a:cubicBezTo>
                  <a:cubicBezTo>
                    <a:pt x="17543" y="5405"/>
                    <a:pt x="17422" y="2300"/>
                    <a:pt x="16091" y="1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Google Shape;2729;p54"/>
            <p:cNvSpPr/>
            <p:nvPr/>
          </p:nvSpPr>
          <p:spPr>
            <a:xfrm flipH="1">
              <a:off x="1581120" y="1441440"/>
              <a:ext cx="163440" cy="245880"/>
            </a:xfrm>
            <a:custGeom>
              <a:avLst/>
              <a:gdLst/>
              <a:ahLst/>
              <a:rect l="l" t="t" r="r" b="b"/>
              <a:pathLst>
                <a:path w="5889" h="8854">
                  <a:moveTo>
                    <a:pt x="1936" y="1"/>
                  </a:moveTo>
                  <a:lnTo>
                    <a:pt x="1936" y="1"/>
                  </a:lnTo>
                  <a:cubicBezTo>
                    <a:pt x="3590" y="2219"/>
                    <a:pt x="2662" y="5364"/>
                    <a:pt x="121" y="6413"/>
                  </a:cubicBezTo>
                  <a:cubicBezTo>
                    <a:pt x="0" y="7381"/>
                    <a:pt x="283" y="8187"/>
                    <a:pt x="1170" y="8631"/>
                  </a:cubicBezTo>
                  <a:cubicBezTo>
                    <a:pt x="1533" y="8780"/>
                    <a:pt x="1923" y="8854"/>
                    <a:pt x="2312" y="8854"/>
                  </a:cubicBezTo>
                  <a:cubicBezTo>
                    <a:pt x="2875" y="8854"/>
                    <a:pt x="3436" y="8699"/>
                    <a:pt x="3912" y="8389"/>
                  </a:cubicBezTo>
                  <a:cubicBezTo>
                    <a:pt x="4719" y="7824"/>
                    <a:pt x="5283" y="6978"/>
                    <a:pt x="5525" y="6050"/>
                  </a:cubicBezTo>
                  <a:cubicBezTo>
                    <a:pt x="5888" y="4800"/>
                    <a:pt x="5687" y="3429"/>
                    <a:pt x="5042" y="2340"/>
                  </a:cubicBezTo>
                  <a:cubicBezTo>
                    <a:pt x="4316" y="1170"/>
                    <a:pt x="3227" y="323"/>
                    <a:pt x="1936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6" name="Google Shape;2330;p40"/>
          <p:cNvGrpSpPr/>
          <p:nvPr/>
        </p:nvGrpSpPr>
        <p:grpSpPr>
          <a:xfrm>
            <a:off x="725400" y="542880"/>
            <a:ext cx="7693200" cy="566640"/>
            <a:chOff x="725400" y="542880"/>
            <a:chExt cx="7693200" cy="566640"/>
          </a:xfrm>
        </p:grpSpPr>
        <p:pic>
          <p:nvPicPr>
            <p:cNvPr id="1807" name="Google Shape;2330;p40" descr=""/>
            <p:cNvPicPr/>
            <p:nvPr/>
          </p:nvPicPr>
          <p:blipFill>
            <a:blip r:embed="rId1"/>
            <a:stretch/>
          </p:blipFill>
          <p:spPr>
            <a:xfrm>
              <a:off x="737640" y="545760"/>
              <a:ext cx="7668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8" name=""/>
            <p:cNvSpPr/>
            <p:nvPr/>
          </p:nvSpPr>
          <p:spPr>
            <a:xfrm>
              <a:off x="725400" y="542880"/>
              <a:ext cx="769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801440" y="539640"/>
            <a:ext cx="58532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5f1e6"/>
                </a:solidFill>
                <a:latin typeface="Sriracha"/>
                <a:ea typeface="Sriracha"/>
              </a:rPr>
              <a:t>2. El número 28 ¿Tiene 2 decen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Rectángulo: esquinas redondeadas 26"/>
          <p:cNvGrpSpPr/>
          <p:nvPr/>
        </p:nvGrpSpPr>
        <p:grpSpPr>
          <a:xfrm>
            <a:off x="4846680" y="1749600"/>
            <a:ext cx="2475000" cy="1029960"/>
            <a:chOff x="4846680" y="1749600"/>
            <a:chExt cx="2475000" cy="1029960"/>
          </a:xfrm>
        </p:grpSpPr>
        <p:pic>
          <p:nvPicPr>
            <p:cNvPr id="1811" name="Rectángulo: esquinas redondeadas 26" descr=""/>
            <p:cNvPicPr/>
            <p:nvPr/>
          </p:nvPicPr>
          <p:blipFill>
            <a:blip r:embed="rId2"/>
            <a:stretch/>
          </p:blipFill>
          <p:spPr>
            <a:xfrm>
              <a:off x="4846680" y="1749600"/>
              <a:ext cx="247500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2" name=""/>
            <p:cNvSpPr/>
            <p:nvPr/>
          </p:nvSpPr>
          <p:spPr>
            <a:xfrm>
              <a:off x="4950000" y="1827360"/>
              <a:ext cx="226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Google Shape;2382;p40"/>
          <p:cNvSpPr/>
          <p:nvPr/>
        </p:nvSpPr>
        <p:spPr>
          <a:xfrm>
            <a:off x="5097600" y="2013120"/>
            <a:ext cx="19922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riracha"/>
                <a:ea typeface="Sriracha"/>
              </a:rPr>
              <a:t>Verd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4" name="Rectángulo: esquinas redondeadas 31"/>
          <p:cNvGrpSpPr/>
          <p:nvPr/>
        </p:nvGrpSpPr>
        <p:grpSpPr>
          <a:xfrm>
            <a:off x="4846680" y="3200400"/>
            <a:ext cx="2475000" cy="1030320"/>
            <a:chOff x="4846680" y="3200400"/>
            <a:chExt cx="2475000" cy="1030320"/>
          </a:xfrm>
        </p:grpSpPr>
        <p:pic>
          <p:nvPicPr>
            <p:cNvPr id="1815" name="Rectángulo: esquinas redondeadas 31" descr=""/>
            <p:cNvPicPr/>
            <p:nvPr/>
          </p:nvPicPr>
          <p:blipFill>
            <a:blip r:embed="rId3"/>
            <a:stretch/>
          </p:blipFill>
          <p:spPr>
            <a:xfrm>
              <a:off x="4846680" y="3200400"/>
              <a:ext cx="2475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4950000" y="3276720"/>
              <a:ext cx="22636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Google Shape;2382;p40"/>
          <p:cNvSpPr/>
          <p:nvPr/>
        </p:nvSpPr>
        <p:spPr>
          <a:xfrm>
            <a:off x="5067360" y="3449520"/>
            <a:ext cx="1993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riracha"/>
                <a:ea typeface="Sriracha"/>
              </a:rPr>
              <a:t>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8" name="Google Shape;2916;p63"/>
          <p:cNvGrpSpPr/>
          <p:nvPr/>
        </p:nvGrpSpPr>
        <p:grpSpPr>
          <a:xfrm>
            <a:off x="1636560" y="984240"/>
            <a:ext cx="2668680" cy="3090960"/>
            <a:chOff x="1636560" y="984240"/>
            <a:chExt cx="2668680" cy="3090960"/>
          </a:xfrm>
        </p:grpSpPr>
        <p:sp>
          <p:nvSpPr>
            <p:cNvPr id="1819" name="Google Shape;2917;p63"/>
            <p:cNvSpPr/>
            <p:nvPr/>
          </p:nvSpPr>
          <p:spPr>
            <a:xfrm>
              <a:off x="3139920" y="1163520"/>
              <a:ext cx="1165320" cy="1243080"/>
            </a:xfrm>
            <a:custGeom>
              <a:avLst/>
              <a:gdLst/>
              <a:ahLst/>
              <a:rect l="l" t="t" r="r" b="b"/>
              <a:pathLst>
                <a:path w="78416" h="83569">
                  <a:moveTo>
                    <a:pt x="55765" y="1"/>
                  </a:moveTo>
                  <a:cubicBezTo>
                    <a:pt x="53580" y="1"/>
                    <a:pt x="51394" y="332"/>
                    <a:pt x="49209" y="928"/>
                  </a:cubicBezTo>
                  <a:cubicBezTo>
                    <a:pt x="47752" y="1326"/>
                    <a:pt x="46228" y="1922"/>
                    <a:pt x="44838" y="2650"/>
                  </a:cubicBezTo>
                  <a:cubicBezTo>
                    <a:pt x="42851" y="3710"/>
                    <a:pt x="41063" y="5167"/>
                    <a:pt x="39539" y="6955"/>
                  </a:cubicBezTo>
                  <a:cubicBezTo>
                    <a:pt x="38480" y="8213"/>
                    <a:pt x="37619" y="9604"/>
                    <a:pt x="36956" y="11061"/>
                  </a:cubicBezTo>
                  <a:cubicBezTo>
                    <a:pt x="36625" y="11790"/>
                    <a:pt x="36493" y="12585"/>
                    <a:pt x="36559" y="13313"/>
                  </a:cubicBezTo>
                  <a:cubicBezTo>
                    <a:pt x="36691" y="15499"/>
                    <a:pt x="36956" y="17684"/>
                    <a:pt x="37354" y="19804"/>
                  </a:cubicBezTo>
                  <a:cubicBezTo>
                    <a:pt x="38546" y="28480"/>
                    <a:pt x="37751" y="41792"/>
                    <a:pt x="9405" y="60800"/>
                  </a:cubicBezTo>
                  <a:cubicBezTo>
                    <a:pt x="1524" y="66098"/>
                    <a:pt x="0" y="81662"/>
                    <a:pt x="15034" y="83450"/>
                  </a:cubicBezTo>
                  <a:cubicBezTo>
                    <a:pt x="15717" y="83531"/>
                    <a:pt x="16407" y="83568"/>
                    <a:pt x="17102" y="83568"/>
                  </a:cubicBezTo>
                  <a:cubicBezTo>
                    <a:pt x="23833" y="83568"/>
                    <a:pt x="31041" y="80042"/>
                    <a:pt x="35963" y="77821"/>
                  </a:cubicBezTo>
                  <a:cubicBezTo>
                    <a:pt x="50732" y="70867"/>
                    <a:pt x="64110" y="57488"/>
                    <a:pt x="71992" y="43183"/>
                  </a:cubicBezTo>
                  <a:lnTo>
                    <a:pt x="71992" y="43183"/>
                  </a:lnTo>
                  <a:lnTo>
                    <a:pt x="67554" y="43646"/>
                  </a:lnTo>
                  <a:lnTo>
                    <a:pt x="67554" y="43646"/>
                  </a:lnTo>
                  <a:cubicBezTo>
                    <a:pt x="67554" y="43646"/>
                    <a:pt x="78416" y="14439"/>
                    <a:pt x="68084" y="3909"/>
                  </a:cubicBezTo>
                  <a:cubicBezTo>
                    <a:pt x="67289" y="3114"/>
                    <a:pt x="66296" y="2451"/>
                    <a:pt x="65302" y="1922"/>
                  </a:cubicBezTo>
                  <a:cubicBezTo>
                    <a:pt x="63249" y="994"/>
                    <a:pt x="61130" y="398"/>
                    <a:pt x="58878" y="133"/>
                  </a:cubicBezTo>
                  <a:cubicBezTo>
                    <a:pt x="57885" y="67"/>
                    <a:pt x="56825" y="1"/>
                    <a:pt x="55765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Google Shape;2918;p63"/>
            <p:cNvSpPr/>
            <p:nvPr/>
          </p:nvSpPr>
          <p:spPr>
            <a:xfrm>
              <a:off x="4015080" y="1057680"/>
              <a:ext cx="95400" cy="135720"/>
            </a:xfrm>
            <a:custGeom>
              <a:avLst/>
              <a:gdLst/>
              <a:ahLst/>
              <a:rect l="l" t="t" r="r" b="b"/>
              <a:pathLst>
                <a:path w="6425" h="9152">
                  <a:moveTo>
                    <a:pt x="3948" y="1"/>
                  </a:moveTo>
                  <a:cubicBezTo>
                    <a:pt x="2169" y="1"/>
                    <a:pt x="772" y="4276"/>
                    <a:pt x="0" y="7364"/>
                  </a:cubicBezTo>
                  <a:cubicBezTo>
                    <a:pt x="2252" y="7562"/>
                    <a:pt x="4371" y="8158"/>
                    <a:pt x="6424" y="9152"/>
                  </a:cubicBezTo>
                  <a:cubicBezTo>
                    <a:pt x="6424" y="6105"/>
                    <a:pt x="6160" y="277"/>
                    <a:pt x="4106" y="12"/>
                  </a:cubicBezTo>
                  <a:cubicBezTo>
                    <a:pt x="4053" y="5"/>
                    <a:pt x="4000" y="1"/>
                    <a:pt x="3948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Google Shape;2919;p63"/>
            <p:cNvSpPr/>
            <p:nvPr/>
          </p:nvSpPr>
          <p:spPr>
            <a:xfrm>
              <a:off x="3872520" y="1044000"/>
              <a:ext cx="96120" cy="133560"/>
            </a:xfrm>
            <a:custGeom>
              <a:avLst/>
              <a:gdLst/>
              <a:ahLst/>
              <a:rect l="l" t="t" r="r" b="b"/>
              <a:pathLst>
                <a:path w="6492" h="9011">
                  <a:moveTo>
                    <a:pt x="2660" y="0"/>
                  </a:moveTo>
                  <a:cubicBezTo>
                    <a:pt x="2635" y="0"/>
                    <a:pt x="2609" y="1"/>
                    <a:pt x="2584" y="3"/>
                  </a:cubicBezTo>
                  <a:cubicBezTo>
                    <a:pt x="531" y="202"/>
                    <a:pt x="67" y="5831"/>
                    <a:pt x="1" y="9010"/>
                  </a:cubicBezTo>
                  <a:cubicBezTo>
                    <a:pt x="2120" y="8414"/>
                    <a:pt x="4306" y="8083"/>
                    <a:pt x="6491" y="8083"/>
                  </a:cubicBezTo>
                  <a:cubicBezTo>
                    <a:pt x="5903" y="5010"/>
                    <a:pt x="4605" y="0"/>
                    <a:pt x="2660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2480" bIns="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Google Shape;2920;p63"/>
            <p:cNvSpPr/>
            <p:nvPr/>
          </p:nvSpPr>
          <p:spPr>
            <a:xfrm>
              <a:off x="3685320" y="1116360"/>
              <a:ext cx="120960" cy="150840"/>
            </a:xfrm>
            <a:custGeom>
              <a:avLst/>
              <a:gdLst/>
              <a:ahLst/>
              <a:rect l="l" t="t" r="r" b="b"/>
              <a:pathLst>
                <a:path w="8147" h="10173">
                  <a:moveTo>
                    <a:pt x="2459" y="1"/>
                  </a:moveTo>
                  <a:cubicBezTo>
                    <a:pt x="2294" y="1"/>
                    <a:pt x="2136" y="34"/>
                    <a:pt x="1987" y="105"/>
                  </a:cubicBezTo>
                  <a:cubicBezTo>
                    <a:pt x="0" y="1032"/>
                    <a:pt x="1921" y="7390"/>
                    <a:pt x="2848" y="10172"/>
                  </a:cubicBezTo>
                  <a:cubicBezTo>
                    <a:pt x="4305" y="8384"/>
                    <a:pt x="6160" y="6927"/>
                    <a:pt x="8147" y="5867"/>
                  </a:cubicBezTo>
                  <a:cubicBezTo>
                    <a:pt x="6639" y="3455"/>
                    <a:pt x="4144" y="1"/>
                    <a:pt x="2459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9760" bIns="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Google Shape;2921;p63"/>
            <p:cNvSpPr/>
            <p:nvPr/>
          </p:nvSpPr>
          <p:spPr>
            <a:xfrm>
              <a:off x="3565440" y="1361880"/>
              <a:ext cx="129600" cy="96120"/>
            </a:xfrm>
            <a:custGeom>
              <a:avLst/>
              <a:gdLst/>
              <a:ahLst/>
              <a:rect l="l" t="t" r="r" b="b"/>
              <a:pathLst>
                <a:path w="8743" h="6491">
                  <a:moveTo>
                    <a:pt x="7948" y="0"/>
                  </a:moveTo>
                  <a:cubicBezTo>
                    <a:pt x="4835" y="662"/>
                    <a:pt x="0" y="1855"/>
                    <a:pt x="133" y="3841"/>
                  </a:cubicBezTo>
                  <a:cubicBezTo>
                    <a:pt x="265" y="5828"/>
                    <a:pt x="5564" y="6358"/>
                    <a:pt x="8743" y="6491"/>
                  </a:cubicBezTo>
                  <a:cubicBezTo>
                    <a:pt x="8345" y="4371"/>
                    <a:pt x="8080" y="2186"/>
                    <a:pt x="7948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040" bIns="5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Google Shape;2922;p63"/>
            <p:cNvSpPr/>
            <p:nvPr/>
          </p:nvSpPr>
          <p:spPr>
            <a:xfrm>
              <a:off x="1636560" y="984240"/>
              <a:ext cx="1995480" cy="3090960"/>
            </a:xfrm>
            <a:custGeom>
              <a:avLst/>
              <a:gdLst/>
              <a:ahLst/>
              <a:rect l="l" t="t" r="r" b="b"/>
              <a:pathLst>
                <a:path w="134314" h="208027">
                  <a:moveTo>
                    <a:pt x="70270" y="0"/>
                  </a:moveTo>
                  <a:cubicBezTo>
                    <a:pt x="70270" y="0"/>
                    <a:pt x="54772" y="1192"/>
                    <a:pt x="43315" y="11391"/>
                  </a:cubicBezTo>
                  <a:cubicBezTo>
                    <a:pt x="37420" y="16557"/>
                    <a:pt x="38679" y="19538"/>
                    <a:pt x="38679" y="19538"/>
                  </a:cubicBezTo>
                  <a:cubicBezTo>
                    <a:pt x="38679" y="19538"/>
                    <a:pt x="38418" y="19505"/>
                    <a:pt x="37950" y="19505"/>
                  </a:cubicBezTo>
                  <a:cubicBezTo>
                    <a:pt x="36417" y="19505"/>
                    <a:pt x="32656" y="19855"/>
                    <a:pt x="28546" y="22849"/>
                  </a:cubicBezTo>
                  <a:cubicBezTo>
                    <a:pt x="20333" y="28810"/>
                    <a:pt x="17419" y="34241"/>
                    <a:pt x="14108" y="44904"/>
                  </a:cubicBezTo>
                  <a:lnTo>
                    <a:pt x="21923" y="42254"/>
                  </a:lnTo>
                  <a:lnTo>
                    <a:pt x="21923" y="42254"/>
                  </a:lnTo>
                  <a:cubicBezTo>
                    <a:pt x="21592" y="42652"/>
                    <a:pt x="10730" y="57288"/>
                    <a:pt x="9140" y="75369"/>
                  </a:cubicBezTo>
                  <a:lnTo>
                    <a:pt x="15300" y="70667"/>
                  </a:lnTo>
                  <a:lnTo>
                    <a:pt x="15300" y="70667"/>
                  </a:lnTo>
                  <a:cubicBezTo>
                    <a:pt x="15299" y="70667"/>
                    <a:pt x="1" y="100735"/>
                    <a:pt x="9472" y="139810"/>
                  </a:cubicBezTo>
                  <a:lnTo>
                    <a:pt x="13644" y="128883"/>
                  </a:lnTo>
                  <a:cubicBezTo>
                    <a:pt x="13644" y="128883"/>
                    <a:pt x="14108" y="165574"/>
                    <a:pt x="26095" y="192926"/>
                  </a:cubicBezTo>
                  <a:lnTo>
                    <a:pt x="28943" y="186303"/>
                  </a:lnTo>
                  <a:cubicBezTo>
                    <a:pt x="28943" y="186303"/>
                    <a:pt x="32851" y="196370"/>
                    <a:pt x="44838" y="208027"/>
                  </a:cubicBezTo>
                  <a:lnTo>
                    <a:pt x="43845" y="71064"/>
                  </a:lnTo>
                  <a:lnTo>
                    <a:pt x="134314" y="69673"/>
                  </a:lnTo>
                  <a:cubicBezTo>
                    <a:pt x="131135" y="59408"/>
                    <a:pt x="124910" y="48679"/>
                    <a:pt x="124909" y="48679"/>
                  </a:cubicBezTo>
                  <a:lnTo>
                    <a:pt x="124909" y="48679"/>
                  </a:lnTo>
                  <a:lnTo>
                    <a:pt x="131532" y="51791"/>
                  </a:lnTo>
                  <a:cubicBezTo>
                    <a:pt x="131532" y="51791"/>
                    <a:pt x="129877" y="39340"/>
                    <a:pt x="122128" y="33578"/>
                  </a:cubicBezTo>
                  <a:lnTo>
                    <a:pt x="122128" y="33578"/>
                  </a:lnTo>
                  <a:lnTo>
                    <a:pt x="127625" y="34638"/>
                  </a:lnTo>
                  <a:cubicBezTo>
                    <a:pt x="122989" y="26426"/>
                    <a:pt x="114909" y="20664"/>
                    <a:pt x="105637" y="19008"/>
                  </a:cubicBezTo>
                  <a:cubicBezTo>
                    <a:pt x="105637" y="19008"/>
                    <a:pt x="111281" y="17840"/>
                    <a:pt x="116397" y="17840"/>
                  </a:cubicBezTo>
                  <a:cubicBezTo>
                    <a:pt x="117250" y="17840"/>
                    <a:pt x="118088" y="17872"/>
                    <a:pt x="118883" y="17948"/>
                  </a:cubicBezTo>
                  <a:cubicBezTo>
                    <a:pt x="118883" y="17948"/>
                    <a:pt x="102937" y="5325"/>
                    <a:pt x="80536" y="5325"/>
                  </a:cubicBezTo>
                  <a:cubicBezTo>
                    <a:pt x="75545" y="5325"/>
                    <a:pt x="70234" y="5951"/>
                    <a:pt x="64707" y="7484"/>
                  </a:cubicBezTo>
                  <a:lnTo>
                    <a:pt x="70270" y="0"/>
                  </a:ln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Google Shape;2923;p63"/>
            <p:cNvSpPr/>
            <p:nvPr/>
          </p:nvSpPr>
          <p:spPr>
            <a:xfrm>
              <a:off x="2735280" y="1436400"/>
              <a:ext cx="196560" cy="296640"/>
            </a:xfrm>
            <a:custGeom>
              <a:avLst/>
              <a:gdLst/>
              <a:ahLst/>
              <a:rect l="l" t="t" r="r" b="b"/>
              <a:pathLst>
                <a:path w="13245" h="19962">
                  <a:moveTo>
                    <a:pt x="7397" y="0"/>
                  </a:moveTo>
                  <a:cubicBezTo>
                    <a:pt x="3178" y="0"/>
                    <a:pt x="127" y="12599"/>
                    <a:pt x="65" y="15588"/>
                  </a:cubicBezTo>
                  <a:cubicBezTo>
                    <a:pt x="0" y="18627"/>
                    <a:pt x="2903" y="19962"/>
                    <a:pt x="5382" y="19962"/>
                  </a:cubicBezTo>
                  <a:cubicBezTo>
                    <a:pt x="5442" y="19962"/>
                    <a:pt x="5502" y="19961"/>
                    <a:pt x="5562" y="19960"/>
                  </a:cubicBezTo>
                  <a:cubicBezTo>
                    <a:pt x="9006" y="19827"/>
                    <a:pt x="9403" y="18436"/>
                    <a:pt x="10331" y="15522"/>
                  </a:cubicBezTo>
                  <a:cubicBezTo>
                    <a:pt x="11456" y="11813"/>
                    <a:pt x="13245" y="3005"/>
                    <a:pt x="9138" y="687"/>
                  </a:cubicBezTo>
                  <a:cubicBezTo>
                    <a:pt x="8874" y="488"/>
                    <a:pt x="8542" y="289"/>
                    <a:pt x="8211" y="157"/>
                  </a:cubicBezTo>
                  <a:cubicBezTo>
                    <a:pt x="7936" y="51"/>
                    <a:pt x="7664" y="0"/>
                    <a:pt x="7397" y="0"/>
                  </a:cubicBez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Google Shape;2924;p63"/>
            <p:cNvSpPr/>
            <p:nvPr/>
          </p:nvSpPr>
          <p:spPr>
            <a:xfrm>
              <a:off x="2347560" y="1339560"/>
              <a:ext cx="382320" cy="368280"/>
            </a:xfrm>
            <a:custGeom>
              <a:avLst/>
              <a:gdLst/>
              <a:ahLst/>
              <a:rect l="l" t="t" r="r" b="b"/>
              <a:pathLst>
                <a:path w="25764" h="24709">
                  <a:moveTo>
                    <a:pt x="11648" y="0"/>
                  </a:moveTo>
                  <a:cubicBezTo>
                    <a:pt x="10438" y="0"/>
                    <a:pt x="9234" y="188"/>
                    <a:pt x="8080" y="477"/>
                  </a:cubicBezTo>
                  <a:cubicBezTo>
                    <a:pt x="6358" y="940"/>
                    <a:pt x="4835" y="1801"/>
                    <a:pt x="3511" y="3060"/>
                  </a:cubicBezTo>
                  <a:cubicBezTo>
                    <a:pt x="2782" y="3722"/>
                    <a:pt x="2186" y="4450"/>
                    <a:pt x="1656" y="5311"/>
                  </a:cubicBezTo>
                  <a:cubicBezTo>
                    <a:pt x="1126" y="6239"/>
                    <a:pt x="729" y="7166"/>
                    <a:pt x="464" y="8226"/>
                  </a:cubicBezTo>
                  <a:cubicBezTo>
                    <a:pt x="199" y="9285"/>
                    <a:pt x="67" y="10345"/>
                    <a:pt x="0" y="11405"/>
                  </a:cubicBezTo>
                  <a:cubicBezTo>
                    <a:pt x="0" y="12530"/>
                    <a:pt x="133" y="13723"/>
                    <a:pt x="398" y="14782"/>
                  </a:cubicBezTo>
                  <a:cubicBezTo>
                    <a:pt x="861" y="17166"/>
                    <a:pt x="2120" y="19352"/>
                    <a:pt x="3908" y="21008"/>
                  </a:cubicBezTo>
                  <a:cubicBezTo>
                    <a:pt x="5696" y="22597"/>
                    <a:pt x="7882" y="23789"/>
                    <a:pt x="10200" y="24319"/>
                  </a:cubicBezTo>
                  <a:cubicBezTo>
                    <a:pt x="11260" y="24576"/>
                    <a:pt x="12337" y="24709"/>
                    <a:pt x="13413" y="24709"/>
                  </a:cubicBezTo>
                  <a:cubicBezTo>
                    <a:pt x="14555" y="24709"/>
                    <a:pt x="15698" y="24560"/>
                    <a:pt x="16823" y="24253"/>
                  </a:cubicBezTo>
                  <a:cubicBezTo>
                    <a:pt x="18743" y="23723"/>
                    <a:pt x="20598" y="22730"/>
                    <a:pt x="22055" y="21405"/>
                  </a:cubicBezTo>
                  <a:cubicBezTo>
                    <a:pt x="24439" y="19220"/>
                    <a:pt x="25764" y="16107"/>
                    <a:pt x="25565" y="12862"/>
                  </a:cubicBezTo>
                  <a:cubicBezTo>
                    <a:pt x="25499" y="11802"/>
                    <a:pt x="25300" y="10742"/>
                    <a:pt x="25035" y="9749"/>
                  </a:cubicBezTo>
                  <a:cubicBezTo>
                    <a:pt x="24462" y="8221"/>
                    <a:pt x="23950" y="7427"/>
                    <a:pt x="23794" y="7427"/>
                  </a:cubicBezTo>
                  <a:cubicBezTo>
                    <a:pt x="23788" y="7427"/>
                    <a:pt x="23782" y="7428"/>
                    <a:pt x="23777" y="7431"/>
                  </a:cubicBezTo>
                  <a:cubicBezTo>
                    <a:pt x="23644" y="7497"/>
                    <a:pt x="23909" y="8358"/>
                    <a:pt x="24240" y="10014"/>
                  </a:cubicBezTo>
                  <a:cubicBezTo>
                    <a:pt x="24638" y="12199"/>
                    <a:pt x="24373" y="14451"/>
                    <a:pt x="23512" y="16504"/>
                  </a:cubicBezTo>
                  <a:cubicBezTo>
                    <a:pt x="22916" y="17895"/>
                    <a:pt x="21989" y="19153"/>
                    <a:pt x="20796" y="20081"/>
                  </a:cubicBezTo>
                  <a:cubicBezTo>
                    <a:pt x="19538" y="21206"/>
                    <a:pt x="17949" y="22001"/>
                    <a:pt x="16227" y="22332"/>
                  </a:cubicBezTo>
                  <a:cubicBezTo>
                    <a:pt x="15299" y="22564"/>
                    <a:pt x="14356" y="22680"/>
                    <a:pt x="13412" y="22680"/>
                  </a:cubicBezTo>
                  <a:cubicBezTo>
                    <a:pt x="12468" y="22680"/>
                    <a:pt x="11524" y="22564"/>
                    <a:pt x="10597" y="22332"/>
                  </a:cubicBezTo>
                  <a:cubicBezTo>
                    <a:pt x="8610" y="21803"/>
                    <a:pt x="6822" y="20809"/>
                    <a:pt x="5233" y="19485"/>
                  </a:cubicBezTo>
                  <a:cubicBezTo>
                    <a:pt x="3775" y="18094"/>
                    <a:pt x="2782" y="16306"/>
                    <a:pt x="2318" y="14319"/>
                  </a:cubicBezTo>
                  <a:cubicBezTo>
                    <a:pt x="2120" y="13391"/>
                    <a:pt x="1987" y="12398"/>
                    <a:pt x="1987" y="11471"/>
                  </a:cubicBezTo>
                  <a:cubicBezTo>
                    <a:pt x="1987" y="10544"/>
                    <a:pt x="2053" y="9616"/>
                    <a:pt x="2252" y="8689"/>
                  </a:cubicBezTo>
                  <a:cubicBezTo>
                    <a:pt x="2517" y="7828"/>
                    <a:pt x="2782" y="6967"/>
                    <a:pt x="3179" y="6239"/>
                  </a:cubicBezTo>
                  <a:cubicBezTo>
                    <a:pt x="3378" y="5841"/>
                    <a:pt x="3643" y="5510"/>
                    <a:pt x="3842" y="5179"/>
                  </a:cubicBezTo>
                  <a:cubicBezTo>
                    <a:pt x="4107" y="4848"/>
                    <a:pt x="4372" y="4517"/>
                    <a:pt x="4703" y="4252"/>
                  </a:cubicBezTo>
                  <a:cubicBezTo>
                    <a:pt x="5762" y="3192"/>
                    <a:pt x="7021" y="2331"/>
                    <a:pt x="8478" y="1867"/>
                  </a:cubicBezTo>
                  <a:cubicBezTo>
                    <a:pt x="9670" y="1470"/>
                    <a:pt x="10928" y="1205"/>
                    <a:pt x="12187" y="1139"/>
                  </a:cubicBezTo>
                  <a:cubicBezTo>
                    <a:pt x="12683" y="1106"/>
                    <a:pt x="13180" y="1089"/>
                    <a:pt x="13677" y="1089"/>
                  </a:cubicBezTo>
                  <a:cubicBezTo>
                    <a:pt x="14173" y="1089"/>
                    <a:pt x="14670" y="1106"/>
                    <a:pt x="15167" y="1139"/>
                  </a:cubicBezTo>
                  <a:cubicBezTo>
                    <a:pt x="16190" y="1221"/>
                    <a:pt x="16935" y="1277"/>
                    <a:pt x="17355" y="1277"/>
                  </a:cubicBezTo>
                  <a:cubicBezTo>
                    <a:pt x="17615" y="1277"/>
                    <a:pt x="17750" y="1256"/>
                    <a:pt x="17750" y="1205"/>
                  </a:cubicBezTo>
                  <a:cubicBezTo>
                    <a:pt x="17750" y="1139"/>
                    <a:pt x="16955" y="742"/>
                    <a:pt x="15299" y="410"/>
                  </a:cubicBezTo>
                  <a:cubicBezTo>
                    <a:pt x="14306" y="146"/>
                    <a:pt x="13246" y="13"/>
                    <a:pt x="12187" y="13"/>
                  </a:cubicBezTo>
                  <a:cubicBezTo>
                    <a:pt x="12007" y="5"/>
                    <a:pt x="11827" y="0"/>
                    <a:pt x="11648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Google Shape;2925;p63"/>
            <p:cNvSpPr/>
            <p:nvPr/>
          </p:nvSpPr>
          <p:spPr>
            <a:xfrm>
              <a:off x="2352600" y="1325520"/>
              <a:ext cx="380880" cy="279360"/>
            </a:xfrm>
            <a:custGeom>
              <a:avLst/>
              <a:gdLst/>
              <a:ahLst/>
              <a:rect l="l" t="t" r="r" b="b"/>
              <a:pathLst>
                <a:path w="25698" h="18709">
                  <a:moveTo>
                    <a:pt x="13418" y="1"/>
                  </a:moveTo>
                  <a:cubicBezTo>
                    <a:pt x="12938" y="1"/>
                    <a:pt x="12460" y="31"/>
                    <a:pt x="11988" y="92"/>
                  </a:cubicBezTo>
                  <a:cubicBezTo>
                    <a:pt x="10531" y="225"/>
                    <a:pt x="9140" y="622"/>
                    <a:pt x="7816" y="1152"/>
                  </a:cubicBezTo>
                  <a:cubicBezTo>
                    <a:pt x="5564" y="2079"/>
                    <a:pt x="3577" y="3602"/>
                    <a:pt x="2120" y="5457"/>
                  </a:cubicBezTo>
                  <a:cubicBezTo>
                    <a:pt x="1060" y="6781"/>
                    <a:pt x="398" y="8238"/>
                    <a:pt x="133" y="9894"/>
                  </a:cubicBezTo>
                  <a:cubicBezTo>
                    <a:pt x="1" y="10291"/>
                    <a:pt x="1" y="10755"/>
                    <a:pt x="1" y="11152"/>
                  </a:cubicBezTo>
                  <a:cubicBezTo>
                    <a:pt x="67" y="11484"/>
                    <a:pt x="67" y="11616"/>
                    <a:pt x="133" y="11616"/>
                  </a:cubicBezTo>
                  <a:cubicBezTo>
                    <a:pt x="265" y="11616"/>
                    <a:pt x="332" y="11484"/>
                    <a:pt x="464" y="11219"/>
                  </a:cubicBezTo>
                  <a:cubicBezTo>
                    <a:pt x="597" y="10954"/>
                    <a:pt x="663" y="10556"/>
                    <a:pt x="928" y="10093"/>
                  </a:cubicBezTo>
                  <a:cubicBezTo>
                    <a:pt x="1458" y="8702"/>
                    <a:pt x="2252" y="7444"/>
                    <a:pt x="3246" y="6384"/>
                  </a:cubicBezTo>
                  <a:cubicBezTo>
                    <a:pt x="4769" y="4861"/>
                    <a:pt x="6557" y="3668"/>
                    <a:pt x="8544" y="2940"/>
                  </a:cubicBezTo>
                  <a:cubicBezTo>
                    <a:pt x="9736" y="2476"/>
                    <a:pt x="10995" y="2211"/>
                    <a:pt x="12187" y="2145"/>
                  </a:cubicBezTo>
                  <a:cubicBezTo>
                    <a:pt x="12611" y="2082"/>
                    <a:pt x="13036" y="2052"/>
                    <a:pt x="13461" y="2052"/>
                  </a:cubicBezTo>
                  <a:cubicBezTo>
                    <a:pt x="14361" y="2052"/>
                    <a:pt x="15261" y="2185"/>
                    <a:pt x="16161" y="2410"/>
                  </a:cubicBezTo>
                  <a:cubicBezTo>
                    <a:pt x="17419" y="2741"/>
                    <a:pt x="18545" y="3337"/>
                    <a:pt x="19604" y="4132"/>
                  </a:cubicBezTo>
                  <a:cubicBezTo>
                    <a:pt x="20598" y="4861"/>
                    <a:pt x="21393" y="5788"/>
                    <a:pt x="22121" y="6781"/>
                  </a:cubicBezTo>
                  <a:cubicBezTo>
                    <a:pt x="23313" y="8569"/>
                    <a:pt x="24042" y="10556"/>
                    <a:pt x="24241" y="12742"/>
                  </a:cubicBezTo>
                  <a:cubicBezTo>
                    <a:pt x="24307" y="14133"/>
                    <a:pt x="24241" y="15590"/>
                    <a:pt x="23843" y="17047"/>
                  </a:cubicBezTo>
                  <a:cubicBezTo>
                    <a:pt x="23512" y="18040"/>
                    <a:pt x="23380" y="18636"/>
                    <a:pt x="23512" y="18703"/>
                  </a:cubicBezTo>
                  <a:cubicBezTo>
                    <a:pt x="23520" y="18707"/>
                    <a:pt x="23530" y="18709"/>
                    <a:pt x="23540" y="18709"/>
                  </a:cubicBezTo>
                  <a:cubicBezTo>
                    <a:pt x="23695" y="18709"/>
                    <a:pt x="24075" y="18243"/>
                    <a:pt x="24572" y="17312"/>
                  </a:cubicBezTo>
                  <a:cubicBezTo>
                    <a:pt x="25300" y="15855"/>
                    <a:pt x="25698" y="14265"/>
                    <a:pt x="25698" y="12676"/>
                  </a:cubicBezTo>
                  <a:cubicBezTo>
                    <a:pt x="25698" y="10225"/>
                    <a:pt x="25035" y="7841"/>
                    <a:pt x="23711" y="5722"/>
                  </a:cubicBezTo>
                  <a:cubicBezTo>
                    <a:pt x="22982" y="4529"/>
                    <a:pt x="21989" y="3404"/>
                    <a:pt x="20863" y="2476"/>
                  </a:cubicBezTo>
                  <a:cubicBezTo>
                    <a:pt x="19604" y="1549"/>
                    <a:pt x="18147" y="821"/>
                    <a:pt x="16624" y="423"/>
                  </a:cubicBezTo>
                  <a:cubicBezTo>
                    <a:pt x="15572" y="149"/>
                    <a:pt x="14489" y="1"/>
                    <a:pt x="13418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Google Shape;2926;p63"/>
            <p:cNvSpPr/>
            <p:nvPr/>
          </p:nvSpPr>
          <p:spPr>
            <a:xfrm>
              <a:off x="2187360" y="1282680"/>
              <a:ext cx="182520" cy="198360"/>
            </a:xfrm>
            <a:custGeom>
              <a:avLst/>
              <a:gdLst/>
              <a:ahLst/>
              <a:rect l="l" t="t" r="r" b="b"/>
              <a:pathLst>
                <a:path w="12253" h="13277">
                  <a:moveTo>
                    <a:pt x="297" y="1"/>
                  </a:moveTo>
                  <a:cubicBezTo>
                    <a:pt x="286" y="1"/>
                    <a:pt x="275" y="2"/>
                    <a:pt x="265" y="5"/>
                  </a:cubicBezTo>
                  <a:cubicBezTo>
                    <a:pt x="0" y="71"/>
                    <a:pt x="0" y="1197"/>
                    <a:pt x="663" y="2786"/>
                  </a:cubicBezTo>
                  <a:cubicBezTo>
                    <a:pt x="1590" y="4773"/>
                    <a:pt x="2782" y="6694"/>
                    <a:pt x="4239" y="8350"/>
                  </a:cubicBezTo>
                  <a:cubicBezTo>
                    <a:pt x="5630" y="10072"/>
                    <a:pt x="7418" y="11529"/>
                    <a:pt x="9339" y="12588"/>
                  </a:cubicBezTo>
                  <a:cubicBezTo>
                    <a:pt x="10001" y="12920"/>
                    <a:pt x="10663" y="13184"/>
                    <a:pt x="11392" y="13251"/>
                  </a:cubicBezTo>
                  <a:cubicBezTo>
                    <a:pt x="11516" y="13268"/>
                    <a:pt x="11631" y="13277"/>
                    <a:pt x="11732" y="13277"/>
                  </a:cubicBezTo>
                  <a:cubicBezTo>
                    <a:pt x="12009" y="13277"/>
                    <a:pt x="12186" y="13215"/>
                    <a:pt x="12186" y="13118"/>
                  </a:cubicBezTo>
                  <a:cubicBezTo>
                    <a:pt x="12253" y="12986"/>
                    <a:pt x="11988" y="12787"/>
                    <a:pt x="11657" y="12456"/>
                  </a:cubicBezTo>
                  <a:cubicBezTo>
                    <a:pt x="11325" y="12191"/>
                    <a:pt x="10796" y="11860"/>
                    <a:pt x="10200" y="11330"/>
                  </a:cubicBezTo>
                  <a:cubicBezTo>
                    <a:pt x="8610" y="10005"/>
                    <a:pt x="7153" y="8548"/>
                    <a:pt x="5828" y="6959"/>
                  </a:cubicBezTo>
                  <a:cubicBezTo>
                    <a:pt x="4239" y="5104"/>
                    <a:pt x="2914" y="3382"/>
                    <a:pt x="1987" y="2058"/>
                  </a:cubicBezTo>
                  <a:cubicBezTo>
                    <a:pt x="1096" y="785"/>
                    <a:pt x="572" y="1"/>
                    <a:pt x="297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Google Shape;2927;p63"/>
            <p:cNvSpPr/>
            <p:nvPr/>
          </p:nvSpPr>
          <p:spPr>
            <a:xfrm>
              <a:off x="2928960" y="1466640"/>
              <a:ext cx="395280" cy="363240"/>
            </a:xfrm>
            <a:custGeom>
              <a:avLst/>
              <a:gdLst/>
              <a:ahLst/>
              <a:rect l="l" t="t" r="r" b="b"/>
              <a:pathLst>
                <a:path w="26626" h="24509">
                  <a:moveTo>
                    <a:pt x="13851" y="1"/>
                  </a:moveTo>
                  <a:cubicBezTo>
                    <a:pt x="13671" y="1"/>
                    <a:pt x="13578" y="23"/>
                    <a:pt x="13578" y="65"/>
                  </a:cubicBezTo>
                  <a:cubicBezTo>
                    <a:pt x="13512" y="263"/>
                    <a:pt x="14373" y="528"/>
                    <a:pt x="15896" y="1124"/>
                  </a:cubicBezTo>
                  <a:cubicBezTo>
                    <a:pt x="16823" y="1522"/>
                    <a:pt x="17750" y="1919"/>
                    <a:pt x="18611" y="2383"/>
                  </a:cubicBezTo>
                  <a:cubicBezTo>
                    <a:pt x="19737" y="2979"/>
                    <a:pt x="20797" y="3707"/>
                    <a:pt x="21724" y="4568"/>
                  </a:cubicBezTo>
                  <a:cubicBezTo>
                    <a:pt x="22850" y="5628"/>
                    <a:pt x="23645" y="6953"/>
                    <a:pt x="24175" y="8343"/>
                  </a:cubicBezTo>
                  <a:cubicBezTo>
                    <a:pt x="24440" y="9138"/>
                    <a:pt x="24638" y="9933"/>
                    <a:pt x="24638" y="10728"/>
                  </a:cubicBezTo>
                  <a:cubicBezTo>
                    <a:pt x="24705" y="11589"/>
                    <a:pt x="24638" y="12516"/>
                    <a:pt x="24440" y="13377"/>
                  </a:cubicBezTo>
                  <a:cubicBezTo>
                    <a:pt x="24307" y="14238"/>
                    <a:pt x="23976" y="15165"/>
                    <a:pt x="23579" y="15960"/>
                  </a:cubicBezTo>
                  <a:cubicBezTo>
                    <a:pt x="23181" y="16887"/>
                    <a:pt x="22651" y="17748"/>
                    <a:pt x="22055" y="18476"/>
                  </a:cubicBezTo>
                  <a:cubicBezTo>
                    <a:pt x="20863" y="20066"/>
                    <a:pt x="19141" y="21258"/>
                    <a:pt x="17221" y="21920"/>
                  </a:cubicBezTo>
                  <a:cubicBezTo>
                    <a:pt x="16051" y="22283"/>
                    <a:pt x="14808" y="22450"/>
                    <a:pt x="13566" y="22450"/>
                  </a:cubicBezTo>
                  <a:cubicBezTo>
                    <a:pt x="12768" y="22450"/>
                    <a:pt x="11971" y="22381"/>
                    <a:pt x="11194" y="22252"/>
                  </a:cubicBezTo>
                  <a:cubicBezTo>
                    <a:pt x="9273" y="21920"/>
                    <a:pt x="7551" y="21059"/>
                    <a:pt x="6028" y="19934"/>
                  </a:cubicBezTo>
                  <a:cubicBezTo>
                    <a:pt x="4703" y="18874"/>
                    <a:pt x="3577" y="17483"/>
                    <a:pt x="2849" y="15894"/>
                  </a:cubicBezTo>
                  <a:cubicBezTo>
                    <a:pt x="2187" y="14569"/>
                    <a:pt x="1922" y="13046"/>
                    <a:pt x="1922" y="11589"/>
                  </a:cubicBezTo>
                  <a:cubicBezTo>
                    <a:pt x="2054" y="9337"/>
                    <a:pt x="2783" y="7151"/>
                    <a:pt x="4107" y="5297"/>
                  </a:cubicBezTo>
                  <a:cubicBezTo>
                    <a:pt x="5034" y="4038"/>
                    <a:pt x="5697" y="3310"/>
                    <a:pt x="5564" y="3177"/>
                  </a:cubicBezTo>
                  <a:cubicBezTo>
                    <a:pt x="5556" y="3173"/>
                    <a:pt x="5545" y="3171"/>
                    <a:pt x="5532" y="3171"/>
                  </a:cubicBezTo>
                  <a:cubicBezTo>
                    <a:pt x="5332" y="3171"/>
                    <a:pt x="4564" y="3652"/>
                    <a:pt x="3445" y="4833"/>
                  </a:cubicBezTo>
                  <a:cubicBezTo>
                    <a:pt x="2716" y="5562"/>
                    <a:pt x="2120" y="6423"/>
                    <a:pt x="1657" y="7350"/>
                  </a:cubicBezTo>
                  <a:cubicBezTo>
                    <a:pt x="200" y="10198"/>
                    <a:pt x="1" y="13575"/>
                    <a:pt x="1259" y="16556"/>
                  </a:cubicBezTo>
                  <a:cubicBezTo>
                    <a:pt x="2054" y="18476"/>
                    <a:pt x="3312" y="20066"/>
                    <a:pt x="4836" y="21391"/>
                  </a:cubicBezTo>
                  <a:cubicBezTo>
                    <a:pt x="6558" y="22781"/>
                    <a:pt x="8611" y="23775"/>
                    <a:pt x="10796" y="24238"/>
                  </a:cubicBezTo>
                  <a:cubicBezTo>
                    <a:pt x="11724" y="24419"/>
                    <a:pt x="12651" y="24509"/>
                    <a:pt x="13574" y="24509"/>
                  </a:cubicBezTo>
                  <a:cubicBezTo>
                    <a:pt x="15025" y="24509"/>
                    <a:pt x="16466" y="24286"/>
                    <a:pt x="17883" y="23841"/>
                  </a:cubicBezTo>
                  <a:cubicBezTo>
                    <a:pt x="20201" y="23113"/>
                    <a:pt x="22188" y="21655"/>
                    <a:pt x="23645" y="19735"/>
                  </a:cubicBezTo>
                  <a:cubicBezTo>
                    <a:pt x="25036" y="17947"/>
                    <a:pt x="25963" y="15894"/>
                    <a:pt x="26360" y="13708"/>
                  </a:cubicBezTo>
                  <a:cubicBezTo>
                    <a:pt x="26559" y="12714"/>
                    <a:pt x="26625" y="11655"/>
                    <a:pt x="26493" y="10595"/>
                  </a:cubicBezTo>
                  <a:cubicBezTo>
                    <a:pt x="26427" y="9602"/>
                    <a:pt x="26162" y="8608"/>
                    <a:pt x="25764" y="7747"/>
                  </a:cubicBezTo>
                  <a:cubicBezTo>
                    <a:pt x="25102" y="6092"/>
                    <a:pt x="24108" y="4634"/>
                    <a:pt x="22718" y="3509"/>
                  </a:cubicBezTo>
                  <a:cubicBezTo>
                    <a:pt x="21658" y="2581"/>
                    <a:pt x="20466" y="1853"/>
                    <a:pt x="19141" y="1323"/>
                  </a:cubicBezTo>
                  <a:cubicBezTo>
                    <a:pt x="18214" y="926"/>
                    <a:pt x="17221" y="595"/>
                    <a:pt x="16161" y="330"/>
                  </a:cubicBezTo>
                  <a:cubicBezTo>
                    <a:pt x="15029" y="103"/>
                    <a:pt x="14238" y="1"/>
                    <a:pt x="13851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Google Shape;2928;p63"/>
            <p:cNvSpPr/>
            <p:nvPr/>
          </p:nvSpPr>
          <p:spPr>
            <a:xfrm>
              <a:off x="2938320" y="1447560"/>
              <a:ext cx="384120" cy="255600"/>
            </a:xfrm>
            <a:custGeom>
              <a:avLst/>
              <a:gdLst/>
              <a:ahLst/>
              <a:rect l="l" t="t" r="r" b="b"/>
              <a:pathLst>
                <a:path w="25830" h="17268">
                  <a:moveTo>
                    <a:pt x="12440" y="0"/>
                  </a:moveTo>
                  <a:cubicBezTo>
                    <a:pt x="11533" y="0"/>
                    <a:pt x="10623" y="103"/>
                    <a:pt x="9736" y="296"/>
                  </a:cubicBezTo>
                  <a:cubicBezTo>
                    <a:pt x="8279" y="627"/>
                    <a:pt x="6954" y="1157"/>
                    <a:pt x="5762" y="1952"/>
                  </a:cubicBezTo>
                  <a:cubicBezTo>
                    <a:pt x="3643" y="3276"/>
                    <a:pt x="2053" y="5197"/>
                    <a:pt x="994" y="7449"/>
                  </a:cubicBezTo>
                  <a:cubicBezTo>
                    <a:pt x="331" y="8906"/>
                    <a:pt x="0" y="10495"/>
                    <a:pt x="66" y="12151"/>
                  </a:cubicBezTo>
                  <a:cubicBezTo>
                    <a:pt x="133" y="13277"/>
                    <a:pt x="331" y="13873"/>
                    <a:pt x="464" y="13873"/>
                  </a:cubicBezTo>
                  <a:cubicBezTo>
                    <a:pt x="596" y="13873"/>
                    <a:pt x="729" y="13211"/>
                    <a:pt x="861" y="12151"/>
                  </a:cubicBezTo>
                  <a:cubicBezTo>
                    <a:pt x="1126" y="10760"/>
                    <a:pt x="1590" y="9369"/>
                    <a:pt x="2318" y="8111"/>
                  </a:cubicBezTo>
                  <a:cubicBezTo>
                    <a:pt x="3378" y="6257"/>
                    <a:pt x="4901" y="4667"/>
                    <a:pt x="6756" y="3607"/>
                  </a:cubicBezTo>
                  <a:cubicBezTo>
                    <a:pt x="7815" y="3011"/>
                    <a:pt x="8941" y="2548"/>
                    <a:pt x="10133" y="2283"/>
                  </a:cubicBezTo>
                  <a:cubicBezTo>
                    <a:pt x="10808" y="2141"/>
                    <a:pt x="11501" y="2075"/>
                    <a:pt x="12203" y="2075"/>
                  </a:cubicBezTo>
                  <a:cubicBezTo>
                    <a:pt x="12811" y="2075"/>
                    <a:pt x="13426" y="2124"/>
                    <a:pt x="14041" y="2217"/>
                  </a:cubicBezTo>
                  <a:cubicBezTo>
                    <a:pt x="15299" y="2415"/>
                    <a:pt x="16558" y="2945"/>
                    <a:pt x="17750" y="3607"/>
                  </a:cubicBezTo>
                  <a:cubicBezTo>
                    <a:pt x="18809" y="4204"/>
                    <a:pt x="19803" y="4998"/>
                    <a:pt x="20730" y="5859"/>
                  </a:cubicBezTo>
                  <a:cubicBezTo>
                    <a:pt x="22187" y="7383"/>
                    <a:pt x="23379" y="9237"/>
                    <a:pt x="24042" y="11290"/>
                  </a:cubicBezTo>
                  <a:cubicBezTo>
                    <a:pt x="24505" y="12681"/>
                    <a:pt x="24704" y="14138"/>
                    <a:pt x="24571" y="15595"/>
                  </a:cubicBezTo>
                  <a:cubicBezTo>
                    <a:pt x="24638" y="16125"/>
                    <a:pt x="24571" y="16522"/>
                    <a:pt x="24505" y="16787"/>
                  </a:cubicBezTo>
                  <a:cubicBezTo>
                    <a:pt x="24505" y="17052"/>
                    <a:pt x="24571" y="17251"/>
                    <a:pt x="24638" y="17251"/>
                  </a:cubicBezTo>
                  <a:cubicBezTo>
                    <a:pt x="24649" y="17262"/>
                    <a:pt x="24662" y="17268"/>
                    <a:pt x="24677" y="17268"/>
                  </a:cubicBezTo>
                  <a:cubicBezTo>
                    <a:pt x="24749" y="17268"/>
                    <a:pt x="24859" y="17139"/>
                    <a:pt x="24969" y="16920"/>
                  </a:cubicBezTo>
                  <a:cubicBezTo>
                    <a:pt x="25167" y="16522"/>
                    <a:pt x="25300" y="16125"/>
                    <a:pt x="25432" y="15661"/>
                  </a:cubicBezTo>
                  <a:cubicBezTo>
                    <a:pt x="25830" y="14138"/>
                    <a:pt x="25830" y="12482"/>
                    <a:pt x="25432" y="10893"/>
                  </a:cubicBezTo>
                  <a:cubicBezTo>
                    <a:pt x="24903" y="8508"/>
                    <a:pt x="23710" y="6323"/>
                    <a:pt x="22055" y="4535"/>
                  </a:cubicBezTo>
                  <a:cubicBezTo>
                    <a:pt x="21127" y="3475"/>
                    <a:pt x="20002" y="2548"/>
                    <a:pt x="18743" y="1819"/>
                  </a:cubicBezTo>
                  <a:cubicBezTo>
                    <a:pt x="17419" y="1025"/>
                    <a:pt x="15962" y="428"/>
                    <a:pt x="14372" y="164"/>
                  </a:cubicBezTo>
                  <a:cubicBezTo>
                    <a:pt x="13736" y="53"/>
                    <a:pt x="13089" y="0"/>
                    <a:pt x="12440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Google Shape;2929;p63"/>
            <p:cNvSpPr/>
            <p:nvPr/>
          </p:nvSpPr>
          <p:spPr>
            <a:xfrm>
              <a:off x="3300480" y="1523880"/>
              <a:ext cx="212760" cy="163440"/>
            </a:xfrm>
            <a:custGeom>
              <a:avLst/>
              <a:gdLst/>
              <a:ahLst/>
              <a:rect l="l" t="t" r="r" b="b"/>
              <a:pathLst>
                <a:path w="14373" h="10999">
                  <a:moveTo>
                    <a:pt x="14071" y="0"/>
                  </a:moveTo>
                  <a:cubicBezTo>
                    <a:pt x="13737" y="0"/>
                    <a:pt x="13210" y="842"/>
                    <a:pt x="12253" y="1991"/>
                  </a:cubicBezTo>
                  <a:cubicBezTo>
                    <a:pt x="10862" y="3514"/>
                    <a:pt x="9339" y="4971"/>
                    <a:pt x="7749" y="6230"/>
                  </a:cubicBezTo>
                  <a:cubicBezTo>
                    <a:pt x="6094" y="7554"/>
                    <a:pt x="4372" y="8614"/>
                    <a:pt x="2517" y="9475"/>
                  </a:cubicBezTo>
                  <a:cubicBezTo>
                    <a:pt x="2120" y="9607"/>
                    <a:pt x="1789" y="9740"/>
                    <a:pt x="1524" y="9806"/>
                  </a:cubicBezTo>
                  <a:cubicBezTo>
                    <a:pt x="1259" y="9872"/>
                    <a:pt x="994" y="10005"/>
                    <a:pt x="795" y="10005"/>
                  </a:cubicBezTo>
                  <a:cubicBezTo>
                    <a:pt x="332" y="10137"/>
                    <a:pt x="67" y="10203"/>
                    <a:pt x="67" y="10402"/>
                  </a:cubicBezTo>
                  <a:cubicBezTo>
                    <a:pt x="0" y="10534"/>
                    <a:pt x="199" y="10667"/>
                    <a:pt x="729" y="10866"/>
                  </a:cubicBezTo>
                  <a:cubicBezTo>
                    <a:pt x="1060" y="10932"/>
                    <a:pt x="1325" y="10998"/>
                    <a:pt x="1656" y="10998"/>
                  </a:cubicBezTo>
                  <a:cubicBezTo>
                    <a:pt x="2054" y="10998"/>
                    <a:pt x="2517" y="10932"/>
                    <a:pt x="2915" y="10866"/>
                  </a:cubicBezTo>
                  <a:cubicBezTo>
                    <a:pt x="5166" y="10402"/>
                    <a:pt x="7219" y="9342"/>
                    <a:pt x="9008" y="7885"/>
                  </a:cubicBezTo>
                  <a:cubicBezTo>
                    <a:pt x="10862" y="6494"/>
                    <a:pt x="12385" y="4772"/>
                    <a:pt x="13445" y="2786"/>
                  </a:cubicBezTo>
                  <a:cubicBezTo>
                    <a:pt x="14306" y="1196"/>
                    <a:pt x="14372" y="70"/>
                    <a:pt x="14107" y="4"/>
                  </a:cubicBezTo>
                  <a:cubicBezTo>
                    <a:pt x="14095" y="2"/>
                    <a:pt x="14083" y="0"/>
                    <a:pt x="14071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2360" bIns="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Google Shape;2930;p63"/>
            <p:cNvSpPr/>
            <p:nvPr/>
          </p:nvSpPr>
          <p:spPr>
            <a:xfrm>
              <a:off x="2706480" y="1519200"/>
              <a:ext cx="244440" cy="93600"/>
            </a:xfrm>
            <a:custGeom>
              <a:avLst/>
              <a:gdLst/>
              <a:ahLst/>
              <a:rect l="l" t="t" r="r" b="b"/>
              <a:pathLst>
                <a:path w="16492" h="6241">
                  <a:moveTo>
                    <a:pt x="6768" y="0"/>
                  </a:moveTo>
                  <a:cubicBezTo>
                    <a:pt x="5321" y="0"/>
                    <a:pt x="3892" y="233"/>
                    <a:pt x="2517" y="650"/>
                  </a:cubicBezTo>
                  <a:cubicBezTo>
                    <a:pt x="861" y="1180"/>
                    <a:pt x="0" y="1908"/>
                    <a:pt x="133" y="2240"/>
                  </a:cubicBezTo>
                  <a:cubicBezTo>
                    <a:pt x="174" y="2322"/>
                    <a:pt x="298" y="2353"/>
                    <a:pt x="496" y="2353"/>
                  </a:cubicBezTo>
                  <a:cubicBezTo>
                    <a:pt x="938" y="2353"/>
                    <a:pt x="1751" y="2199"/>
                    <a:pt x="2848" y="2107"/>
                  </a:cubicBezTo>
                  <a:cubicBezTo>
                    <a:pt x="3593" y="2033"/>
                    <a:pt x="4357" y="1995"/>
                    <a:pt x="5125" y="1995"/>
                  </a:cubicBezTo>
                  <a:cubicBezTo>
                    <a:pt x="6406" y="1995"/>
                    <a:pt x="7699" y="2099"/>
                    <a:pt x="8941" y="2306"/>
                  </a:cubicBezTo>
                  <a:cubicBezTo>
                    <a:pt x="10928" y="2571"/>
                    <a:pt x="12782" y="3366"/>
                    <a:pt x="14372" y="4558"/>
                  </a:cubicBezTo>
                  <a:cubicBezTo>
                    <a:pt x="15454" y="5399"/>
                    <a:pt x="15990" y="6241"/>
                    <a:pt x="16328" y="6241"/>
                  </a:cubicBezTo>
                  <a:cubicBezTo>
                    <a:pt x="16362" y="6241"/>
                    <a:pt x="16394" y="6232"/>
                    <a:pt x="16425" y="6213"/>
                  </a:cubicBezTo>
                  <a:cubicBezTo>
                    <a:pt x="16491" y="6213"/>
                    <a:pt x="16491" y="5882"/>
                    <a:pt x="16425" y="5352"/>
                  </a:cubicBezTo>
                  <a:cubicBezTo>
                    <a:pt x="16359" y="5087"/>
                    <a:pt x="16226" y="4823"/>
                    <a:pt x="16094" y="4558"/>
                  </a:cubicBezTo>
                  <a:cubicBezTo>
                    <a:pt x="15895" y="4160"/>
                    <a:pt x="15696" y="3829"/>
                    <a:pt x="15432" y="3498"/>
                  </a:cubicBezTo>
                  <a:cubicBezTo>
                    <a:pt x="15100" y="3101"/>
                    <a:pt x="14769" y="2769"/>
                    <a:pt x="14372" y="2438"/>
                  </a:cubicBezTo>
                  <a:cubicBezTo>
                    <a:pt x="14173" y="2306"/>
                    <a:pt x="13975" y="2107"/>
                    <a:pt x="13710" y="1908"/>
                  </a:cubicBezTo>
                  <a:lnTo>
                    <a:pt x="12981" y="1445"/>
                  </a:lnTo>
                  <a:cubicBezTo>
                    <a:pt x="11789" y="849"/>
                    <a:pt x="10597" y="451"/>
                    <a:pt x="9338" y="253"/>
                  </a:cubicBezTo>
                  <a:cubicBezTo>
                    <a:pt x="8479" y="81"/>
                    <a:pt x="7620" y="0"/>
                    <a:pt x="6768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520" bIns="2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Google Shape;2931;p63"/>
            <p:cNvSpPr/>
            <p:nvPr/>
          </p:nvSpPr>
          <p:spPr>
            <a:xfrm>
              <a:off x="2235600" y="1718280"/>
              <a:ext cx="115920" cy="110880"/>
            </a:xfrm>
            <a:custGeom>
              <a:avLst/>
              <a:gdLst/>
              <a:ahLst/>
              <a:rect l="l" t="t" r="r" b="b"/>
              <a:pathLst>
                <a:path w="7816" h="7470">
                  <a:moveTo>
                    <a:pt x="994" y="0"/>
                  </a:moveTo>
                  <a:cubicBezTo>
                    <a:pt x="994" y="0"/>
                    <a:pt x="0" y="6358"/>
                    <a:pt x="1193" y="7352"/>
                  </a:cubicBezTo>
                  <a:cubicBezTo>
                    <a:pt x="1283" y="7432"/>
                    <a:pt x="1399" y="7470"/>
                    <a:pt x="1535" y="7470"/>
                  </a:cubicBezTo>
                  <a:cubicBezTo>
                    <a:pt x="3181" y="7470"/>
                    <a:pt x="7816" y="1987"/>
                    <a:pt x="7816" y="1987"/>
                  </a:cubicBezTo>
                  <a:lnTo>
                    <a:pt x="994" y="0"/>
                  </a:ln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9800" bIns="19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Google Shape;2932;p63"/>
            <p:cNvSpPr/>
            <p:nvPr/>
          </p:nvSpPr>
          <p:spPr>
            <a:xfrm>
              <a:off x="3043800" y="1915200"/>
              <a:ext cx="99360" cy="122040"/>
            </a:xfrm>
            <a:custGeom>
              <a:avLst/>
              <a:gdLst/>
              <a:ahLst/>
              <a:rect l="l" t="t" r="r" b="b"/>
              <a:pathLst>
                <a:path w="6690" h="8215">
                  <a:moveTo>
                    <a:pt x="1" y="0"/>
                  </a:moveTo>
                  <a:cubicBezTo>
                    <a:pt x="1" y="0"/>
                    <a:pt x="522" y="8214"/>
                    <a:pt x="2083" y="8214"/>
                  </a:cubicBezTo>
                  <a:cubicBezTo>
                    <a:pt x="2095" y="8214"/>
                    <a:pt x="2108" y="8214"/>
                    <a:pt x="2120" y="8213"/>
                  </a:cubicBezTo>
                  <a:cubicBezTo>
                    <a:pt x="3710" y="8146"/>
                    <a:pt x="6690" y="2384"/>
                    <a:pt x="6690" y="238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Google Shape;2933;p63"/>
            <p:cNvSpPr/>
            <p:nvPr/>
          </p:nvSpPr>
          <p:spPr>
            <a:xfrm>
              <a:off x="2174760" y="1589400"/>
              <a:ext cx="1202400" cy="386640"/>
            </a:xfrm>
            <a:custGeom>
              <a:avLst/>
              <a:gdLst/>
              <a:ahLst/>
              <a:rect l="l" t="t" r="r" b="b"/>
              <a:pathLst>
                <a:path w="80933" h="26037">
                  <a:moveTo>
                    <a:pt x="66" y="0"/>
                  </a:moveTo>
                  <a:cubicBezTo>
                    <a:pt x="0" y="0"/>
                    <a:pt x="0" y="331"/>
                    <a:pt x="0" y="927"/>
                  </a:cubicBezTo>
                  <a:cubicBezTo>
                    <a:pt x="0" y="1855"/>
                    <a:pt x="133" y="2716"/>
                    <a:pt x="331" y="3643"/>
                  </a:cubicBezTo>
                  <a:cubicBezTo>
                    <a:pt x="795" y="5034"/>
                    <a:pt x="1524" y="6292"/>
                    <a:pt x="2517" y="7352"/>
                  </a:cubicBezTo>
                  <a:cubicBezTo>
                    <a:pt x="3908" y="8676"/>
                    <a:pt x="5564" y="9736"/>
                    <a:pt x="7352" y="10332"/>
                  </a:cubicBezTo>
                  <a:cubicBezTo>
                    <a:pt x="9537" y="11060"/>
                    <a:pt x="11723" y="11657"/>
                    <a:pt x="13975" y="11988"/>
                  </a:cubicBezTo>
                  <a:lnTo>
                    <a:pt x="17683" y="12650"/>
                  </a:lnTo>
                  <a:cubicBezTo>
                    <a:pt x="18942" y="12915"/>
                    <a:pt x="20266" y="13114"/>
                    <a:pt x="21591" y="13246"/>
                  </a:cubicBezTo>
                  <a:cubicBezTo>
                    <a:pt x="27088" y="13842"/>
                    <a:pt x="32982" y="13643"/>
                    <a:pt x="39009" y="14968"/>
                  </a:cubicBezTo>
                  <a:cubicBezTo>
                    <a:pt x="41923" y="15630"/>
                    <a:pt x="44771" y="16557"/>
                    <a:pt x="47553" y="17750"/>
                  </a:cubicBezTo>
                  <a:lnTo>
                    <a:pt x="49474" y="18611"/>
                  </a:lnTo>
                  <a:lnTo>
                    <a:pt x="51394" y="19538"/>
                  </a:lnTo>
                  <a:cubicBezTo>
                    <a:pt x="52653" y="20134"/>
                    <a:pt x="53911" y="20862"/>
                    <a:pt x="55169" y="21392"/>
                  </a:cubicBezTo>
                  <a:cubicBezTo>
                    <a:pt x="59540" y="23512"/>
                    <a:pt x="64177" y="24969"/>
                    <a:pt x="69011" y="25697"/>
                  </a:cubicBezTo>
                  <a:cubicBezTo>
                    <a:pt x="70576" y="25924"/>
                    <a:pt x="72044" y="26036"/>
                    <a:pt x="73388" y="26036"/>
                  </a:cubicBezTo>
                  <a:cubicBezTo>
                    <a:pt x="75569" y="26036"/>
                    <a:pt x="77419" y="25741"/>
                    <a:pt x="78813" y="25167"/>
                  </a:cubicBezTo>
                  <a:cubicBezTo>
                    <a:pt x="79740" y="24902"/>
                    <a:pt x="80469" y="24174"/>
                    <a:pt x="80800" y="23313"/>
                  </a:cubicBezTo>
                  <a:cubicBezTo>
                    <a:pt x="80933" y="22651"/>
                    <a:pt x="80668" y="22319"/>
                    <a:pt x="80668" y="22319"/>
                  </a:cubicBezTo>
                  <a:cubicBezTo>
                    <a:pt x="80601" y="22319"/>
                    <a:pt x="80668" y="22651"/>
                    <a:pt x="80469" y="23180"/>
                  </a:cubicBezTo>
                  <a:cubicBezTo>
                    <a:pt x="80072" y="23909"/>
                    <a:pt x="79409" y="24439"/>
                    <a:pt x="78548" y="24637"/>
                  </a:cubicBezTo>
                  <a:cubicBezTo>
                    <a:pt x="77497" y="24976"/>
                    <a:pt x="76099" y="25159"/>
                    <a:pt x="74461" y="25159"/>
                  </a:cubicBezTo>
                  <a:cubicBezTo>
                    <a:pt x="72898" y="25159"/>
                    <a:pt x="71117" y="24993"/>
                    <a:pt x="69210" y="24637"/>
                  </a:cubicBezTo>
                  <a:cubicBezTo>
                    <a:pt x="64508" y="23710"/>
                    <a:pt x="60004" y="22187"/>
                    <a:pt x="55765" y="20068"/>
                  </a:cubicBezTo>
                  <a:cubicBezTo>
                    <a:pt x="54573" y="19472"/>
                    <a:pt x="53381" y="18876"/>
                    <a:pt x="52123" y="18213"/>
                  </a:cubicBezTo>
                  <a:lnTo>
                    <a:pt x="50202" y="17220"/>
                  </a:lnTo>
                  <a:lnTo>
                    <a:pt x="48215" y="16359"/>
                  </a:lnTo>
                  <a:cubicBezTo>
                    <a:pt x="45367" y="15100"/>
                    <a:pt x="42387" y="14107"/>
                    <a:pt x="39407" y="13445"/>
                  </a:cubicBezTo>
                  <a:cubicBezTo>
                    <a:pt x="33181" y="12054"/>
                    <a:pt x="27088" y="12253"/>
                    <a:pt x="21790" y="11789"/>
                  </a:cubicBezTo>
                  <a:cubicBezTo>
                    <a:pt x="20465" y="11657"/>
                    <a:pt x="19207" y="11524"/>
                    <a:pt x="17948" y="11325"/>
                  </a:cubicBezTo>
                  <a:lnTo>
                    <a:pt x="14240" y="10729"/>
                  </a:lnTo>
                  <a:cubicBezTo>
                    <a:pt x="12054" y="10398"/>
                    <a:pt x="9935" y="9935"/>
                    <a:pt x="7815" y="9272"/>
                  </a:cubicBezTo>
                  <a:cubicBezTo>
                    <a:pt x="6093" y="8742"/>
                    <a:pt x="4570" y="7881"/>
                    <a:pt x="3245" y="6689"/>
                  </a:cubicBezTo>
                  <a:cubicBezTo>
                    <a:pt x="2252" y="5762"/>
                    <a:pt x="1524" y="4636"/>
                    <a:pt x="994" y="3378"/>
                  </a:cubicBezTo>
                  <a:cubicBezTo>
                    <a:pt x="729" y="2583"/>
                    <a:pt x="464" y="1788"/>
                    <a:pt x="331" y="927"/>
                  </a:cubicBezTo>
                  <a:cubicBezTo>
                    <a:pt x="199" y="331"/>
                    <a:pt x="133" y="0"/>
                    <a:pt x="66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Google Shape;2934;p63"/>
            <p:cNvSpPr/>
            <p:nvPr/>
          </p:nvSpPr>
          <p:spPr>
            <a:xfrm>
              <a:off x="2418480" y="1418400"/>
              <a:ext cx="238320" cy="203400"/>
            </a:xfrm>
            <a:custGeom>
              <a:avLst/>
              <a:gdLst/>
              <a:ahLst/>
              <a:rect l="l" t="t" r="r" b="b"/>
              <a:pathLst>
                <a:path w="16048" h="13706">
                  <a:moveTo>
                    <a:pt x="8224" y="1"/>
                  </a:moveTo>
                  <a:cubicBezTo>
                    <a:pt x="3674" y="1"/>
                    <a:pt x="1" y="4675"/>
                    <a:pt x="1941" y="9442"/>
                  </a:cubicBezTo>
                  <a:cubicBezTo>
                    <a:pt x="3077" y="12282"/>
                    <a:pt x="5662" y="13706"/>
                    <a:pt x="8251" y="13706"/>
                  </a:cubicBezTo>
                  <a:cubicBezTo>
                    <a:pt x="10795" y="13706"/>
                    <a:pt x="13343" y="12331"/>
                    <a:pt x="14524" y="9574"/>
                  </a:cubicBezTo>
                  <a:cubicBezTo>
                    <a:pt x="16048" y="6064"/>
                    <a:pt x="14392" y="2024"/>
                    <a:pt x="10948" y="567"/>
                  </a:cubicBezTo>
                  <a:cubicBezTo>
                    <a:pt x="10030" y="178"/>
                    <a:pt x="9110" y="1"/>
                    <a:pt x="8224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Google Shape;2935;p63"/>
            <p:cNvSpPr/>
            <p:nvPr/>
          </p:nvSpPr>
          <p:spPr>
            <a:xfrm>
              <a:off x="2545200" y="1504080"/>
              <a:ext cx="57600" cy="48600"/>
            </a:xfrm>
            <a:custGeom>
              <a:avLst/>
              <a:gdLst/>
              <a:ahLst/>
              <a:rect l="l" t="t" r="r" b="b"/>
              <a:pathLst>
                <a:path w="3878" h="3281">
                  <a:moveTo>
                    <a:pt x="1958" y="0"/>
                  </a:moveTo>
                  <a:cubicBezTo>
                    <a:pt x="894" y="0"/>
                    <a:pt x="0" y="1092"/>
                    <a:pt x="433" y="2229"/>
                  </a:cubicBezTo>
                  <a:cubicBezTo>
                    <a:pt x="735" y="2933"/>
                    <a:pt x="1376" y="3281"/>
                    <a:pt x="2013" y="3281"/>
                  </a:cubicBezTo>
                  <a:cubicBezTo>
                    <a:pt x="2634" y="3281"/>
                    <a:pt x="3251" y="2949"/>
                    <a:pt x="3546" y="2295"/>
                  </a:cubicBezTo>
                  <a:cubicBezTo>
                    <a:pt x="3877" y="1434"/>
                    <a:pt x="3480" y="507"/>
                    <a:pt x="2685" y="176"/>
                  </a:cubicBezTo>
                  <a:cubicBezTo>
                    <a:pt x="2443" y="55"/>
                    <a:pt x="2196" y="0"/>
                    <a:pt x="1958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2480" bIns="-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Google Shape;2936;p63"/>
            <p:cNvSpPr/>
            <p:nvPr/>
          </p:nvSpPr>
          <p:spPr>
            <a:xfrm>
              <a:off x="3008880" y="1541520"/>
              <a:ext cx="238320" cy="203400"/>
            </a:xfrm>
            <a:custGeom>
              <a:avLst/>
              <a:gdLst/>
              <a:ahLst/>
              <a:rect l="l" t="t" r="r" b="b"/>
              <a:pathLst>
                <a:path w="16048" h="13706">
                  <a:moveTo>
                    <a:pt x="8223" y="1"/>
                  </a:moveTo>
                  <a:cubicBezTo>
                    <a:pt x="3674" y="1"/>
                    <a:pt x="0" y="4675"/>
                    <a:pt x="1940" y="9442"/>
                  </a:cubicBezTo>
                  <a:cubicBezTo>
                    <a:pt x="3076" y="12281"/>
                    <a:pt x="5662" y="13706"/>
                    <a:pt x="8251" y="13706"/>
                  </a:cubicBezTo>
                  <a:cubicBezTo>
                    <a:pt x="10795" y="13706"/>
                    <a:pt x="13342" y="12331"/>
                    <a:pt x="14524" y="9574"/>
                  </a:cubicBezTo>
                  <a:cubicBezTo>
                    <a:pt x="16047" y="6064"/>
                    <a:pt x="14392" y="2024"/>
                    <a:pt x="10948" y="567"/>
                  </a:cubicBezTo>
                  <a:cubicBezTo>
                    <a:pt x="10030" y="178"/>
                    <a:pt x="9110" y="1"/>
                    <a:pt x="8223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Google Shape;2937;p63"/>
            <p:cNvSpPr/>
            <p:nvPr/>
          </p:nvSpPr>
          <p:spPr>
            <a:xfrm>
              <a:off x="3135600" y="1627200"/>
              <a:ext cx="57600" cy="48600"/>
            </a:xfrm>
            <a:custGeom>
              <a:avLst/>
              <a:gdLst/>
              <a:ahLst/>
              <a:rect l="l" t="t" r="r" b="b"/>
              <a:pathLst>
                <a:path w="3878" h="3282">
                  <a:moveTo>
                    <a:pt x="1959" y="1"/>
                  </a:moveTo>
                  <a:cubicBezTo>
                    <a:pt x="895" y="1"/>
                    <a:pt x="1" y="1093"/>
                    <a:pt x="434" y="2230"/>
                  </a:cubicBezTo>
                  <a:cubicBezTo>
                    <a:pt x="735" y="2934"/>
                    <a:pt x="1376" y="3281"/>
                    <a:pt x="2013" y="3281"/>
                  </a:cubicBezTo>
                  <a:cubicBezTo>
                    <a:pt x="2635" y="3281"/>
                    <a:pt x="3252" y="2950"/>
                    <a:pt x="3547" y="2296"/>
                  </a:cubicBezTo>
                  <a:cubicBezTo>
                    <a:pt x="3878" y="1435"/>
                    <a:pt x="3480" y="508"/>
                    <a:pt x="2686" y="177"/>
                  </a:cubicBezTo>
                  <a:cubicBezTo>
                    <a:pt x="2443" y="55"/>
                    <a:pt x="2197" y="1"/>
                    <a:pt x="1959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2480" bIns="-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0" name="Google Shape;2938;p63"/>
          <p:cNvSpPr/>
          <p:nvPr/>
        </p:nvSpPr>
        <p:spPr>
          <a:xfrm>
            <a:off x="2179800" y="2025720"/>
            <a:ext cx="5327640" cy="2133360"/>
          </a:xfrm>
          <a:prstGeom prst="roundRect">
            <a:avLst>
              <a:gd name="adj" fmla="val 7907"/>
            </a:avLst>
          </a:prstGeom>
          <a:solidFill>
            <a:srgbClr val="f86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2786040" y="2266920"/>
            <a:ext cx="41781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5f1e6"/>
                </a:solidFill>
                <a:latin typeface="Sriracha"/>
                <a:ea typeface="Sriracha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oogle Shape;2941;p63"/>
          <p:cNvGrpSpPr/>
          <p:nvPr/>
        </p:nvGrpSpPr>
        <p:grpSpPr>
          <a:xfrm>
            <a:off x="1887480" y="1967040"/>
            <a:ext cx="1003320" cy="1442880"/>
            <a:chOff x="1887480" y="1967040"/>
            <a:chExt cx="1003320" cy="1442880"/>
          </a:xfrm>
        </p:grpSpPr>
        <p:sp>
          <p:nvSpPr>
            <p:cNvPr id="1843" name="Google Shape;2942;p63"/>
            <p:cNvSpPr/>
            <p:nvPr/>
          </p:nvSpPr>
          <p:spPr>
            <a:xfrm>
              <a:off x="1887480" y="1967040"/>
              <a:ext cx="878040" cy="1405080"/>
            </a:xfrm>
            <a:custGeom>
              <a:avLst/>
              <a:gdLst/>
              <a:ahLst/>
              <a:rect l="l" t="t" r="r" b="b"/>
              <a:pathLst>
                <a:path w="59143" h="94543">
                  <a:moveTo>
                    <a:pt x="20222" y="1"/>
                  </a:moveTo>
                  <a:cubicBezTo>
                    <a:pt x="17162" y="1"/>
                    <a:pt x="13843" y="1402"/>
                    <a:pt x="10663" y="4869"/>
                  </a:cubicBezTo>
                  <a:cubicBezTo>
                    <a:pt x="5762" y="10168"/>
                    <a:pt x="4172" y="19241"/>
                    <a:pt x="3047" y="25069"/>
                  </a:cubicBezTo>
                  <a:cubicBezTo>
                    <a:pt x="0" y="41163"/>
                    <a:pt x="2980" y="59840"/>
                    <a:pt x="10067" y="74609"/>
                  </a:cubicBezTo>
                  <a:lnTo>
                    <a:pt x="12252" y="70701"/>
                  </a:lnTo>
                  <a:cubicBezTo>
                    <a:pt x="12252" y="70701"/>
                    <a:pt x="28228" y="94542"/>
                    <a:pt x="42393" y="94542"/>
                  </a:cubicBezTo>
                  <a:cubicBezTo>
                    <a:pt x="42991" y="94542"/>
                    <a:pt x="43585" y="94500"/>
                    <a:pt x="44175" y="94412"/>
                  </a:cubicBezTo>
                  <a:cubicBezTo>
                    <a:pt x="45301" y="94213"/>
                    <a:pt x="46427" y="93815"/>
                    <a:pt x="47420" y="93286"/>
                  </a:cubicBezTo>
                  <a:cubicBezTo>
                    <a:pt x="49407" y="92226"/>
                    <a:pt x="51129" y="90769"/>
                    <a:pt x="52586" y="89113"/>
                  </a:cubicBezTo>
                  <a:cubicBezTo>
                    <a:pt x="53315" y="88385"/>
                    <a:pt x="53977" y="87524"/>
                    <a:pt x="54573" y="86729"/>
                  </a:cubicBezTo>
                  <a:cubicBezTo>
                    <a:pt x="55831" y="84875"/>
                    <a:pt x="56891" y="82954"/>
                    <a:pt x="57620" y="80835"/>
                  </a:cubicBezTo>
                  <a:cubicBezTo>
                    <a:pt x="58216" y="79377"/>
                    <a:pt x="58547" y="77854"/>
                    <a:pt x="58812" y="76265"/>
                  </a:cubicBezTo>
                  <a:cubicBezTo>
                    <a:pt x="59143" y="74013"/>
                    <a:pt x="59010" y="71695"/>
                    <a:pt x="58481" y="69443"/>
                  </a:cubicBezTo>
                  <a:cubicBezTo>
                    <a:pt x="58083" y="67854"/>
                    <a:pt x="57421" y="66330"/>
                    <a:pt x="56626" y="64939"/>
                  </a:cubicBezTo>
                  <a:cubicBezTo>
                    <a:pt x="56163" y="64277"/>
                    <a:pt x="55633" y="63681"/>
                    <a:pt x="55037" y="63284"/>
                  </a:cubicBezTo>
                  <a:cubicBezTo>
                    <a:pt x="53116" y="62158"/>
                    <a:pt x="51262" y="61098"/>
                    <a:pt x="49275" y="60171"/>
                  </a:cubicBezTo>
                  <a:cubicBezTo>
                    <a:pt x="41592" y="55998"/>
                    <a:pt x="31194" y="47587"/>
                    <a:pt x="32386" y="13545"/>
                  </a:cubicBezTo>
                  <a:cubicBezTo>
                    <a:pt x="32569" y="6962"/>
                    <a:pt x="27040" y="1"/>
                    <a:pt x="20222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Google Shape;2943;p63"/>
            <p:cNvSpPr/>
            <p:nvPr/>
          </p:nvSpPr>
          <p:spPr>
            <a:xfrm>
              <a:off x="2592000" y="3291120"/>
              <a:ext cx="148320" cy="118800"/>
            </a:xfrm>
            <a:custGeom>
              <a:avLst/>
              <a:gdLst/>
              <a:ahLst/>
              <a:rect l="l" t="t" r="r" b="b"/>
              <a:pathLst>
                <a:path w="10001" h="8018">
                  <a:moveTo>
                    <a:pt x="5166" y="0"/>
                  </a:moveTo>
                  <a:cubicBezTo>
                    <a:pt x="3709" y="1656"/>
                    <a:pt x="1987" y="3047"/>
                    <a:pt x="0" y="4106"/>
                  </a:cubicBezTo>
                  <a:cubicBezTo>
                    <a:pt x="2001" y="5620"/>
                    <a:pt x="5635" y="8017"/>
                    <a:pt x="7659" y="8017"/>
                  </a:cubicBezTo>
                  <a:cubicBezTo>
                    <a:pt x="8114" y="8017"/>
                    <a:pt x="8487" y="7896"/>
                    <a:pt x="8743" y="7617"/>
                  </a:cubicBezTo>
                  <a:cubicBezTo>
                    <a:pt x="10001" y="6226"/>
                    <a:pt x="7286" y="2517"/>
                    <a:pt x="5166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7720" bIns="27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Google Shape;2944;p63"/>
            <p:cNvSpPr/>
            <p:nvPr/>
          </p:nvSpPr>
          <p:spPr>
            <a:xfrm>
              <a:off x="2698200" y="3168000"/>
              <a:ext cx="146520" cy="119520"/>
            </a:xfrm>
            <a:custGeom>
              <a:avLst/>
              <a:gdLst/>
              <a:ahLst/>
              <a:rect l="l" t="t" r="r" b="b"/>
              <a:pathLst>
                <a:path w="9869" h="8061">
                  <a:moveTo>
                    <a:pt x="3047" y="1"/>
                  </a:moveTo>
                  <a:cubicBezTo>
                    <a:pt x="2318" y="2120"/>
                    <a:pt x="1258" y="4041"/>
                    <a:pt x="0" y="5895"/>
                  </a:cubicBezTo>
                  <a:cubicBezTo>
                    <a:pt x="2059" y="6805"/>
                    <a:pt x="5227" y="8061"/>
                    <a:pt x="7198" y="8061"/>
                  </a:cubicBezTo>
                  <a:cubicBezTo>
                    <a:pt x="7954" y="8061"/>
                    <a:pt x="8533" y="7877"/>
                    <a:pt x="8809" y="7418"/>
                  </a:cubicBezTo>
                  <a:cubicBezTo>
                    <a:pt x="9868" y="5630"/>
                    <a:pt x="5563" y="1987"/>
                    <a:pt x="3047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8440" bIns="28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Google Shape;2945;p63"/>
            <p:cNvSpPr/>
            <p:nvPr/>
          </p:nvSpPr>
          <p:spPr>
            <a:xfrm>
              <a:off x="2756160" y="2999520"/>
              <a:ext cx="134640" cy="101880"/>
            </a:xfrm>
            <a:custGeom>
              <a:avLst/>
              <a:gdLst/>
              <a:ahLst/>
              <a:rect l="l" t="t" r="r" b="b"/>
              <a:pathLst>
                <a:path w="9075" h="6873">
                  <a:moveTo>
                    <a:pt x="1" y="0"/>
                  </a:moveTo>
                  <a:cubicBezTo>
                    <a:pt x="530" y="2186"/>
                    <a:pt x="663" y="4504"/>
                    <a:pt x="332" y="6822"/>
                  </a:cubicBezTo>
                  <a:cubicBezTo>
                    <a:pt x="1012" y="6850"/>
                    <a:pt x="1765" y="6873"/>
                    <a:pt x="2531" y="6873"/>
                  </a:cubicBezTo>
                  <a:cubicBezTo>
                    <a:pt x="5348" y="6873"/>
                    <a:pt x="8350" y="6572"/>
                    <a:pt x="8610" y="5166"/>
                  </a:cubicBezTo>
                  <a:cubicBezTo>
                    <a:pt x="9074" y="2981"/>
                    <a:pt x="2782" y="795"/>
                    <a:pt x="1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0800" bIns="10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Google Shape;2946;p63"/>
            <p:cNvSpPr/>
            <p:nvPr/>
          </p:nvSpPr>
          <p:spPr>
            <a:xfrm>
              <a:off x="2619360" y="2777760"/>
              <a:ext cx="131760" cy="129240"/>
            </a:xfrm>
            <a:custGeom>
              <a:avLst/>
              <a:gdLst/>
              <a:ahLst/>
              <a:rect l="l" t="t" r="r" b="b"/>
              <a:pathLst>
                <a:path w="8876" h="8720">
                  <a:moveTo>
                    <a:pt x="6522" y="0"/>
                  </a:moveTo>
                  <a:cubicBezTo>
                    <a:pt x="4720" y="0"/>
                    <a:pt x="1762" y="3376"/>
                    <a:pt x="1" y="5607"/>
                  </a:cubicBezTo>
                  <a:cubicBezTo>
                    <a:pt x="1988" y="6534"/>
                    <a:pt x="3908" y="7594"/>
                    <a:pt x="5763" y="8720"/>
                  </a:cubicBezTo>
                  <a:cubicBezTo>
                    <a:pt x="7021" y="5806"/>
                    <a:pt x="8875" y="1170"/>
                    <a:pt x="7153" y="176"/>
                  </a:cubicBezTo>
                  <a:cubicBezTo>
                    <a:pt x="6965" y="56"/>
                    <a:pt x="6753" y="0"/>
                    <a:pt x="6522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160" bIns="38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Google Shape;3353;p73"/>
          <p:cNvGrpSpPr/>
          <p:nvPr/>
        </p:nvGrpSpPr>
        <p:grpSpPr>
          <a:xfrm>
            <a:off x="6156360" y="3011400"/>
            <a:ext cx="1614600" cy="1623960"/>
            <a:chOff x="6156360" y="3011400"/>
            <a:chExt cx="1614600" cy="1623960"/>
          </a:xfrm>
        </p:grpSpPr>
        <p:sp>
          <p:nvSpPr>
            <p:cNvPr id="1849" name="Google Shape;3354;p73"/>
            <p:cNvSpPr/>
            <p:nvPr/>
          </p:nvSpPr>
          <p:spPr>
            <a:xfrm>
              <a:off x="6493680" y="4518000"/>
              <a:ext cx="939600" cy="117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920" bIns="-792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oogle Shape;3355;p73"/>
            <p:cNvGrpSpPr/>
            <p:nvPr/>
          </p:nvGrpSpPr>
          <p:grpSpPr>
            <a:xfrm>
              <a:off x="6156360" y="3011400"/>
              <a:ext cx="1614600" cy="1570320"/>
              <a:chOff x="6156360" y="3011400"/>
              <a:chExt cx="1614600" cy="1570320"/>
            </a:xfrm>
          </p:grpSpPr>
          <p:sp>
            <p:nvSpPr>
              <p:cNvPr id="1851" name="Google Shape;3356;p73"/>
              <p:cNvSpPr/>
              <p:nvPr/>
            </p:nvSpPr>
            <p:spPr>
              <a:xfrm>
                <a:off x="6748560" y="4332600"/>
                <a:ext cx="258480" cy="249120"/>
              </a:xfrm>
              <a:custGeom>
                <a:avLst/>
                <a:gdLst/>
                <a:ahLst/>
                <a:rect l="l" t="t" r="r" b="b"/>
                <a:pathLst>
                  <a:path w="13136" h="12687">
                    <a:moveTo>
                      <a:pt x="5271" y="0"/>
                    </a:moveTo>
                    <a:cubicBezTo>
                      <a:pt x="5253" y="0"/>
                      <a:pt x="5243" y="0"/>
                      <a:pt x="5243" y="0"/>
                    </a:cubicBezTo>
                    <a:cubicBezTo>
                      <a:pt x="686" y="3670"/>
                      <a:pt x="3509" y="10930"/>
                      <a:pt x="3509" y="10930"/>
                    </a:cubicBezTo>
                    <a:cubicBezTo>
                      <a:pt x="3509" y="10930"/>
                      <a:pt x="162" y="12220"/>
                      <a:pt x="41" y="12543"/>
                    </a:cubicBezTo>
                    <a:cubicBezTo>
                      <a:pt x="1" y="12650"/>
                      <a:pt x="659" y="12686"/>
                      <a:pt x="1555" y="12686"/>
                    </a:cubicBezTo>
                    <a:cubicBezTo>
                      <a:pt x="3348" y="12686"/>
                      <a:pt x="6090" y="12543"/>
                      <a:pt x="6090" y="12543"/>
                    </a:cubicBezTo>
                    <a:cubicBezTo>
                      <a:pt x="6090" y="12543"/>
                      <a:pt x="5526" y="4477"/>
                      <a:pt x="9397" y="2219"/>
                    </a:cubicBezTo>
                    <a:cubicBezTo>
                      <a:pt x="13135" y="38"/>
                      <a:pt x="5783" y="0"/>
                      <a:pt x="5271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Google Shape;3357;p73"/>
              <p:cNvSpPr/>
              <p:nvPr/>
            </p:nvSpPr>
            <p:spPr>
              <a:xfrm>
                <a:off x="6966000" y="4332600"/>
                <a:ext cx="258480" cy="249120"/>
              </a:xfrm>
              <a:custGeom>
                <a:avLst/>
                <a:gdLst/>
                <a:ahLst/>
                <a:rect l="l" t="t" r="r" b="b"/>
                <a:pathLst>
                  <a:path w="13135" h="12687">
                    <a:moveTo>
                      <a:pt x="7905" y="0"/>
                    </a:moveTo>
                    <a:cubicBezTo>
                      <a:pt x="7390" y="0"/>
                      <a:pt x="0" y="38"/>
                      <a:pt x="3738" y="2219"/>
                    </a:cubicBezTo>
                    <a:cubicBezTo>
                      <a:pt x="7650" y="4477"/>
                      <a:pt x="7045" y="12543"/>
                      <a:pt x="7045" y="12543"/>
                    </a:cubicBezTo>
                    <a:cubicBezTo>
                      <a:pt x="7045" y="12543"/>
                      <a:pt x="9788" y="12686"/>
                      <a:pt x="11580" y="12686"/>
                    </a:cubicBezTo>
                    <a:cubicBezTo>
                      <a:pt x="12476" y="12686"/>
                      <a:pt x="13135" y="12650"/>
                      <a:pt x="13095" y="12543"/>
                    </a:cubicBezTo>
                    <a:cubicBezTo>
                      <a:pt x="12974" y="12220"/>
                      <a:pt x="9626" y="10930"/>
                      <a:pt x="9626" y="10930"/>
                    </a:cubicBezTo>
                    <a:cubicBezTo>
                      <a:pt x="9626" y="10930"/>
                      <a:pt x="12449" y="3670"/>
                      <a:pt x="7933" y="0"/>
                    </a:cubicBezTo>
                    <a:cubicBezTo>
                      <a:pt x="7933" y="0"/>
                      <a:pt x="7923" y="0"/>
                      <a:pt x="7905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Google Shape;3358;p73"/>
              <p:cNvSpPr/>
              <p:nvPr/>
            </p:nvSpPr>
            <p:spPr>
              <a:xfrm>
                <a:off x="6156360" y="3557520"/>
                <a:ext cx="690480" cy="500040"/>
              </a:xfrm>
              <a:custGeom>
                <a:avLst/>
                <a:gdLst/>
                <a:ahLst/>
                <a:rect l="l" t="t" r="r" b="b"/>
                <a:pathLst>
                  <a:path w="35047" h="25397">
                    <a:moveTo>
                      <a:pt x="4880" y="1"/>
                    </a:moveTo>
                    <a:lnTo>
                      <a:pt x="4880" y="1"/>
                    </a:lnTo>
                    <a:cubicBezTo>
                      <a:pt x="3428" y="969"/>
                      <a:pt x="2541" y="2582"/>
                      <a:pt x="2541" y="4316"/>
                    </a:cubicBezTo>
                    <a:cubicBezTo>
                      <a:pt x="2541" y="6171"/>
                      <a:pt x="3388" y="7865"/>
                      <a:pt x="4880" y="8994"/>
                    </a:cubicBezTo>
                    <a:cubicBezTo>
                      <a:pt x="4746" y="9042"/>
                      <a:pt x="4595" y="9063"/>
                      <a:pt x="4435" y="9063"/>
                    </a:cubicBezTo>
                    <a:cubicBezTo>
                      <a:pt x="3774" y="9063"/>
                      <a:pt x="2955" y="8706"/>
                      <a:pt x="2501" y="8349"/>
                    </a:cubicBezTo>
                    <a:cubicBezTo>
                      <a:pt x="1331" y="7421"/>
                      <a:pt x="605" y="6050"/>
                      <a:pt x="565" y="4558"/>
                    </a:cubicBezTo>
                    <a:lnTo>
                      <a:pt x="565" y="4558"/>
                    </a:lnTo>
                    <a:cubicBezTo>
                      <a:pt x="0" y="7099"/>
                      <a:pt x="323" y="9962"/>
                      <a:pt x="2541" y="11333"/>
                    </a:cubicBezTo>
                    <a:cubicBezTo>
                      <a:pt x="3885" y="12149"/>
                      <a:pt x="5500" y="12608"/>
                      <a:pt x="6851" y="12608"/>
                    </a:cubicBezTo>
                    <a:cubicBezTo>
                      <a:pt x="7771" y="12608"/>
                      <a:pt x="8568" y="12396"/>
                      <a:pt x="9074" y="11938"/>
                    </a:cubicBezTo>
                    <a:cubicBezTo>
                      <a:pt x="11091" y="16092"/>
                      <a:pt x="15204" y="21133"/>
                      <a:pt x="19237" y="23351"/>
                    </a:cubicBezTo>
                    <a:cubicBezTo>
                      <a:pt x="21354" y="24555"/>
                      <a:pt x="23767" y="25396"/>
                      <a:pt x="26179" y="25396"/>
                    </a:cubicBezTo>
                    <a:cubicBezTo>
                      <a:pt x="26433" y="25396"/>
                      <a:pt x="26687" y="25387"/>
                      <a:pt x="26940" y="25368"/>
                    </a:cubicBezTo>
                    <a:cubicBezTo>
                      <a:pt x="29642" y="25166"/>
                      <a:pt x="32344" y="23755"/>
                      <a:pt x="-31982" y="21335"/>
                    </a:cubicBezTo>
                    <a:cubicBezTo>
                      <a:pt x="-30732" y="18915"/>
                      <a:pt x="-30490" y="16334"/>
                      <a:pt x="-32748" y="14882"/>
                    </a:cubicBezTo>
                    <a:cubicBezTo>
                      <a:pt x="30727" y="17262"/>
                      <a:pt x="27915" y="17971"/>
                      <a:pt x="25432" y="17971"/>
                    </a:cubicBezTo>
                    <a:cubicBezTo>
                      <a:pt x="24465" y="17971"/>
                      <a:pt x="23549" y="17864"/>
                      <a:pt x="22746" y="17705"/>
                    </a:cubicBezTo>
                    <a:cubicBezTo>
                      <a:pt x="18471" y="16818"/>
                      <a:pt x="13833" y="13430"/>
                      <a:pt x="13430" y="9075"/>
                    </a:cubicBezTo>
                    <a:cubicBezTo>
                      <a:pt x="14519" y="8510"/>
                      <a:pt x="15003" y="7744"/>
                      <a:pt x="15850" y="6857"/>
                    </a:cubicBezTo>
                    <a:cubicBezTo>
                      <a:pt x="16737" y="5970"/>
                      <a:pt x="17221" y="4800"/>
                      <a:pt x="17261" y="3550"/>
                    </a:cubicBezTo>
                    <a:cubicBezTo>
                      <a:pt x="17221" y="2300"/>
                      <a:pt x="16414" y="1170"/>
                      <a:pt x="15245" y="767"/>
                    </a:cubicBezTo>
                    <a:cubicBezTo>
                      <a:pt x="15245" y="2259"/>
                      <a:pt x="15124" y="3792"/>
                      <a:pt x="14035" y="4881"/>
                    </a:cubicBezTo>
                    <a:cubicBezTo>
                      <a:pt x="13439" y="5402"/>
                      <a:pt x="12705" y="5657"/>
                      <a:pt x="11973" y="5657"/>
                    </a:cubicBezTo>
                    <a:cubicBezTo>
                      <a:pt x="11119" y="5657"/>
                      <a:pt x="10268" y="5311"/>
                      <a:pt x="9639" y="4639"/>
                    </a:cubicBezTo>
                    <a:cubicBezTo>
                      <a:pt x="8590" y="3308"/>
                      <a:pt x="8550" y="1453"/>
                      <a:pt x="9558" y="82"/>
                    </a:cubicBezTo>
                    <a:lnTo>
                      <a:pt x="9558" y="82"/>
                    </a:lnTo>
                    <a:cubicBezTo>
                      <a:pt x="8107" y="404"/>
                      <a:pt x="6977" y="1533"/>
                      <a:pt x="6655" y="2985"/>
                    </a:cubicBezTo>
                    <a:cubicBezTo>
                      <a:pt x="6332" y="4477"/>
                      <a:pt x="6897" y="6050"/>
                      <a:pt x="8107" y="7018"/>
                    </a:cubicBezTo>
                    <a:cubicBezTo>
                      <a:pt x="6735" y="6696"/>
                      <a:pt x="5525" y="5405"/>
                      <a:pt x="4880" y="4114"/>
                    </a:cubicBezTo>
                    <a:cubicBezTo>
                      <a:pt x="4275" y="2824"/>
                      <a:pt x="4235" y="1332"/>
                      <a:pt x="4880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Google Shape;3359;p73"/>
              <p:cNvSpPr/>
              <p:nvPr/>
            </p:nvSpPr>
            <p:spPr>
              <a:xfrm>
                <a:off x="7155000" y="3176280"/>
                <a:ext cx="615960" cy="612720"/>
              </a:xfrm>
              <a:custGeom>
                <a:avLst/>
                <a:gdLst/>
                <a:ahLst/>
                <a:rect l="l" t="t" r="r" b="b"/>
                <a:pathLst>
                  <a:path w="31215" h="31084">
                    <a:moveTo>
                      <a:pt x="23915" y="0"/>
                    </a:moveTo>
                    <a:lnTo>
                      <a:pt x="23915" y="0"/>
                    </a:lnTo>
                    <a:cubicBezTo>
                      <a:pt x="24883" y="1089"/>
                      <a:pt x="25286" y="2541"/>
                      <a:pt x="25085" y="3952"/>
                    </a:cubicBezTo>
                    <a:cubicBezTo>
                      <a:pt x="24883" y="5364"/>
                      <a:pt x="24117" y="6937"/>
                      <a:pt x="22907" y="7663"/>
                    </a:cubicBezTo>
                    <a:cubicBezTo>
                      <a:pt x="23754" y="6372"/>
                      <a:pt x="23794" y="4719"/>
                      <a:pt x="23068" y="3388"/>
                    </a:cubicBezTo>
                    <a:cubicBezTo>
                      <a:pt x="22373" y="2217"/>
                      <a:pt x="21146" y="1510"/>
                      <a:pt x="19840" y="1510"/>
                    </a:cubicBezTo>
                    <a:cubicBezTo>
                      <a:pt x="19707" y="1510"/>
                      <a:pt x="19573" y="1518"/>
                      <a:pt x="19439" y="1533"/>
                    </a:cubicBezTo>
                    <a:cubicBezTo>
                      <a:pt x="20810" y="2501"/>
                      <a:pt x="21334" y="4315"/>
                      <a:pt x="20729" y="5888"/>
                    </a:cubicBezTo>
                    <a:cubicBezTo>
                      <a:pt x="20165" y="7017"/>
                      <a:pt x="19031" y="7687"/>
                      <a:pt x="17844" y="7687"/>
                    </a:cubicBezTo>
                    <a:cubicBezTo>
                      <a:pt x="17420" y="7687"/>
                      <a:pt x="16989" y="7601"/>
                      <a:pt x="16575" y="7421"/>
                    </a:cubicBezTo>
                    <a:cubicBezTo>
                      <a:pt x="15244" y="6735"/>
                      <a:pt x="14680" y="5324"/>
                      <a:pt x="14236" y="3872"/>
                    </a:cubicBezTo>
                    <a:cubicBezTo>
                      <a:pt x="13228" y="4598"/>
                      <a:pt x="12784" y="5929"/>
                      <a:pt x="13147" y="7138"/>
                    </a:cubicBezTo>
                    <a:cubicBezTo>
                      <a:pt x="13551" y="8308"/>
                      <a:pt x="14398" y="9276"/>
                      <a:pt x="15486" y="9841"/>
                    </a:cubicBezTo>
                    <a:cubicBezTo>
                      <a:pt x="16575" y="10445"/>
                      <a:pt x="17221" y="11010"/>
                      <a:pt x="18430" y="11252"/>
                    </a:cubicBezTo>
                    <a:cubicBezTo>
                      <a:pt x="19358" y="15527"/>
                      <a:pt x="15970" y="20165"/>
                      <a:pt x="12139" y="22262"/>
                    </a:cubicBezTo>
                    <a:cubicBezTo>
                      <a:pt x="10627" y="23102"/>
                      <a:pt x="8529" y="23871"/>
                      <a:pt x="6296" y="23871"/>
                    </a:cubicBezTo>
                    <a:cubicBezTo>
                      <a:pt x="4777" y="23871"/>
                      <a:pt x="3196" y="23515"/>
                      <a:pt x="1694" y="22585"/>
                    </a:cubicBezTo>
                    <a:lnTo>
                      <a:pt x="1694" y="22585"/>
                    </a:lnTo>
                    <a:cubicBezTo>
                      <a:pt x="0" y="24641"/>
                      <a:pt x="1008" y="27061"/>
                      <a:pt x="2904" y="28997"/>
                    </a:cubicBezTo>
                    <a:cubicBezTo>
                      <a:pt x="4317" y="30411"/>
                      <a:pt x="6337" y="31084"/>
                      <a:pt x="8360" y="31084"/>
                    </a:cubicBezTo>
                    <a:cubicBezTo>
                      <a:pt x="9049" y="31084"/>
                      <a:pt x="9739" y="31006"/>
                      <a:pt x="10405" y="30852"/>
                    </a:cubicBezTo>
                    <a:cubicBezTo>
                      <a:pt x="13026" y="30207"/>
                      <a:pt x="15325" y="28553"/>
                      <a:pt x="17180" y="26617"/>
                    </a:cubicBezTo>
                    <a:cubicBezTo>
                      <a:pt x="20326" y="23230"/>
                      <a:pt x="22786" y="17180"/>
                      <a:pt x="23472" y="12664"/>
                    </a:cubicBezTo>
                    <a:cubicBezTo>
                      <a:pt x="23760" y="12793"/>
                      <a:pt x="24091" y="12853"/>
                      <a:pt x="24450" y="12853"/>
                    </a:cubicBezTo>
                    <a:cubicBezTo>
                      <a:pt x="26000" y="12853"/>
                      <a:pt x="28073" y="11727"/>
                      <a:pt x="29481" y="10123"/>
                    </a:cubicBezTo>
                    <a:cubicBezTo>
                      <a:pt x="31215" y="8187"/>
                      <a:pt x="30650" y="5364"/>
                      <a:pt x="29360" y="3065"/>
                    </a:cubicBezTo>
                    <a:lnTo>
                      <a:pt x="29360" y="3065"/>
                    </a:lnTo>
                    <a:cubicBezTo>
                      <a:pt x="29763" y="4517"/>
                      <a:pt x="29481" y="6050"/>
                      <a:pt x="28634" y="7300"/>
                    </a:cubicBezTo>
                    <a:cubicBezTo>
                      <a:pt x="28230" y="7864"/>
                      <a:pt x="27262" y="8631"/>
                      <a:pt x="26577" y="8631"/>
                    </a:cubicBezTo>
                    <a:cubicBezTo>
                      <a:pt x="27666" y="7098"/>
                      <a:pt x="27988" y="5203"/>
                      <a:pt x="27464" y="3428"/>
                    </a:cubicBezTo>
                    <a:cubicBezTo>
                      <a:pt x="26900" y="1775"/>
                      <a:pt x="25609" y="484"/>
                      <a:pt x="23915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Google Shape;3360;p73"/>
              <p:cNvSpPr/>
              <p:nvPr/>
            </p:nvSpPr>
            <p:spPr>
              <a:xfrm>
                <a:off x="6712920" y="3174480"/>
                <a:ext cx="480960" cy="513720"/>
              </a:xfrm>
              <a:custGeom>
                <a:avLst/>
                <a:gdLst/>
                <a:ahLst/>
                <a:rect l="l" t="t" r="r" b="b"/>
                <a:pathLst>
                  <a:path w="24400" h="26066">
                    <a:moveTo>
                      <a:pt x="15133" y="0"/>
                    </a:moveTo>
                    <a:cubicBezTo>
                      <a:pt x="10919" y="0"/>
                      <a:pt x="6861" y="1515"/>
                      <a:pt x="3590" y="4228"/>
                    </a:cubicBezTo>
                    <a:cubicBezTo>
                      <a:pt x="2299" y="5317"/>
                      <a:pt x="243" y="6930"/>
                      <a:pt x="323" y="8825"/>
                    </a:cubicBezTo>
                    <a:cubicBezTo>
                      <a:pt x="444" y="11406"/>
                      <a:pt x="1332" y="13947"/>
                      <a:pt x="1372" y="16649"/>
                    </a:cubicBezTo>
                    <a:cubicBezTo>
                      <a:pt x="1412" y="19714"/>
                      <a:pt x="928" y="22779"/>
                      <a:pt x="1" y="25764"/>
                    </a:cubicBezTo>
                    <a:cubicBezTo>
                      <a:pt x="1204" y="25967"/>
                      <a:pt x="2406" y="26066"/>
                      <a:pt x="3595" y="26066"/>
                    </a:cubicBezTo>
                    <a:cubicBezTo>
                      <a:pt x="11619" y="26066"/>
                      <a:pt x="19099" y="21570"/>
                      <a:pt x="22787" y="14229"/>
                    </a:cubicBezTo>
                    <a:cubicBezTo>
                      <a:pt x="23835" y="12253"/>
                      <a:pt x="24400" y="10035"/>
                      <a:pt x="24400" y="7817"/>
                    </a:cubicBezTo>
                    <a:cubicBezTo>
                      <a:pt x="24400" y="5559"/>
                      <a:pt x="23432" y="3381"/>
                      <a:pt x="21738" y="1889"/>
                    </a:cubicBezTo>
                    <a:cubicBezTo>
                      <a:pt x="20246" y="639"/>
                      <a:pt x="18229" y="155"/>
                      <a:pt x="16213" y="34"/>
                    </a:cubicBezTo>
                    <a:cubicBezTo>
                      <a:pt x="15852" y="11"/>
                      <a:pt x="15492" y="0"/>
                      <a:pt x="15133" y="0"/>
                    </a:cubicBezTo>
                    <a:close/>
                  </a:path>
                </a:pathLst>
              </a:custGeom>
              <a:solidFill>
                <a:srgbClr val="7fc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Google Shape;3361;p73"/>
              <p:cNvSpPr/>
              <p:nvPr/>
            </p:nvSpPr>
            <p:spPr>
              <a:xfrm>
                <a:off x="6684840" y="3310200"/>
                <a:ext cx="402840" cy="163440"/>
              </a:xfrm>
              <a:custGeom>
                <a:avLst/>
                <a:gdLst/>
                <a:ahLst/>
                <a:rect l="l" t="t" r="r" b="b"/>
                <a:pathLst>
                  <a:path w="20448" h="8304">
                    <a:moveTo>
                      <a:pt x="20003" y="1"/>
                    </a:moveTo>
                    <a:lnTo>
                      <a:pt x="0" y="4114"/>
                    </a:lnTo>
                    <a:cubicBezTo>
                      <a:pt x="0" y="4114"/>
                      <a:pt x="2099" y="8272"/>
                      <a:pt x="3206" y="8272"/>
                    </a:cubicBezTo>
                    <a:cubicBezTo>
                      <a:pt x="3227" y="8272"/>
                      <a:pt x="3247" y="8271"/>
                      <a:pt x="3267" y="8268"/>
                    </a:cubicBezTo>
                    <a:cubicBezTo>
                      <a:pt x="4356" y="8107"/>
                      <a:pt x="5767" y="4114"/>
                      <a:pt x="5767" y="4114"/>
                    </a:cubicBezTo>
                    <a:cubicBezTo>
                      <a:pt x="5767" y="4114"/>
                      <a:pt x="7370" y="8303"/>
                      <a:pt x="9052" y="8303"/>
                    </a:cubicBezTo>
                    <a:cubicBezTo>
                      <a:pt x="9140" y="8303"/>
                      <a:pt x="9228" y="8292"/>
                      <a:pt x="9316" y="8268"/>
                    </a:cubicBezTo>
                    <a:cubicBezTo>
                      <a:pt x="11091" y="7784"/>
                      <a:pt x="10970" y="3348"/>
                      <a:pt x="10970" y="3348"/>
                    </a:cubicBezTo>
                    <a:cubicBezTo>
                      <a:pt x="10970" y="3348"/>
                      <a:pt x="13776" y="7221"/>
                      <a:pt x="14654" y="7221"/>
                    </a:cubicBezTo>
                    <a:cubicBezTo>
                      <a:pt x="14663" y="7221"/>
                      <a:pt x="14671" y="7220"/>
                      <a:pt x="14680" y="7219"/>
                    </a:cubicBezTo>
                    <a:cubicBezTo>
                      <a:pt x="15487" y="7098"/>
                      <a:pt x="15850" y="1896"/>
                      <a:pt x="15850" y="1896"/>
                    </a:cubicBezTo>
                    <a:cubicBezTo>
                      <a:pt x="15850" y="1896"/>
                      <a:pt x="18123" y="5698"/>
                      <a:pt x="19236" y="5698"/>
                    </a:cubicBezTo>
                    <a:cubicBezTo>
                      <a:pt x="19309" y="5698"/>
                      <a:pt x="19377" y="5681"/>
                      <a:pt x="19439" y="5647"/>
                    </a:cubicBezTo>
                    <a:cubicBezTo>
                      <a:pt x="20447" y="5082"/>
                      <a:pt x="20003" y="1"/>
                      <a:pt x="20003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2360" bIns="72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Google Shape;3362;p73"/>
              <p:cNvSpPr/>
              <p:nvPr/>
            </p:nvSpPr>
            <p:spPr>
              <a:xfrm>
                <a:off x="6753960" y="3543120"/>
                <a:ext cx="325800" cy="199800"/>
              </a:xfrm>
              <a:custGeom>
                <a:avLst/>
                <a:gdLst/>
                <a:ahLst/>
                <a:rect l="l" t="t" r="r" b="b"/>
                <a:pathLst>
                  <a:path w="16536" h="10137">
                    <a:moveTo>
                      <a:pt x="11837" y="1"/>
                    </a:moveTo>
                    <a:cubicBezTo>
                      <a:pt x="11813" y="1"/>
                      <a:pt x="11792" y="4"/>
                      <a:pt x="11777" y="11"/>
                    </a:cubicBezTo>
                    <a:cubicBezTo>
                      <a:pt x="11333" y="253"/>
                      <a:pt x="12342" y="3963"/>
                      <a:pt x="12342" y="3963"/>
                    </a:cubicBezTo>
                    <a:lnTo>
                      <a:pt x="10648" y="6181"/>
                    </a:lnTo>
                    <a:cubicBezTo>
                      <a:pt x="10648" y="6181"/>
                      <a:pt x="8274" y="1817"/>
                      <a:pt x="6921" y="1817"/>
                    </a:cubicBezTo>
                    <a:cubicBezTo>
                      <a:pt x="6885" y="1817"/>
                      <a:pt x="6851" y="1820"/>
                      <a:pt x="6816" y="1826"/>
                    </a:cubicBezTo>
                    <a:cubicBezTo>
                      <a:pt x="5526" y="2027"/>
                      <a:pt x="6816" y="6867"/>
                      <a:pt x="6816" y="6867"/>
                    </a:cubicBezTo>
                    <a:lnTo>
                      <a:pt x="4195" y="7552"/>
                    </a:lnTo>
                    <a:cubicBezTo>
                      <a:pt x="4195" y="7552"/>
                      <a:pt x="1856" y="2350"/>
                      <a:pt x="1170" y="2350"/>
                    </a:cubicBezTo>
                    <a:cubicBezTo>
                      <a:pt x="485" y="2350"/>
                      <a:pt x="1" y="6867"/>
                      <a:pt x="1" y="6867"/>
                    </a:cubicBezTo>
                    <a:cubicBezTo>
                      <a:pt x="1" y="6867"/>
                      <a:pt x="10161" y="10137"/>
                      <a:pt x="11091" y="10137"/>
                    </a:cubicBezTo>
                    <a:cubicBezTo>
                      <a:pt x="11107" y="10137"/>
                      <a:pt x="11121" y="10136"/>
                      <a:pt x="11132" y="10134"/>
                    </a:cubicBezTo>
                    <a:cubicBezTo>
                      <a:pt x="11696" y="10053"/>
                      <a:pt x="16536" y="2592"/>
                      <a:pt x="16536" y="2592"/>
                    </a:cubicBezTo>
                    <a:cubicBezTo>
                      <a:pt x="16536" y="2592"/>
                      <a:pt x="12517" y="1"/>
                      <a:pt x="11837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Google Shape;3363;p73"/>
              <p:cNvSpPr/>
              <p:nvPr/>
            </p:nvSpPr>
            <p:spPr>
              <a:xfrm>
                <a:off x="6642000" y="3011400"/>
                <a:ext cx="744480" cy="1395720"/>
              </a:xfrm>
              <a:custGeom>
                <a:avLst/>
                <a:gdLst/>
                <a:ahLst/>
                <a:rect l="l" t="t" r="r" b="b"/>
                <a:pathLst>
                  <a:path w="37789" h="70848">
                    <a:moveTo>
                      <a:pt x="18565" y="1"/>
                    </a:moveTo>
                    <a:cubicBezTo>
                      <a:pt x="12954" y="1"/>
                      <a:pt x="7316" y="2560"/>
                      <a:pt x="3670" y="7832"/>
                    </a:cubicBezTo>
                    <a:cubicBezTo>
                      <a:pt x="1170" y="11421"/>
                      <a:pt x="81" y="15857"/>
                      <a:pt x="0" y="20293"/>
                    </a:cubicBezTo>
                    <a:cubicBezTo>
                      <a:pt x="2559" y="21098"/>
                      <a:pt x="5186" y="21492"/>
                      <a:pt x="7793" y="21492"/>
                    </a:cubicBezTo>
                    <a:cubicBezTo>
                      <a:pt x="13939" y="21492"/>
                      <a:pt x="19977" y="19306"/>
                      <a:pt x="24762" y="15172"/>
                    </a:cubicBezTo>
                    <a:lnTo>
                      <a:pt x="24762" y="15172"/>
                    </a:lnTo>
                    <a:cubicBezTo>
                      <a:pt x="25206" y="21947"/>
                      <a:pt x="20891" y="28601"/>
                      <a:pt x="14680" y="31303"/>
                    </a:cubicBezTo>
                    <a:cubicBezTo>
                      <a:pt x="12563" y="32190"/>
                      <a:pt x="10315" y="32634"/>
                      <a:pt x="8071" y="32634"/>
                    </a:cubicBezTo>
                    <a:cubicBezTo>
                      <a:pt x="5828" y="32634"/>
                      <a:pt x="3590" y="32190"/>
                      <a:pt x="1493" y="31303"/>
                    </a:cubicBezTo>
                    <a:lnTo>
                      <a:pt x="1493" y="31303"/>
                    </a:lnTo>
                    <a:cubicBezTo>
                      <a:pt x="1614" y="31787"/>
                      <a:pt x="1735" y="32231"/>
                      <a:pt x="1856" y="32715"/>
                    </a:cubicBezTo>
                    <a:cubicBezTo>
                      <a:pt x="2864" y="36183"/>
                      <a:pt x="5082" y="39934"/>
                      <a:pt x="5001" y="43563"/>
                    </a:cubicBezTo>
                    <a:cubicBezTo>
                      <a:pt x="4921" y="48685"/>
                      <a:pt x="4154" y="53565"/>
                      <a:pt x="4679" y="58687"/>
                    </a:cubicBezTo>
                    <a:cubicBezTo>
                      <a:pt x="4961" y="61510"/>
                      <a:pt x="5485" y="64454"/>
                      <a:pt x="7219" y="66672"/>
                    </a:cubicBezTo>
                    <a:cubicBezTo>
                      <a:pt x="9437" y="69516"/>
                      <a:pt x="12893" y="70847"/>
                      <a:pt x="16382" y="70847"/>
                    </a:cubicBezTo>
                    <a:cubicBezTo>
                      <a:pt x="18732" y="70847"/>
                      <a:pt x="21097" y="70244"/>
                      <a:pt x="23109" y="69092"/>
                    </a:cubicBezTo>
                    <a:cubicBezTo>
                      <a:pt x="27787" y="66430"/>
                      <a:pt x="30610" y="61308"/>
                      <a:pt x="32546" y="56549"/>
                    </a:cubicBezTo>
                    <a:cubicBezTo>
                      <a:pt x="36821" y="46064"/>
                      <a:pt x="37789" y="33360"/>
                      <a:pt x="37345" y="22108"/>
                    </a:cubicBezTo>
                    <a:cubicBezTo>
                      <a:pt x="37144" y="17954"/>
                      <a:pt x="36660" y="13760"/>
                      <a:pt x="34804" y="10050"/>
                    </a:cubicBezTo>
                    <a:cubicBezTo>
                      <a:pt x="31516" y="3429"/>
                      <a:pt x="25058" y="1"/>
                      <a:pt x="18565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Google Shape;3364;p73"/>
              <p:cNvSpPr/>
              <p:nvPr/>
            </p:nvSpPr>
            <p:spPr>
              <a:xfrm>
                <a:off x="6690600" y="3202200"/>
                <a:ext cx="179640" cy="164160"/>
              </a:xfrm>
              <a:custGeom>
                <a:avLst/>
                <a:gdLst/>
                <a:ahLst/>
                <a:rect l="l" t="t" r="r" b="b"/>
                <a:pathLst>
                  <a:path w="9115" h="8330">
                    <a:moveTo>
                      <a:pt x="4557" y="0"/>
                    </a:moveTo>
                    <a:cubicBezTo>
                      <a:pt x="4238" y="0"/>
                      <a:pt x="3915" y="36"/>
                      <a:pt x="3590" y="112"/>
                    </a:cubicBezTo>
                    <a:cubicBezTo>
                      <a:pt x="1372" y="636"/>
                      <a:pt x="1" y="2894"/>
                      <a:pt x="525" y="5113"/>
                    </a:cubicBezTo>
                    <a:cubicBezTo>
                      <a:pt x="974" y="7046"/>
                      <a:pt x="2664" y="8329"/>
                      <a:pt x="4559" y="8329"/>
                    </a:cubicBezTo>
                    <a:cubicBezTo>
                      <a:pt x="4877" y="8329"/>
                      <a:pt x="5201" y="8293"/>
                      <a:pt x="5526" y="8218"/>
                    </a:cubicBezTo>
                    <a:cubicBezTo>
                      <a:pt x="7744" y="7694"/>
                      <a:pt x="9115" y="5435"/>
                      <a:pt x="8591" y="3217"/>
                    </a:cubicBezTo>
                    <a:cubicBezTo>
                      <a:pt x="8142" y="1283"/>
                      <a:pt x="6451" y="0"/>
                      <a:pt x="4557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3080" bIns="73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Google Shape;3365;p73"/>
              <p:cNvSpPr/>
              <p:nvPr/>
            </p:nvSpPr>
            <p:spPr>
              <a:xfrm>
                <a:off x="6734160" y="3256920"/>
                <a:ext cx="38880" cy="38880"/>
              </a:xfrm>
              <a:custGeom>
                <a:avLst/>
                <a:gdLst/>
                <a:ahLst/>
                <a:rect l="l" t="t" r="r" b="b"/>
                <a:pathLst>
                  <a:path w="1977" h="1977">
                    <a:moveTo>
                      <a:pt x="969" y="0"/>
                    </a:moveTo>
                    <a:cubicBezTo>
                      <a:pt x="444" y="0"/>
                      <a:pt x="1" y="404"/>
                      <a:pt x="1" y="968"/>
                    </a:cubicBezTo>
                    <a:cubicBezTo>
                      <a:pt x="1" y="1533"/>
                      <a:pt x="444" y="1977"/>
                      <a:pt x="969" y="1977"/>
                    </a:cubicBezTo>
                    <a:cubicBezTo>
                      <a:pt x="1533" y="1977"/>
                      <a:pt x="1977" y="1533"/>
                      <a:pt x="1977" y="968"/>
                    </a:cubicBezTo>
                    <a:cubicBezTo>
                      <a:pt x="1977" y="404"/>
                      <a:pt x="1533" y="0"/>
                      <a:pt x="969" y="0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2200" bIns="-52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Google Shape;3366;p73"/>
              <p:cNvSpPr/>
              <p:nvPr/>
            </p:nvSpPr>
            <p:spPr>
              <a:xfrm>
                <a:off x="6881400" y="3160800"/>
                <a:ext cx="179640" cy="163440"/>
              </a:xfrm>
              <a:custGeom>
                <a:avLst/>
                <a:gdLst/>
                <a:ahLst/>
                <a:rect l="l" t="t" r="r" b="b"/>
                <a:pathLst>
                  <a:path w="9115" h="8309">
                    <a:moveTo>
                      <a:pt x="4558" y="1"/>
                    </a:moveTo>
                    <a:cubicBezTo>
                      <a:pt x="3489" y="1"/>
                      <a:pt x="2420" y="404"/>
                      <a:pt x="1614" y="1211"/>
                    </a:cubicBezTo>
                    <a:cubicBezTo>
                      <a:pt x="0" y="2864"/>
                      <a:pt x="0" y="5485"/>
                      <a:pt x="1614" y="7099"/>
                    </a:cubicBezTo>
                    <a:cubicBezTo>
                      <a:pt x="2420" y="7905"/>
                      <a:pt x="3489" y="8308"/>
                      <a:pt x="4558" y="8308"/>
                    </a:cubicBezTo>
                    <a:cubicBezTo>
                      <a:pt x="5626" y="8308"/>
                      <a:pt x="6695" y="7905"/>
                      <a:pt x="7502" y="7099"/>
                    </a:cubicBezTo>
                    <a:cubicBezTo>
                      <a:pt x="9115" y="5485"/>
                      <a:pt x="9115" y="2864"/>
                      <a:pt x="7502" y="1211"/>
                    </a:cubicBezTo>
                    <a:cubicBezTo>
                      <a:pt x="6695" y="404"/>
                      <a:pt x="5626" y="1"/>
                      <a:pt x="4558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2360" bIns="72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Google Shape;3367;p73"/>
              <p:cNvSpPr/>
              <p:nvPr/>
            </p:nvSpPr>
            <p:spPr>
              <a:xfrm>
                <a:off x="6924960" y="3214800"/>
                <a:ext cx="46080" cy="39240"/>
              </a:xfrm>
              <a:custGeom>
                <a:avLst/>
                <a:gdLst/>
                <a:ahLst/>
                <a:rect l="l" t="t" r="r" b="b"/>
                <a:pathLst>
                  <a:path w="2340" h="2004">
                    <a:moveTo>
                      <a:pt x="943" y="1"/>
                    </a:moveTo>
                    <a:cubicBezTo>
                      <a:pt x="410" y="1"/>
                      <a:pt x="1" y="469"/>
                      <a:pt x="1" y="1011"/>
                    </a:cubicBezTo>
                    <a:cubicBezTo>
                      <a:pt x="1" y="1607"/>
                      <a:pt x="492" y="2003"/>
                      <a:pt x="1010" y="2003"/>
                    </a:cubicBezTo>
                    <a:cubicBezTo>
                      <a:pt x="1263" y="2003"/>
                      <a:pt x="1523" y="1909"/>
                      <a:pt x="1735" y="1697"/>
                    </a:cubicBezTo>
                    <a:cubicBezTo>
                      <a:pt x="2340" y="1092"/>
                      <a:pt x="1896" y="3"/>
                      <a:pt x="1009" y="3"/>
                    </a:cubicBezTo>
                    <a:cubicBezTo>
                      <a:pt x="987" y="1"/>
                      <a:pt x="965" y="1"/>
                      <a:pt x="943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1840" bIns="-518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3" name="Decágono 47"/>
          <p:cNvGrpSpPr/>
          <p:nvPr/>
        </p:nvGrpSpPr>
        <p:grpSpPr>
          <a:xfrm>
            <a:off x="7589880" y="3749760"/>
            <a:ext cx="1481040" cy="1279440"/>
            <a:chOff x="7589880" y="3749760"/>
            <a:chExt cx="1481040" cy="1279440"/>
          </a:xfrm>
        </p:grpSpPr>
        <p:pic>
          <p:nvPicPr>
            <p:cNvPr id="1864" name="Decágono 47" descr=""/>
            <p:cNvPicPr/>
            <p:nvPr/>
          </p:nvPicPr>
          <p:blipFill>
            <a:blip r:embed="rId1"/>
            <a:stretch/>
          </p:blipFill>
          <p:spPr>
            <a:xfrm>
              <a:off x="7589880" y="3749760"/>
              <a:ext cx="148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7781760" y="4000680"/>
              <a:ext cx="1100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6284880" y="4138200"/>
            <a:ext cx="4092480" cy="399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5f1e6"/>
                </a:solidFill>
                <a:latin typeface="Sriracha"/>
                <a:ea typeface="Nunito"/>
              </a:rPr>
              <a:t>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7" name="Google Shape;3245;p71"/>
          <p:cNvGrpSpPr/>
          <p:nvPr/>
        </p:nvGrpSpPr>
        <p:grpSpPr>
          <a:xfrm>
            <a:off x="3452760" y="1436760"/>
            <a:ext cx="2238480" cy="2530440"/>
            <a:chOff x="3452760" y="1436760"/>
            <a:chExt cx="2238480" cy="2530440"/>
          </a:xfrm>
        </p:grpSpPr>
        <p:sp>
          <p:nvSpPr>
            <p:cNvPr id="1868" name="Google Shape;3246;p71"/>
            <p:cNvSpPr/>
            <p:nvPr/>
          </p:nvSpPr>
          <p:spPr>
            <a:xfrm>
              <a:off x="4008960" y="1652400"/>
              <a:ext cx="330840" cy="394920"/>
            </a:xfrm>
            <a:custGeom>
              <a:avLst/>
              <a:gdLst/>
              <a:ahLst/>
              <a:rect l="l" t="t" r="r" b="b"/>
              <a:pathLst>
                <a:path w="13245" h="15796">
                  <a:moveTo>
                    <a:pt x="3012" y="0"/>
                  </a:moveTo>
                  <a:cubicBezTo>
                    <a:pt x="2724" y="0"/>
                    <a:pt x="2457" y="58"/>
                    <a:pt x="2219" y="181"/>
                  </a:cubicBezTo>
                  <a:cubicBezTo>
                    <a:pt x="0" y="1324"/>
                    <a:pt x="1009" y="7710"/>
                    <a:pt x="3025" y="11744"/>
                  </a:cubicBezTo>
                  <a:cubicBezTo>
                    <a:pt x="4534" y="14615"/>
                    <a:pt x="6359" y="15795"/>
                    <a:pt x="8119" y="15795"/>
                  </a:cubicBezTo>
                  <a:cubicBezTo>
                    <a:pt x="8790" y="15795"/>
                    <a:pt x="9453" y="15623"/>
                    <a:pt x="10084" y="15307"/>
                  </a:cubicBezTo>
                  <a:cubicBezTo>
                    <a:pt x="12303" y="14164"/>
                    <a:pt x="13244" y="11475"/>
                    <a:pt x="11160" y="7509"/>
                  </a:cubicBezTo>
                  <a:cubicBezTo>
                    <a:pt x="9300" y="3969"/>
                    <a:pt x="5405" y="0"/>
                    <a:pt x="3012" y="0"/>
                  </a:cubicBezTo>
                  <a:close/>
                </a:path>
              </a:pathLst>
            </a:custGeom>
            <a:solidFill>
              <a:srgbClr val="7fc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Google Shape;3247;p71"/>
            <p:cNvSpPr/>
            <p:nvPr/>
          </p:nvSpPr>
          <p:spPr>
            <a:xfrm>
              <a:off x="4803840" y="1652400"/>
              <a:ext cx="329400" cy="394920"/>
            </a:xfrm>
            <a:custGeom>
              <a:avLst/>
              <a:gdLst/>
              <a:ahLst/>
              <a:rect l="l" t="t" r="r" b="b"/>
              <a:pathLst>
                <a:path w="13178" h="15796">
                  <a:moveTo>
                    <a:pt x="10166" y="0"/>
                  </a:moveTo>
                  <a:cubicBezTo>
                    <a:pt x="7773" y="0"/>
                    <a:pt x="3878" y="3969"/>
                    <a:pt x="2018" y="7509"/>
                  </a:cubicBezTo>
                  <a:cubicBezTo>
                    <a:pt x="1" y="11475"/>
                    <a:pt x="875" y="14164"/>
                    <a:pt x="3161" y="15307"/>
                  </a:cubicBezTo>
                  <a:cubicBezTo>
                    <a:pt x="3774" y="15623"/>
                    <a:pt x="4423" y="15795"/>
                    <a:pt x="5085" y="15795"/>
                  </a:cubicBezTo>
                  <a:cubicBezTo>
                    <a:pt x="6819" y="15795"/>
                    <a:pt x="8644" y="14615"/>
                    <a:pt x="10152" y="11744"/>
                  </a:cubicBezTo>
                  <a:cubicBezTo>
                    <a:pt x="12236" y="7710"/>
                    <a:pt x="13178" y="1324"/>
                    <a:pt x="10959" y="181"/>
                  </a:cubicBezTo>
                  <a:cubicBezTo>
                    <a:pt x="10721" y="58"/>
                    <a:pt x="10454" y="0"/>
                    <a:pt x="10166" y="0"/>
                  </a:cubicBezTo>
                  <a:close/>
                </a:path>
              </a:pathLst>
            </a:custGeom>
            <a:solidFill>
              <a:srgbClr val="7fc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Google Shape;3248;p71"/>
            <p:cNvSpPr/>
            <p:nvPr/>
          </p:nvSpPr>
          <p:spPr>
            <a:xfrm>
              <a:off x="4348080" y="1436760"/>
              <a:ext cx="379440" cy="393480"/>
            </a:xfrm>
            <a:custGeom>
              <a:avLst/>
              <a:gdLst/>
              <a:ahLst/>
              <a:rect l="l" t="t" r="r" b="b"/>
              <a:pathLst>
                <a:path w="15176" h="15740">
                  <a:moveTo>
                    <a:pt x="7833" y="1"/>
                  </a:moveTo>
                  <a:cubicBezTo>
                    <a:pt x="5054" y="1"/>
                    <a:pt x="6124" y="10873"/>
                    <a:pt x="6166" y="11290"/>
                  </a:cubicBezTo>
                  <a:lnTo>
                    <a:pt x="6166" y="11290"/>
                  </a:lnTo>
                  <a:cubicBezTo>
                    <a:pt x="6136" y="11000"/>
                    <a:pt x="5537" y="5667"/>
                    <a:pt x="2268" y="3706"/>
                  </a:cubicBezTo>
                  <a:cubicBezTo>
                    <a:pt x="2047" y="3570"/>
                    <a:pt x="1877" y="3507"/>
                    <a:pt x="1751" y="3507"/>
                  </a:cubicBezTo>
                  <a:cubicBezTo>
                    <a:pt x="1" y="3507"/>
                    <a:pt x="6907" y="15739"/>
                    <a:pt x="6907" y="15739"/>
                  </a:cubicBezTo>
                  <a:cubicBezTo>
                    <a:pt x="6907" y="15739"/>
                    <a:pt x="15176" y="7067"/>
                    <a:pt x="14033" y="5924"/>
                  </a:cubicBezTo>
                  <a:cubicBezTo>
                    <a:pt x="13931" y="5822"/>
                    <a:pt x="13805" y="5776"/>
                    <a:pt x="13661" y="5776"/>
                  </a:cubicBezTo>
                  <a:cubicBezTo>
                    <a:pt x="12086" y="5776"/>
                    <a:pt x="8251" y="11302"/>
                    <a:pt x="8251" y="11302"/>
                  </a:cubicBezTo>
                  <a:cubicBezTo>
                    <a:pt x="8251" y="11302"/>
                    <a:pt x="11545" y="1218"/>
                    <a:pt x="8251" y="75"/>
                  </a:cubicBezTo>
                  <a:cubicBezTo>
                    <a:pt x="8103" y="25"/>
                    <a:pt x="7963" y="1"/>
                    <a:pt x="7833" y="1"/>
                  </a:cubicBez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Google Shape;3249;p71"/>
            <p:cNvSpPr/>
            <p:nvPr/>
          </p:nvSpPr>
          <p:spPr>
            <a:xfrm>
              <a:off x="5283360" y="2764080"/>
              <a:ext cx="407880" cy="374400"/>
            </a:xfrm>
            <a:custGeom>
              <a:avLst/>
              <a:gdLst/>
              <a:ahLst/>
              <a:rect l="l" t="t" r="r" b="b"/>
              <a:pathLst>
                <a:path w="16338" h="14993">
                  <a:moveTo>
                    <a:pt x="4387" y="0"/>
                  </a:moveTo>
                  <a:cubicBezTo>
                    <a:pt x="3372" y="0"/>
                    <a:pt x="2495" y="362"/>
                    <a:pt x="1816" y="1016"/>
                  </a:cubicBezTo>
                  <a:cubicBezTo>
                    <a:pt x="1" y="2764"/>
                    <a:pt x="135" y="5924"/>
                    <a:pt x="3631" y="9689"/>
                  </a:cubicBezTo>
                  <a:cubicBezTo>
                    <a:pt x="6397" y="12614"/>
                    <a:pt x="10383" y="14993"/>
                    <a:pt x="12860" y="14993"/>
                  </a:cubicBezTo>
                  <a:cubicBezTo>
                    <a:pt x="13514" y="14993"/>
                    <a:pt x="14062" y="14827"/>
                    <a:pt x="14455" y="14462"/>
                  </a:cubicBezTo>
                  <a:cubicBezTo>
                    <a:pt x="16337" y="12714"/>
                    <a:pt x="13850" y="7067"/>
                    <a:pt x="10354" y="3369"/>
                  </a:cubicBezTo>
                  <a:cubicBezTo>
                    <a:pt x="8166" y="1013"/>
                    <a:pt x="6084" y="0"/>
                    <a:pt x="4387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Google Shape;3250;p71"/>
            <p:cNvSpPr/>
            <p:nvPr/>
          </p:nvSpPr>
          <p:spPr>
            <a:xfrm>
              <a:off x="3889080" y="3517920"/>
              <a:ext cx="291960" cy="449280"/>
            </a:xfrm>
            <a:custGeom>
              <a:avLst/>
              <a:gdLst/>
              <a:ahLst/>
              <a:rect l="l" t="t" r="r" b="b"/>
              <a:pathLst>
                <a:path w="11699" h="17969">
                  <a:moveTo>
                    <a:pt x="6887" y="1"/>
                  </a:moveTo>
                  <a:cubicBezTo>
                    <a:pt x="4773" y="1"/>
                    <a:pt x="2623" y="1935"/>
                    <a:pt x="1413" y="6143"/>
                  </a:cubicBezTo>
                  <a:cubicBezTo>
                    <a:pt x="1" y="11051"/>
                    <a:pt x="404" y="17236"/>
                    <a:pt x="2825" y="17908"/>
                  </a:cubicBezTo>
                  <a:cubicBezTo>
                    <a:pt x="2971" y="17949"/>
                    <a:pt x="3123" y="17969"/>
                    <a:pt x="3278" y="17969"/>
                  </a:cubicBezTo>
                  <a:cubicBezTo>
                    <a:pt x="5677" y="17969"/>
                    <a:pt x="8961" y="13240"/>
                    <a:pt x="10287" y="8631"/>
                  </a:cubicBezTo>
                  <a:cubicBezTo>
                    <a:pt x="11699" y="3723"/>
                    <a:pt x="10421" y="899"/>
                    <a:pt x="7934" y="160"/>
                  </a:cubicBezTo>
                  <a:cubicBezTo>
                    <a:pt x="7589" y="54"/>
                    <a:pt x="7238" y="1"/>
                    <a:pt x="6887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Google Shape;3251;p71"/>
            <p:cNvSpPr/>
            <p:nvPr/>
          </p:nvSpPr>
          <p:spPr>
            <a:xfrm>
              <a:off x="3452760" y="2764080"/>
              <a:ext cx="409320" cy="374400"/>
            </a:xfrm>
            <a:custGeom>
              <a:avLst/>
              <a:gdLst/>
              <a:ahLst/>
              <a:rect l="l" t="t" r="r" b="b"/>
              <a:pathLst>
                <a:path w="16405" h="14993">
                  <a:moveTo>
                    <a:pt x="11922" y="0"/>
                  </a:moveTo>
                  <a:cubicBezTo>
                    <a:pt x="10228" y="0"/>
                    <a:pt x="8172" y="1013"/>
                    <a:pt x="5984" y="3369"/>
                  </a:cubicBezTo>
                  <a:cubicBezTo>
                    <a:pt x="2488" y="7067"/>
                    <a:pt x="1" y="12714"/>
                    <a:pt x="1883" y="14462"/>
                  </a:cubicBezTo>
                  <a:cubicBezTo>
                    <a:pt x="2262" y="14827"/>
                    <a:pt x="2802" y="14993"/>
                    <a:pt x="3452" y="14993"/>
                  </a:cubicBezTo>
                  <a:cubicBezTo>
                    <a:pt x="5912" y="14993"/>
                    <a:pt x="9941" y="12614"/>
                    <a:pt x="12707" y="9689"/>
                  </a:cubicBezTo>
                  <a:cubicBezTo>
                    <a:pt x="16203" y="5924"/>
                    <a:pt x="16404" y="2764"/>
                    <a:pt x="14522" y="1016"/>
                  </a:cubicBezTo>
                  <a:cubicBezTo>
                    <a:pt x="13818" y="362"/>
                    <a:pt x="12934" y="0"/>
                    <a:pt x="11922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Google Shape;3252;p71"/>
            <p:cNvSpPr/>
            <p:nvPr/>
          </p:nvSpPr>
          <p:spPr>
            <a:xfrm>
              <a:off x="4961160" y="3517920"/>
              <a:ext cx="291960" cy="449280"/>
            </a:xfrm>
            <a:custGeom>
              <a:avLst/>
              <a:gdLst/>
              <a:ahLst/>
              <a:rect l="l" t="t" r="r" b="b"/>
              <a:pathLst>
                <a:path w="11698" h="17969">
                  <a:moveTo>
                    <a:pt x="4833" y="1"/>
                  </a:moveTo>
                  <a:cubicBezTo>
                    <a:pt x="4477" y="1"/>
                    <a:pt x="4120" y="54"/>
                    <a:pt x="3765" y="160"/>
                  </a:cubicBezTo>
                  <a:cubicBezTo>
                    <a:pt x="1345" y="899"/>
                    <a:pt x="0" y="3723"/>
                    <a:pt x="1412" y="8631"/>
                  </a:cubicBezTo>
                  <a:cubicBezTo>
                    <a:pt x="2738" y="13240"/>
                    <a:pt x="6021" y="17969"/>
                    <a:pt x="8421" y="17969"/>
                  </a:cubicBezTo>
                  <a:cubicBezTo>
                    <a:pt x="8576" y="17969"/>
                    <a:pt x="8727" y="17949"/>
                    <a:pt x="8874" y="17908"/>
                  </a:cubicBezTo>
                  <a:cubicBezTo>
                    <a:pt x="11362" y="17236"/>
                    <a:pt x="11698" y="11051"/>
                    <a:pt x="10286" y="6143"/>
                  </a:cubicBezTo>
                  <a:cubicBezTo>
                    <a:pt x="9076" y="1935"/>
                    <a:pt x="6976" y="1"/>
                    <a:pt x="4833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Google Shape;3253;p71"/>
            <p:cNvSpPr/>
            <p:nvPr/>
          </p:nvSpPr>
          <p:spPr>
            <a:xfrm>
              <a:off x="3693960" y="1751040"/>
              <a:ext cx="1756080" cy="2102040"/>
            </a:xfrm>
            <a:custGeom>
              <a:avLst/>
              <a:gdLst/>
              <a:ahLst/>
              <a:rect l="l" t="t" r="r" b="b"/>
              <a:pathLst>
                <a:path w="70187" h="84036">
                  <a:moveTo>
                    <a:pt x="35094" y="1"/>
                  </a:moveTo>
                  <a:cubicBezTo>
                    <a:pt x="15732" y="1"/>
                    <a:pt x="1" y="27228"/>
                    <a:pt x="1" y="50422"/>
                  </a:cubicBezTo>
                  <a:cubicBezTo>
                    <a:pt x="1" y="73615"/>
                    <a:pt x="15665" y="84036"/>
                    <a:pt x="35094" y="84036"/>
                  </a:cubicBezTo>
                  <a:cubicBezTo>
                    <a:pt x="54455" y="84036"/>
                    <a:pt x="70187" y="73615"/>
                    <a:pt x="70187" y="50422"/>
                  </a:cubicBezTo>
                  <a:cubicBezTo>
                    <a:pt x="70187" y="27161"/>
                    <a:pt x="54455" y="1"/>
                    <a:pt x="35094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Google Shape;3254;p71"/>
            <p:cNvSpPr/>
            <p:nvPr/>
          </p:nvSpPr>
          <p:spPr>
            <a:xfrm rot="10961400">
              <a:off x="3860640" y="2704320"/>
              <a:ext cx="1388160" cy="257040"/>
            </a:xfrm>
            <a:custGeom>
              <a:avLst/>
              <a:gdLst/>
              <a:ahLst/>
              <a:rect l="l" t="t" r="r" b="b"/>
              <a:pathLst>
                <a:path w="55531" h="10287">
                  <a:moveTo>
                    <a:pt x="0" y="1"/>
                  </a:moveTo>
                  <a:cubicBezTo>
                    <a:pt x="0" y="5715"/>
                    <a:pt x="12168" y="10287"/>
                    <a:pt x="27765" y="10287"/>
                  </a:cubicBezTo>
                  <a:cubicBezTo>
                    <a:pt x="-22241" y="10287"/>
                    <a:pt x="-10006" y="5715"/>
                    <a:pt x="-10006" y="1"/>
                  </a:cubicBezTo>
                  <a:lnTo>
                    <a:pt x="-10880" y="1"/>
                  </a:lnTo>
                  <a:cubicBezTo>
                    <a:pt x="-10880" y="5110"/>
                    <a:pt x="-23250" y="9413"/>
                    <a:pt x="27765" y="9413"/>
                  </a:cubicBezTo>
                  <a:cubicBezTo>
                    <a:pt x="13177" y="9413"/>
                    <a:pt x="874" y="5110"/>
                    <a:pt x="874" y="1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Google Shape;3255;p71"/>
            <p:cNvSpPr/>
            <p:nvPr/>
          </p:nvSpPr>
          <p:spPr>
            <a:xfrm>
              <a:off x="4133160" y="2265120"/>
              <a:ext cx="388080" cy="346680"/>
            </a:xfrm>
            <a:custGeom>
              <a:avLst/>
              <a:gdLst/>
              <a:ahLst/>
              <a:rect l="l" t="t" r="r" b="b"/>
              <a:pathLst>
                <a:path w="15530" h="13862">
                  <a:moveTo>
                    <a:pt x="7781" y="1"/>
                  </a:moveTo>
                  <a:cubicBezTo>
                    <a:pt x="5798" y="1"/>
                    <a:pt x="3839" y="856"/>
                    <a:pt x="2487" y="2508"/>
                  </a:cubicBezTo>
                  <a:cubicBezTo>
                    <a:pt x="0" y="5399"/>
                    <a:pt x="403" y="9769"/>
                    <a:pt x="3294" y="12256"/>
                  </a:cubicBezTo>
                  <a:cubicBezTo>
                    <a:pt x="4607" y="13330"/>
                    <a:pt x="6198" y="13861"/>
                    <a:pt x="7779" y="13861"/>
                  </a:cubicBezTo>
                  <a:cubicBezTo>
                    <a:pt x="9760" y="13861"/>
                    <a:pt x="11726" y="13027"/>
                    <a:pt x="13109" y="11382"/>
                  </a:cubicBezTo>
                  <a:cubicBezTo>
                    <a:pt x="15530" y="8424"/>
                    <a:pt x="15194" y="4054"/>
                    <a:pt x="12236" y="1634"/>
                  </a:cubicBezTo>
                  <a:cubicBezTo>
                    <a:pt x="10929" y="536"/>
                    <a:pt x="9348" y="1"/>
                    <a:pt x="7781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Google Shape;3256;p71"/>
            <p:cNvSpPr/>
            <p:nvPr/>
          </p:nvSpPr>
          <p:spPr>
            <a:xfrm>
              <a:off x="4264560" y="2382480"/>
              <a:ext cx="98280" cy="83160"/>
            </a:xfrm>
            <a:custGeom>
              <a:avLst/>
              <a:gdLst/>
              <a:ahLst/>
              <a:rect l="l" t="t" r="r" b="b"/>
              <a:pathLst>
                <a:path w="3937" h="3331">
                  <a:moveTo>
                    <a:pt x="1949" y="0"/>
                  </a:moveTo>
                  <a:cubicBezTo>
                    <a:pt x="1707" y="0"/>
                    <a:pt x="1457" y="56"/>
                    <a:pt x="1211" y="179"/>
                  </a:cubicBezTo>
                  <a:cubicBezTo>
                    <a:pt x="404" y="515"/>
                    <a:pt x="1" y="1456"/>
                    <a:pt x="337" y="2330"/>
                  </a:cubicBezTo>
                  <a:cubicBezTo>
                    <a:pt x="636" y="2994"/>
                    <a:pt x="1263" y="3330"/>
                    <a:pt x="1893" y="3330"/>
                  </a:cubicBezTo>
                  <a:cubicBezTo>
                    <a:pt x="2540" y="3330"/>
                    <a:pt x="3190" y="2977"/>
                    <a:pt x="3497" y="2263"/>
                  </a:cubicBezTo>
                  <a:cubicBezTo>
                    <a:pt x="3936" y="1109"/>
                    <a:pt x="3029" y="0"/>
                    <a:pt x="1949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" bIns="-7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Google Shape;3257;p71"/>
            <p:cNvSpPr/>
            <p:nvPr/>
          </p:nvSpPr>
          <p:spPr>
            <a:xfrm>
              <a:off x="4573800" y="2265120"/>
              <a:ext cx="389880" cy="346680"/>
            </a:xfrm>
            <a:custGeom>
              <a:avLst/>
              <a:gdLst/>
              <a:ahLst/>
              <a:rect l="l" t="t" r="r" b="b"/>
              <a:pathLst>
                <a:path w="15598" h="13862">
                  <a:moveTo>
                    <a:pt x="7831" y="1"/>
                  </a:moveTo>
                  <a:cubicBezTo>
                    <a:pt x="5853" y="1"/>
                    <a:pt x="3877" y="856"/>
                    <a:pt x="2488" y="2508"/>
                  </a:cubicBezTo>
                  <a:cubicBezTo>
                    <a:pt x="1" y="5399"/>
                    <a:pt x="404" y="9769"/>
                    <a:pt x="3362" y="12256"/>
                  </a:cubicBezTo>
                  <a:cubicBezTo>
                    <a:pt x="4675" y="13330"/>
                    <a:pt x="6266" y="13861"/>
                    <a:pt x="7841" y="13861"/>
                  </a:cubicBezTo>
                  <a:cubicBezTo>
                    <a:pt x="9815" y="13861"/>
                    <a:pt x="11764" y="13027"/>
                    <a:pt x="13110" y="11382"/>
                  </a:cubicBezTo>
                  <a:cubicBezTo>
                    <a:pt x="15598" y="8424"/>
                    <a:pt x="15194" y="4054"/>
                    <a:pt x="12236" y="1634"/>
                  </a:cubicBezTo>
                  <a:cubicBezTo>
                    <a:pt x="10960" y="536"/>
                    <a:pt x="9395" y="1"/>
                    <a:pt x="7831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Google Shape;3258;p71"/>
            <p:cNvSpPr/>
            <p:nvPr/>
          </p:nvSpPr>
          <p:spPr>
            <a:xfrm>
              <a:off x="4706280" y="2382480"/>
              <a:ext cx="96480" cy="83160"/>
            </a:xfrm>
            <a:custGeom>
              <a:avLst/>
              <a:gdLst/>
              <a:ahLst/>
              <a:rect l="l" t="t" r="r" b="b"/>
              <a:pathLst>
                <a:path w="3869" h="3331">
                  <a:moveTo>
                    <a:pt x="1906" y="0"/>
                  </a:moveTo>
                  <a:cubicBezTo>
                    <a:pt x="1660" y="0"/>
                    <a:pt x="1402" y="56"/>
                    <a:pt x="1144" y="179"/>
                  </a:cubicBezTo>
                  <a:cubicBezTo>
                    <a:pt x="337" y="515"/>
                    <a:pt x="1" y="1456"/>
                    <a:pt x="337" y="2330"/>
                  </a:cubicBezTo>
                  <a:cubicBezTo>
                    <a:pt x="603" y="2994"/>
                    <a:pt x="1229" y="3330"/>
                    <a:pt x="1860" y="3330"/>
                  </a:cubicBezTo>
                  <a:cubicBezTo>
                    <a:pt x="2506" y="3330"/>
                    <a:pt x="3157" y="2977"/>
                    <a:pt x="3429" y="2263"/>
                  </a:cubicBezTo>
                  <a:cubicBezTo>
                    <a:pt x="3869" y="1109"/>
                    <a:pt x="3006" y="0"/>
                    <a:pt x="1906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" bIns="-7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Google Shape;3259;p71"/>
          <p:cNvSpPr/>
          <p:nvPr/>
        </p:nvSpPr>
        <p:spPr>
          <a:xfrm>
            <a:off x="3333600" y="3235320"/>
            <a:ext cx="2476800" cy="835200"/>
          </a:xfrm>
          <a:prstGeom prst="roundRect">
            <a:avLst>
              <a:gd name="adj" fmla="val 7907"/>
            </a:avLst>
          </a:prstGeom>
          <a:solidFill>
            <a:srgbClr val="fd9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Google Shape;3272;p71"/>
          <p:cNvSpPr/>
          <p:nvPr/>
        </p:nvSpPr>
        <p:spPr>
          <a:xfrm>
            <a:off x="712800" y="539640"/>
            <a:ext cx="7718400" cy="573120"/>
          </a:xfrm>
          <a:custGeom>
            <a:avLst/>
            <a:gdLst/>
            <a:ahLst/>
            <a:rect l="l" t="t" r="r" b="b"/>
            <a:pathLst>
              <a:path w="286778" h="39641">
                <a:moveTo>
                  <a:pt x="2485" y="0"/>
                </a:moveTo>
                <a:cubicBezTo>
                  <a:pt x="865" y="0"/>
                  <a:pt x="1" y="1944"/>
                  <a:pt x="1081" y="3186"/>
                </a:cubicBezTo>
                <a:lnTo>
                  <a:pt x="16473" y="20036"/>
                </a:lnTo>
                <a:lnTo>
                  <a:pt x="1189" y="36400"/>
                </a:lnTo>
                <a:cubicBezTo>
                  <a:pt x="55" y="37643"/>
                  <a:pt x="919" y="39641"/>
                  <a:pt x="2593" y="39641"/>
                </a:cubicBezTo>
                <a:lnTo>
                  <a:pt x="284239" y="39641"/>
                </a:lnTo>
                <a:cubicBezTo>
                  <a:pt x="285859" y="39641"/>
                  <a:pt x="286777" y="37697"/>
                  <a:pt x="285643" y="36454"/>
                </a:cubicBezTo>
                <a:lnTo>
                  <a:pt x="271169" y="19550"/>
                </a:lnTo>
                <a:lnTo>
                  <a:pt x="285589" y="3186"/>
                </a:lnTo>
                <a:cubicBezTo>
                  <a:pt x="286669" y="1944"/>
                  <a:pt x="285751" y="0"/>
                  <a:pt x="284131" y="0"/>
                </a:cubicBezTo>
                <a:lnTo>
                  <a:pt x="2485" y="0"/>
                </a:lnTo>
                <a:close/>
              </a:path>
            </a:pathLst>
          </a:custGeom>
          <a:solidFill>
            <a:srgbClr val="7fc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5f1e6"/>
                </a:solidFill>
                <a:latin typeface="Sriracha"/>
                <a:ea typeface="Sriracha"/>
              </a:rPr>
              <a:t>Incorr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title"/>
          </p:nvPr>
        </p:nvSpPr>
        <p:spPr>
          <a:xfrm>
            <a:off x="3539880" y="3672000"/>
            <a:ext cx="2151000" cy="504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Inténtalo otr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Google Shape;3272;p71"/>
          <p:cNvSpPr/>
          <p:nvPr/>
        </p:nvSpPr>
        <p:spPr>
          <a:xfrm>
            <a:off x="712800" y="539640"/>
            <a:ext cx="7718400" cy="573120"/>
          </a:xfrm>
          <a:custGeom>
            <a:avLst/>
            <a:gdLst/>
            <a:ahLst/>
            <a:rect l="l" t="t" r="r" b="b"/>
            <a:pathLst>
              <a:path w="286778" h="39641">
                <a:moveTo>
                  <a:pt x="2485" y="0"/>
                </a:moveTo>
                <a:cubicBezTo>
                  <a:pt x="865" y="0"/>
                  <a:pt x="1" y="1944"/>
                  <a:pt x="1081" y="3186"/>
                </a:cubicBezTo>
                <a:lnTo>
                  <a:pt x="16473" y="20036"/>
                </a:lnTo>
                <a:lnTo>
                  <a:pt x="1189" y="36400"/>
                </a:lnTo>
                <a:cubicBezTo>
                  <a:pt x="55" y="37643"/>
                  <a:pt x="919" y="39641"/>
                  <a:pt x="2593" y="39641"/>
                </a:cubicBezTo>
                <a:lnTo>
                  <a:pt x="284239" y="39641"/>
                </a:lnTo>
                <a:cubicBezTo>
                  <a:pt x="285859" y="39641"/>
                  <a:pt x="286777" y="37697"/>
                  <a:pt x="285643" y="36454"/>
                </a:cubicBezTo>
                <a:lnTo>
                  <a:pt x="271169" y="19550"/>
                </a:lnTo>
                <a:lnTo>
                  <a:pt x="285589" y="3186"/>
                </a:lnTo>
                <a:cubicBezTo>
                  <a:pt x="286669" y="1944"/>
                  <a:pt x="285751" y="0"/>
                  <a:pt x="284131" y="0"/>
                </a:cubicBezTo>
                <a:lnTo>
                  <a:pt x="2485" y="0"/>
                </a:lnTo>
                <a:close/>
              </a:path>
            </a:pathLst>
          </a:custGeom>
          <a:solidFill>
            <a:srgbClr val="7fc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712800" y="539640"/>
            <a:ext cx="771840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5f1e6"/>
                </a:solidFill>
                <a:latin typeface="Sriracha"/>
                <a:ea typeface="Sriracha"/>
              </a:rPr>
              <a:t>Escoge la a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Rectángulo: esquinas redondeadas 3"/>
          <p:cNvGrpSpPr/>
          <p:nvPr/>
        </p:nvGrpSpPr>
        <p:grpSpPr>
          <a:xfrm>
            <a:off x="1384200" y="2133720"/>
            <a:ext cx="2475000" cy="1030320"/>
            <a:chOff x="1384200" y="2133720"/>
            <a:chExt cx="2475000" cy="1030320"/>
          </a:xfrm>
        </p:grpSpPr>
        <p:pic>
          <p:nvPicPr>
            <p:cNvPr id="1317" name="Rectángulo: esquinas redondeadas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384200" y="2133720"/>
              <a:ext cx="2475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>
              <a:off x="1487520" y="2208240"/>
              <a:ext cx="226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Rectángulo: esquinas redondeadas 4"/>
          <p:cNvGrpSpPr/>
          <p:nvPr/>
        </p:nvGrpSpPr>
        <p:grpSpPr>
          <a:xfrm>
            <a:off x="5114880" y="2133720"/>
            <a:ext cx="2475000" cy="1030320"/>
            <a:chOff x="5114880" y="2133720"/>
            <a:chExt cx="2475000" cy="1030320"/>
          </a:xfrm>
        </p:grpSpPr>
        <p:pic>
          <p:nvPicPr>
            <p:cNvPr id="1320" name="Rectángulo: esquinas redondeadas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114880" y="2133720"/>
              <a:ext cx="2475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5221440" y="2208240"/>
              <a:ext cx="226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Google Shape;2382;p40"/>
          <p:cNvSpPr/>
          <p:nvPr/>
        </p:nvSpPr>
        <p:spPr>
          <a:xfrm>
            <a:off x="1614600" y="2368440"/>
            <a:ext cx="1993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riracha"/>
                <a:ea typeface="Sriracha"/>
              </a:rPr>
              <a:t>Selección mú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Google Shape;2382;p40"/>
          <p:cNvSpPr/>
          <p:nvPr/>
        </p:nvSpPr>
        <p:spPr>
          <a:xfrm>
            <a:off x="5356080" y="2368440"/>
            <a:ext cx="1992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riracha"/>
                <a:ea typeface="Sriracha"/>
              </a:rPr>
              <a:t>Verdadero y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Google Shape;2710;p54"/>
          <p:cNvSpPr/>
          <p:nvPr/>
        </p:nvSpPr>
        <p:spPr>
          <a:xfrm>
            <a:off x="1454040" y="3524400"/>
            <a:ext cx="1189080" cy="177480"/>
          </a:xfrm>
          <a:prstGeom prst="ellipse">
            <a:avLst/>
          </a:prstGeom>
          <a:solidFill>
            <a:srgbClr val="f5f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200" bIns="342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Google Shape;2711;p54"/>
          <p:cNvGrpSpPr/>
          <p:nvPr/>
        </p:nvGrpSpPr>
        <p:grpSpPr>
          <a:xfrm>
            <a:off x="712800" y="1441440"/>
            <a:ext cx="2409840" cy="2162160"/>
            <a:chOff x="712800" y="1441440"/>
            <a:chExt cx="2409840" cy="2162160"/>
          </a:xfrm>
        </p:grpSpPr>
        <p:sp>
          <p:nvSpPr>
            <p:cNvPr id="1887" name="Google Shape;2712;p54"/>
            <p:cNvSpPr/>
            <p:nvPr/>
          </p:nvSpPr>
          <p:spPr>
            <a:xfrm flipH="1">
              <a:off x="1564200" y="3251880"/>
              <a:ext cx="364680" cy="351720"/>
            </a:xfrm>
            <a:custGeom>
              <a:avLst/>
              <a:gdLst/>
              <a:ahLst/>
              <a:rect l="l" t="t" r="r" b="b"/>
              <a:pathLst>
                <a:path w="13148" h="12687">
                  <a:moveTo>
                    <a:pt x="5244" y="0"/>
                  </a:moveTo>
                  <a:cubicBezTo>
                    <a:pt x="5226" y="0"/>
                    <a:pt x="5217" y="0"/>
                    <a:pt x="5217" y="0"/>
                  </a:cubicBezTo>
                  <a:cubicBezTo>
                    <a:pt x="700" y="3670"/>
                    <a:pt x="3523" y="10930"/>
                    <a:pt x="3523" y="10930"/>
                  </a:cubicBezTo>
                  <a:cubicBezTo>
                    <a:pt x="3523" y="10930"/>
                    <a:pt x="175" y="12220"/>
                    <a:pt x="54" y="12543"/>
                  </a:cubicBezTo>
                  <a:cubicBezTo>
                    <a:pt x="1" y="12650"/>
                    <a:pt x="655" y="12686"/>
                    <a:pt x="1551" y="12686"/>
                  </a:cubicBezTo>
                  <a:cubicBezTo>
                    <a:pt x="3343" y="12686"/>
                    <a:pt x="6104" y="12543"/>
                    <a:pt x="6104" y="12543"/>
                  </a:cubicBezTo>
                  <a:cubicBezTo>
                    <a:pt x="6104" y="12543"/>
                    <a:pt x="5499" y="4477"/>
                    <a:pt x="9370" y="2219"/>
                  </a:cubicBezTo>
                  <a:cubicBezTo>
                    <a:pt x="13147" y="38"/>
                    <a:pt x="5759" y="0"/>
                    <a:pt x="5244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Google Shape;2713;p54"/>
            <p:cNvSpPr/>
            <p:nvPr/>
          </p:nvSpPr>
          <p:spPr>
            <a:xfrm flipH="1">
              <a:off x="2083680" y="3251880"/>
              <a:ext cx="364320" cy="351720"/>
            </a:xfrm>
            <a:custGeom>
              <a:avLst/>
              <a:gdLst/>
              <a:ahLst/>
              <a:rect l="l" t="t" r="r" b="b"/>
              <a:pathLst>
                <a:path w="13136" h="12687">
                  <a:moveTo>
                    <a:pt x="5271" y="0"/>
                  </a:moveTo>
                  <a:cubicBezTo>
                    <a:pt x="5253" y="0"/>
                    <a:pt x="5243" y="0"/>
                    <a:pt x="5243" y="0"/>
                  </a:cubicBezTo>
                  <a:cubicBezTo>
                    <a:pt x="726" y="3670"/>
                    <a:pt x="3549" y="10930"/>
                    <a:pt x="3549" y="10930"/>
                  </a:cubicBezTo>
                  <a:cubicBezTo>
                    <a:pt x="3549" y="10930"/>
                    <a:pt x="202" y="12220"/>
                    <a:pt x="41" y="12543"/>
                  </a:cubicBezTo>
                  <a:cubicBezTo>
                    <a:pt x="0" y="12650"/>
                    <a:pt x="659" y="12686"/>
                    <a:pt x="1555" y="12686"/>
                  </a:cubicBezTo>
                  <a:cubicBezTo>
                    <a:pt x="3348" y="12686"/>
                    <a:pt x="6090" y="12543"/>
                    <a:pt x="6090" y="12543"/>
                  </a:cubicBezTo>
                  <a:cubicBezTo>
                    <a:pt x="6090" y="12543"/>
                    <a:pt x="5525" y="4477"/>
                    <a:pt x="9397" y="2219"/>
                  </a:cubicBezTo>
                  <a:cubicBezTo>
                    <a:pt x="13135" y="38"/>
                    <a:pt x="5783" y="0"/>
                    <a:pt x="5271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Google Shape;2714;p54"/>
            <p:cNvSpPr/>
            <p:nvPr/>
          </p:nvSpPr>
          <p:spPr>
            <a:xfrm flipH="1">
              <a:off x="2184480" y="1441440"/>
              <a:ext cx="163440" cy="245880"/>
            </a:xfrm>
            <a:custGeom>
              <a:avLst/>
              <a:gdLst/>
              <a:ahLst/>
              <a:rect l="l" t="t" r="r" b="b"/>
              <a:pathLst>
                <a:path w="5848" h="8854">
                  <a:moveTo>
                    <a:pt x="3952" y="1"/>
                  </a:moveTo>
                  <a:lnTo>
                    <a:pt x="3952" y="1"/>
                  </a:lnTo>
                  <a:cubicBezTo>
                    <a:pt x="2621" y="323"/>
                    <a:pt x="1533" y="1170"/>
                    <a:pt x="847" y="2340"/>
                  </a:cubicBezTo>
                  <a:cubicBezTo>
                    <a:pt x="161" y="3429"/>
                    <a:pt x="0" y="4800"/>
                    <a:pt x="323" y="6050"/>
                  </a:cubicBezTo>
                  <a:cubicBezTo>
                    <a:pt x="565" y="6978"/>
                    <a:pt x="1129" y="7824"/>
                    <a:pt x="1976" y="8389"/>
                  </a:cubicBezTo>
                  <a:cubicBezTo>
                    <a:pt x="2453" y="8699"/>
                    <a:pt x="3000" y="8854"/>
                    <a:pt x="3559" y="8854"/>
                  </a:cubicBezTo>
                  <a:cubicBezTo>
                    <a:pt x="3946" y="8854"/>
                    <a:pt x="4339" y="8780"/>
                    <a:pt x="4719" y="8631"/>
                  </a:cubicBezTo>
                  <a:cubicBezTo>
                    <a:pt x="5606" y="8187"/>
                    <a:pt x="5848" y="7381"/>
                    <a:pt x="5767" y="6413"/>
                  </a:cubicBezTo>
                  <a:cubicBezTo>
                    <a:pt x="3186" y="5364"/>
                    <a:pt x="2299" y="2219"/>
                    <a:pt x="3952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Google Shape;2715;p54"/>
            <p:cNvSpPr/>
            <p:nvPr/>
          </p:nvSpPr>
          <p:spPr>
            <a:xfrm flipH="1">
              <a:off x="1224000" y="1481760"/>
              <a:ext cx="1419840" cy="1951200"/>
            </a:xfrm>
            <a:custGeom>
              <a:avLst/>
              <a:gdLst/>
              <a:ahLst/>
              <a:rect l="l" t="t" r="r" b="b"/>
              <a:pathLst>
                <a:path w="51179" h="70363">
                  <a:moveTo>
                    <a:pt x="24725" y="0"/>
                  </a:moveTo>
                  <a:cubicBezTo>
                    <a:pt x="20753" y="0"/>
                    <a:pt x="16831" y="1598"/>
                    <a:pt x="13955" y="4670"/>
                  </a:cubicBezTo>
                  <a:cubicBezTo>
                    <a:pt x="12059" y="6605"/>
                    <a:pt x="10849" y="9106"/>
                    <a:pt x="10486" y="11808"/>
                  </a:cubicBezTo>
                  <a:cubicBezTo>
                    <a:pt x="10123" y="14470"/>
                    <a:pt x="10849" y="17212"/>
                    <a:pt x="12543" y="19349"/>
                  </a:cubicBezTo>
                  <a:cubicBezTo>
                    <a:pt x="8833" y="20761"/>
                    <a:pt x="5849" y="24310"/>
                    <a:pt x="5486" y="28262"/>
                  </a:cubicBezTo>
                  <a:cubicBezTo>
                    <a:pt x="5163" y="32295"/>
                    <a:pt x="7099" y="36207"/>
                    <a:pt x="10527" y="38385"/>
                  </a:cubicBezTo>
                  <a:cubicBezTo>
                    <a:pt x="5647" y="40240"/>
                    <a:pt x="2058" y="44474"/>
                    <a:pt x="969" y="49556"/>
                  </a:cubicBezTo>
                  <a:cubicBezTo>
                    <a:pt x="1" y="54758"/>
                    <a:pt x="1654" y="60122"/>
                    <a:pt x="5405" y="63832"/>
                  </a:cubicBezTo>
                  <a:cubicBezTo>
                    <a:pt x="8954" y="67301"/>
                    <a:pt x="13955" y="68874"/>
                    <a:pt x="18875" y="69680"/>
                  </a:cubicBezTo>
                  <a:cubicBezTo>
                    <a:pt x="21385" y="70106"/>
                    <a:pt x="23952" y="70363"/>
                    <a:pt x="26509" y="70363"/>
                  </a:cubicBezTo>
                  <a:cubicBezTo>
                    <a:pt x="28800" y="70363"/>
                    <a:pt x="31083" y="70157"/>
                    <a:pt x="33313" y="69680"/>
                  </a:cubicBezTo>
                  <a:cubicBezTo>
                    <a:pt x="38071" y="68672"/>
                    <a:pt x="42629" y="66494"/>
                    <a:pt x="45936" y="62945"/>
                  </a:cubicBezTo>
                  <a:cubicBezTo>
                    <a:pt x="49243" y="59396"/>
                    <a:pt x="51178" y="54476"/>
                    <a:pt x="50654" y="49677"/>
                  </a:cubicBezTo>
                  <a:cubicBezTo>
                    <a:pt x="50130" y="44878"/>
                    <a:pt x="46984" y="40280"/>
                    <a:pt x="42467" y="38586"/>
                  </a:cubicBezTo>
                  <a:cubicBezTo>
                    <a:pt x="45452" y="35844"/>
                    <a:pt x="46863" y="31771"/>
                    <a:pt x="46137" y="27778"/>
                  </a:cubicBezTo>
                  <a:cubicBezTo>
                    <a:pt x="45411" y="23786"/>
                    <a:pt x="42548" y="20922"/>
                    <a:pt x="38757" y="19430"/>
                  </a:cubicBezTo>
                  <a:cubicBezTo>
                    <a:pt x="40935" y="12856"/>
                    <a:pt x="38233" y="5638"/>
                    <a:pt x="32304" y="2089"/>
                  </a:cubicBezTo>
                  <a:cubicBezTo>
                    <a:pt x="29943" y="685"/>
                    <a:pt x="27324" y="0"/>
                    <a:pt x="24725" y="0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Google Shape;2716;p54"/>
            <p:cNvSpPr/>
            <p:nvPr/>
          </p:nvSpPr>
          <p:spPr>
            <a:xfrm flipH="1">
              <a:off x="1886040" y="1638000"/>
              <a:ext cx="241560" cy="240480"/>
            </a:xfrm>
            <a:custGeom>
              <a:avLst/>
              <a:gdLst/>
              <a:ahLst/>
              <a:rect l="l" t="t" r="r" b="b"/>
              <a:pathLst>
                <a:path w="8712" h="8672">
                  <a:moveTo>
                    <a:pt x="4356" y="1"/>
                  </a:moveTo>
                  <a:cubicBezTo>
                    <a:pt x="1936" y="1"/>
                    <a:pt x="1" y="1936"/>
                    <a:pt x="1" y="4356"/>
                  </a:cubicBezTo>
                  <a:cubicBezTo>
                    <a:pt x="1" y="6735"/>
                    <a:pt x="1936" y="8671"/>
                    <a:pt x="4356" y="8671"/>
                  </a:cubicBezTo>
                  <a:cubicBezTo>
                    <a:pt x="6735" y="8671"/>
                    <a:pt x="8712" y="6735"/>
                    <a:pt x="8712" y="4356"/>
                  </a:cubicBezTo>
                  <a:cubicBezTo>
                    <a:pt x="8712" y="1936"/>
                    <a:pt x="6735" y="1"/>
                    <a:pt x="4356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Google Shape;2717;p54"/>
            <p:cNvSpPr/>
            <p:nvPr/>
          </p:nvSpPr>
          <p:spPr>
            <a:xfrm flipH="1">
              <a:off x="1952280" y="1699560"/>
              <a:ext cx="50040" cy="42840"/>
            </a:xfrm>
            <a:custGeom>
              <a:avLst/>
              <a:gdLst/>
              <a:ahLst/>
              <a:rect l="l" t="t" r="r" b="b"/>
              <a:pathLst>
                <a:path w="1816" h="1557">
                  <a:moveTo>
                    <a:pt x="1116" y="1"/>
                  </a:moveTo>
                  <a:cubicBezTo>
                    <a:pt x="1094" y="1"/>
                    <a:pt x="1072" y="2"/>
                    <a:pt x="1049" y="4"/>
                  </a:cubicBezTo>
                  <a:cubicBezTo>
                    <a:pt x="363" y="4"/>
                    <a:pt x="0" y="810"/>
                    <a:pt x="484" y="1334"/>
                  </a:cubicBezTo>
                  <a:cubicBezTo>
                    <a:pt x="638" y="1488"/>
                    <a:pt x="827" y="1556"/>
                    <a:pt x="1015" y="1556"/>
                  </a:cubicBezTo>
                  <a:cubicBezTo>
                    <a:pt x="1420" y="1556"/>
                    <a:pt x="1815" y="1238"/>
                    <a:pt x="1815" y="770"/>
                  </a:cubicBezTo>
                  <a:cubicBezTo>
                    <a:pt x="1815" y="349"/>
                    <a:pt x="1525" y="1"/>
                    <a:pt x="1116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8240" bIns="-48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Google Shape;2718;p54"/>
            <p:cNvSpPr/>
            <p:nvPr/>
          </p:nvSpPr>
          <p:spPr>
            <a:xfrm flipH="1">
              <a:off x="1920600" y="2719800"/>
              <a:ext cx="451080" cy="344880"/>
            </a:xfrm>
            <a:custGeom>
              <a:avLst/>
              <a:gdLst/>
              <a:ahLst/>
              <a:rect l="l" t="t" r="r" b="b"/>
              <a:pathLst>
                <a:path w="16259" h="12441">
                  <a:moveTo>
                    <a:pt x="8103" y="0"/>
                  </a:moveTo>
                  <a:cubicBezTo>
                    <a:pt x="6207" y="0"/>
                    <a:pt x="4332" y="861"/>
                    <a:pt x="3111" y="2489"/>
                  </a:cubicBezTo>
                  <a:cubicBezTo>
                    <a:pt x="0" y="6662"/>
                    <a:pt x="3063" y="12441"/>
                    <a:pt x="8036" y="12441"/>
                  </a:cubicBezTo>
                  <a:cubicBezTo>
                    <a:pt x="8350" y="12441"/>
                    <a:pt x="8671" y="12418"/>
                    <a:pt x="8999" y="12370"/>
                  </a:cubicBezTo>
                  <a:cubicBezTo>
                    <a:pt x="14484" y="11604"/>
                    <a:pt x="16258" y="4546"/>
                    <a:pt x="11822" y="1239"/>
                  </a:cubicBezTo>
                  <a:cubicBezTo>
                    <a:pt x="10708" y="403"/>
                    <a:pt x="9401" y="0"/>
                    <a:pt x="8103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Google Shape;2719;p54"/>
            <p:cNvSpPr/>
            <p:nvPr/>
          </p:nvSpPr>
          <p:spPr>
            <a:xfrm flipH="1">
              <a:off x="2121480" y="2790360"/>
              <a:ext cx="80640" cy="62280"/>
            </a:xfrm>
            <a:custGeom>
              <a:avLst/>
              <a:gdLst/>
              <a:ahLst/>
              <a:rect l="l" t="t" r="r" b="b"/>
              <a:pathLst>
                <a:path w="2917" h="2252">
                  <a:moveTo>
                    <a:pt x="1434" y="1"/>
                  </a:moveTo>
                  <a:cubicBezTo>
                    <a:pt x="1103" y="1"/>
                    <a:pt x="772" y="146"/>
                    <a:pt x="537" y="428"/>
                  </a:cubicBezTo>
                  <a:cubicBezTo>
                    <a:pt x="1" y="1194"/>
                    <a:pt x="556" y="2252"/>
                    <a:pt x="1478" y="2252"/>
                  </a:cubicBezTo>
                  <a:cubicBezTo>
                    <a:pt x="1526" y="2252"/>
                    <a:pt x="1576" y="2249"/>
                    <a:pt x="1626" y="2243"/>
                  </a:cubicBezTo>
                  <a:cubicBezTo>
                    <a:pt x="2594" y="2082"/>
                    <a:pt x="2916" y="831"/>
                    <a:pt x="2110" y="226"/>
                  </a:cubicBezTo>
                  <a:cubicBezTo>
                    <a:pt x="1908" y="75"/>
                    <a:pt x="1671" y="1"/>
                    <a:pt x="1434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800" bIns="-28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Google Shape;2720;p54"/>
            <p:cNvSpPr/>
            <p:nvPr/>
          </p:nvSpPr>
          <p:spPr>
            <a:xfrm flipH="1">
              <a:off x="2054160" y="2133360"/>
              <a:ext cx="286200" cy="241200"/>
            </a:xfrm>
            <a:custGeom>
              <a:avLst/>
              <a:gdLst/>
              <a:ahLst/>
              <a:rect l="l" t="t" r="r" b="b"/>
              <a:pathLst>
                <a:path w="10323" h="8710">
                  <a:moveTo>
                    <a:pt x="4543" y="0"/>
                  </a:moveTo>
                  <a:cubicBezTo>
                    <a:pt x="2288" y="0"/>
                    <a:pt x="354" y="1762"/>
                    <a:pt x="200" y="4043"/>
                  </a:cubicBezTo>
                  <a:cubicBezTo>
                    <a:pt x="0" y="6779"/>
                    <a:pt x="2218" y="8710"/>
                    <a:pt x="4575" y="8710"/>
                  </a:cubicBezTo>
                  <a:cubicBezTo>
                    <a:pt x="5553" y="8710"/>
                    <a:pt x="6555" y="8378"/>
                    <a:pt x="7419" y="7633"/>
                  </a:cubicBezTo>
                  <a:cubicBezTo>
                    <a:pt x="10322" y="5092"/>
                    <a:pt x="8709" y="252"/>
                    <a:pt x="4837" y="10"/>
                  </a:cubicBezTo>
                  <a:cubicBezTo>
                    <a:pt x="4739" y="4"/>
                    <a:pt x="4641" y="0"/>
                    <a:pt x="4543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Google Shape;2721;p54"/>
            <p:cNvSpPr/>
            <p:nvPr/>
          </p:nvSpPr>
          <p:spPr>
            <a:xfrm flipH="1">
              <a:off x="2219760" y="2196000"/>
              <a:ext cx="59040" cy="43560"/>
            </a:xfrm>
            <a:custGeom>
              <a:avLst/>
              <a:gdLst/>
              <a:ahLst/>
              <a:rect l="l" t="t" r="r" b="b"/>
              <a:pathLst>
                <a:path w="2128" h="1581">
                  <a:moveTo>
                    <a:pt x="1076" y="1"/>
                  </a:moveTo>
                  <a:cubicBezTo>
                    <a:pt x="105" y="1"/>
                    <a:pt x="1" y="1455"/>
                    <a:pt x="995" y="1575"/>
                  </a:cubicBezTo>
                  <a:cubicBezTo>
                    <a:pt x="1034" y="1579"/>
                    <a:pt x="1071" y="1581"/>
                    <a:pt x="1107" y="1581"/>
                  </a:cubicBezTo>
                  <a:cubicBezTo>
                    <a:pt x="2088" y="1581"/>
                    <a:pt x="2128" y="41"/>
                    <a:pt x="1116" y="2"/>
                  </a:cubicBezTo>
                  <a:cubicBezTo>
                    <a:pt x="1103" y="1"/>
                    <a:pt x="1090" y="1"/>
                    <a:pt x="1076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520" bIns="-47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Google Shape;2722;p54"/>
            <p:cNvSpPr/>
            <p:nvPr/>
          </p:nvSpPr>
          <p:spPr>
            <a:xfrm flipH="1">
              <a:off x="1768680" y="2133360"/>
              <a:ext cx="285480" cy="241200"/>
            </a:xfrm>
            <a:custGeom>
              <a:avLst/>
              <a:gdLst/>
              <a:ahLst/>
              <a:rect l="l" t="t" r="r" b="b"/>
              <a:pathLst>
                <a:path w="10295" h="8710">
                  <a:moveTo>
                    <a:pt x="4515" y="0"/>
                  </a:moveTo>
                  <a:cubicBezTo>
                    <a:pt x="2263" y="0"/>
                    <a:pt x="365" y="1762"/>
                    <a:pt x="172" y="4043"/>
                  </a:cubicBezTo>
                  <a:cubicBezTo>
                    <a:pt x="1" y="6779"/>
                    <a:pt x="2207" y="8710"/>
                    <a:pt x="4554" y="8710"/>
                  </a:cubicBezTo>
                  <a:cubicBezTo>
                    <a:pt x="5529" y="8710"/>
                    <a:pt x="6527" y="8378"/>
                    <a:pt x="7390" y="7633"/>
                  </a:cubicBezTo>
                  <a:cubicBezTo>
                    <a:pt x="10294" y="5092"/>
                    <a:pt x="8681" y="293"/>
                    <a:pt x="4809" y="10"/>
                  </a:cubicBezTo>
                  <a:cubicBezTo>
                    <a:pt x="4711" y="4"/>
                    <a:pt x="4613" y="0"/>
                    <a:pt x="4515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Google Shape;2723;p54"/>
            <p:cNvSpPr/>
            <p:nvPr/>
          </p:nvSpPr>
          <p:spPr>
            <a:xfrm flipH="1">
              <a:off x="1934640" y="2196000"/>
              <a:ext cx="60480" cy="43920"/>
            </a:xfrm>
            <a:custGeom>
              <a:avLst/>
              <a:gdLst/>
              <a:ahLst/>
              <a:rect l="l" t="t" r="r" b="b"/>
              <a:pathLst>
                <a:path w="2184" h="1586">
                  <a:moveTo>
                    <a:pt x="1061" y="0"/>
                  </a:moveTo>
                  <a:cubicBezTo>
                    <a:pt x="76" y="0"/>
                    <a:pt x="1" y="1541"/>
                    <a:pt x="1051" y="1580"/>
                  </a:cubicBezTo>
                  <a:cubicBezTo>
                    <a:pt x="1090" y="1584"/>
                    <a:pt x="1127" y="1586"/>
                    <a:pt x="1163" y="1586"/>
                  </a:cubicBezTo>
                  <a:cubicBezTo>
                    <a:pt x="2144" y="1586"/>
                    <a:pt x="2184" y="46"/>
                    <a:pt x="1172" y="7"/>
                  </a:cubicBezTo>
                  <a:cubicBezTo>
                    <a:pt x="1134" y="2"/>
                    <a:pt x="1097" y="0"/>
                    <a:pt x="1061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160" bIns="-47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Google Shape;2724;p54"/>
            <p:cNvSpPr/>
            <p:nvPr/>
          </p:nvSpPr>
          <p:spPr>
            <a:xfrm flipH="1">
              <a:off x="1740600" y="1757880"/>
              <a:ext cx="277920" cy="247680"/>
            </a:xfrm>
            <a:custGeom>
              <a:avLst/>
              <a:gdLst/>
              <a:ahLst/>
              <a:rect l="l" t="t" r="r" b="b"/>
              <a:pathLst>
                <a:path w="10023" h="8940">
                  <a:moveTo>
                    <a:pt x="7946" y="1"/>
                  </a:moveTo>
                  <a:cubicBezTo>
                    <a:pt x="8000" y="48"/>
                    <a:pt x="8054" y="96"/>
                    <a:pt x="8106" y="146"/>
                  </a:cubicBezTo>
                  <a:cubicBezTo>
                    <a:pt x="8106" y="138"/>
                    <a:pt x="8107" y="130"/>
                    <a:pt x="8107" y="122"/>
                  </a:cubicBezTo>
                  <a:lnTo>
                    <a:pt x="7946" y="1"/>
                  </a:lnTo>
                  <a:close/>
                  <a:moveTo>
                    <a:pt x="8106" y="146"/>
                  </a:moveTo>
                  <a:cubicBezTo>
                    <a:pt x="7952" y="3832"/>
                    <a:pt x="4931" y="6609"/>
                    <a:pt x="1432" y="6609"/>
                  </a:cubicBezTo>
                  <a:cubicBezTo>
                    <a:pt x="962" y="6609"/>
                    <a:pt x="483" y="6558"/>
                    <a:pt x="1" y="6453"/>
                  </a:cubicBezTo>
                  <a:cubicBezTo>
                    <a:pt x="1031" y="7999"/>
                    <a:pt x="2800" y="8940"/>
                    <a:pt x="4664" y="8940"/>
                  </a:cubicBezTo>
                  <a:cubicBezTo>
                    <a:pt x="4843" y="8940"/>
                    <a:pt x="5023" y="8931"/>
                    <a:pt x="5203" y="8913"/>
                  </a:cubicBezTo>
                  <a:cubicBezTo>
                    <a:pt x="7220" y="8631"/>
                    <a:pt x="8873" y="7220"/>
                    <a:pt x="9478" y="5284"/>
                  </a:cubicBezTo>
                  <a:cubicBezTo>
                    <a:pt x="10022" y="3419"/>
                    <a:pt x="9481" y="1442"/>
                    <a:pt x="8106" y="146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Google Shape;2725;p54"/>
            <p:cNvSpPr/>
            <p:nvPr/>
          </p:nvSpPr>
          <p:spPr>
            <a:xfrm flipH="1">
              <a:off x="1724400" y="2367360"/>
              <a:ext cx="654480" cy="205560"/>
            </a:xfrm>
            <a:custGeom>
              <a:avLst/>
              <a:gdLst/>
              <a:ahLst/>
              <a:rect l="l" t="t" r="r" b="b"/>
              <a:pathLst>
                <a:path w="23594" h="7422">
                  <a:moveTo>
                    <a:pt x="1" y="0"/>
                  </a:moveTo>
                  <a:cubicBezTo>
                    <a:pt x="2058" y="4275"/>
                    <a:pt x="6453" y="7340"/>
                    <a:pt x="11212" y="7421"/>
                  </a:cubicBezTo>
                  <a:cubicBezTo>
                    <a:pt x="11244" y="7421"/>
                    <a:pt x="11276" y="7421"/>
                    <a:pt x="11308" y="7421"/>
                  </a:cubicBezTo>
                  <a:cubicBezTo>
                    <a:pt x="16044" y="7421"/>
                    <a:pt x="21470" y="4448"/>
                    <a:pt x="23593" y="242"/>
                  </a:cubicBezTo>
                  <a:cubicBezTo>
                    <a:pt x="20126" y="2778"/>
                    <a:pt x="16045" y="4039"/>
                    <a:pt x="11968" y="4039"/>
                  </a:cubicBezTo>
                  <a:cubicBezTo>
                    <a:pt x="7747" y="4039"/>
                    <a:pt x="3529" y="2688"/>
                    <a:pt x="1" y="0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Google Shape;2726;p54"/>
            <p:cNvSpPr/>
            <p:nvPr/>
          </p:nvSpPr>
          <p:spPr>
            <a:xfrm flipH="1">
              <a:off x="2004120" y="3129120"/>
              <a:ext cx="286920" cy="187920"/>
            </a:xfrm>
            <a:custGeom>
              <a:avLst/>
              <a:gdLst/>
              <a:ahLst/>
              <a:rect l="l" t="t" r="r" b="b"/>
              <a:pathLst>
                <a:path w="10351" h="6777">
                  <a:moveTo>
                    <a:pt x="4584" y="1"/>
                  </a:moveTo>
                  <a:cubicBezTo>
                    <a:pt x="4254" y="1"/>
                    <a:pt x="3932" y="51"/>
                    <a:pt x="3630" y="160"/>
                  </a:cubicBezTo>
                  <a:cubicBezTo>
                    <a:pt x="0" y="1450"/>
                    <a:pt x="3065" y="6653"/>
                    <a:pt x="5969" y="6774"/>
                  </a:cubicBezTo>
                  <a:cubicBezTo>
                    <a:pt x="6011" y="6775"/>
                    <a:pt x="6054" y="6776"/>
                    <a:pt x="6096" y="6776"/>
                  </a:cubicBezTo>
                  <a:cubicBezTo>
                    <a:pt x="7061" y="6776"/>
                    <a:pt x="8013" y="6336"/>
                    <a:pt x="8631" y="5564"/>
                  </a:cubicBezTo>
                  <a:cubicBezTo>
                    <a:pt x="10350" y="3164"/>
                    <a:pt x="7203" y="1"/>
                    <a:pt x="4584" y="1"/>
                  </a:cubicBezTo>
                  <a:close/>
                </a:path>
              </a:pathLst>
            </a:custGeom>
            <a:solidFill>
              <a:srgbClr val="cc5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Google Shape;2727;p54"/>
            <p:cNvSpPr/>
            <p:nvPr/>
          </p:nvSpPr>
          <p:spPr>
            <a:xfrm flipH="1">
              <a:off x="2472480" y="2243160"/>
              <a:ext cx="649800" cy="693360"/>
            </a:xfrm>
            <a:custGeom>
              <a:avLst/>
              <a:gdLst/>
              <a:ahLst/>
              <a:rect l="l" t="t" r="r" b="b"/>
              <a:pathLst>
                <a:path w="23433" h="25005">
                  <a:moveTo>
                    <a:pt x="9075" y="1"/>
                  </a:moveTo>
                  <a:cubicBezTo>
                    <a:pt x="7542" y="2138"/>
                    <a:pt x="7059" y="5203"/>
                    <a:pt x="8470" y="7421"/>
                  </a:cubicBezTo>
                  <a:cubicBezTo>
                    <a:pt x="6212" y="6534"/>
                    <a:pt x="4477" y="4679"/>
                    <a:pt x="3792" y="2340"/>
                  </a:cubicBezTo>
                  <a:cubicBezTo>
                    <a:pt x="3026" y="4880"/>
                    <a:pt x="3953" y="7623"/>
                    <a:pt x="6131" y="9196"/>
                  </a:cubicBezTo>
                  <a:cubicBezTo>
                    <a:pt x="3429" y="9196"/>
                    <a:pt x="1009" y="7582"/>
                    <a:pt x="1" y="5082"/>
                  </a:cubicBezTo>
                  <a:cubicBezTo>
                    <a:pt x="384" y="9634"/>
                    <a:pt x="4213" y="13098"/>
                    <a:pt x="8702" y="13098"/>
                  </a:cubicBezTo>
                  <a:cubicBezTo>
                    <a:pt x="8946" y="13098"/>
                    <a:pt x="9191" y="13088"/>
                    <a:pt x="9438" y="13067"/>
                  </a:cubicBezTo>
                  <a:cubicBezTo>
                    <a:pt x="12261" y="18189"/>
                    <a:pt x="16536" y="22343"/>
                    <a:pt x="21779" y="25005"/>
                  </a:cubicBezTo>
                  <a:cubicBezTo>
                    <a:pt x="22182" y="22182"/>
                    <a:pt x="22989" y="19842"/>
                    <a:pt x="23432" y="17019"/>
                  </a:cubicBezTo>
                  <a:cubicBezTo>
                    <a:pt x="16536" y="14438"/>
                    <a:pt x="13874" y="9196"/>
                    <a:pt x="13874" y="9196"/>
                  </a:cubicBezTo>
                  <a:cubicBezTo>
                    <a:pt x="13874" y="9196"/>
                    <a:pt x="19803" y="6252"/>
                    <a:pt x="16455" y="2138"/>
                  </a:cubicBezTo>
                  <a:cubicBezTo>
                    <a:pt x="16455" y="2138"/>
                    <a:pt x="15321" y="6307"/>
                    <a:pt x="12786" y="6307"/>
                  </a:cubicBezTo>
                  <a:cubicBezTo>
                    <a:pt x="12413" y="6307"/>
                    <a:pt x="12010" y="6216"/>
                    <a:pt x="11575" y="6010"/>
                  </a:cubicBezTo>
                  <a:cubicBezTo>
                    <a:pt x="8188" y="4397"/>
                    <a:pt x="9075" y="1"/>
                    <a:pt x="9075" y="1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Google Shape;2728;p54"/>
            <p:cNvSpPr/>
            <p:nvPr/>
          </p:nvSpPr>
          <p:spPr>
            <a:xfrm flipH="1">
              <a:off x="712440" y="2349360"/>
              <a:ext cx="682200" cy="649800"/>
            </a:xfrm>
            <a:custGeom>
              <a:avLst/>
              <a:gdLst/>
              <a:ahLst/>
              <a:rect l="l" t="t" r="r" b="b"/>
              <a:pathLst>
                <a:path w="24601" h="23433">
                  <a:moveTo>
                    <a:pt x="16091" y="1"/>
                  </a:moveTo>
                  <a:cubicBezTo>
                    <a:pt x="16091" y="1"/>
                    <a:pt x="16494" y="4437"/>
                    <a:pt x="12946" y="5687"/>
                  </a:cubicBezTo>
                  <a:cubicBezTo>
                    <a:pt x="12590" y="5813"/>
                    <a:pt x="12260" y="5869"/>
                    <a:pt x="11956" y="5869"/>
                  </a:cubicBezTo>
                  <a:cubicBezTo>
                    <a:pt x="9228" y="5869"/>
                    <a:pt x="8510" y="1332"/>
                    <a:pt x="8509" y="1332"/>
                  </a:cubicBezTo>
                  <a:cubicBezTo>
                    <a:pt x="4799" y="5042"/>
                    <a:pt x="10324" y="8591"/>
                    <a:pt x="10324" y="8591"/>
                  </a:cubicBezTo>
                  <a:cubicBezTo>
                    <a:pt x="10324" y="8591"/>
                    <a:pt x="7138" y="13511"/>
                    <a:pt x="0" y="15326"/>
                  </a:cubicBezTo>
                  <a:cubicBezTo>
                    <a:pt x="121" y="18149"/>
                    <a:pt x="645" y="20609"/>
                    <a:pt x="766" y="23432"/>
                  </a:cubicBezTo>
                  <a:cubicBezTo>
                    <a:pt x="6251" y="21375"/>
                    <a:pt x="10970" y="17705"/>
                    <a:pt x="14317" y="12946"/>
                  </a:cubicBezTo>
                  <a:cubicBezTo>
                    <a:pt x="14884" y="13057"/>
                    <a:pt x="15449" y="13110"/>
                    <a:pt x="16006" y="13110"/>
                  </a:cubicBezTo>
                  <a:cubicBezTo>
                    <a:pt x="20120" y="13110"/>
                    <a:pt x="23784" y="10201"/>
                    <a:pt x="24601" y="6010"/>
                  </a:cubicBezTo>
                  <a:cubicBezTo>
                    <a:pt x="23436" y="8158"/>
                    <a:pt x="21219" y="9485"/>
                    <a:pt x="18840" y="9485"/>
                  </a:cubicBezTo>
                  <a:cubicBezTo>
                    <a:pt x="18584" y="9485"/>
                    <a:pt x="18326" y="9469"/>
                    <a:pt x="18067" y="9438"/>
                  </a:cubicBezTo>
                  <a:cubicBezTo>
                    <a:pt x="20366" y="8107"/>
                    <a:pt x="21576" y="5486"/>
                    <a:pt x="21132" y="2864"/>
                  </a:cubicBezTo>
                  <a:cubicBezTo>
                    <a:pt x="20205" y="5123"/>
                    <a:pt x="18269" y="6857"/>
                    <a:pt x="15890" y="7462"/>
                  </a:cubicBezTo>
                  <a:cubicBezTo>
                    <a:pt x="17543" y="5405"/>
                    <a:pt x="17422" y="2300"/>
                    <a:pt x="16091" y="1"/>
                  </a:cubicBezTo>
                  <a:close/>
                </a:path>
              </a:pathLst>
            </a:custGeom>
            <a:solidFill>
              <a:srgbClr val="fd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Google Shape;2729;p54"/>
            <p:cNvSpPr/>
            <p:nvPr/>
          </p:nvSpPr>
          <p:spPr>
            <a:xfrm flipH="1">
              <a:off x="1581120" y="1441440"/>
              <a:ext cx="163440" cy="245880"/>
            </a:xfrm>
            <a:custGeom>
              <a:avLst/>
              <a:gdLst/>
              <a:ahLst/>
              <a:rect l="l" t="t" r="r" b="b"/>
              <a:pathLst>
                <a:path w="5889" h="8854">
                  <a:moveTo>
                    <a:pt x="1936" y="1"/>
                  </a:moveTo>
                  <a:lnTo>
                    <a:pt x="1936" y="1"/>
                  </a:lnTo>
                  <a:cubicBezTo>
                    <a:pt x="3590" y="2219"/>
                    <a:pt x="2662" y="5364"/>
                    <a:pt x="121" y="6413"/>
                  </a:cubicBezTo>
                  <a:cubicBezTo>
                    <a:pt x="0" y="7381"/>
                    <a:pt x="283" y="8187"/>
                    <a:pt x="1170" y="8631"/>
                  </a:cubicBezTo>
                  <a:cubicBezTo>
                    <a:pt x="1533" y="8780"/>
                    <a:pt x="1923" y="8854"/>
                    <a:pt x="2312" y="8854"/>
                  </a:cubicBezTo>
                  <a:cubicBezTo>
                    <a:pt x="2875" y="8854"/>
                    <a:pt x="3436" y="8699"/>
                    <a:pt x="3912" y="8389"/>
                  </a:cubicBezTo>
                  <a:cubicBezTo>
                    <a:pt x="4719" y="7824"/>
                    <a:pt x="5283" y="6978"/>
                    <a:pt x="5525" y="6050"/>
                  </a:cubicBezTo>
                  <a:cubicBezTo>
                    <a:pt x="5888" y="4800"/>
                    <a:pt x="5687" y="3429"/>
                    <a:pt x="5042" y="2340"/>
                  </a:cubicBezTo>
                  <a:cubicBezTo>
                    <a:pt x="4316" y="1170"/>
                    <a:pt x="3227" y="323"/>
                    <a:pt x="1936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Google Shape;2330;p40"/>
          <p:cNvGrpSpPr/>
          <p:nvPr/>
        </p:nvGrpSpPr>
        <p:grpSpPr>
          <a:xfrm>
            <a:off x="725400" y="542880"/>
            <a:ext cx="7693200" cy="566640"/>
            <a:chOff x="725400" y="542880"/>
            <a:chExt cx="7693200" cy="566640"/>
          </a:xfrm>
        </p:grpSpPr>
        <p:pic>
          <p:nvPicPr>
            <p:cNvPr id="1906" name="Google Shape;2330;p40" descr=""/>
            <p:cNvPicPr/>
            <p:nvPr/>
          </p:nvPicPr>
          <p:blipFill>
            <a:blip r:embed="rId1"/>
            <a:stretch/>
          </p:blipFill>
          <p:spPr>
            <a:xfrm>
              <a:off x="737640" y="545760"/>
              <a:ext cx="7668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7" name=""/>
            <p:cNvSpPr/>
            <p:nvPr/>
          </p:nvSpPr>
          <p:spPr>
            <a:xfrm>
              <a:off x="725400" y="542880"/>
              <a:ext cx="769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192320" y="571320"/>
            <a:ext cx="6759360" cy="57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5f1e6"/>
                </a:solidFill>
                <a:latin typeface="Sriracha"/>
                <a:ea typeface="Sriracha"/>
              </a:rPr>
              <a:t>3. ¿Dos decenas equivalen a 2 unida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Rectángulo: esquinas redondeadas 26"/>
          <p:cNvGrpSpPr/>
          <p:nvPr/>
        </p:nvGrpSpPr>
        <p:grpSpPr>
          <a:xfrm>
            <a:off x="4827600" y="3219480"/>
            <a:ext cx="2475000" cy="1028520"/>
            <a:chOff x="4827600" y="3219480"/>
            <a:chExt cx="2475000" cy="1028520"/>
          </a:xfrm>
        </p:grpSpPr>
        <p:pic>
          <p:nvPicPr>
            <p:cNvPr id="1910" name="Rectángulo: esquinas redondeadas 26" descr=""/>
            <p:cNvPicPr/>
            <p:nvPr/>
          </p:nvPicPr>
          <p:blipFill>
            <a:blip r:embed="rId2"/>
            <a:stretch/>
          </p:blipFill>
          <p:spPr>
            <a:xfrm>
              <a:off x="4827600" y="3219480"/>
              <a:ext cx="247500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1" name=""/>
            <p:cNvSpPr/>
            <p:nvPr/>
          </p:nvSpPr>
          <p:spPr>
            <a:xfrm>
              <a:off x="4932360" y="3297240"/>
              <a:ext cx="226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Rectángulo: esquinas redondeadas 31"/>
          <p:cNvGrpSpPr/>
          <p:nvPr/>
        </p:nvGrpSpPr>
        <p:grpSpPr>
          <a:xfrm>
            <a:off x="4827600" y="1749600"/>
            <a:ext cx="2475000" cy="1029960"/>
            <a:chOff x="4827600" y="1749600"/>
            <a:chExt cx="2475000" cy="1029960"/>
          </a:xfrm>
        </p:grpSpPr>
        <p:pic>
          <p:nvPicPr>
            <p:cNvPr id="1913" name="Rectángulo: esquinas redondeadas 31" descr=""/>
            <p:cNvPicPr/>
            <p:nvPr/>
          </p:nvPicPr>
          <p:blipFill>
            <a:blip r:embed="rId3"/>
            <a:stretch/>
          </p:blipFill>
          <p:spPr>
            <a:xfrm>
              <a:off x="4827600" y="1749600"/>
              <a:ext cx="247500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4" name=""/>
            <p:cNvSpPr/>
            <p:nvPr/>
          </p:nvSpPr>
          <p:spPr>
            <a:xfrm>
              <a:off x="4932360" y="1827360"/>
              <a:ext cx="22636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Google Shape;2382;p40"/>
          <p:cNvSpPr/>
          <p:nvPr/>
        </p:nvSpPr>
        <p:spPr>
          <a:xfrm>
            <a:off x="5067360" y="3449520"/>
            <a:ext cx="1993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riracha"/>
                <a:ea typeface="Sriracha"/>
              </a:rPr>
              <a:t>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Google Shape;2382;p40"/>
          <p:cNvSpPr/>
          <p:nvPr/>
        </p:nvSpPr>
        <p:spPr>
          <a:xfrm>
            <a:off x="5097600" y="2013120"/>
            <a:ext cx="19922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riracha"/>
                <a:ea typeface="Sriracha"/>
              </a:rPr>
              <a:t>Verd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7" name="Google Shape;2916;p63"/>
          <p:cNvGrpSpPr/>
          <p:nvPr/>
        </p:nvGrpSpPr>
        <p:grpSpPr>
          <a:xfrm>
            <a:off x="1636560" y="984240"/>
            <a:ext cx="2668680" cy="3090960"/>
            <a:chOff x="1636560" y="984240"/>
            <a:chExt cx="2668680" cy="3090960"/>
          </a:xfrm>
        </p:grpSpPr>
        <p:sp>
          <p:nvSpPr>
            <p:cNvPr id="1918" name="Google Shape;2917;p63"/>
            <p:cNvSpPr/>
            <p:nvPr/>
          </p:nvSpPr>
          <p:spPr>
            <a:xfrm>
              <a:off x="3139920" y="1163520"/>
              <a:ext cx="1165320" cy="1243080"/>
            </a:xfrm>
            <a:custGeom>
              <a:avLst/>
              <a:gdLst/>
              <a:ahLst/>
              <a:rect l="l" t="t" r="r" b="b"/>
              <a:pathLst>
                <a:path w="78416" h="83569">
                  <a:moveTo>
                    <a:pt x="55765" y="1"/>
                  </a:moveTo>
                  <a:cubicBezTo>
                    <a:pt x="53580" y="1"/>
                    <a:pt x="51394" y="332"/>
                    <a:pt x="49209" y="928"/>
                  </a:cubicBezTo>
                  <a:cubicBezTo>
                    <a:pt x="47752" y="1326"/>
                    <a:pt x="46228" y="1922"/>
                    <a:pt x="44838" y="2650"/>
                  </a:cubicBezTo>
                  <a:cubicBezTo>
                    <a:pt x="42851" y="3710"/>
                    <a:pt x="41063" y="5167"/>
                    <a:pt x="39539" y="6955"/>
                  </a:cubicBezTo>
                  <a:cubicBezTo>
                    <a:pt x="38480" y="8213"/>
                    <a:pt x="37619" y="9604"/>
                    <a:pt x="36956" y="11061"/>
                  </a:cubicBezTo>
                  <a:cubicBezTo>
                    <a:pt x="36625" y="11790"/>
                    <a:pt x="36493" y="12585"/>
                    <a:pt x="36559" y="13313"/>
                  </a:cubicBezTo>
                  <a:cubicBezTo>
                    <a:pt x="36691" y="15499"/>
                    <a:pt x="36956" y="17684"/>
                    <a:pt x="37354" y="19804"/>
                  </a:cubicBezTo>
                  <a:cubicBezTo>
                    <a:pt x="38546" y="28480"/>
                    <a:pt x="37751" y="41792"/>
                    <a:pt x="9405" y="60800"/>
                  </a:cubicBezTo>
                  <a:cubicBezTo>
                    <a:pt x="1524" y="66098"/>
                    <a:pt x="0" y="81662"/>
                    <a:pt x="15034" y="83450"/>
                  </a:cubicBezTo>
                  <a:cubicBezTo>
                    <a:pt x="15717" y="83531"/>
                    <a:pt x="16407" y="83568"/>
                    <a:pt x="17102" y="83568"/>
                  </a:cubicBezTo>
                  <a:cubicBezTo>
                    <a:pt x="23833" y="83568"/>
                    <a:pt x="31041" y="80042"/>
                    <a:pt x="35963" y="77821"/>
                  </a:cubicBezTo>
                  <a:cubicBezTo>
                    <a:pt x="50732" y="70867"/>
                    <a:pt x="64110" y="57488"/>
                    <a:pt x="71992" y="43183"/>
                  </a:cubicBezTo>
                  <a:lnTo>
                    <a:pt x="71992" y="43183"/>
                  </a:lnTo>
                  <a:lnTo>
                    <a:pt x="67554" y="43646"/>
                  </a:lnTo>
                  <a:lnTo>
                    <a:pt x="67554" y="43646"/>
                  </a:lnTo>
                  <a:cubicBezTo>
                    <a:pt x="67554" y="43646"/>
                    <a:pt x="78416" y="14439"/>
                    <a:pt x="68084" y="3909"/>
                  </a:cubicBezTo>
                  <a:cubicBezTo>
                    <a:pt x="67289" y="3114"/>
                    <a:pt x="66296" y="2451"/>
                    <a:pt x="65302" y="1922"/>
                  </a:cubicBezTo>
                  <a:cubicBezTo>
                    <a:pt x="63249" y="994"/>
                    <a:pt x="61130" y="398"/>
                    <a:pt x="58878" y="133"/>
                  </a:cubicBezTo>
                  <a:cubicBezTo>
                    <a:pt x="57885" y="67"/>
                    <a:pt x="56825" y="1"/>
                    <a:pt x="55765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Google Shape;2918;p63"/>
            <p:cNvSpPr/>
            <p:nvPr/>
          </p:nvSpPr>
          <p:spPr>
            <a:xfrm>
              <a:off x="4015080" y="1057680"/>
              <a:ext cx="95400" cy="135720"/>
            </a:xfrm>
            <a:custGeom>
              <a:avLst/>
              <a:gdLst/>
              <a:ahLst/>
              <a:rect l="l" t="t" r="r" b="b"/>
              <a:pathLst>
                <a:path w="6425" h="9152">
                  <a:moveTo>
                    <a:pt x="3948" y="1"/>
                  </a:moveTo>
                  <a:cubicBezTo>
                    <a:pt x="2169" y="1"/>
                    <a:pt x="772" y="4276"/>
                    <a:pt x="0" y="7364"/>
                  </a:cubicBezTo>
                  <a:cubicBezTo>
                    <a:pt x="2252" y="7562"/>
                    <a:pt x="4371" y="8158"/>
                    <a:pt x="6424" y="9152"/>
                  </a:cubicBezTo>
                  <a:cubicBezTo>
                    <a:pt x="6424" y="6105"/>
                    <a:pt x="6160" y="277"/>
                    <a:pt x="4106" y="12"/>
                  </a:cubicBezTo>
                  <a:cubicBezTo>
                    <a:pt x="4053" y="5"/>
                    <a:pt x="4000" y="1"/>
                    <a:pt x="3948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Google Shape;2919;p63"/>
            <p:cNvSpPr/>
            <p:nvPr/>
          </p:nvSpPr>
          <p:spPr>
            <a:xfrm>
              <a:off x="3872520" y="1044000"/>
              <a:ext cx="96120" cy="133560"/>
            </a:xfrm>
            <a:custGeom>
              <a:avLst/>
              <a:gdLst/>
              <a:ahLst/>
              <a:rect l="l" t="t" r="r" b="b"/>
              <a:pathLst>
                <a:path w="6492" h="9011">
                  <a:moveTo>
                    <a:pt x="2660" y="0"/>
                  </a:moveTo>
                  <a:cubicBezTo>
                    <a:pt x="2635" y="0"/>
                    <a:pt x="2609" y="1"/>
                    <a:pt x="2584" y="3"/>
                  </a:cubicBezTo>
                  <a:cubicBezTo>
                    <a:pt x="531" y="202"/>
                    <a:pt x="67" y="5831"/>
                    <a:pt x="1" y="9010"/>
                  </a:cubicBezTo>
                  <a:cubicBezTo>
                    <a:pt x="2120" y="8414"/>
                    <a:pt x="4306" y="8083"/>
                    <a:pt x="6491" y="8083"/>
                  </a:cubicBezTo>
                  <a:cubicBezTo>
                    <a:pt x="5903" y="5010"/>
                    <a:pt x="4605" y="0"/>
                    <a:pt x="2660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2480" bIns="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Google Shape;2920;p63"/>
            <p:cNvSpPr/>
            <p:nvPr/>
          </p:nvSpPr>
          <p:spPr>
            <a:xfrm>
              <a:off x="3685320" y="1116360"/>
              <a:ext cx="120960" cy="150840"/>
            </a:xfrm>
            <a:custGeom>
              <a:avLst/>
              <a:gdLst/>
              <a:ahLst/>
              <a:rect l="l" t="t" r="r" b="b"/>
              <a:pathLst>
                <a:path w="8147" h="10173">
                  <a:moveTo>
                    <a:pt x="2459" y="1"/>
                  </a:moveTo>
                  <a:cubicBezTo>
                    <a:pt x="2294" y="1"/>
                    <a:pt x="2136" y="34"/>
                    <a:pt x="1987" y="105"/>
                  </a:cubicBezTo>
                  <a:cubicBezTo>
                    <a:pt x="0" y="1032"/>
                    <a:pt x="1921" y="7390"/>
                    <a:pt x="2848" y="10172"/>
                  </a:cubicBezTo>
                  <a:cubicBezTo>
                    <a:pt x="4305" y="8384"/>
                    <a:pt x="6160" y="6927"/>
                    <a:pt x="8147" y="5867"/>
                  </a:cubicBezTo>
                  <a:cubicBezTo>
                    <a:pt x="6639" y="3455"/>
                    <a:pt x="4144" y="1"/>
                    <a:pt x="2459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9760" bIns="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Google Shape;2921;p63"/>
            <p:cNvSpPr/>
            <p:nvPr/>
          </p:nvSpPr>
          <p:spPr>
            <a:xfrm>
              <a:off x="3565440" y="1361880"/>
              <a:ext cx="129600" cy="96120"/>
            </a:xfrm>
            <a:custGeom>
              <a:avLst/>
              <a:gdLst/>
              <a:ahLst/>
              <a:rect l="l" t="t" r="r" b="b"/>
              <a:pathLst>
                <a:path w="8743" h="6491">
                  <a:moveTo>
                    <a:pt x="7948" y="0"/>
                  </a:moveTo>
                  <a:cubicBezTo>
                    <a:pt x="4835" y="662"/>
                    <a:pt x="0" y="1855"/>
                    <a:pt x="133" y="3841"/>
                  </a:cubicBezTo>
                  <a:cubicBezTo>
                    <a:pt x="265" y="5828"/>
                    <a:pt x="5564" y="6358"/>
                    <a:pt x="8743" y="6491"/>
                  </a:cubicBezTo>
                  <a:cubicBezTo>
                    <a:pt x="8345" y="4371"/>
                    <a:pt x="8080" y="2186"/>
                    <a:pt x="7948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040" bIns="5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Google Shape;2922;p63"/>
            <p:cNvSpPr/>
            <p:nvPr/>
          </p:nvSpPr>
          <p:spPr>
            <a:xfrm>
              <a:off x="1636560" y="984240"/>
              <a:ext cx="1995480" cy="3090960"/>
            </a:xfrm>
            <a:custGeom>
              <a:avLst/>
              <a:gdLst/>
              <a:ahLst/>
              <a:rect l="l" t="t" r="r" b="b"/>
              <a:pathLst>
                <a:path w="134314" h="208027">
                  <a:moveTo>
                    <a:pt x="70270" y="0"/>
                  </a:moveTo>
                  <a:cubicBezTo>
                    <a:pt x="70270" y="0"/>
                    <a:pt x="54772" y="1192"/>
                    <a:pt x="43315" y="11391"/>
                  </a:cubicBezTo>
                  <a:cubicBezTo>
                    <a:pt x="37420" y="16557"/>
                    <a:pt x="38679" y="19538"/>
                    <a:pt x="38679" y="19538"/>
                  </a:cubicBezTo>
                  <a:cubicBezTo>
                    <a:pt x="38679" y="19538"/>
                    <a:pt x="38418" y="19505"/>
                    <a:pt x="37950" y="19505"/>
                  </a:cubicBezTo>
                  <a:cubicBezTo>
                    <a:pt x="36417" y="19505"/>
                    <a:pt x="32656" y="19855"/>
                    <a:pt x="28546" y="22849"/>
                  </a:cubicBezTo>
                  <a:cubicBezTo>
                    <a:pt x="20333" y="28810"/>
                    <a:pt x="17419" y="34241"/>
                    <a:pt x="14108" y="44904"/>
                  </a:cubicBezTo>
                  <a:lnTo>
                    <a:pt x="21923" y="42254"/>
                  </a:lnTo>
                  <a:lnTo>
                    <a:pt x="21923" y="42254"/>
                  </a:lnTo>
                  <a:cubicBezTo>
                    <a:pt x="21592" y="42652"/>
                    <a:pt x="10730" y="57288"/>
                    <a:pt x="9140" y="75369"/>
                  </a:cubicBezTo>
                  <a:lnTo>
                    <a:pt x="15300" y="70667"/>
                  </a:lnTo>
                  <a:lnTo>
                    <a:pt x="15300" y="70667"/>
                  </a:lnTo>
                  <a:cubicBezTo>
                    <a:pt x="15299" y="70667"/>
                    <a:pt x="1" y="100735"/>
                    <a:pt x="9472" y="139810"/>
                  </a:cubicBezTo>
                  <a:lnTo>
                    <a:pt x="13644" y="128883"/>
                  </a:lnTo>
                  <a:cubicBezTo>
                    <a:pt x="13644" y="128883"/>
                    <a:pt x="14108" y="165574"/>
                    <a:pt x="26095" y="192926"/>
                  </a:cubicBezTo>
                  <a:lnTo>
                    <a:pt x="28943" y="186303"/>
                  </a:lnTo>
                  <a:cubicBezTo>
                    <a:pt x="28943" y="186303"/>
                    <a:pt x="32851" y="196370"/>
                    <a:pt x="44838" y="208027"/>
                  </a:cubicBezTo>
                  <a:lnTo>
                    <a:pt x="43845" y="71064"/>
                  </a:lnTo>
                  <a:lnTo>
                    <a:pt x="134314" y="69673"/>
                  </a:lnTo>
                  <a:cubicBezTo>
                    <a:pt x="131135" y="59408"/>
                    <a:pt x="124910" y="48679"/>
                    <a:pt x="124909" y="48679"/>
                  </a:cubicBezTo>
                  <a:lnTo>
                    <a:pt x="124909" y="48679"/>
                  </a:lnTo>
                  <a:lnTo>
                    <a:pt x="131532" y="51791"/>
                  </a:lnTo>
                  <a:cubicBezTo>
                    <a:pt x="131532" y="51791"/>
                    <a:pt x="129877" y="39340"/>
                    <a:pt x="122128" y="33578"/>
                  </a:cubicBezTo>
                  <a:lnTo>
                    <a:pt x="122128" y="33578"/>
                  </a:lnTo>
                  <a:lnTo>
                    <a:pt x="127625" y="34638"/>
                  </a:lnTo>
                  <a:cubicBezTo>
                    <a:pt x="122989" y="26426"/>
                    <a:pt x="114909" y="20664"/>
                    <a:pt x="105637" y="19008"/>
                  </a:cubicBezTo>
                  <a:cubicBezTo>
                    <a:pt x="105637" y="19008"/>
                    <a:pt x="111281" y="17840"/>
                    <a:pt x="116397" y="17840"/>
                  </a:cubicBezTo>
                  <a:cubicBezTo>
                    <a:pt x="117250" y="17840"/>
                    <a:pt x="118088" y="17872"/>
                    <a:pt x="118883" y="17948"/>
                  </a:cubicBezTo>
                  <a:cubicBezTo>
                    <a:pt x="118883" y="17948"/>
                    <a:pt x="102937" y="5325"/>
                    <a:pt x="80536" y="5325"/>
                  </a:cubicBezTo>
                  <a:cubicBezTo>
                    <a:pt x="75545" y="5325"/>
                    <a:pt x="70234" y="5951"/>
                    <a:pt x="64707" y="7484"/>
                  </a:cubicBezTo>
                  <a:lnTo>
                    <a:pt x="70270" y="0"/>
                  </a:ln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Google Shape;2923;p63"/>
            <p:cNvSpPr/>
            <p:nvPr/>
          </p:nvSpPr>
          <p:spPr>
            <a:xfrm>
              <a:off x="2735280" y="1436400"/>
              <a:ext cx="196560" cy="296640"/>
            </a:xfrm>
            <a:custGeom>
              <a:avLst/>
              <a:gdLst/>
              <a:ahLst/>
              <a:rect l="l" t="t" r="r" b="b"/>
              <a:pathLst>
                <a:path w="13245" h="19962">
                  <a:moveTo>
                    <a:pt x="7397" y="0"/>
                  </a:moveTo>
                  <a:cubicBezTo>
                    <a:pt x="3178" y="0"/>
                    <a:pt x="127" y="12599"/>
                    <a:pt x="65" y="15588"/>
                  </a:cubicBezTo>
                  <a:cubicBezTo>
                    <a:pt x="0" y="18627"/>
                    <a:pt x="2903" y="19962"/>
                    <a:pt x="5382" y="19962"/>
                  </a:cubicBezTo>
                  <a:cubicBezTo>
                    <a:pt x="5442" y="19962"/>
                    <a:pt x="5502" y="19961"/>
                    <a:pt x="5562" y="19960"/>
                  </a:cubicBezTo>
                  <a:cubicBezTo>
                    <a:pt x="9006" y="19827"/>
                    <a:pt x="9403" y="18436"/>
                    <a:pt x="10331" y="15522"/>
                  </a:cubicBezTo>
                  <a:cubicBezTo>
                    <a:pt x="11456" y="11813"/>
                    <a:pt x="13245" y="3005"/>
                    <a:pt x="9138" y="687"/>
                  </a:cubicBezTo>
                  <a:cubicBezTo>
                    <a:pt x="8874" y="488"/>
                    <a:pt x="8542" y="289"/>
                    <a:pt x="8211" y="157"/>
                  </a:cubicBezTo>
                  <a:cubicBezTo>
                    <a:pt x="7936" y="51"/>
                    <a:pt x="7664" y="0"/>
                    <a:pt x="7397" y="0"/>
                  </a:cubicBez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Google Shape;2924;p63"/>
            <p:cNvSpPr/>
            <p:nvPr/>
          </p:nvSpPr>
          <p:spPr>
            <a:xfrm>
              <a:off x="2347560" y="1339560"/>
              <a:ext cx="382320" cy="368280"/>
            </a:xfrm>
            <a:custGeom>
              <a:avLst/>
              <a:gdLst/>
              <a:ahLst/>
              <a:rect l="l" t="t" r="r" b="b"/>
              <a:pathLst>
                <a:path w="25764" h="24709">
                  <a:moveTo>
                    <a:pt x="11648" y="0"/>
                  </a:moveTo>
                  <a:cubicBezTo>
                    <a:pt x="10438" y="0"/>
                    <a:pt x="9234" y="188"/>
                    <a:pt x="8080" y="477"/>
                  </a:cubicBezTo>
                  <a:cubicBezTo>
                    <a:pt x="6358" y="940"/>
                    <a:pt x="4835" y="1801"/>
                    <a:pt x="3511" y="3060"/>
                  </a:cubicBezTo>
                  <a:cubicBezTo>
                    <a:pt x="2782" y="3722"/>
                    <a:pt x="2186" y="4450"/>
                    <a:pt x="1656" y="5311"/>
                  </a:cubicBezTo>
                  <a:cubicBezTo>
                    <a:pt x="1126" y="6239"/>
                    <a:pt x="729" y="7166"/>
                    <a:pt x="464" y="8226"/>
                  </a:cubicBezTo>
                  <a:cubicBezTo>
                    <a:pt x="199" y="9285"/>
                    <a:pt x="67" y="10345"/>
                    <a:pt x="0" y="11405"/>
                  </a:cubicBezTo>
                  <a:cubicBezTo>
                    <a:pt x="0" y="12530"/>
                    <a:pt x="133" y="13723"/>
                    <a:pt x="398" y="14782"/>
                  </a:cubicBezTo>
                  <a:cubicBezTo>
                    <a:pt x="861" y="17166"/>
                    <a:pt x="2120" y="19352"/>
                    <a:pt x="3908" y="21008"/>
                  </a:cubicBezTo>
                  <a:cubicBezTo>
                    <a:pt x="5696" y="22597"/>
                    <a:pt x="7882" y="23789"/>
                    <a:pt x="10200" y="24319"/>
                  </a:cubicBezTo>
                  <a:cubicBezTo>
                    <a:pt x="11260" y="24576"/>
                    <a:pt x="12337" y="24709"/>
                    <a:pt x="13413" y="24709"/>
                  </a:cubicBezTo>
                  <a:cubicBezTo>
                    <a:pt x="14555" y="24709"/>
                    <a:pt x="15698" y="24560"/>
                    <a:pt x="16823" y="24253"/>
                  </a:cubicBezTo>
                  <a:cubicBezTo>
                    <a:pt x="18743" y="23723"/>
                    <a:pt x="20598" y="22730"/>
                    <a:pt x="22055" y="21405"/>
                  </a:cubicBezTo>
                  <a:cubicBezTo>
                    <a:pt x="24439" y="19220"/>
                    <a:pt x="25764" y="16107"/>
                    <a:pt x="25565" y="12862"/>
                  </a:cubicBezTo>
                  <a:cubicBezTo>
                    <a:pt x="25499" y="11802"/>
                    <a:pt x="25300" y="10742"/>
                    <a:pt x="25035" y="9749"/>
                  </a:cubicBezTo>
                  <a:cubicBezTo>
                    <a:pt x="24462" y="8221"/>
                    <a:pt x="23950" y="7427"/>
                    <a:pt x="23794" y="7427"/>
                  </a:cubicBezTo>
                  <a:cubicBezTo>
                    <a:pt x="23788" y="7427"/>
                    <a:pt x="23782" y="7428"/>
                    <a:pt x="23777" y="7431"/>
                  </a:cubicBezTo>
                  <a:cubicBezTo>
                    <a:pt x="23644" y="7497"/>
                    <a:pt x="23909" y="8358"/>
                    <a:pt x="24240" y="10014"/>
                  </a:cubicBezTo>
                  <a:cubicBezTo>
                    <a:pt x="24638" y="12199"/>
                    <a:pt x="24373" y="14451"/>
                    <a:pt x="23512" y="16504"/>
                  </a:cubicBezTo>
                  <a:cubicBezTo>
                    <a:pt x="22916" y="17895"/>
                    <a:pt x="21989" y="19153"/>
                    <a:pt x="20796" y="20081"/>
                  </a:cubicBezTo>
                  <a:cubicBezTo>
                    <a:pt x="19538" y="21206"/>
                    <a:pt x="17949" y="22001"/>
                    <a:pt x="16227" y="22332"/>
                  </a:cubicBezTo>
                  <a:cubicBezTo>
                    <a:pt x="15299" y="22564"/>
                    <a:pt x="14356" y="22680"/>
                    <a:pt x="13412" y="22680"/>
                  </a:cubicBezTo>
                  <a:cubicBezTo>
                    <a:pt x="12468" y="22680"/>
                    <a:pt x="11524" y="22564"/>
                    <a:pt x="10597" y="22332"/>
                  </a:cubicBezTo>
                  <a:cubicBezTo>
                    <a:pt x="8610" y="21803"/>
                    <a:pt x="6822" y="20809"/>
                    <a:pt x="5233" y="19485"/>
                  </a:cubicBezTo>
                  <a:cubicBezTo>
                    <a:pt x="3775" y="18094"/>
                    <a:pt x="2782" y="16306"/>
                    <a:pt x="2318" y="14319"/>
                  </a:cubicBezTo>
                  <a:cubicBezTo>
                    <a:pt x="2120" y="13391"/>
                    <a:pt x="1987" y="12398"/>
                    <a:pt x="1987" y="11471"/>
                  </a:cubicBezTo>
                  <a:cubicBezTo>
                    <a:pt x="1987" y="10544"/>
                    <a:pt x="2053" y="9616"/>
                    <a:pt x="2252" y="8689"/>
                  </a:cubicBezTo>
                  <a:cubicBezTo>
                    <a:pt x="2517" y="7828"/>
                    <a:pt x="2782" y="6967"/>
                    <a:pt x="3179" y="6239"/>
                  </a:cubicBezTo>
                  <a:cubicBezTo>
                    <a:pt x="3378" y="5841"/>
                    <a:pt x="3643" y="5510"/>
                    <a:pt x="3842" y="5179"/>
                  </a:cubicBezTo>
                  <a:cubicBezTo>
                    <a:pt x="4107" y="4848"/>
                    <a:pt x="4372" y="4517"/>
                    <a:pt x="4703" y="4252"/>
                  </a:cubicBezTo>
                  <a:cubicBezTo>
                    <a:pt x="5762" y="3192"/>
                    <a:pt x="7021" y="2331"/>
                    <a:pt x="8478" y="1867"/>
                  </a:cubicBezTo>
                  <a:cubicBezTo>
                    <a:pt x="9670" y="1470"/>
                    <a:pt x="10928" y="1205"/>
                    <a:pt x="12187" y="1139"/>
                  </a:cubicBezTo>
                  <a:cubicBezTo>
                    <a:pt x="12683" y="1106"/>
                    <a:pt x="13180" y="1089"/>
                    <a:pt x="13677" y="1089"/>
                  </a:cubicBezTo>
                  <a:cubicBezTo>
                    <a:pt x="14173" y="1089"/>
                    <a:pt x="14670" y="1106"/>
                    <a:pt x="15167" y="1139"/>
                  </a:cubicBezTo>
                  <a:cubicBezTo>
                    <a:pt x="16190" y="1221"/>
                    <a:pt x="16935" y="1277"/>
                    <a:pt x="17355" y="1277"/>
                  </a:cubicBezTo>
                  <a:cubicBezTo>
                    <a:pt x="17615" y="1277"/>
                    <a:pt x="17750" y="1256"/>
                    <a:pt x="17750" y="1205"/>
                  </a:cubicBezTo>
                  <a:cubicBezTo>
                    <a:pt x="17750" y="1139"/>
                    <a:pt x="16955" y="742"/>
                    <a:pt x="15299" y="410"/>
                  </a:cubicBezTo>
                  <a:cubicBezTo>
                    <a:pt x="14306" y="146"/>
                    <a:pt x="13246" y="13"/>
                    <a:pt x="12187" y="13"/>
                  </a:cubicBezTo>
                  <a:cubicBezTo>
                    <a:pt x="12007" y="5"/>
                    <a:pt x="11827" y="0"/>
                    <a:pt x="11648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Google Shape;2925;p63"/>
            <p:cNvSpPr/>
            <p:nvPr/>
          </p:nvSpPr>
          <p:spPr>
            <a:xfrm>
              <a:off x="2352600" y="1325520"/>
              <a:ext cx="380880" cy="279360"/>
            </a:xfrm>
            <a:custGeom>
              <a:avLst/>
              <a:gdLst/>
              <a:ahLst/>
              <a:rect l="l" t="t" r="r" b="b"/>
              <a:pathLst>
                <a:path w="25698" h="18709">
                  <a:moveTo>
                    <a:pt x="13418" y="1"/>
                  </a:moveTo>
                  <a:cubicBezTo>
                    <a:pt x="12938" y="1"/>
                    <a:pt x="12460" y="31"/>
                    <a:pt x="11988" y="92"/>
                  </a:cubicBezTo>
                  <a:cubicBezTo>
                    <a:pt x="10531" y="225"/>
                    <a:pt x="9140" y="622"/>
                    <a:pt x="7816" y="1152"/>
                  </a:cubicBezTo>
                  <a:cubicBezTo>
                    <a:pt x="5564" y="2079"/>
                    <a:pt x="3577" y="3602"/>
                    <a:pt x="2120" y="5457"/>
                  </a:cubicBezTo>
                  <a:cubicBezTo>
                    <a:pt x="1060" y="6781"/>
                    <a:pt x="398" y="8238"/>
                    <a:pt x="133" y="9894"/>
                  </a:cubicBezTo>
                  <a:cubicBezTo>
                    <a:pt x="1" y="10291"/>
                    <a:pt x="1" y="10755"/>
                    <a:pt x="1" y="11152"/>
                  </a:cubicBezTo>
                  <a:cubicBezTo>
                    <a:pt x="67" y="11484"/>
                    <a:pt x="67" y="11616"/>
                    <a:pt x="133" y="11616"/>
                  </a:cubicBezTo>
                  <a:cubicBezTo>
                    <a:pt x="265" y="11616"/>
                    <a:pt x="332" y="11484"/>
                    <a:pt x="464" y="11219"/>
                  </a:cubicBezTo>
                  <a:cubicBezTo>
                    <a:pt x="597" y="10954"/>
                    <a:pt x="663" y="10556"/>
                    <a:pt x="928" y="10093"/>
                  </a:cubicBezTo>
                  <a:cubicBezTo>
                    <a:pt x="1458" y="8702"/>
                    <a:pt x="2252" y="7444"/>
                    <a:pt x="3246" y="6384"/>
                  </a:cubicBezTo>
                  <a:cubicBezTo>
                    <a:pt x="4769" y="4861"/>
                    <a:pt x="6557" y="3668"/>
                    <a:pt x="8544" y="2940"/>
                  </a:cubicBezTo>
                  <a:cubicBezTo>
                    <a:pt x="9736" y="2476"/>
                    <a:pt x="10995" y="2211"/>
                    <a:pt x="12187" y="2145"/>
                  </a:cubicBezTo>
                  <a:cubicBezTo>
                    <a:pt x="12611" y="2082"/>
                    <a:pt x="13036" y="2052"/>
                    <a:pt x="13461" y="2052"/>
                  </a:cubicBezTo>
                  <a:cubicBezTo>
                    <a:pt x="14361" y="2052"/>
                    <a:pt x="15261" y="2185"/>
                    <a:pt x="16161" y="2410"/>
                  </a:cubicBezTo>
                  <a:cubicBezTo>
                    <a:pt x="17419" y="2741"/>
                    <a:pt x="18545" y="3337"/>
                    <a:pt x="19604" y="4132"/>
                  </a:cubicBezTo>
                  <a:cubicBezTo>
                    <a:pt x="20598" y="4861"/>
                    <a:pt x="21393" y="5788"/>
                    <a:pt x="22121" y="6781"/>
                  </a:cubicBezTo>
                  <a:cubicBezTo>
                    <a:pt x="23313" y="8569"/>
                    <a:pt x="24042" y="10556"/>
                    <a:pt x="24241" y="12742"/>
                  </a:cubicBezTo>
                  <a:cubicBezTo>
                    <a:pt x="24307" y="14133"/>
                    <a:pt x="24241" y="15590"/>
                    <a:pt x="23843" y="17047"/>
                  </a:cubicBezTo>
                  <a:cubicBezTo>
                    <a:pt x="23512" y="18040"/>
                    <a:pt x="23380" y="18636"/>
                    <a:pt x="23512" y="18703"/>
                  </a:cubicBezTo>
                  <a:cubicBezTo>
                    <a:pt x="23520" y="18707"/>
                    <a:pt x="23530" y="18709"/>
                    <a:pt x="23540" y="18709"/>
                  </a:cubicBezTo>
                  <a:cubicBezTo>
                    <a:pt x="23695" y="18709"/>
                    <a:pt x="24075" y="18243"/>
                    <a:pt x="24572" y="17312"/>
                  </a:cubicBezTo>
                  <a:cubicBezTo>
                    <a:pt x="25300" y="15855"/>
                    <a:pt x="25698" y="14265"/>
                    <a:pt x="25698" y="12676"/>
                  </a:cubicBezTo>
                  <a:cubicBezTo>
                    <a:pt x="25698" y="10225"/>
                    <a:pt x="25035" y="7841"/>
                    <a:pt x="23711" y="5722"/>
                  </a:cubicBezTo>
                  <a:cubicBezTo>
                    <a:pt x="22982" y="4529"/>
                    <a:pt x="21989" y="3404"/>
                    <a:pt x="20863" y="2476"/>
                  </a:cubicBezTo>
                  <a:cubicBezTo>
                    <a:pt x="19604" y="1549"/>
                    <a:pt x="18147" y="821"/>
                    <a:pt x="16624" y="423"/>
                  </a:cubicBezTo>
                  <a:cubicBezTo>
                    <a:pt x="15572" y="149"/>
                    <a:pt x="14489" y="1"/>
                    <a:pt x="13418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Google Shape;2926;p63"/>
            <p:cNvSpPr/>
            <p:nvPr/>
          </p:nvSpPr>
          <p:spPr>
            <a:xfrm>
              <a:off x="2187360" y="1282680"/>
              <a:ext cx="182520" cy="198360"/>
            </a:xfrm>
            <a:custGeom>
              <a:avLst/>
              <a:gdLst/>
              <a:ahLst/>
              <a:rect l="l" t="t" r="r" b="b"/>
              <a:pathLst>
                <a:path w="12253" h="13277">
                  <a:moveTo>
                    <a:pt x="297" y="1"/>
                  </a:moveTo>
                  <a:cubicBezTo>
                    <a:pt x="286" y="1"/>
                    <a:pt x="275" y="2"/>
                    <a:pt x="265" y="5"/>
                  </a:cubicBezTo>
                  <a:cubicBezTo>
                    <a:pt x="0" y="71"/>
                    <a:pt x="0" y="1197"/>
                    <a:pt x="663" y="2786"/>
                  </a:cubicBezTo>
                  <a:cubicBezTo>
                    <a:pt x="1590" y="4773"/>
                    <a:pt x="2782" y="6694"/>
                    <a:pt x="4239" y="8350"/>
                  </a:cubicBezTo>
                  <a:cubicBezTo>
                    <a:pt x="5630" y="10072"/>
                    <a:pt x="7418" y="11529"/>
                    <a:pt x="9339" y="12588"/>
                  </a:cubicBezTo>
                  <a:cubicBezTo>
                    <a:pt x="10001" y="12920"/>
                    <a:pt x="10663" y="13184"/>
                    <a:pt x="11392" y="13251"/>
                  </a:cubicBezTo>
                  <a:cubicBezTo>
                    <a:pt x="11516" y="13268"/>
                    <a:pt x="11631" y="13277"/>
                    <a:pt x="11732" y="13277"/>
                  </a:cubicBezTo>
                  <a:cubicBezTo>
                    <a:pt x="12009" y="13277"/>
                    <a:pt x="12186" y="13215"/>
                    <a:pt x="12186" y="13118"/>
                  </a:cubicBezTo>
                  <a:cubicBezTo>
                    <a:pt x="12253" y="12986"/>
                    <a:pt x="11988" y="12787"/>
                    <a:pt x="11657" y="12456"/>
                  </a:cubicBezTo>
                  <a:cubicBezTo>
                    <a:pt x="11325" y="12191"/>
                    <a:pt x="10796" y="11860"/>
                    <a:pt x="10200" y="11330"/>
                  </a:cubicBezTo>
                  <a:cubicBezTo>
                    <a:pt x="8610" y="10005"/>
                    <a:pt x="7153" y="8548"/>
                    <a:pt x="5828" y="6959"/>
                  </a:cubicBezTo>
                  <a:cubicBezTo>
                    <a:pt x="4239" y="5104"/>
                    <a:pt x="2914" y="3382"/>
                    <a:pt x="1987" y="2058"/>
                  </a:cubicBezTo>
                  <a:cubicBezTo>
                    <a:pt x="1096" y="785"/>
                    <a:pt x="572" y="1"/>
                    <a:pt x="297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Google Shape;2927;p63"/>
            <p:cNvSpPr/>
            <p:nvPr/>
          </p:nvSpPr>
          <p:spPr>
            <a:xfrm>
              <a:off x="2928960" y="1466640"/>
              <a:ext cx="395280" cy="363240"/>
            </a:xfrm>
            <a:custGeom>
              <a:avLst/>
              <a:gdLst/>
              <a:ahLst/>
              <a:rect l="l" t="t" r="r" b="b"/>
              <a:pathLst>
                <a:path w="26626" h="24509">
                  <a:moveTo>
                    <a:pt x="13851" y="1"/>
                  </a:moveTo>
                  <a:cubicBezTo>
                    <a:pt x="13671" y="1"/>
                    <a:pt x="13578" y="23"/>
                    <a:pt x="13578" y="65"/>
                  </a:cubicBezTo>
                  <a:cubicBezTo>
                    <a:pt x="13512" y="263"/>
                    <a:pt x="14373" y="528"/>
                    <a:pt x="15896" y="1124"/>
                  </a:cubicBezTo>
                  <a:cubicBezTo>
                    <a:pt x="16823" y="1522"/>
                    <a:pt x="17750" y="1919"/>
                    <a:pt x="18611" y="2383"/>
                  </a:cubicBezTo>
                  <a:cubicBezTo>
                    <a:pt x="19737" y="2979"/>
                    <a:pt x="20797" y="3707"/>
                    <a:pt x="21724" y="4568"/>
                  </a:cubicBezTo>
                  <a:cubicBezTo>
                    <a:pt x="22850" y="5628"/>
                    <a:pt x="23645" y="6953"/>
                    <a:pt x="24175" y="8343"/>
                  </a:cubicBezTo>
                  <a:cubicBezTo>
                    <a:pt x="24440" y="9138"/>
                    <a:pt x="24638" y="9933"/>
                    <a:pt x="24638" y="10728"/>
                  </a:cubicBezTo>
                  <a:cubicBezTo>
                    <a:pt x="24705" y="11589"/>
                    <a:pt x="24638" y="12516"/>
                    <a:pt x="24440" y="13377"/>
                  </a:cubicBezTo>
                  <a:cubicBezTo>
                    <a:pt x="24307" y="14238"/>
                    <a:pt x="23976" y="15165"/>
                    <a:pt x="23579" y="15960"/>
                  </a:cubicBezTo>
                  <a:cubicBezTo>
                    <a:pt x="23181" y="16887"/>
                    <a:pt x="22651" y="17748"/>
                    <a:pt x="22055" y="18476"/>
                  </a:cubicBezTo>
                  <a:cubicBezTo>
                    <a:pt x="20863" y="20066"/>
                    <a:pt x="19141" y="21258"/>
                    <a:pt x="17221" y="21920"/>
                  </a:cubicBezTo>
                  <a:cubicBezTo>
                    <a:pt x="16051" y="22283"/>
                    <a:pt x="14808" y="22450"/>
                    <a:pt x="13566" y="22450"/>
                  </a:cubicBezTo>
                  <a:cubicBezTo>
                    <a:pt x="12768" y="22450"/>
                    <a:pt x="11971" y="22381"/>
                    <a:pt x="11194" y="22252"/>
                  </a:cubicBezTo>
                  <a:cubicBezTo>
                    <a:pt x="9273" y="21920"/>
                    <a:pt x="7551" y="21059"/>
                    <a:pt x="6028" y="19934"/>
                  </a:cubicBezTo>
                  <a:cubicBezTo>
                    <a:pt x="4703" y="18874"/>
                    <a:pt x="3577" y="17483"/>
                    <a:pt x="2849" y="15894"/>
                  </a:cubicBezTo>
                  <a:cubicBezTo>
                    <a:pt x="2187" y="14569"/>
                    <a:pt x="1922" y="13046"/>
                    <a:pt x="1922" y="11589"/>
                  </a:cubicBezTo>
                  <a:cubicBezTo>
                    <a:pt x="2054" y="9337"/>
                    <a:pt x="2783" y="7151"/>
                    <a:pt x="4107" y="5297"/>
                  </a:cubicBezTo>
                  <a:cubicBezTo>
                    <a:pt x="5034" y="4038"/>
                    <a:pt x="5697" y="3310"/>
                    <a:pt x="5564" y="3177"/>
                  </a:cubicBezTo>
                  <a:cubicBezTo>
                    <a:pt x="5556" y="3173"/>
                    <a:pt x="5545" y="3171"/>
                    <a:pt x="5532" y="3171"/>
                  </a:cubicBezTo>
                  <a:cubicBezTo>
                    <a:pt x="5332" y="3171"/>
                    <a:pt x="4564" y="3652"/>
                    <a:pt x="3445" y="4833"/>
                  </a:cubicBezTo>
                  <a:cubicBezTo>
                    <a:pt x="2716" y="5562"/>
                    <a:pt x="2120" y="6423"/>
                    <a:pt x="1657" y="7350"/>
                  </a:cubicBezTo>
                  <a:cubicBezTo>
                    <a:pt x="200" y="10198"/>
                    <a:pt x="1" y="13575"/>
                    <a:pt x="1259" y="16556"/>
                  </a:cubicBezTo>
                  <a:cubicBezTo>
                    <a:pt x="2054" y="18476"/>
                    <a:pt x="3312" y="20066"/>
                    <a:pt x="4836" y="21391"/>
                  </a:cubicBezTo>
                  <a:cubicBezTo>
                    <a:pt x="6558" y="22781"/>
                    <a:pt x="8611" y="23775"/>
                    <a:pt x="10796" y="24238"/>
                  </a:cubicBezTo>
                  <a:cubicBezTo>
                    <a:pt x="11724" y="24419"/>
                    <a:pt x="12651" y="24509"/>
                    <a:pt x="13574" y="24509"/>
                  </a:cubicBezTo>
                  <a:cubicBezTo>
                    <a:pt x="15025" y="24509"/>
                    <a:pt x="16466" y="24286"/>
                    <a:pt x="17883" y="23841"/>
                  </a:cubicBezTo>
                  <a:cubicBezTo>
                    <a:pt x="20201" y="23113"/>
                    <a:pt x="22188" y="21655"/>
                    <a:pt x="23645" y="19735"/>
                  </a:cubicBezTo>
                  <a:cubicBezTo>
                    <a:pt x="25036" y="17947"/>
                    <a:pt x="25963" y="15894"/>
                    <a:pt x="26360" y="13708"/>
                  </a:cubicBezTo>
                  <a:cubicBezTo>
                    <a:pt x="26559" y="12714"/>
                    <a:pt x="26625" y="11655"/>
                    <a:pt x="26493" y="10595"/>
                  </a:cubicBezTo>
                  <a:cubicBezTo>
                    <a:pt x="26427" y="9602"/>
                    <a:pt x="26162" y="8608"/>
                    <a:pt x="25764" y="7747"/>
                  </a:cubicBezTo>
                  <a:cubicBezTo>
                    <a:pt x="25102" y="6092"/>
                    <a:pt x="24108" y="4634"/>
                    <a:pt x="22718" y="3509"/>
                  </a:cubicBezTo>
                  <a:cubicBezTo>
                    <a:pt x="21658" y="2581"/>
                    <a:pt x="20466" y="1853"/>
                    <a:pt x="19141" y="1323"/>
                  </a:cubicBezTo>
                  <a:cubicBezTo>
                    <a:pt x="18214" y="926"/>
                    <a:pt x="17221" y="595"/>
                    <a:pt x="16161" y="330"/>
                  </a:cubicBezTo>
                  <a:cubicBezTo>
                    <a:pt x="15029" y="103"/>
                    <a:pt x="14238" y="1"/>
                    <a:pt x="13851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Google Shape;2928;p63"/>
            <p:cNvSpPr/>
            <p:nvPr/>
          </p:nvSpPr>
          <p:spPr>
            <a:xfrm>
              <a:off x="2938320" y="1447560"/>
              <a:ext cx="384120" cy="255600"/>
            </a:xfrm>
            <a:custGeom>
              <a:avLst/>
              <a:gdLst/>
              <a:ahLst/>
              <a:rect l="l" t="t" r="r" b="b"/>
              <a:pathLst>
                <a:path w="25830" h="17268">
                  <a:moveTo>
                    <a:pt x="12440" y="0"/>
                  </a:moveTo>
                  <a:cubicBezTo>
                    <a:pt x="11533" y="0"/>
                    <a:pt x="10623" y="103"/>
                    <a:pt x="9736" y="296"/>
                  </a:cubicBezTo>
                  <a:cubicBezTo>
                    <a:pt x="8279" y="627"/>
                    <a:pt x="6954" y="1157"/>
                    <a:pt x="5762" y="1952"/>
                  </a:cubicBezTo>
                  <a:cubicBezTo>
                    <a:pt x="3643" y="3276"/>
                    <a:pt x="2053" y="5197"/>
                    <a:pt x="994" y="7449"/>
                  </a:cubicBezTo>
                  <a:cubicBezTo>
                    <a:pt x="331" y="8906"/>
                    <a:pt x="0" y="10495"/>
                    <a:pt x="66" y="12151"/>
                  </a:cubicBezTo>
                  <a:cubicBezTo>
                    <a:pt x="133" y="13277"/>
                    <a:pt x="331" y="13873"/>
                    <a:pt x="464" y="13873"/>
                  </a:cubicBezTo>
                  <a:cubicBezTo>
                    <a:pt x="596" y="13873"/>
                    <a:pt x="729" y="13211"/>
                    <a:pt x="861" y="12151"/>
                  </a:cubicBezTo>
                  <a:cubicBezTo>
                    <a:pt x="1126" y="10760"/>
                    <a:pt x="1590" y="9369"/>
                    <a:pt x="2318" y="8111"/>
                  </a:cubicBezTo>
                  <a:cubicBezTo>
                    <a:pt x="3378" y="6257"/>
                    <a:pt x="4901" y="4667"/>
                    <a:pt x="6756" y="3607"/>
                  </a:cubicBezTo>
                  <a:cubicBezTo>
                    <a:pt x="7815" y="3011"/>
                    <a:pt x="8941" y="2548"/>
                    <a:pt x="10133" y="2283"/>
                  </a:cubicBezTo>
                  <a:cubicBezTo>
                    <a:pt x="10808" y="2141"/>
                    <a:pt x="11501" y="2075"/>
                    <a:pt x="12203" y="2075"/>
                  </a:cubicBezTo>
                  <a:cubicBezTo>
                    <a:pt x="12811" y="2075"/>
                    <a:pt x="13426" y="2124"/>
                    <a:pt x="14041" y="2217"/>
                  </a:cubicBezTo>
                  <a:cubicBezTo>
                    <a:pt x="15299" y="2415"/>
                    <a:pt x="16558" y="2945"/>
                    <a:pt x="17750" y="3607"/>
                  </a:cubicBezTo>
                  <a:cubicBezTo>
                    <a:pt x="18809" y="4204"/>
                    <a:pt x="19803" y="4998"/>
                    <a:pt x="20730" y="5859"/>
                  </a:cubicBezTo>
                  <a:cubicBezTo>
                    <a:pt x="22187" y="7383"/>
                    <a:pt x="23379" y="9237"/>
                    <a:pt x="24042" y="11290"/>
                  </a:cubicBezTo>
                  <a:cubicBezTo>
                    <a:pt x="24505" y="12681"/>
                    <a:pt x="24704" y="14138"/>
                    <a:pt x="24571" y="15595"/>
                  </a:cubicBezTo>
                  <a:cubicBezTo>
                    <a:pt x="24638" y="16125"/>
                    <a:pt x="24571" y="16522"/>
                    <a:pt x="24505" y="16787"/>
                  </a:cubicBezTo>
                  <a:cubicBezTo>
                    <a:pt x="24505" y="17052"/>
                    <a:pt x="24571" y="17251"/>
                    <a:pt x="24638" y="17251"/>
                  </a:cubicBezTo>
                  <a:cubicBezTo>
                    <a:pt x="24649" y="17262"/>
                    <a:pt x="24662" y="17268"/>
                    <a:pt x="24677" y="17268"/>
                  </a:cubicBezTo>
                  <a:cubicBezTo>
                    <a:pt x="24749" y="17268"/>
                    <a:pt x="24859" y="17139"/>
                    <a:pt x="24969" y="16920"/>
                  </a:cubicBezTo>
                  <a:cubicBezTo>
                    <a:pt x="25167" y="16522"/>
                    <a:pt x="25300" y="16125"/>
                    <a:pt x="25432" y="15661"/>
                  </a:cubicBezTo>
                  <a:cubicBezTo>
                    <a:pt x="25830" y="14138"/>
                    <a:pt x="25830" y="12482"/>
                    <a:pt x="25432" y="10893"/>
                  </a:cubicBezTo>
                  <a:cubicBezTo>
                    <a:pt x="24903" y="8508"/>
                    <a:pt x="23710" y="6323"/>
                    <a:pt x="22055" y="4535"/>
                  </a:cubicBezTo>
                  <a:cubicBezTo>
                    <a:pt x="21127" y="3475"/>
                    <a:pt x="20002" y="2548"/>
                    <a:pt x="18743" y="1819"/>
                  </a:cubicBezTo>
                  <a:cubicBezTo>
                    <a:pt x="17419" y="1025"/>
                    <a:pt x="15962" y="428"/>
                    <a:pt x="14372" y="164"/>
                  </a:cubicBezTo>
                  <a:cubicBezTo>
                    <a:pt x="13736" y="53"/>
                    <a:pt x="13089" y="0"/>
                    <a:pt x="12440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Google Shape;2929;p63"/>
            <p:cNvSpPr/>
            <p:nvPr/>
          </p:nvSpPr>
          <p:spPr>
            <a:xfrm>
              <a:off x="3300480" y="1523880"/>
              <a:ext cx="212760" cy="163440"/>
            </a:xfrm>
            <a:custGeom>
              <a:avLst/>
              <a:gdLst/>
              <a:ahLst/>
              <a:rect l="l" t="t" r="r" b="b"/>
              <a:pathLst>
                <a:path w="14373" h="10999">
                  <a:moveTo>
                    <a:pt x="14071" y="0"/>
                  </a:moveTo>
                  <a:cubicBezTo>
                    <a:pt x="13737" y="0"/>
                    <a:pt x="13210" y="842"/>
                    <a:pt x="12253" y="1991"/>
                  </a:cubicBezTo>
                  <a:cubicBezTo>
                    <a:pt x="10862" y="3514"/>
                    <a:pt x="9339" y="4971"/>
                    <a:pt x="7749" y="6230"/>
                  </a:cubicBezTo>
                  <a:cubicBezTo>
                    <a:pt x="6094" y="7554"/>
                    <a:pt x="4372" y="8614"/>
                    <a:pt x="2517" y="9475"/>
                  </a:cubicBezTo>
                  <a:cubicBezTo>
                    <a:pt x="2120" y="9607"/>
                    <a:pt x="1789" y="9740"/>
                    <a:pt x="1524" y="9806"/>
                  </a:cubicBezTo>
                  <a:cubicBezTo>
                    <a:pt x="1259" y="9872"/>
                    <a:pt x="994" y="10005"/>
                    <a:pt x="795" y="10005"/>
                  </a:cubicBezTo>
                  <a:cubicBezTo>
                    <a:pt x="332" y="10137"/>
                    <a:pt x="67" y="10203"/>
                    <a:pt x="67" y="10402"/>
                  </a:cubicBezTo>
                  <a:cubicBezTo>
                    <a:pt x="0" y="10534"/>
                    <a:pt x="199" y="10667"/>
                    <a:pt x="729" y="10866"/>
                  </a:cubicBezTo>
                  <a:cubicBezTo>
                    <a:pt x="1060" y="10932"/>
                    <a:pt x="1325" y="10998"/>
                    <a:pt x="1656" y="10998"/>
                  </a:cubicBezTo>
                  <a:cubicBezTo>
                    <a:pt x="2054" y="10998"/>
                    <a:pt x="2517" y="10932"/>
                    <a:pt x="2915" y="10866"/>
                  </a:cubicBezTo>
                  <a:cubicBezTo>
                    <a:pt x="5166" y="10402"/>
                    <a:pt x="7219" y="9342"/>
                    <a:pt x="9008" y="7885"/>
                  </a:cubicBezTo>
                  <a:cubicBezTo>
                    <a:pt x="10862" y="6494"/>
                    <a:pt x="12385" y="4772"/>
                    <a:pt x="13445" y="2786"/>
                  </a:cubicBezTo>
                  <a:cubicBezTo>
                    <a:pt x="14306" y="1196"/>
                    <a:pt x="14372" y="70"/>
                    <a:pt x="14107" y="4"/>
                  </a:cubicBezTo>
                  <a:cubicBezTo>
                    <a:pt x="14095" y="2"/>
                    <a:pt x="14083" y="0"/>
                    <a:pt x="14071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2360" bIns="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Google Shape;2930;p63"/>
            <p:cNvSpPr/>
            <p:nvPr/>
          </p:nvSpPr>
          <p:spPr>
            <a:xfrm>
              <a:off x="2706480" y="1519200"/>
              <a:ext cx="244440" cy="93600"/>
            </a:xfrm>
            <a:custGeom>
              <a:avLst/>
              <a:gdLst/>
              <a:ahLst/>
              <a:rect l="l" t="t" r="r" b="b"/>
              <a:pathLst>
                <a:path w="16492" h="6241">
                  <a:moveTo>
                    <a:pt x="6768" y="0"/>
                  </a:moveTo>
                  <a:cubicBezTo>
                    <a:pt x="5321" y="0"/>
                    <a:pt x="3892" y="233"/>
                    <a:pt x="2517" y="650"/>
                  </a:cubicBezTo>
                  <a:cubicBezTo>
                    <a:pt x="861" y="1180"/>
                    <a:pt x="0" y="1908"/>
                    <a:pt x="133" y="2240"/>
                  </a:cubicBezTo>
                  <a:cubicBezTo>
                    <a:pt x="174" y="2322"/>
                    <a:pt x="298" y="2353"/>
                    <a:pt x="496" y="2353"/>
                  </a:cubicBezTo>
                  <a:cubicBezTo>
                    <a:pt x="938" y="2353"/>
                    <a:pt x="1751" y="2199"/>
                    <a:pt x="2848" y="2107"/>
                  </a:cubicBezTo>
                  <a:cubicBezTo>
                    <a:pt x="3593" y="2033"/>
                    <a:pt x="4357" y="1995"/>
                    <a:pt x="5125" y="1995"/>
                  </a:cubicBezTo>
                  <a:cubicBezTo>
                    <a:pt x="6406" y="1995"/>
                    <a:pt x="7699" y="2099"/>
                    <a:pt x="8941" y="2306"/>
                  </a:cubicBezTo>
                  <a:cubicBezTo>
                    <a:pt x="10928" y="2571"/>
                    <a:pt x="12782" y="3366"/>
                    <a:pt x="14372" y="4558"/>
                  </a:cubicBezTo>
                  <a:cubicBezTo>
                    <a:pt x="15454" y="5399"/>
                    <a:pt x="15990" y="6241"/>
                    <a:pt x="16328" y="6241"/>
                  </a:cubicBezTo>
                  <a:cubicBezTo>
                    <a:pt x="16362" y="6241"/>
                    <a:pt x="16394" y="6232"/>
                    <a:pt x="16425" y="6213"/>
                  </a:cubicBezTo>
                  <a:cubicBezTo>
                    <a:pt x="16491" y="6213"/>
                    <a:pt x="16491" y="5882"/>
                    <a:pt x="16425" y="5352"/>
                  </a:cubicBezTo>
                  <a:cubicBezTo>
                    <a:pt x="16359" y="5087"/>
                    <a:pt x="16226" y="4823"/>
                    <a:pt x="16094" y="4558"/>
                  </a:cubicBezTo>
                  <a:cubicBezTo>
                    <a:pt x="15895" y="4160"/>
                    <a:pt x="15696" y="3829"/>
                    <a:pt x="15432" y="3498"/>
                  </a:cubicBezTo>
                  <a:cubicBezTo>
                    <a:pt x="15100" y="3101"/>
                    <a:pt x="14769" y="2769"/>
                    <a:pt x="14372" y="2438"/>
                  </a:cubicBezTo>
                  <a:cubicBezTo>
                    <a:pt x="14173" y="2306"/>
                    <a:pt x="13975" y="2107"/>
                    <a:pt x="13710" y="1908"/>
                  </a:cubicBezTo>
                  <a:lnTo>
                    <a:pt x="12981" y="1445"/>
                  </a:lnTo>
                  <a:cubicBezTo>
                    <a:pt x="11789" y="849"/>
                    <a:pt x="10597" y="451"/>
                    <a:pt x="9338" y="253"/>
                  </a:cubicBezTo>
                  <a:cubicBezTo>
                    <a:pt x="8479" y="81"/>
                    <a:pt x="7620" y="0"/>
                    <a:pt x="6768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520" bIns="2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Google Shape;2931;p63"/>
            <p:cNvSpPr/>
            <p:nvPr/>
          </p:nvSpPr>
          <p:spPr>
            <a:xfrm>
              <a:off x="2235600" y="1718280"/>
              <a:ext cx="115920" cy="110880"/>
            </a:xfrm>
            <a:custGeom>
              <a:avLst/>
              <a:gdLst/>
              <a:ahLst/>
              <a:rect l="l" t="t" r="r" b="b"/>
              <a:pathLst>
                <a:path w="7816" h="7470">
                  <a:moveTo>
                    <a:pt x="994" y="0"/>
                  </a:moveTo>
                  <a:cubicBezTo>
                    <a:pt x="994" y="0"/>
                    <a:pt x="0" y="6358"/>
                    <a:pt x="1193" y="7352"/>
                  </a:cubicBezTo>
                  <a:cubicBezTo>
                    <a:pt x="1283" y="7432"/>
                    <a:pt x="1399" y="7470"/>
                    <a:pt x="1535" y="7470"/>
                  </a:cubicBezTo>
                  <a:cubicBezTo>
                    <a:pt x="3181" y="7470"/>
                    <a:pt x="7816" y="1987"/>
                    <a:pt x="7816" y="1987"/>
                  </a:cubicBezTo>
                  <a:lnTo>
                    <a:pt x="994" y="0"/>
                  </a:ln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9800" bIns="19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Google Shape;2932;p63"/>
            <p:cNvSpPr/>
            <p:nvPr/>
          </p:nvSpPr>
          <p:spPr>
            <a:xfrm>
              <a:off x="3043800" y="1915200"/>
              <a:ext cx="99360" cy="122040"/>
            </a:xfrm>
            <a:custGeom>
              <a:avLst/>
              <a:gdLst/>
              <a:ahLst/>
              <a:rect l="l" t="t" r="r" b="b"/>
              <a:pathLst>
                <a:path w="6690" h="8215">
                  <a:moveTo>
                    <a:pt x="1" y="0"/>
                  </a:moveTo>
                  <a:cubicBezTo>
                    <a:pt x="1" y="0"/>
                    <a:pt x="522" y="8214"/>
                    <a:pt x="2083" y="8214"/>
                  </a:cubicBezTo>
                  <a:cubicBezTo>
                    <a:pt x="2095" y="8214"/>
                    <a:pt x="2108" y="8214"/>
                    <a:pt x="2120" y="8213"/>
                  </a:cubicBezTo>
                  <a:cubicBezTo>
                    <a:pt x="3710" y="8146"/>
                    <a:pt x="6690" y="2384"/>
                    <a:pt x="6690" y="238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Google Shape;2933;p63"/>
            <p:cNvSpPr/>
            <p:nvPr/>
          </p:nvSpPr>
          <p:spPr>
            <a:xfrm>
              <a:off x="2174760" y="1589400"/>
              <a:ext cx="1202400" cy="386640"/>
            </a:xfrm>
            <a:custGeom>
              <a:avLst/>
              <a:gdLst/>
              <a:ahLst/>
              <a:rect l="l" t="t" r="r" b="b"/>
              <a:pathLst>
                <a:path w="80933" h="26037">
                  <a:moveTo>
                    <a:pt x="66" y="0"/>
                  </a:moveTo>
                  <a:cubicBezTo>
                    <a:pt x="0" y="0"/>
                    <a:pt x="0" y="331"/>
                    <a:pt x="0" y="927"/>
                  </a:cubicBezTo>
                  <a:cubicBezTo>
                    <a:pt x="0" y="1855"/>
                    <a:pt x="133" y="2716"/>
                    <a:pt x="331" y="3643"/>
                  </a:cubicBezTo>
                  <a:cubicBezTo>
                    <a:pt x="795" y="5034"/>
                    <a:pt x="1524" y="6292"/>
                    <a:pt x="2517" y="7352"/>
                  </a:cubicBezTo>
                  <a:cubicBezTo>
                    <a:pt x="3908" y="8676"/>
                    <a:pt x="5564" y="9736"/>
                    <a:pt x="7352" y="10332"/>
                  </a:cubicBezTo>
                  <a:cubicBezTo>
                    <a:pt x="9537" y="11060"/>
                    <a:pt x="11723" y="11657"/>
                    <a:pt x="13975" y="11988"/>
                  </a:cubicBezTo>
                  <a:lnTo>
                    <a:pt x="17683" y="12650"/>
                  </a:lnTo>
                  <a:cubicBezTo>
                    <a:pt x="18942" y="12915"/>
                    <a:pt x="20266" y="13114"/>
                    <a:pt x="21591" y="13246"/>
                  </a:cubicBezTo>
                  <a:cubicBezTo>
                    <a:pt x="27088" y="13842"/>
                    <a:pt x="32982" y="13643"/>
                    <a:pt x="39009" y="14968"/>
                  </a:cubicBezTo>
                  <a:cubicBezTo>
                    <a:pt x="41923" y="15630"/>
                    <a:pt x="44771" y="16557"/>
                    <a:pt x="47553" y="17750"/>
                  </a:cubicBezTo>
                  <a:lnTo>
                    <a:pt x="49474" y="18611"/>
                  </a:lnTo>
                  <a:lnTo>
                    <a:pt x="51394" y="19538"/>
                  </a:lnTo>
                  <a:cubicBezTo>
                    <a:pt x="52653" y="20134"/>
                    <a:pt x="53911" y="20862"/>
                    <a:pt x="55169" y="21392"/>
                  </a:cubicBezTo>
                  <a:cubicBezTo>
                    <a:pt x="59540" y="23512"/>
                    <a:pt x="64177" y="24969"/>
                    <a:pt x="69011" y="25697"/>
                  </a:cubicBezTo>
                  <a:cubicBezTo>
                    <a:pt x="70576" y="25924"/>
                    <a:pt x="72044" y="26036"/>
                    <a:pt x="73388" y="26036"/>
                  </a:cubicBezTo>
                  <a:cubicBezTo>
                    <a:pt x="75569" y="26036"/>
                    <a:pt x="77419" y="25741"/>
                    <a:pt x="78813" y="25167"/>
                  </a:cubicBezTo>
                  <a:cubicBezTo>
                    <a:pt x="79740" y="24902"/>
                    <a:pt x="80469" y="24174"/>
                    <a:pt x="80800" y="23313"/>
                  </a:cubicBezTo>
                  <a:cubicBezTo>
                    <a:pt x="80933" y="22651"/>
                    <a:pt x="80668" y="22319"/>
                    <a:pt x="80668" y="22319"/>
                  </a:cubicBezTo>
                  <a:cubicBezTo>
                    <a:pt x="80601" y="22319"/>
                    <a:pt x="80668" y="22651"/>
                    <a:pt x="80469" y="23180"/>
                  </a:cubicBezTo>
                  <a:cubicBezTo>
                    <a:pt x="80072" y="23909"/>
                    <a:pt x="79409" y="24439"/>
                    <a:pt x="78548" y="24637"/>
                  </a:cubicBezTo>
                  <a:cubicBezTo>
                    <a:pt x="77497" y="24976"/>
                    <a:pt x="76099" y="25159"/>
                    <a:pt x="74461" y="25159"/>
                  </a:cubicBezTo>
                  <a:cubicBezTo>
                    <a:pt x="72898" y="25159"/>
                    <a:pt x="71117" y="24993"/>
                    <a:pt x="69210" y="24637"/>
                  </a:cubicBezTo>
                  <a:cubicBezTo>
                    <a:pt x="64508" y="23710"/>
                    <a:pt x="60004" y="22187"/>
                    <a:pt x="55765" y="20068"/>
                  </a:cubicBezTo>
                  <a:cubicBezTo>
                    <a:pt x="54573" y="19472"/>
                    <a:pt x="53381" y="18876"/>
                    <a:pt x="52123" y="18213"/>
                  </a:cubicBezTo>
                  <a:lnTo>
                    <a:pt x="50202" y="17220"/>
                  </a:lnTo>
                  <a:lnTo>
                    <a:pt x="48215" y="16359"/>
                  </a:lnTo>
                  <a:cubicBezTo>
                    <a:pt x="45367" y="15100"/>
                    <a:pt x="42387" y="14107"/>
                    <a:pt x="39407" y="13445"/>
                  </a:cubicBezTo>
                  <a:cubicBezTo>
                    <a:pt x="33181" y="12054"/>
                    <a:pt x="27088" y="12253"/>
                    <a:pt x="21790" y="11789"/>
                  </a:cubicBezTo>
                  <a:cubicBezTo>
                    <a:pt x="20465" y="11657"/>
                    <a:pt x="19207" y="11524"/>
                    <a:pt x="17948" y="11325"/>
                  </a:cubicBezTo>
                  <a:lnTo>
                    <a:pt x="14240" y="10729"/>
                  </a:lnTo>
                  <a:cubicBezTo>
                    <a:pt x="12054" y="10398"/>
                    <a:pt x="9935" y="9935"/>
                    <a:pt x="7815" y="9272"/>
                  </a:cubicBezTo>
                  <a:cubicBezTo>
                    <a:pt x="6093" y="8742"/>
                    <a:pt x="4570" y="7881"/>
                    <a:pt x="3245" y="6689"/>
                  </a:cubicBezTo>
                  <a:cubicBezTo>
                    <a:pt x="2252" y="5762"/>
                    <a:pt x="1524" y="4636"/>
                    <a:pt x="994" y="3378"/>
                  </a:cubicBezTo>
                  <a:cubicBezTo>
                    <a:pt x="729" y="2583"/>
                    <a:pt x="464" y="1788"/>
                    <a:pt x="331" y="927"/>
                  </a:cubicBezTo>
                  <a:cubicBezTo>
                    <a:pt x="199" y="331"/>
                    <a:pt x="133" y="0"/>
                    <a:pt x="66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Google Shape;2934;p63"/>
            <p:cNvSpPr/>
            <p:nvPr/>
          </p:nvSpPr>
          <p:spPr>
            <a:xfrm>
              <a:off x="2418480" y="1418400"/>
              <a:ext cx="238320" cy="203400"/>
            </a:xfrm>
            <a:custGeom>
              <a:avLst/>
              <a:gdLst/>
              <a:ahLst/>
              <a:rect l="l" t="t" r="r" b="b"/>
              <a:pathLst>
                <a:path w="16048" h="13706">
                  <a:moveTo>
                    <a:pt x="8224" y="1"/>
                  </a:moveTo>
                  <a:cubicBezTo>
                    <a:pt x="3674" y="1"/>
                    <a:pt x="1" y="4675"/>
                    <a:pt x="1941" y="9442"/>
                  </a:cubicBezTo>
                  <a:cubicBezTo>
                    <a:pt x="3077" y="12282"/>
                    <a:pt x="5662" y="13706"/>
                    <a:pt x="8251" y="13706"/>
                  </a:cubicBezTo>
                  <a:cubicBezTo>
                    <a:pt x="10795" y="13706"/>
                    <a:pt x="13343" y="12331"/>
                    <a:pt x="14524" y="9574"/>
                  </a:cubicBezTo>
                  <a:cubicBezTo>
                    <a:pt x="16048" y="6064"/>
                    <a:pt x="14392" y="2024"/>
                    <a:pt x="10948" y="567"/>
                  </a:cubicBezTo>
                  <a:cubicBezTo>
                    <a:pt x="10030" y="178"/>
                    <a:pt x="9110" y="1"/>
                    <a:pt x="8224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Google Shape;2935;p63"/>
            <p:cNvSpPr/>
            <p:nvPr/>
          </p:nvSpPr>
          <p:spPr>
            <a:xfrm>
              <a:off x="2545200" y="1504080"/>
              <a:ext cx="57600" cy="48600"/>
            </a:xfrm>
            <a:custGeom>
              <a:avLst/>
              <a:gdLst/>
              <a:ahLst/>
              <a:rect l="l" t="t" r="r" b="b"/>
              <a:pathLst>
                <a:path w="3878" h="3281">
                  <a:moveTo>
                    <a:pt x="1958" y="0"/>
                  </a:moveTo>
                  <a:cubicBezTo>
                    <a:pt x="894" y="0"/>
                    <a:pt x="0" y="1092"/>
                    <a:pt x="433" y="2229"/>
                  </a:cubicBezTo>
                  <a:cubicBezTo>
                    <a:pt x="735" y="2933"/>
                    <a:pt x="1376" y="3281"/>
                    <a:pt x="2013" y="3281"/>
                  </a:cubicBezTo>
                  <a:cubicBezTo>
                    <a:pt x="2634" y="3281"/>
                    <a:pt x="3251" y="2949"/>
                    <a:pt x="3546" y="2295"/>
                  </a:cubicBezTo>
                  <a:cubicBezTo>
                    <a:pt x="3877" y="1434"/>
                    <a:pt x="3480" y="507"/>
                    <a:pt x="2685" y="176"/>
                  </a:cubicBezTo>
                  <a:cubicBezTo>
                    <a:pt x="2443" y="55"/>
                    <a:pt x="2196" y="0"/>
                    <a:pt x="1958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2480" bIns="-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Google Shape;2936;p63"/>
            <p:cNvSpPr/>
            <p:nvPr/>
          </p:nvSpPr>
          <p:spPr>
            <a:xfrm>
              <a:off x="3008880" y="1541520"/>
              <a:ext cx="238320" cy="203400"/>
            </a:xfrm>
            <a:custGeom>
              <a:avLst/>
              <a:gdLst/>
              <a:ahLst/>
              <a:rect l="l" t="t" r="r" b="b"/>
              <a:pathLst>
                <a:path w="16048" h="13706">
                  <a:moveTo>
                    <a:pt x="8223" y="1"/>
                  </a:moveTo>
                  <a:cubicBezTo>
                    <a:pt x="3674" y="1"/>
                    <a:pt x="0" y="4675"/>
                    <a:pt x="1940" y="9442"/>
                  </a:cubicBezTo>
                  <a:cubicBezTo>
                    <a:pt x="3076" y="12281"/>
                    <a:pt x="5662" y="13706"/>
                    <a:pt x="8251" y="13706"/>
                  </a:cubicBezTo>
                  <a:cubicBezTo>
                    <a:pt x="10795" y="13706"/>
                    <a:pt x="13342" y="12331"/>
                    <a:pt x="14524" y="9574"/>
                  </a:cubicBezTo>
                  <a:cubicBezTo>
                    <a:pt x="16047" y="6064"/>
                    <a:pt x="14392" y="2024"/>
                    <a:pt x="10948" y="567"/>
                  </a:cubicBezTo>
                  <a:cubicBezTo>
                    <a:pt x="10030" y="178"/>
                    <a:pt x="9110" y="1"/>
                    <a:pt x="8223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Google Shape;2937;p63"/>
            <p:cNvSpPr/>
            <p:nvPr/>
          </p:nvSpPr>
          <p:spPr>
            <a:xfrm>
              <a:off x="3135600" y="1627200"/>
              <a:ext cx="57600" cy="48600"/>
            </a:xfrm>
            <a:custGeom>
              <a:avLst/>
              <a:gdLst/>
              <a:ahLst/>
              <a:rect l="l" t="t" r="r" b="b"/>
              <a:pathLst>
                <a:path w="3878" h="3282">
                  <a:moveTo>
                    <a:pt x="1959" y="1"/>
                  </a:moveTo>
                  <a:cubicBezTo>
                    <a:pt x="895" y="1"/>
                    <a:pt x="1" y="1093"/>
                    <a:pt x="434" y="2230"/>
                  </a:cubicBezTo>
                  <a:cubicBezTo>
                    <a:pt x="735" y="2934"/>
                    <a:pt x="1376" y="3281"/>
                    <a:pt x="2013" y="3281"/>
                  </a:cubicBezTo>
                  <a:cubicBezTo>
                    <a:pt x="2635" y="3281"/>
                    <a:pt x="3252" y="2950"/>
                    <a:pt x="3547" y="2296"/>
                  </a:cubicBezTo>
                  <a:cubicBezTo>
                    <a:pt x="3878" y="1435"/>
                    <a:pt x="3480" y="508"/>
                    <a:pt x="2686" y="177"/>
                  </a:cubicBezTo>
                  <a:cubicBezTo>
                    <a:pt x="2443" y="55"/>
                    <a:pt x="2197" y="1"/>
                    <a:pt x="1959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2480" bIns="-42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9" name="Google Shape;2938;p63"/>
          <p:cNvSpPr/>
          <p:nvPr/>
        </p:nvSpPr>
        <p:spPr>
          <a:xfrm>
            <a:off x="2179800" y="2025720"/>
            <a:ext cx="5327640" cy="2133360"/>
          </a:xfrm>
          <a:prstGeom prst="roundRect">
            <a:avLst>
              <a:gd name="adj" fmla="val 7907"/>
            </a:avLst>
          </a:prstGeom>
          <a:solidFill>
            <a:srgbClr val="f86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2786040" y="2266920"/>
            <a:ext cx="41781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5f1e6"/>
                </a:solidFill>
                <a:latin typeface="Sriracha"/>
                <a:ea typeface="Sriracha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1" name="Google Shape;2941;p63"/>
          <p:cNvGrpSpPr/>
          <p:nvPr/>
        </p:nvGrpSpPr>
        <p:grpSpPr>
          <a:xfrm>
            <a:off x="1887480" y="1967040"/>
            <a:ext cx="1003320" cy="1442880"/>
            <a:chOff x="1887480" y="1967040"/>
            <a:chExt cx="1003320" cy="1442880"/>
          </a:xfrm>
        </p:grpSpPr>
        <p:sp>
          <p:nvSpPr>
            <p:cNvPr id="1942" name="Google Shape;2942;p63"/>
            <p:cNvSpPr/>
            <p:nvPr/>
          </p:nvSpPr>
          <p:spPr>
            <a:xfrm>
              <a:off x="1887480" y="1967040"/>
              <a:ext cx="878040" cy="1405080"/>
            </a:xfrm>
            <a:custGeom>
              <a:avLst/>
              <a:gdLst/>
              <a:ahLst/>
              <a:rect l="l" t="t" r="r" b="b"/>
              <a:pathLst>
                <a:path w="59143" h="94543">
                  <a:moveTo>
                    <a:pt x="20222" y="1"/>
                  </a:moveTo>
                  <a:cubicBezTo>
                    <a:pt x="17162" y="1"/>
                    <a:pt x="13843" y="1402"/>
                    <a:pt x="10663" y="4869"/>
                  </a:cubicBezTo>
                  <a:cubicBezTo>
                    <a:pt x="5762" y="10168"/>
                    <a:pt x="4172" y="19241"/>
                    <a:pt x="3047" y="25069"/>
                  </a:cubicBezTo>
                  <a:cubicBezTo>
                    <a:pt x="0" y="41163"/>
                    <a:pt x="2980" y="59840"/>
                    <a:pt x="10067" y="74609"/>
                  </a:cubicBezTo>
                  <a:lnTo>
                    <a:pt x="12252" y="70701"/>
                  </a:lnTo>
                  <a:cubicBezTo>
                    <a:pt x="12252" y="70701"/>
                    <a:pt x="28228" y="94542"/>
                    <a:pt x="42393" y="94542"/>
                  </a:cubicBezTo>
                  <a:cubicBezTo>
                    <a:pt x="42991" y="94542"/>
                    <a:pt x="43585" y="94500"/>
                    <a:pt x="44175" y="94412"/>
                  </a:cubicBezTo>
                  <a:cubicBezTo>
                    <a:pt x="45301" y="94213"/>
                    <a:pt x="46427" y="93815"/>
                    <a:pt x="47420" y="93286"/>
                  </a:cubicBezTo>
                  <a:cubicBezTo>
                    <a:pt x="49407" y="92226"/>
                    <a:pt x="51129" y="90769"/>
                    <a:pt x="52586" y="89113"/>
                  </a:cubicBezTo>
                  <a:cubicBezTo>
                    <a:pt x="53315" y="88385"/>
                    <a:pt x="53977" y="87524"/>
                    <a:pt x="54573" y="86729"/>
                  </a:cubicBezTo>
                  <a:cubicBezTo>
                    <a:pt x="55831" y="84875"/>
                    <a:pt x="56891" y="82954"/>
                    <a:pt x="57620" y="80835"/>
                  </a:cubicBezTo>
                  <a:cubicBezTo>
                    <a:pt x="58216" y="79377"/>
                    <a:pt x="58547" y="77854"/>
                    <a:pt x="58812" y="76265"/>
                  </a:cubicBezTo>
                  <a:cubicBezTo>
                    <a:pt x="59143" y="74013"/>
                    <a:pt x="59010" y="71695"/>
                    <a:pt x="58481" y="69443"/>
                  </a:cubicBezTo>
                  <a:cubicBezTo>
                    <a:pt x="58083" y="67854"/>
                    <a:pt x="57421" y="66330"/>
                    <a:pt x="56626" y="64939"/>
                  </a:cubicBezTo>
                  <a:cubicBezTo>
                    <a:pt x="56163" y="64277"/>
                    <a:pt x="55633" y="63681"/>
                    <a:pt x="55037" y="63284"/>
                  </a:cubicBezTo>
                  <a:cubicBezTo>
                    <a:pt x="53116" y="62158"/>
                    <a:pt x="51262" y="61098"/>
                    <a:pt x="49275" y="60171"/>
                  </a:cubicBezTo>
                  <a:cubicBezTo>
                    <a:pt x="41592" y="55998"/>
                    <a:pt x="31194" y="47587"/>
                    <a:pt x="32386" y="13545"/>
                  </a:cubicBezTo>
                  <a:cubicBezTo>
                    <a:pt x="32569" y="6962"/>
                    <a:pt x="27040" y="1"/>
                    <a:pt x="20222" y="1"/>
                  </a:cubicBezTo>
                  <a:close/>
                </a:path>
              </a:pathLst>
            </a:custGeom>
            <a:solidFill>
              <a:srgbClr val="837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Google Shape;2943;p63"/>
            <p:cNvSpPr/>
            <p:nvPr/>
          </p:nvSpPr>
          <p:spPr>
            <a:xfrm>
              <a:off x="2592000" y="3291120"/>
              <a:ext cx="148320" cy="118800"/>
            </a:xfrm>
            <a:custGeom>
              <a:avLst/>
              <a:gdLst/>
              <a:ahLst/>
              <a:rect l="l" t="t" r="r" b="b"/>
              <a:pathLst>
                <a:path w="10001" h="8018">
                  <a:moveTo>
                    <a:pt x="5166" y="0"/>
                  </a:moveTo>
                  <a:cubicBezTo>
                    <a:pt x="3709" y="1656"/>
                    <a:pt x="1987" y="3047"/>
                    <a:pt x="0" y="4106"/>
                  </a:cubicBezTo>
                  <a:cubicBezTo>
                    <a:pt x="2001" y="5620"/>
                    <a:pt x="5635" y="8017"/>
                    <a:pt x="7659" y="8017"/>
                  </a:cubicBezTo>
                  <a:cubicBezTo>
                    <a:pt x="8114" y="8017"/>
                    <a:pt x="8487" y="7896"/>
                    <a:pt x="8743" y="7617"/>
                  </a:cubicBezTo>
                  <a:cubicBezTo>
                    <a:pt x="10001" y="6226"/>
                    <a:pt x="7286" y="2517"/>
                    <a:pt x="5166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7720" bIns="27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Google Shape;2944;p63"/>
            <p:cNvSpPr/>
            <p:nvPr/>
          </p:nvSpPr>
          <p:spPr>
            <a:xfrm>
              <a:off x="2698200" y="3168000"/>
              <a:ext cx="146520" cy="119520"/>
            </a:xfrm>
            <a:custGeom>
              <a:avLst/>
              <a:gdLst/>
              <a:ahLst/>
              <a:rect l="l" t="t" r="r" b="b"/>
              <a:pathLst>
                <a:path w="9869" h="8061">
                  <a:moveTo>
                    <a:pt x="3047" y="1"/>
                  </a:moveTo>
                  <a:cubicBezTo>
                    <a:pt x="2318" y="2120"/>
                    <a:pt x="1258" y="4041"/>
                    <a:pt x="0" y="5895"/>
                  </a:cubicBezTo>
                  <a:cubicBezTo>
                    <a:pt x="2059" y="6805"/>
                    <a:pt x="5227" y="8061"/>
                    <a:pt x="7198" y="8061"/>
                  </a:cubicBezTo>
                  <a:cubicBezTo>
                    <a:pt x="7954" y="8061"/>
                    <a:pt x="8533" y="7877"/>
                    <a:pt x="8809" y="7418"/>
                  </a:cubicBezTo>
                  <a:cubicBezTo>
                    <a:pt x="9868" y="5630"/>
                    <a:pt x="5563" y="1987"/>
                    <a:pt x="3047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8440" bIns="28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Google Shape;2945;p63"/>
            <p:cNvSpPr/>
            <p:nvPr/>
          </p:nvSpPr>
          <p:spPr>
            <a:xfrm>
              <a:off x="2756160" y="2999520"/>
              <a:ext cx="134640" cy="101880"/>
            </a:xfrm>
            <a:custGeom>
              <a:avLst/>
              <a:gdLst/>
              <a:ahLst/>
              <a:rect l="l" t="t" r="r" b="b"/>
              <a:pathLst>
                <a:path w="9075" h="6873">
                  <a:moveTo>
                    <a:pt x="1" y="0"/>
                  </a:moveTo>
                  <a:cubicBezTo>
                    <a:pt x="530" y="2186"/>
                    <a:pt x="663" y="4504"/>
                    <a:pt x="332" y="6822"/>
                  </a:cubicBezTo>
                  <a:cubicBezTo>
                    <a:pt x="1012" y="6850"/>
                    <a:pt x="1765" y="6873"/>
                    <a:pt x="2531" y="6873"/>
                  </a:cubicBezTo>
                  <a:cubicBezTo>
                    <a:pt x="5348" y="6873"/>
                    <a:pt x="8350" y="6572"/>
                    <a:pt x="8610" y="5166"/>
                  </a:cubicBezTo>
                  <a:cubicBezTo>
                    <a:pt x="9074" y="2981"/>
                    <a:pt x="2782" y="795"/>
                    <a:pt x="1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0800" bIns="10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Google Shape;2946;p63"/>
            <p:cNvSpPr/>
            <p:nvPr/>
          </p:nvSpPr>
          <p:spPr>
            <a:xfrm>
              <a:off x="2619360" y="2777760"/>
              <a:ext cx="131760" cy="129240"/>
            </a:xfrm>
            <a:custGeom>
              <a:avLst/>
              <a:gdLst/>
              <a:ahLst/>
              <a:rect l="l" t="t" r="r" b="b"/>
              <a:pathLst>
                <a:path w="8876" h="8720">
                  <a:moveTo>
                    <a:pt x="6522" y="0"/>
                  </a:moveTo>
                  <a:cubicBezTo>
                    <a:pt x="4720" y="0"/>
                    <a:pt x="1762" y="3376"/>
                    <a:pt x="1" y="5607"/>
                  </a:cubicBezTo>
                  <a:cubicBezTo>
                    <a:pt x="1988" y="6534"/>
                    <a:pt x="3908" y="7594"/>
                    <a:pt x="5763" y="8720"/>
                  </a:cubicBezTo>
                  <a:cubicBezTo>
                    <a:pt x="7021" y="5806"/>
                    <a:pt x="8875" y="1170"/>
                    <a:pt x="7153" y="176"/>
                  </a:cubicBezTo>
                  <a:cubicBezTo>
                    <a:pt x="6965" y="56"/>
                    <a:pt x="6753" y="0"/>
                    <a:pt x="6522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160" bIns="38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oogle Shape;3353;p73"/>
          <p:cNvGrpSpPr/>
          <p:nvPr/>
        </p:nvGrpSpPr>
        <p:grpSpPr>
          <a:xfrm>
            <a:off x="6156360" y="3011400"/>
            <a:ext cx="1614600" cy="1623960"/>
            <a:chOff x="6156360" y="3011400"/>
            <a:chExt cx="1614600" cy="1623960"/>
          </a:xfrm>
        </p:grpSpPr>
        <p:sp>
          <p:nvSpPr>
            <p:cNvPr id="1948" name="Google Shape;3354;p73"/>
            <p:cNvSpPr/>
            <p:nvPr/>
          </p:nvSpPr>
          <p:spPr>
            <a:xfrm>
              <a:off x="6493680" y="4518000"/>
              <a:ext cx="939600" cy="11736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920" bIns="-792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9" name="Google Shape;3355;p73"/>
            <p:cNvGrpSpPr/>
            <p:nvPr/>
          </p:nvGrpSpPr>
          <p:grpSpPr>
            <a:xfrm>
              <a:off x="6156360" y="3011400"/>
              <a:ext cx="1614600" cy="1570320"/>
              <a:chOff x="6156360" y="3011400"/>
              <a:chExt cx="1614600" cy="1570320"/>
            </a:xfrm>
          </p:grpSpPr>
          <p:sp>
            <p:nvSpPr>
              <p:cNvPr id="1950" name="Google Shape;3356;p73"/>
              <p:cNvSpPr/>
              <p:nvPr/>
            </p:nvSpPr>
            <p:spPr>
              <a:xfrm>
                <a:off x="6748560" y="4332600"/>
                <a:ext cx="258480" cy="249120"/>
              </a:xfrm>
              <a:custGeom>
                <a:avLst/>
                <a:gdLst/>
                <a:ahLst/>
                <a:rect l="l" t="t" r="r" b="b"/>
                <a:pathLst>
                  <a:path w="13136" h="12687">
                    <a:moveTo>
                      <a:pt x="5271" y="0"/>
                    </a:moveTo>
                    <a:cubicBezTo>
                      <a:pt x="5253" y="0"/>
                      <a:pt x="5243" y="0"/>
                      <a:pt x="5243" y="0"/>
                    </a:cubicBezTo>
                    <a:cubicBezTo>
                      <a:pt x="686" y="3670"/>
                      <a:pt x="3509" y="10930"/>
                      <a:pt x="3509" y="10930"/>
                    </a:cubicBezTo>
                    <a:cubicBezTo>
                      <a:pt x="3509" y="10930"/>
                      <a:pt x="162" y="12220"/>
                      <a:pt x="41" y="12543"/>
                    </a:cubicBezTo>
                    <a:cubicBezTo>
                      <a:pt x="1" y="12650"/>
                      <a:pt x="659" y="12686"/>
                      <a:pt x="1555" y="12686"/>
                    </a:cubicBezTo>
                    <a:cubicBezTo>
                      <a:pt x="3348" y="12686"/>
                      <a:pt x="6090" y="12543"/>
                      <a:pt x="6090" y="12543"/>
                    </a:cubicBezTo>
                    <a:cubicBezTo>
                      <a:pt x="6090" y="12543"/>
                      <a:pt x="5526" y="4477"/>
                      <a:pt x="9397" y="2219"/>
                    </a:cubicBezTo>
                    <a:cubicBezTo>
                      <a:pt x="13135" y="38"/>
                      <a:pt x="5783" y="0"/>
                      <a:pt x="5271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Google Shape;3357;p73"/>
              <p:cNvSpPr/>
              <p:nvPr/>
            </p:nvSpPr>
            <p:spPr>
              <a:xfrm>
                <a:off x="6966000" y="4332600"/>
                <a:ext cx="258480" cy="249120"/>
              </a:xfrm>
              <a:custGeom>
                <a:avLst/>
                <a:gdLst/>
                <a:ahLst/>
                <a:rect l="l" t="t" r="r" b="b"/>
                <a:pathLst>
                  <a:path w="13135" h="12687">
                    <a:moveTo>
                      <a:pt x="7905" y="0"/>
                    </a:moveTo>
                    <a:cubicBezTo>
                      <a:pt x="7390" y="0"/>
                      <a:pt x="0" y="38"/>
                      <a:pt x="3738" y="2219"/>
                    </a:cubicBezTo>
                    <a:cubicBezTo>
                      <a:pt x="7650" y="4477"/>
                      <a:pt x="7045" y="12543"/>
                      <a:pt x="7045" y="12543"/>
                    </a:cubicBezTo>
                    <a:cubicBezTo>
                      <a:pt x="7045" y="12543"/>
                      <a:pt x="9788" y="12686"/>
                      <a:pt x="11580" y="12686"/>
                    </a:cubicBezTo>
                    <a:cubicBezTo>
                      <a:pt x="12476" y="12686"/>
                      <a:pt x="13135" y="12650"/>
                      <a:pt x="13095" y="12543"/>
                    </a:cubicBezTo>
                    <a:cubicBezTo>
                      <a:pt x="12974" y="12220"/>
                      <a:pt x="9626" y="10930"/>
                      <a:pt x="9626" y="10930"/>
                    </a:cubicBezTo>
                    <a:cubicBezTo>
                      <a:pt x="9626" y="10930"/>
                      <a:pt x="12449" y="3670"/>
                      <a:pt x="7933" y="0"/>
                    </a:cubicBezTo>
                    <a:cubicBezTo>
                      <a:pt x="7933" y="0"/>
                      <a:pt x="7923" y="0"/>
                      <a:pt x="7905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Google Shape;3358;p73"/>
              <p:cNvSpPr/>
              <p:nvPr/>
            </p:nvSpPr>
            <p:spPr>
              <a:xfrm>
                <a:off x="6156360" y="3557520"/>
                <a:ext cx="690480" cy="500040"/>
              </a:xfrm>
              <a:custGeom>
                <a:avLst/>
                <a:gdLst/>
                <a:ahLst/>
                <a:rect l="l" t="t" r="r" b="b"/>
                <a:pathLst>
                  <a:path w="35047" h="25397">
                    <a:moveTo>
                      <a:pt x="4880" y="1"/>
                    </a:moveTo>
                    <a:lnTo>
                      <a:pt x="4880" y="1"/>
                    </a:lnTo>
                    <a:cubicBezTo>
                      <a:pt x="3428" y="969"/>
                      <a:pt x="2541" y="2582"/>
                      <a:pt x="2541" y="4316"/>
                    </a:cubicBezTo>
                    <a:cubicBezTo>
                      <a:pt x="2541" y="6171"/>
                      <a:pt x="3388" y="7865"/>
                      <a:pt x="4880" y="8994"/>
                    </a:cubicBezTo>
                    <a:cubicBezTo>
                      <a:pt x="4746" y="9042"/>
                      <a:pt x="4595" y="9063"/>
                      <a:pt x="4435" y="9063"/>
                    </a:cubicBezTo>
                    <a:cubicBezTo>
                      <a:pt x="3774" y="9063"/>
                      <a:pt x="2955" y="8706"/>
                      <a:pt x="2501" y="8349"/>
                    </a:cubicBezTo>
                    <a:cubicBezTo>
                      <a:pt x="1331" y="7421"/>
                      <a:pt x="605" y="6050"/>
                      <a:pt x="565" y="4558"/>
                    </a:cubicBezTo>
                    <a:lnTo>
                      <a:pt x="565" y="4558"/>
                    </a:lnTo>
                    <a:cubicBezTo>
                      <a:pt x="0" y="7099"/>
                      <a:pt x="323" y="9962"/>
                      <a:pt x="2541" y="11333"/>
                    </a:cubicBezTo>
                    <a:cubicBezTo>
                      <a:pt x="3885" y="12149"/>
                      <a:pt x="5500" y="12608"/>
                      <a:pt x="6851" y="12608"/>
                    </a:cubicBezTo>
                    <a:cubicBezTo>
                      <a:pt x="7771" y="12608"/>
                      <a:pt x="8568" y="12396"/>
                      <a:pt x="9074" y="11938"/>
                    </a:cubicBezTo>
                    <a:cubicBezTo>
                      <a:pt x="11091" y="16092"/>
                      <a:pt x="15204" y="21133"/>
                      <a:pt x="19237" y="23351"/>
                    </a:cubicBezTo>
                    <a:cubicBezTo>
                      <a:pt x="21354" y="24555"/>
                      <a:pt x="23767" y="25396"/>
                      <a:pt x="26179" y="25396"/>
                    </a:cubicBezTo>
                    <a:cubicBezTo>
                      <a:pt x="26433" y="25396"/>
                      <a:pt x="26687" y="25387"/>
                      <a:pt x="26940" y="25368"/>
                    </a:cubicBezTo>
                    <a:cubicBezTo>
                      <a:pt x="29642" y="25166"/>
                      <a:pt x="32344" y="23755"/>
                      <a:pt x="-31982" y="21335"/>
                    </a:cubicBezTo>
                    <a:cubicBezTo>
                      <a:pt x="-30732" y="18915"/>
                      <a:pt x="-30490" y="16334"/>
                      <a:pt x="-32748" y="14882"/>
                    </a:cubicBezTo>
                    <a:cubicBezTo>
                      <a:pt x="30727" y="17262"/>
                      <a:pt x="27915" y="17971"/>
                      <a:pt x="25432" y="17971"/>
                    </a:cubicBezTo>
                    <a:cubicBezTo>
                      <a:pt x="24465" y="17971"/>
                      <a:pt x="23549" y="17864"/>
                      <a:pt x="22746" y="17705"/>
                    </a:cubicBezTo>
                    <a:cubicBezTo>
                      <a:pt x="18471" y="16818"/>
                      <a:pt x="13833" y="13430"/>
                      <a:pt x="13430" y="9075"/>
                    </a:cubicBezTo>
                    <a:cubicBezTo>
                      <a:pt x="14519" y="8510"/>
                      <a:pt x="15003" y="7744"/>
                      <a:pt x="15850" y="6857"/>
                    </a:cubicBezTo>
                    <a:cubicBezTo>
                      <a:pt x="16737" y="5970"/>
                      <a:pt x="17221" y="4800"/>
                      <a:pt x="17261" y="3550"/>
                    </a:cubicBezTo>
                    <a:cubicBezTo>
                      <a:pt x="17221" y="2300"/>
                      <a:pt x="16414" y="1170"/>
                      <a:pt x="15245" y="767"/>
                    </a:cubicBezTo>
                    <a:cubicBezTo>
                      <a:pt x="15245" y="2259"/>
                      <a:pt x="15124" y="3792"/>
                      <a:pt x="14035" y="4881"/>
                    </a:cubicBezTo>
                    <a:cubicBezTo>
                      <a:pt x="13439" y="5402"/>
                      <a:pt x="12705" y="5657"/>
                      <a:pt x="11973" y="5657"/>
                    </a:cubicBezTo>
                    <a:cubicBezTo>
                      <a:pt x="11119" y="5657"/>
                      <a:pt x="10268" y="5311"/>
                      <a:pt x="9639" y="4639"/>
                    </a:cubicBezTo>
                    <a:cubicBezTo>
                      <a:pt x="8590" y="3308"/>
                      <a:pt x="8550" y="1453"/>
                      <a:pt x="9558" y="82"/>
                    </a:cubicBezTo>
                    <a:lnTo>
                      <a:pt x="9558" y="82"/>
                    </a:lnTo>
                    <a:cubicBezTo>
                      <a:pt x="8107" y="404"/>
                      <a:pt x="6977" y="1533"/>
                      <a:pt x="6655" y="2985"/>
                    </a:cubicBezTo>
                    <a:cubicBezTo>
                      <a:pt x="6332" y="4477"/>
                      <a:pt x="6897" y="6050"/>
                      <a:pt x="8107" y="7018"/>
                    </a:cubicBezTo>
                    <a:cubicBezTo>
                      <a:pt x="6735" y="6696"/>
                      <a:pt x="5525" y="5405"/>
                      <a:pt x="4880" y="4114"/>
                    </a:cubicBezTo>
                    <a:cubicBezTo>
                      <a:pt x="4275" y="2824"/>
                      <a:pt x="4235" y="1332"/>
                      <a:pt x="4880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Google Shape;3359;p73"/>
              <p:cNvSpPr/>
              <p:nvPr/>
            </p:nvSpPr>
            <p:spPr>
              <a:xfrm>
                <a:off x="7155000" y="3176280"/>
                <a:ext cx="615960" cy="612720"/>
              </a:xfrm>
              <a:custGeom>
                <a:avLst/>
                <a:gdLst/>
                <a:ahLst/>
                <a:rect l="l" t="t" r="r" b="b"/>
                <a:pathLst>
                  <a:path w="31215" h="31084">
                    <a:moveTo>
                      <a:pt x="23915" y="0"/>
                    </a:moveTo>
                    <a:lnTo>
                      <a:pt x="23915" y="0"/>
                    </a:lnTo>
                    <a:cubicBezTo>
                      <a:pt x="24883" y="1089"/>
                      <a:pt x="25286" y="2541"/>
                      <a:pt x="25085" y="3952"/>
                    </a:cubicBezTo>
                    <a:cubicBezTo>
                      <a:pt x="24883" y="5364"/>
                      <a:pt x="24117" y="6937"/>
                      <a:pt x="22907" y="7663"/>
                    </a:cubicBezTo>
                    <a:cubicBezTo>
                      <a:pt x="23754" y="6372"/>
                      <a:pt x="23794" y="4719"/>
                      <a:pt x="23068" y="3388"/>
                    </a:cubicBezTo>
                    <a:cubicBezTo>
                      <a:pt x="22373" y="2217"/>
                      <a:pt x="21146" y="1510"/>
                      <a:pt x="19840" y="1510"/>
                    </a:cubicBezTo>
                    <a:cubicBezTo>
                      <a:pt x="19707" y="1510"/>
                      <a:pt x="19573" y="1518"/>
                      <a:pt x="19439" y="1533"/>
                    </a:cubicBezTo>
                    <a:cubicBezTo>
                      <a:pt x="20810" y="2501"/>
                      <a:pt x="21334" y="4315"/>
                      <a:pt x="20729" y="5888"/>
                    </a:cubicBezTo>
                    <a:cubicBezTo>
                      <a:pt x="20165" y="7017"/>
                      <a:pt x="19031" y="7687"/>
                      <a:pt x="17844" y="7687"/>
                    </a:cubicBezTo>
                    <a:cubicBezTo>
                      <a:pt x="17420" y="7687"/>
                      <a:pt x="16989" y="7601"/>
                      <a:pt x="16575" y="7421"/>
                    </a:cubicBezTo>
                    <a:cubicBezTo>
                      <a:pt x="15244" y="6735"/>
                      <a:pt x="14680" y="5324"/>
                      <a:pt x="14236" y="3872"/>
                    </a:cubicBezTo>
                    <a:cubicBezTo>
                      <a:pt x="13228" y="4598"/>
                      <a:pt x="12784" y="5929"/>
                      <a:pt x="13147" y="7138"/>
                    </a:cubicBezTo>
                    <a:cubicBezTo>
                      <a:pt x="13551" y="8308"/>
                      <a:pt x="14398" y="9276"/>
                      <a:pt x="15486" y="9841"/>
                    </a:cubicBezTo>
                    <a:cubicBezTo>
                      <a:pt x="16575" y="10445"/>
                      <a:pt x="17221" y="11010"/>
                      <a:pt x="18430" y="11252"/>
                    </a:cubicBezTo>
                    <a:cubicBezTo>
                      <a:pt x="19358" y="15527"/>
                      <a:pt x="15970" y="20165"/>
                      <a:pt x="12139" y="22262"/>
                    </a:cubicBezTo>
                    <a:cubicBezTo>
                      <a:pt x="10627" y="23102"/>
                      <a:pt x="8529" y="23871"/>
                      <a:pt x="6296" y="23871"/>
                    </a:cubicBezTo>
                    <a:cubicBezTo>
                      <a:pt x="4777" y="23871"/>
                      <a:pt x="3196" y="23515"/>
                      <a:pt x="1694" y="22585"/>
                    </a:cubicBezTo>
                    <a:lnTo>
                      <a:pt x="1694" y="22585"/>
                    </a:lnTo>
                    <a:cubicBezTo>
                      <a:pt x="0" y="24641"/>
                      <a:pt x="1008" y="27061"/>
                      <a:pt x="2904" y="28997"/>
                    </a:cubicBezTo>
                    <a:cubicBezTo>
                      <a:pt x="4317" y="30411"/>
                      <a:pt x="6337" y="31084"/>
                      <a:pt x="8360" y="31084"/>
                    </a:cubicBezTo>
                    <a:cubicBezTo>
                      <a:pt x="9049" y="31084"/>
                      <a:pt x="9739" y="31006"/>
                      <a:pt x="10405" y="30852"/>
                    </a:cubicBezTo>
                    <a:cubicBezTo>
                      <a:pt x="13026" y="30207"/>
                      <a:pt x="15325" y="28553"/>
                      <a:pt x="17180" y="26617"/>
                    </a:cubicBezTo>
                    <a:cubicBezTo>
                      <a:pt x="20326" y="23230"/>
                      <a:pt x="22786" y="17180"/>
                      <a:pt x="23472" y="12664"/>
                    </a:cubicBezTo>
                    <a:cubicBezTo>
                      <a:pt x="23760" y="12793"/>
                      <a:pt x="24091" y="12853"/>
                      <a:pt x="24450" y="12853"/>
                    </a:cubicBezTo>
                    <a:cubicBezTo>
                      <a:pt x="26000" y="12853"/>
                      <a:pt x="28073" y="11727"/>
                      <a:pt x="29481" y="10123"/>
                    </a:cubicBezTo>
                    <a:cubicBezTo>
                      <a:pt x="31215" y="8187"/>
                      <a:pt x="30650" y="5364"/>
                      <a:pt x="29360" y="3065"/>
                    </a:cubicBezTo>
                    <a:lnTo>
                      <a:pt x="29360" y="3065"/>
                    </a:lnTo>
                    <a:cubicBezTo>
                      <a:pt x="29763" y="4517"/>
                      <a:pt x="29481" y="6050"/>
                      <a:pt x="28634" y="7300"/>
                    </a:cubicBezTo>
                    <a:cubicBezTo>
                      <a:pt x="28230" y="7864"/>
                      <a:pt x="27262" y="8631"/>
                      <a:pt x="26577" y="8631"/>
                    </a:cubicBezTo>
                    <a:cubicBezTo>
                      <a:pt x="27666" y="7098"/>
                      <a:pt x="27988" y="5203"/>
                      <a:pt x="27464" y="3428"/>
                    </a:cubicBezTo>
                    <a:cubicBezTo>
                      <a:pt x="26900" y="1775"/>
                      <a:pt x="25609" y="484"/>
                      <a:pt x="23915" y="0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Google Shape;3360;p73"/>
              <p:cNvSpPr/>
              <p:nvPr/>
            </p:nvSpPr>
            <p:spPr>
              <a:xfrm>
                <a:off x="6712920" y="3174480"/>
                <a:ext cx="480960" cy="513720"/>
              </a:xfrm>
              <a:custGeom>
                <a:avLst/>
                <a:gdLst/>
                <a:ahLst/>
                <a:rect l="l" t="t" r="r" b="b"/>
                <a:pathLst>
                  <a:path w="24400" h="26066">
                    <a:moveTo>
                      <a:pt x="15133" y="0"/>
                    </a:moveTo>
                    <a:cubicBezTo>
                      <a:pt x="10919" y="0"/>
                      <a:pt x="6861" y="1515"/>
                      <a:pt x="3590" y="4228"/>
                    </a:cubicBezTo>
                    <a:cubicBezTo>
                      <a:pt x="2299" y="5317"/>
                      <a:pt x="243" y="6930"/>
                      <a:pt x="323" y="8825"/>
                    </a:cubicBezTo>
                    <a:cubicBezTo>
                      <a:pt x="444" y="11406"/>
                      <a:pt x="1332" y="13947"/>
                      <a:pt x="1372" y="16649"/>
                    </a:cubicBezTo>
                    <a:cubicBezTo>
                      <a:pt x="1412" y="19714"/>
                      <a:pt x="928" y="22779"/>
                      <a:pt x="1" y="25764"/>
                    </a:cubicBezTo>
                    <a:cubicBezTo>
                      <a:pt x="1204" y="25967"/>
                      <a:pt x="2406" y="26066"/>
                      <a:pt x="3595" y="26066"/>
                    </a:cubicBezTo>
                    <a:cubicBezTo>
                      <a:pt x="11619" y="26066"/>
                      <a:pt x="19099" y="21570"/>
                      <a:pt x="22787" y="14229"/>
                    </a:cubicBezTo>
                    <a:cubicBezTo>
                      <a:pt x="23835" y="12253"/>
                      <a:pt x="24400" y="10035"/>
                      <a:pt x="24400" y="7817"/>
                    </a:cubicBezTo>
                    <a:cubicBezTo>
                      <a:pt x="24400" y="5559"/>
                      <a:pt x="23432" y="3381"/>
                      <a:pt x="21738" y="1889"/>
                    </a:cubicBezTo>
                    <a:cubicBezTo>
                      <a:pt x="20246" y="639"/>
                      <a:pt x="18229" y="155"/>
                      <a:pt x="16213" y="34"/>
                    </a:cubicBezTo>
                    <a:cubicBezTo>
                      <a:pt x="15852" y="11"/>
                      <a:pt x="15492" y="0"/>
                      <a:pt x="15133" y="0"/>
                    </a:cubicBezTo>
                    <a:close/>
                  </a:path>
                </a:pathLst>
              </a:custGeom>
              <a:solidFill>
                <a:srgbClr val="7fc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Google Shape;3361;p73"/>
              <p:cNvSpPr/>
              <p:nvPr/>
            </p:nvSpPr>
            <p:spPr>
              <a:xfrm>
                <a:off x="6684840" y="3310200"/>
                <a:ext cx="402840" cy="163440"/>
              </a:xfrm>
              <a:custGeom>
                <a:avLst/>
                <a:gdLst/>
                <a:ahLst/>
                <a:rect l="l" t="t" r="r" b="b"/>
                <a:pathLst>
                  <a:path w="20448" h="8304">
                    <a:moveTo>
                      <a:pt x="20003" y="1"/>
                    </a:moveTo>
                    <a:lnTo>
                      <a:pt x="0" y="4114"/>
                    </a:lnTo>
                    <a:cubicBezTo>
                      <a:pt x="0" y="4114"/>
                      <a:pt x="2099" y="8272"/>
                      <a:pt x="3206" y="8272"/>
                    </a:cubicBezTo>
                    <a:cubicBezTo>
                      <a:pt x="3227" y="8272"/>
                      <a:pt x="3247" y="8271"/>
                      <a:pt x="3267" y="8268"/>
                    </a:cubicBezTo>
                    <a:cubicBezTo>
                      <a:pt x="4356" y="8107"/>
                      <a:pt x="5767" y="4114"/>
                      <a:pt x="5767" y="4114"/>
                    </a:cubicBezTo>
                    <a:cubicBezTo>
                      <a:pt x="5767" y="4114"/>
                      <a:pt x="7370" y="8303"/>
                      <a:pt x="9052" y="8303"/>
                    </a:cubicBezTo>
                    <a:cubicBezTo>
                      <a:pt x="9140" y="8303"/>
                      <a:pt x="9228" y="8292"/>
                      <a:pt x="9316" y="8268"/>
                    </a:cubicBezTo>
                    <a:cubicBezTo>
                      <a:pt x="11091" y="7784"/>
                      <a:pt x="10970" y="3348"/>
                      <a:pt x="10970" y="3348"/>
                    </a:cubicBezTo>
                    <a:cubicBezTo>
                      <a:pt x="10970" y="3348"/>
                      <a:pt x="13776" y="7221"/>
                      <a:pt x="14654" y="7221"/>
                    </a:cubicBezTo>
                    <a:cubicBezTo>
                      <a:pt x="14663" y="7221"/>
                      <a:pt x="14671" y="7220"/>
                      <a:pt x="14680" y="7219"/>
                    </a:cubicBezTo>
                    <a:cubicBezTo>
                      <a:pt x="15487" y="7098"/>
                      <a:pt x="15850" y="1896"/>
                      <a:pt x="15850" y="1896"/>
                    </a:cubicBezTo>
                    <a:cubicBezTo>
                      <a:pt x="15850" y="1896"/>
                      <a:pt x="18123" y="5698"/>
                      <a:pt x="19236" y="5698"/>
                    </a:cubicBezTo>
                    <a:cubicBezTo>
                      <a:pt x="19309" y="5698"/>
                      <a:pt x="19377" y="5681"/>
                      <a:pt x="19439" y="5647"/>
                    </a:cubicBezTo>
                    <a:cubicBezTo>
                      <a:pt x="20447" y="5082"/>
                      <a:pt x="20003" y="1"/>
                      <a:pt x="20003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2360" bIns="72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Google Shape;3362;p73"/>
              <p:cNvSpPr/>
              <p:nvPr/>
            </p:nvSpPr>
            <p:spPr>
              <a:xfrm>
                <a:off x="6753960" y="3543120"/>
                <a:ext cx="325800" cy="199800"/>
              </a:xfrm>
              <a:custGeom>
                <a:avLst/>
                <a:gdLst/>
                <a:ahLst/>
                <a:rect l="l" t="t" r="r" b="b"/>
                <a:pathLst>
                  <a:path w="16536" h="10137">
                    <a:moveTo>
                      <a:pt x="11837" y="1"/>
                    </a:moveTo>
                    <a:cubicBezTo>
                      <a:pt x="11813" y="1"/>
                      <a:pt x="11792" y="4"/>
                      <a:pt x="11777" y="11"/>
                    </a:cubicBezTo>
                    <a:cubicBezTo>
                      <a:pt x="11333" y="253"/>
                      <a:pt x="12342" y="3963"/>
                      <a:pt x="12342" y="3963"/>
                    </a:cubicBezTo>
                    <a:lnTo>
                      <a:pt x="10648" y="6181"/>
                    </a:lnTo>
                    <a:cubicBezTo>
                      <a:pt x="10648" y="6181"/>
                      <a:pt x="8274" y="1817"/>
                      <a:pt x="6921" y="1817"/>
                    </a:cubicBezTo>
                    <a:cubicBezTo>
                      <a:pt x="6885" y="1817"/>
                      <a:pt x="6851" y="1820"/>
                      <a:pt x="6816" y="1826"/>
                    </a:cubicBezTo>
                    <a:cubicBezTo>
                      <a:pt x="5526" y="2027"/>
                      <a:pt x="6816" y="6867"/>
                      <a:pt x="6816" y="6867"/>
                    </a:cubicBezTo>
                    <a:lnTo>
                      <a:pt x="4195" y="7552"/>
                    </a:lnTo>
                    <a:cubicBezTo>
                      <a:pt x="4195" y="7552"/>
                      <a:pt x="1856" y="2350"/>
                      <a:pt x="1170" y="2350"/>
                    </a:cubicBezTo>
                    <a:cubicBezTo>
                      <a:pt x="485" y="2350"/>
                      <a:pt x="1" y="6867"/>
                      <a:pt x="1" y="6867"/>
                    </a:cubicBezTo>
                    <a:cubicBezTo>
                      <a:pt x="1" y="6867"/>
                      <a:pt x="10161" y="10137"/>
                      <a:pt x="11091" y="10137"/>
                    </a:cubicBezTo>
                    <a:cubicBezTo>
                      <a:pt x="11107" y="10137"/>
                      <a:pt x="11121" y="10136"/>
                      <a:pt x="11132" y="10134"/>
                    </a:cubicBezTo>
                    <a:cubicBezTo>
                      <a:pt x="11696" y="10053"/>
                      <a:pt x="16536" y="2592"/>
                      <a:pt x="16536" y="2592"/>
                    </a:cubicBezTo>
                    <a:cubicBezTo>
                      <a:pt x="16536" y="2592"/>
                      <a:pt x="12517" y="1"/>
                      <a:pt x="11837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Google Shape;3363;p73"/>
              <p:cNvSpPr/>
              <p:nvPr/>
            </p:nvSpPr>
            <p:spPr>
              <a:xfrm>
                <a:off x="6642000" y="3011400"/>
                <a:ext cx="744480" cy="1395720"/>
              </a:xfrm>
              <a:custGeom>
                <a:avLst/>
                <a:gdLst/>
                <a:ahLst/>
                <a:rect l="l" t="t" r="r" b="b"/>
                <a:pathLst>
                  <a:path w="37789" h="70848">
                    <a:moveTo>
                      <a:pt x="18565" y="1"/>
                    </a:moveTo>
                    <a:cubicBezTo>
                      <a:pt x="12954" y="1"/>
                      <a:pt x="7316" y="2560"/>
                      <a:pt x="3670" y="7832"/>
                    </a:cubicBezTo>
                    <a:cubicBezTo>
                      <a:pt x="1170" y="11421"/>
                      <a:pt x="81" y="15857"/>
                      <a:pt x="0" y="20293"/>
                    </a:cubicBezTo>
                    <a:cubicBezTo>
                      <a:pt x="2559" y="21098"/>
                      <a:pt x="5186" y="21492"/>
                      <a:pt x="7793" y="21492"/>
                    </a:cubicBezTo>
                    <a:cubicBezTo>
                      <a:pt x="13939" y="21492"/>
                      <a:pt x="19977" y="19306"/>
                      <a:pt x="24762" y="15172"/>
                    </a:cubicBezTo>
                    <a:lnTo>
                      <a:pt x="24762" y="15172"/>
                    </a:lnTo>
                    <a:cubicBezTo>
                      <a:pt x="25206" y="21947"/>
                      <a:pt x="20891" y="28601"/>
                      <a:pt x="14680" y="31303"/>
                    </a:cubicBezTo>
                    <a:cubicBezTo>
                      <a:pt x="12563" y="32190"/>
                      <a:pt x="10315" y="32634"/>
                      <a:pt x="8071" y="32634"/>
                    </a:cubicBezTo>
                    <a:cubicBezTo>
                      <a:pt x="5828" y="32634"/>
                      <a:pt x="3590" y="32190"/>
                      <a:pt x="1493" y="31303"/>
                    </a:cubicBezTo>
                    <a:lnTo>
                      <a:pt x="1493" y="31303"/>
                    </a:lnTo>
                    <a:cubicBezTo>
                      <a:pt x="1614" y="31787"/>
                      <a:pt x="1735" y="32231"/>
                      <a:pt x="1856" y="32715"/>
                    </a:cubicBezTo>
                    <a:cubicBezTo>
                      <a:pt x="2864" y="36183"/>
                      <a:pt x="5082" y="39934"/>
                      <a:pt x="5001" y="43563"/>
                    </a:cubicBezTo>
                    <a:cubicBezTo>
                      <a:pt x="4921" y="48685"/>
                      <a:pt x="4154" y="53565"/>
                      <a:pt x="4679" y="58687"/>
                    </a:cubicBezTo>
                    <a:cubicBezTo>
                      <a:pt x="4961" y="61510"/>
                      <a:pt x="5485" y="64454"/>
                      <a:pt x="7219" y="66672"/>
                    </a:cubicBezTo>
                    <a:cubicBezTo>
                      <a:pt x="9437" y="69516"/>
                      <a:pt x="12893" y="70847"/>
                      <a:pt x="16382" y="70847"/>
                    </a:cubicBezTo>
                    <a:cubicBezTo>
                      <a:pt x="18732" y="70847"/>
                      <a:pt x="21097" y="70244"/>
                      <a:pt x="23109" y="69092"/>
                    </a:cubicBezTo>
                    <a:cubicBezTo>
                      <a:pt x="27787" y="66430"/>
                      <a:pt x="30610" y="61308"/>
                      <a:pt x="32546" y="56549"/>
                    </a:cubicBezTo>
                    <a:cubicBezTo>
                      <a:pt x="36821" y="46064"/>
                      <a:pt x="37789" y="33360"/>
                      <a:pt x="37345" y="22108"/>
                    </a:cubicBezTo>
                    <a:cubicBezTo>
                      <a:pt x="37144" y="17954"/>
                      <a:pt x="36660" y="13760"/>
                      <a:pt x="34804" y="10050"/>
                    </a:cubicBezTo>
                    <a:cubicBezTo>
                      <a:pt x="31516" y="3429"/>
                      <a:pt x="25058" y="1"/>
                      <a:pt x="18565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Google Shape;3364;p73"/>
              <p:cNvSpPr/>
              <p:nvPr/>
            </p:nvSpPr>
            <p:spPr>
              <a:xfrm>
                <a:off x="6690600" y="3202200"/>
                <a:ext cx="179640" cy="164160"/>
              </a:xfrm>
              <a:custGeom>
                <a:avLst/>
                <a:gdLst/>
                <a:ahLst/>
                <a:rect l="l" t="t" r="r" b="b"/>
                <a:pathLst>
                  <a:path w="9115" h="8330">
                    <a:moveTo>
                      <a:pt x="4557" y="0"/>
                    </a:moveTo>
                    <a:cubicBezTo>
                      <a:pt x="4238" y="0"/>
                      <a:pt x="3915" y="36"/>
                      <a:pt x="3590" y="112"/>
                    </a:cubicBezTo>
                    <a:cubicBezTo>
                      <a:pt x="1372" y="636"/>
                      <a:pt x="1" y="2894"/>
                      <a:pt x="525" y="5113"/>
                    </a:cubicBezTo>
                    <a:cubicBezTo>
                      <a:pt x="974" y="7046"/>
                      <a:pt x="2664" y="8329"/>
                      <a:pt x="4559" y="8329"/>
                    </a:cubicBezTo>
                    <a:cubicBezTo>
                      <a:pt x="4877" y="8329"/>
                      <a:pt x="5201" y="8293"/>
                      <a:pt x="5526" y="8218"/>
                    </a:cubicBezTo>
                    <a:cubicBezTo>
                      <a:pt x="7744" y="7694"/>
                      <a:pt x="9115" y="5435"/>
                      <a:pt x="8591" y="3217"/>
                    </a:cubicBezTo>
                    <a:cubicBezTo>
                      <a:pt x="8142" y="1283"/>
                      <a:pt x="6451" y="0"/>
                      <a:pt x="4557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3080" bIns="73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Google Shape;3365;p73"/>
              <p:cNvSpPr/>
              <p:nvPr/>
            </p:nvSpPr>
            <p:spPr>
              <a:xfrm>
                <a:off x="6734160" y="3256920"/>
                <a:ext cx="38880" cy="38880"/>
              </a:xfrm>
              <a:custGeom>
                <a:avLst/>
                <a:gdLst/>
                <a:ahLst/>
                <a:rect l="l" t="t" r="r" b="b"/>
                <a:pathLst>
                  <a:path w="1977" h="1977">
                    <a:moveTo>
                      <a:pt x="969" y="0"/>
                    </a:moveTo>
                    <a:cubicBezTo>
                      <a:pt x="444" y="0"/>
                      <a:pt x="1" y="404"/>
                      <a:pt x="1" y="968"/>
                    </a:cubicBezTo>
                    <a:cubicBezTo>
                      <a:pt x="1" y="1533"/>
                      <a:pt x="444" y="1977"/>
                      <a:pt x="969" y="1977"/>
                    </a:cubicBezTo>
                    <a:cubicBezTo>
                      <a:pt x="1533" y="1977"/>
                      <a:pt x="1977" y="1533"/>
                      <a:pt x="1977" y="968"/>
                    </a:cubicBezTo>
                    <a:cubicBezTo>
                      <a:pt x="1977" y="404"/>
                      <a:pt x="1533" y="0"/>
                      <a:pt x="969" y="0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2200" bIns="-522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Google Shape;3366;p73"/>
              <p:cNvSpPr/>
              <p:nvPr/>
            </p:nvSpPr>
            <p:spPr>
              <a:xfrm>
                <a:off x="6881400" y="3160800"/>
                <a:ext cx="179640" cy="163440"/>
              </a:xfrm>
              <a:custGeom>
                <a:avLst/>
                <a:gdLst/>
                <a:ahLst/>
                <a:rect l="l" t="t" r="r" b="b"/>
                <a:pathLst>
                  <a:path w="9115" h="8309">
                    <a:moveTo>
                      <a:pt x="4558" y="1"/>
                    </a:moveTo>
                    <a:cubicBezTo>
                      <a:pt x="3489" y="1"/>
                      <a:pt x="2420" y="404"/>
                      <a:pt x="1614" y="1211"/>
                    </a:cubicBezTo>
                    <a:cubicBezTo>
                      <a:pt x="0" y="2864"/>
                      <a:pt x="0" y="5485"/>
                      <a:pt x="1614" y="7099"/>
                    </a:cubicBezTo>
                    <a:cubicBezTo>
                      <a:pt x="2420" y="7905"/>
                      <a:pt x="3489" y="8308"/>
                      <a:pt x="4558" y="8308"/>
                    </a:cubicBezTo>
                    <a:cubicBezTo>
                      <a:pt x="5626" y="8308"/>
                      <a:pt x="6695" y="7905"/>
                      <a:pt x="7502" y="7099"/>
                    </a:cubicBezTo>
                    <a:cubicBezTo>
                      <a:pt x="9115" y="5485"/>
                      <a:pt x="9115" y="2864"/>
                      <a:pt x="7502" y="1211"/>
                    </a:cubicBezTo>
                    <a:cubicBezTo>
                      <a:pt x="6695" y="404"/>
                      <a:pt x="5626" y="1"/>
                      <a:pt x="4558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72360" bIns="72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Google Shape;3367;p73"/>
              <p:cNvSpPr/>
              <p:nvPr/>
            </p:nvSpPr>
            <p:spPr>
              <a:xfrm>
                <a:off x="6924960" y="3214800"/>
                <a:ext cx="46080" cy="39240"/>
              </a:xfrm>
              <a:custGeom>
                <a:avLst/>
                <a:gdLst/>
                <a:ahLst/>
                <a:rect l="l" t="t" r="r" b="b"/>
                <a:pathLst>
                  <a:path w="2340" h="2004">
                    <a:moveTo>
                      <a:pt x="943" y="1"/>
                    </a:moveTo>
                    <a:cubicBezTo>
                      <a:pt x="410" y="1"/>
                      <a:pt x="1" y="469"/>
                      <a:pt x="1" y="1011"/>
                    </a:cubicBezTo>
                    <a:cubicBezTo>
                      <a:pt x="1" y="1607"/>
                      <a:pt x="492" y="2003"/>
                      <a:pt x="1010" y="2003"/>
                    </a:cubicBezTo>
                    <a:cubicBezTo>
                      <a:pt x="1263" y="2003"/>
                      <a:pt x="1523" y="1909"/>
                      <a:pt x="1735" y="1697"/>
                    </a:cubicBezTo>
                    <a:cubicBezTo>
                      <a:pt x="2340" y="1092"/>
                      <a:pt x="1896" y="3"/>
                      <a:pt x="1009" y="3"/>
                    </a:cubicBezTo>
                    <a:cubicBezTo>
                      <a:pt x="987" y="1"/>
                      <a:pt x="965" y="1"/>
                      <a:pt x="943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1840" bIns="-518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2" name="Google Shape;3024;p65"/>
          <p:cNvGrpSpPr/>
          <p:nvPr/>
        </p:nvGrpSpPr>
        <p:grpSpPr>
          <a:xfrm>
            <a:off x="6421320" y="108000"/>
            <a:ext cx="2265480" cy="2266920"/>
            <a:chOff x="6421320" y="108000"/>
            <a:chExt cx="2265480" cy="2266920"/>
          </a:xfrm>
        </p:grpSpPr>
        <p:sp>
          <p:nvSpPr>
            <p:cNvPr id="1963" name="Google Shape;3025;p65"/>
            <p:cNvSpPr/>
            <p:nvPr/>
          </p:nvSpPr>
          <p:spPr>
            <a:xfrm>
              <a:off x="6421320" y="2206800"/>
              <a:ext cx="2265480" cy="16812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4" name="Google Shape;3026;p65"/>
            <p:cNvGrpSpPr/>
            <p:nvPr/>
          </p:nvGrpSpPr>
          <p:grpSpPr>
            <a:xfrm>
              <a:off x="6629400" y="108000"/>
              <a:ext cx="1848960" cy="2167560"/>
              <a:chOff x="6629400" y="108000"/>
              <a:chExt cx="1848960" cy="2167560"/>
            </a:xfrm>
          </p:grpSpPr>
          <p:sp>
            <p:nvSpPr>
              <p:cNvPr id="1965" name="Google Shape;3027;p65"/>
              <p:cNvSpPr/>
              <p:nvPr/>
            </p:nvSpPr>
            <p:spPr>
              <a:xfrm>
                <a:off x="6652800" y="428760"/>
                <a:ext cx="311040" cy="206280"/>
              </a:xfrm>
              <a:custGeom>
                <a:avLst/>
                <a:gdLst/>
                <a:ahLst/>
                <a:rect l="l" t="t" r="r" b="b"/>
                <a:pathLst>
                  <a:path w="14769" h="9808">
                    <a:moveTo>
                      <a:pt x="4716" y="1"/>
                    </a:moveTo>
                    <a:cubicBezTo>
                      <a:pt x="4701" y="1"/>
                      <a:pt x="4685" y="1"/>
                      <a:pt x="4670" y="1"/>
                    </a:cubicBezTo>
                    <a:cubicBezTo>
                      <a:pt x="0" y="118"/>
                      <a:pt x="14768" y="9807"/>
                      <a:pt x="14768" y="9807"/>
                    </a:cubicBezTo>
                    <a:lnTo>
                      <a:pt x="14301" y="8815"/>
                    </a:lnTo>
                    <a:cubicBezTo>
                      <a:pt x="14301" y="8815"/>
                      <a:pt x="9372" y="1"/>
                      <a:pt x="4716" y="1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Google Shape;3028;p65"/>
              <p:cNvSpPr/>
              <p:nvPr/>
            </p:nvSpPr>
            <p:spPr>
              <a:xfrm>
                <a:off x="6895440" y="209520"/>
                <a:ext cx="245880" cy="322200"/>
              </a:xfrm>
              <a:custGeom>
                <a:avLst/>
                <a:gdLst/>
                <a:ahLst/>
                <a:rect l="l" t="t" r="r" b="b"/>
                <a:pathLst>
                  <a:path w="11792" h="15364">
                    <a:moveTo>
                      <a:pt x="3935" y="1"/>
                    </a:moveTo>
                    <a:cubicBezTo>
                      <a:pt x="3705" y="1"/>
                      <a:pt x="3482" y="78"/>
                      <a:pt x="3269" y="245"/>
                    </a:cubicBezTo>
                    <a:cubicBezTo>
                      <a:pt x="0" y="2755"/>
                      <a:pt x="10157" y="15363"/>
                      <a:pt x="10157" y="15363"/>
                    </a:cubicBezTo>
                    <a:lnTo>
                      <a:pt x="11791" y="15363"/>
                    </a:lnTo>
                    <a:cubicBezTo>
                      <a:pt x="11791" y="15363"/>
                      <a:pt x="7162" y="1"/>
                      <a:pt x="3935" y="1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Google Shape;3029;p65"/>
              <p:cNvSpPr/>
              <p:nvPr/>
            </p:nvSpPr>
            <p:spPr>
              <a:xfrm>
                <a:off x="7411680" y="108000"/>
                <a:ext cx="245880" cy="322200"/>
              </a:xfrm>
              <a:custGeom>
                <a:avLst/>
                <a:gdLst/>
                <a:ahLst/>
                <a:rect l="l" t="t" r="r" b="b"/>
                <a:pathLst>
                  <a:path w="11672" h="15353">
                    <a:moveTo>
                      <a:pt x="6536" y="0"/>
                    </a:moveTo>
                    <a:cubicBezTo>
                      <a:pt x="6354" y="0"/>
                      <a:pt x="6160" y="19"/>
                      <a:pt x="5954" y="59"/>
                    </a:cubicBezTo>
                    <a:cubicBezTo>
                      <a:pt x="1" y="1227"/>
                      <a:pt x="5954" y="14477"/>
                      <a:pt x="5954" y="14477"/>
                    </a:cubicBezTo>
                    <a:lnTo>
                      <a:pt x="7589" y="15352"/>
                    </a:lnTo>
                    <a:cubicBezTo>
                      <a:pt x="7589" y="15352"/>
                      <a:pt x="11672" y="0"/>
                      <a:pt x="6536" y="0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Google Shape;3030;p65"/>
              <p:cNvSpPr/>
              <p:nvPr/>
            </p:nvSpPr>
            <p:spPr>
              <a:xfrm>
                <a:off x="7227360" y="201600"/>
                <a:ext cx="141120" cy="245880"/>
              </a:xfrm>
              <a:custGeom>
                <a:avLst/>
                <a:gdLst/>
                <a:ahLst/>
                <a:rect l="l" t="t" r="r" b="b"/>
                <a:pathLst>
                  <a:path w="6751" h="11746">
                    <a:moveTo>
                      <a:pt x="2595" y="0"/>
                    </a:moveTo>
                    <a:cubicBezTo>
                      <a:pt x="473" y="0"/>
                      <a:pt x="1" y="3987"/>
                      <a:pt x="4825" y="11745"/>
                    </a:cubicBezTo>
                    <a:cubicBezTo>
                      <a:pt x="4825" y="11745"/>
                      <a:pt x="6751" y="1939"/>
                      <a:pt x="3832" y="363"/>
                    </a:cubicBezTo>
                    <a:cubicBezTo>
                      <a:pt x="3383" y="121"/>
                      <a:pt x="2964" y="0"/>
                      <a:pt x="2595" y="0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Google Shape;3031;p65"/>
              <p:cNvSpPr/>
              <p:nvPr/>
            </p:nvSpPr>
            <p:spPr>
              <a:xfrm>
                <a:off x="8129520" y="430200"/>
                <a:ext cx="309600" cy="204840"/>
              </a:xfrm>
              <a:custGeom>
                <a:avLst/>
                <a:gdLst/>
                <a:ahLst/>
                <a:rect l="l" t="t" r="r" b="b"/>
                <a:pathLst>
                  <a:path w="14769" h="9750">
                    <a:moveTo>
                      <a:pt x="10007" y="0"/>
                    </a:moveTo>
                    <a:cubicBezTo>
                      <a:pt x="5364" y="0"/>
                      <a:pt x="467" y="8757"/>
                      <a:pt x="467" y="8757"/>
                    </a:cubicBezTo>
                    <a:lnTo>
                      <a:pt x="0" y="9749"/>
                    </a:lnTo>
                    <a:cubicBezTo>
                      <a:pt x="0" y="9749"/>
                      <a:pt x="14768" y="60"/>
                      <a:pt x="10098" y="1"/>
                    </a:cubicBezTo>
                    <a:cubicBezTo>
                      <a:pt x="10068" y="1"/>
                      <a:pt x="10037" y="0"/>
                      <a:pt x="10007" y="0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Google Shape;3032;p65"/>
              <p:cNvSpPr/>
              <p:nvPr/>
            </p:nvSpPr>
            <p:spPr>
              <a:xfrm>
                <a:off x="7950240" y="209520"/>
                <a:ext cx="247680" cy="322200"/>
              </a:xfrm>
              <a:custGeom>
                <a:avLst/>
                <a:gdLst/>
                <a:ahLst/>
                <a:rect l="l" t="t" r="r" b="b"/>
                <a:pathLst>
                  <a:path w="11792" h="15364">
                    <a:moveTo>
                      <a:pt x="7846" y="1"/>
                    </a:moveTo>
                    <a:cubicBezTo>
                      <a:pt x="4579" y="1"/>
                      <a:pt x="0" y="15363"/>
                      <a:pt x="0" y="15363"/>
                    </a:cubicBezTo>
                    <a:lnTo>
                      <a:pt x="1635" y="15363"/>
                    </a:lnTo>
                    <a:cubicBezTo>
                      <a:pt x="1635" y="15363"/>
                      <a:pt x="11791" y="2755"/>
                      <a:pt x="8522" y="245"/>
                    </a:cubicBezTo>
                    <a:cubicBezTo>
                      <a:pt x="8305" y="78"/>
                      <a:pt x="8079" y="1"/>
                      <a:pt x="7846" y="1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Google Shape;3033;p65"/>
              <p:cNvSpPr/>
              <p:nvPr/>
            </p:nvSpPr>
            <p:spPr>
              <a:xfrm>
                <a:off x="7723080" y="201600"/>
                <a:ext cx="142920" cy="245880"/>
              </a:xfrm>
              <a:custGeom>
                <a:avLst/>
                <a:gdLst/>
                <a:ahLst/>
                <a:rect l="l" t="t" r="r" b="b"/>
                <a:pathLst>
                  <a:path w="6751" h="11746">
                    <a:moveTo>
                      <a:pt x="4156" y="0"/>
                    </a:moveTo>
                    <a:cubicBezTo>
                      <a:pt x="3787" y="0"/>
                      <a:pt x="3369" y="121"/>
                      <a:pt x="2919" y="363"/>
                    </a:cubicBezTo>
                    <a:cubicBezTo>
                      <a:pt x="1" y="1939"/>
                      <a:pt x="1927" y="11745"/>
                      <a:pt x="1927" y="11745"/>
                    </a:cubicBezTo>
                    <a:cubicBezTo>
                      <a:pt x="6751" y="3987"/>
                      <a:pt x="6279" y="0"/>
                      <a:pt x="4156" y="0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Google Shape;3034;p65"/>
              <p:cNvSpPr/>
              <p:nvPr/>
            </p:nvSpPr>
            <p:spPr>
              <a:xfrm>
                <a:off x="6629400" y="392040"/>
                <a:ext cx="1848960" cy="1883520"/>
              </a:xfrm>
              <a:custGeom>
                <a:avLst/>
                <a:gdLst/>
                <a:ahLst/>
                <a:rect l="l" t="t" r="r" b="b"/>
                <a:pathLst>
                  <a:path w="88081" h="89739">
                    <a:moveTo>
                      <a:pt x="44186" y="1"/>
                    </a:moveTo>
                    <a:cubicBezTo>
                      <a:pt x="24516" y="1"/>
                      <a:pt x="8580" y="12200"/>
                      <a:pt x="8580" y="27318"/>
                    </a:cubicBezTo>
                    <a:cubicBezTo>
                      <a:pt x="8697" y="32980"/>
                      <a:pt x="10857" y="38467"/>
                      <a:pt x="14709" y="42670"/>
                    </a:cubicBezTo>
                    <a:cubicBezTo>
                      <a:pt x="12199" y="45121"/>
                      <a:pt x="10215" y="48040"/>
                      <a:pt x="8756" y="51250"/>
                    </a:cubicBezTo>
                    <a:cubicBezTo>
                      <a:pt x="5720" y="58021"/>
                      <a:pt x="4319" y="69053"/>
                      <a:pt x="13250" y="84346"/>
                    </a:cubicBezTo>
                    <a:cubicBezTo>
                      <a:pt x="12316" y="84230"/>
                      <a:pt x="11324" y="84171"/>
                      <a:pt x="10332" y="84171"/>
                    </a:cubicBezTo>
                    <a:cubicBezTo>
                      <a:pt x="4611" y="84171"/>
                      <a:pt x="0" y="86915"/>
                      <a:pt x="0" y="88432"/>
                    </a:cubicBezTo>
                    <a:cubicBezTo>
                      <a:pt x="0" y="89593"/>
                      <a:pt x="5188" y="89729"/>
                      <a:pt x="10188" y="89729"/>
                    </a:cubicBezTo>
                    <a:cubicBezTo>
                      <a:pt x="11726" y="89729"/>
                      <a:pt x="13247" y="89716"/>
                      <a:pt x="14593" y="89716"/>
                    </a:cubicBezTo>
                    <a:cubicBezTo>
                      <a:pt x="20371" y="89716"/>
                      <a:pt x="20721" y="89425"/>
                      <a:pt x="20721" y="87907"/>
                    </a:cubicBezTo>
                    <a:cubicBezTo>
                      <a:pt x="20721" y="87440"/>
                      <a:pt x="20255" y="86915"/>
                      <a:pt x="19496" y="86389"/>
                    </a:cubicBezTo>
                    <a:cubicBezTo>
                      <a:pt x="4553" y="64150"/>
                      <a:pt x="12141" y="51134"/>
                      <a:pt x="17686" y="45472"/>
                    </a:cubicBezTo>
                    <a:cubicBezTo>
                      <a:pt x="24224" y="51134"/>
                      <a:pt x="33738" y="54694"/>
                      <a:pt x="44303" y="54694"/>
                    </a:cubicBezTo>
                    <a:cubicBezTo>
                      <a:pt x="54693" y="54694"/>
                      <a:pt x="64091" y="51250"/>
                      <a:pt x="70628" y="45705"/>
                    </a:cubicBezTo>
                    <a:cubicBezTo>
                      <a:pt x="76173" y="51484"/>
                      <a:pt x="83295" y="64442"/>
                      <a:pt x="68585" y="86389"/>
                    </a:cubicBezTo>
                    <a:cubicBezTo>
                      <a:pt x="67826" y="86915"/>
                      <a:pt x="67359" y="87440"/>
                      <a:pt x="67359" y="87907"/>
                    </a:cubicBezTo>
                    <a:cubicBezTo>
                      <a:pt x="67359" y="89425"/>
                      <a:pt x="67768" y="89716"/>
                      <a:pt x="73488" y="89716"/>
                    </a:cubicBezTo>
                    <a:cubicBezTo>
                      <a:pt x="75077" y="89716"/>
                      <a:pt x="76909" y="89739"/>
                      <a:pt x="78727" y="89739"/>
                    </a:cubicBezTo>
                    <a:cubicBezTo>
                      <a:pt x="83453" y="89739"/>
                      <a:pt x="88081" y="89587"/>
                      <a:pt x="88081" y="88491"/>
                    </a:cubicBezTo>
                    <a:cubicBezTo>
                      <a:pt x="88081" y="86973"/>
                      <a:pt x="83411" y="84171"/>
                      <a:pt x="77691" y="84171"/>
                    </a:cubicBezTo>
                    <a:cubicBezTo>
                      <a:pt x="76699" y="84171"/>
                      <a:pt x="75706" y="84230"/>
                      <a:pt x="74772" y="84346"/>
                    </a:cubicBezTo>
                    <a:cubicBezTo>
                      <a:pt x="83703" y="69053"/>
                      <a:pt x="82302" y="58021"/>
                      <a:pt x="79267" y="51250"/>
                    </a:cubicBezTo>
                    <a:cubicBezTo>
                      <a:pt x="77866" y="48157"/>
                      <a:pt x="75882" y="45296"/>
                      <a:pt x="73430" y="42903"/>
                    </a:cubicBezTo>
                    <a:cubicBezTo>
                      <a:pt x="77399" y="38525"/>
                      <a:pt x="79792" y="33097"/>
                      <a:pt x="79792" y="27318"/>
                    </a:cubicBezTo>
                    <a:cubicBezTo>
                      <a:pt x="79792" y="12200"/>
                      <a:pt x="63857" y="1"/>
                      <a:pt x="44186" y="1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Google Shape;3035;p65"/>
              <p:cNvSpPr/>
              <p:nvPr/>
            </p:nvSpPr>
            <p:spPr>
              <a:xfrm>
                <a:off x="7241760" y="858960"/>
                <a:ext cx="622440" cy="212760"/>
              </a:xfrm>
              <a:custGeom>
                <a:avLst/>
                <a:gdLst/>
                <a:ahLst/>
                <a:rect l="l" t="t" r="r" b="b"/>
                <a:pathLst>
                  <a:path w="29653" h="10157">
                    <a:moveTo>
                      <a:pt x="2335" y="0"/>
                    </a:moveTo>
                    <a:cubicBezTo>
                      <a:pt x="934" y="0"/>
                      <a:pt x="0" y="1518"/>
                      <a:pt x="642" y="2802"/>
                    </a:cubicBezTo>
                    <a:cubicBezTo>
                      <a:pt x="2919" y="7121"/>
                      <a:pt x="8406" y="10157"/>
                      <a:pt x="14826" y="10157"/>
                    </a:cubicBezTo>
                    <a:cubicBezTo>
                      <a:pt x="21247" y="10157"/>
                      <a:pt x="26734" y="7121"/>
                      <a:pt x="29010" y="2802"/>
                    </a:cubicBezTo>
                    <a:cubicBezTo>
                      <a:pt x="29652" y="1518"/>
                      <a:pt x="28718" y="0"/>
                      <a:pt x="27318" y="0"/>
                    </a:cubicBezTo>
                    <a:lnTo>
                      <a:pt x="2335" y="0"/>
                    </a:ln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Google Shape;3036;p65"/>
              <p:cNvSpPr/>
              <p:nvPr/>
            </p:nvSpPr>
            <p:spPr>
              <a:xfrm>
                <a:off x="7783560" y="561960"/>
                <a:ext cx="282960" cy="252360"/>
              </a:xfrm>
              <a:custGeom>
                <a:avLst/>
                <a:gdLst/>
                <a:ahLst/>
                <a:rect l="l" t="t" r="r" b="b"/>
                <a:pathLst>
                  <a:path w="13485" h="12035">
                    <a:moveTo>
                      <a:pt x="6751" y="0"/>
                    </a:moveTo>
                    <a:cubicBezTo>
                      <a:pt x="5024" y="0"/>
                      <a:pt x="3308" y="743"/>
                      <a:pt x="2102" y="2177"/>
                    </a:cubicBezTo>
                    <a:cubicBezTo>
                      <a:pt x="1" y="4687"/>
                      <a:pt x="351" y="8481"/>
                      <a:pt x="2861" y="10641"/>
                    </a:cubicBezTo>
                    <a:cubicBezTo>
                      <a:pt x="4001" y="11574"/>
                      <a:pt x="5382" y="12035"/>
                      <a:pt x="6750" y="12035"/>
                    </a:cubicBezTo>
                    <a:cubicBezTo>
                      <a:pt x="8464" y="12035"/>
                      <a:pt x="10156" y="11311"/>
                      <a:pt x="11325" y="9882"/>
                    </a:cubicBezTo>
                    <a:cubicBezTo>
                      <a:pt x="13484" y="7314"/>
                      <a:pt x="13134" y="3520"/>
                      <a:pt x="10624" y="1418"/>
                    </a:cubicBezTo>
                    <a:cubicBezTo>
                      <a:pt x="9490" y="465"/>
                      <a:pt x="8117" y="0"/>
                      <a:pt x="6751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Google Shape;3037;p65"/>
              <p:cNvSpPr/>
              <p:nvPr/>
            </p:nvSpPr>
            <p:spPr>
              <a:xfrm>
                <a:off x="7848720" y="662040"/>
                <a:ext cx="71280" cy="61560"/>
              </a:xfrm>
              <a:custGeom>
                <a:avLst/>
                <a:gdLst/>
                <a:ahLst/>
                <a:rect l="l" t="t" r="r" b="b"/>
                <a:pathLst>
                  <a:path w="3410" h="2938">
                    <a:moveTo>
                      <a:pt x="1671" y="1"/>
                    </a:moveTo>
                    <a:cubicBezTo>
                      <a:pt x="1468" y="1"/>
                      <a:pt x="1258" y="47"/>
                      <a:pt x="1051" y="151"/>
                    </a:cubicBezTo>
                    <a:cubicBezTo>
                      <a:pt x="292" y="501"/>
                      <a:pt x="1" y="1318"/>
                      <a:pt x="292" y="2018"/>
                    </a:cubicBezTo>
                    <a:cubicBezTo>
                      <a:pt x="555" y="2631"/>
                      <a:pt x="1110" y="2938"/>
                      <a:pt x="1657" y="2938"/>
                    </a:cubicBezTo>
                    <a:cubicBezTo>
                      <a:pt x="2204" y="2938"/>
                      <a:pt x="2744" y="2631"/>
                      <a:pt x="2977" y="2018"/>
                    </a:cubicBezTo>
                    <a:cubicBezTo>
                      <a:pt x="3410" y="1010"/>
                      <a:pt x="2616" y="1"/>
                      <a:pt x="1671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9520" bIns="-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Google Shape;3038;p65"/>
              <p:cNvSpPr/>
              <p:nvPr/>
            </p:nvSpPr>
            <p:spPr>
              <a:xfrm>
                <a:off x="7063200" y="561960"/>
                <a:ext cx="284040" cy="252360"/>
              </a:xfrm>
              <a:custGeom>
                <a:avLst/>
                <a:gdLst/>
                <a:ahLst/>
                <a:rect l="l" t="t" r="r" b="b"/>
                <a:pathLst>
                  <a:path w="13543" h="12035">
                    <a:moveTo>
                      <a:pt x="6799" y="0"/>
                    </a:moveTo>
                    <a:cubicBezTo>
                      <a:pt x="5082" y="0"/>
                      <a:pt x="3366" y="743"/>
                      <a:pt x="2160" y="2177"/>
                    </a:cubicBezTo>
                    <a:cubicBezTo>
                      <a:pt x="0" y="4687"/>
                      <a:pt x="350" y="8481"/>
                      <a:pt x="2919" y="10641"/>
                    </a:cubicBezTo>
                    <a:cubicBezTo>
                      <a:pt x="4033" y="11574"/>
                      <a:pt x="5400" y="12035"/>
                      <a:pt x="6764" y="12035"/>
                    </a:cubicBezTo>
                    <a:cubicBezTo>
                      <a:pt x="8474" y="12035"/>
                      <a:pt x="10181" y="11311"/>
                      <a:pt x="11382" y="9882"/>
                    </a:cubicBezTo>
                    <a:cubicBezTo>
                      <a:pt x="13542" y="7314"/>
                      <a:pt x="13192" y="3520"/>
                      <a:pt x="10624" y="1418"/>
                    </a:cubicBezTo>
                    <a:cubicBezTo>
                      <a:pt x="9515" y="465"/>
                      <a:pt x="8157" y="0"/>
                      <a:pt x="6799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Google Shape;3039;p65"/>
              <p:cNvSpPr/>
              <p:nvPr/>
            </p:nvSpPr>
            <p:spPr>
              <a:xfrm>
                <a:off x="7113240" y="662040"/>
                <a:ext cx="71280" cy="61560"/>
              </a:xfrm>
              <a:custGeom>
                <a:avLst/>
                <a:gdLst/>
                <a:ahLst/>
                <a:rect l="l" t="t" r="r" b="b"/>
                <a:pathLst>
                  <a:path w="3410" h="2938">
                    <a:moveTo>
                      <a:pt x="1671" y="1"/>
                    </a:moveTo>
                    <a:cubicBezTo>
                      <a:pt x="1468" y="1"/>
                      <a:pt x="1258" y="47"/>
                      <a:pt x="1051" y="151"/>
                    </a:cubicBezTo>
                    <a:cubicBezTo>
                      <a:pt x="292" y="501"/>
                      <a:pt x="0" y="1318"/>
                      <a:pt x="292" y="2018"/>
                    </a:cubicBezTo>
                    <a:cubicBezTo>
                      <a:pt x="555" y="2631"/>
                      <a:pt x="1109" y="2938"/>
                      <a:pt x="1657" y="2938"/>
                    </a:cubicBezTo>
                    <a:cubicBezTo>
                      <a:pt x="2204" y="2938"/>
                      <a:pt x="2744" y="2631"/>
                      <a:pt x="2977" y="2018"/>
                    </a:cubicBezTo>
                    <a:cubicBezTo>
                      <a:pt x="3410" y="1010"/>
                      <a:pt x="2616" y="1"/>
                      <a:pt x="1671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9520" bIns="-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8" name="Google Shape;3040;p65"/>
          <p:cNvSpPr/>
          <p:nvPr/>
        </p:nvSpPr>
        <p:spPr>
          <a:xfrm>
            <a:off x="2657520" y="3368520"/>
            <a:ext cx="3514680" cy="700200"/>
          </a:xfrm>
          <a:custGeom>
            <a:avLst/>
            <a:gdLst/>
            <a:ahLst/>
            <a:rect l="l" t="t" r="r" b="b"/>
            <a:pathLst>
              <a:path w="286778" h="39641">
                <a:moveTo>
                  <a:pt x="2485" y="0"/>
                </a:moveTo>
                <a:cubicBezTo>
                  <a:pt x="865" y="0"/>
                  <a:pt x="1" y="1944"/>
                  <a:pt x="1081" y="3186"/>
                </a:cubicBezTo>
                <a:lnTo>
                  <a:pt x="16473" y="20036"/>
                </a:lnTo>
                <a:lnTo>
                  <a:pt x="1189" y="36400"/>
                </a:lnTo>
                <a:cubicBezTo>
                  <a:pt x="55" y="37643"/>
                  <a:pt x="919" y="39641"/>
                  <a:pt x="2593" y="39641"/>
                </a:cubicBezTo>
                <a:lnTo>
                  <a:pt x="284239" y="39641"/>
                </a:lnTo>
                <a:cubicBezTo>
                  <a:pt x="285859" y="39641"/>
                  <a:pt x="286777" y="37697"/>
                  <a:pt x="285643" y="36454"/>
                </a:cubicBezTo>
                <a:lnTo>
                  <a:pt x="271169" y="19550"/>
                </a:lnTo>
                <a:lnTo>
                  <a:pt x="285589" y="3186"/>
                </a:lnTo>
                <a:cubicBezTo>
                  <a:pt x="286669" y="1944"/>
                  <a:pt x="285751" y="0"/>
                  <a:pt x="284131" y="0"/>
                </a:cubicBezTo>
                <a:lnTo>
                  <a:pt x="2485" y="0"/>
                </a:lnTo>
                <a:close/>
              </a:path>
            </a:pathLst>
          </a:custGeom>
          <a:solidFill>
            <a:srgbClr val="7fc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Google Shape;3041;p65"/>
          <p:cNvSpPr/>
          <p:nvPr/>
        </p:nvSpPr>
        <p:spPr>
          <a:xfrm>
            <a:off x="2168640" y="3186000"/>
            <a:ext cx="50180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5f1e6"/>
                </a:solidFill>
                <a:latin typeface="Sriracha"/>
                <a:ea typeface="Sriracha"/>
              </a:rPr>
              <a:t>Buen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73" dur="2000" fill="hold"/>
                                        <p:tgtEl>
                                          <p:spTgt spid="1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0" name="Google Shape;3245;p71"/>
          <p:cNvGrpSpPr/>
          <p:nvPr/>
        </p:nvGrpSpPr>
        <p:grpSpPr>
          <a:xfrm>
            <a:off x="3452760" y="1436760"/>
            <a:ext cx="2238480" cy="2530440"/>
            <a:chOff x="3452760" y="1436760"/>
            <a:chExt cx="2238480" cy="2530440"/>
          </a:xfrm>
        </p:grpSpPr>
        <p:sp>
          <p:nvSpPr>
            <p:cNvPr id="1981" name="Google Shape;3246;p71"/>
            <p:cNvSpPr/>
            <p:nvPr/>
          </p:nvSpPr>
          <p:spPr>
            <a:xfrm>
              <a:off x="4008960" y="1652400"/>
              <a:ext cx="330840" cy="394920"/>
            </a:xfrm>
            <a:custGeom>
              <a:avLst/>
              <a:gdLst/>
              <a:ahLst/>
              <a:rect l="l" t="t" r="r" b="b"/>
              <a:pathLst>
                <a:path w="13245" h="15796">
                  <a:moveTo>
                    <a:pt x="3012" y="0"/>
                  </a:moveTo>
                  <a:cubicBezTo>
                    <a:pt x="2724" y="0"/>
                    <a:pt x="2457" y="58"/>
                    <a:pt x="2219" y="181"/>
                  </a:cubicBezTo>
                  <a:cubicBezTo>
                    <a:pt x="0" y="1324"/>
                    <a:pt x="1009" y="7710"/>
                    <a:pt x="3025" y="11744"/>
                  </a:cubicBezTo>
                  <a:cubicBezTo>
                    <a:pt x="4534" y="14615"/>
                    <a:pt x="6359" y="15795"/>
                    <a:pt x="8119" y="15795"/>
                  </a:cubicBezTo>
                  <a:cubicBezTo>
                    <a:pt x="8790" y="15795"/>
                    <a:pt x="9453" y="15623"/>
                    <a:pt x="10084" y="15307"/>
                  </a:cubicBezTo>
                  <a:cubicBezTo>
                    <a:pt x="12303" y="14164"/>
                    <a:pt x="13244" y="11475"/>
                    <a:pt x="11160" y="7509"/>
                  </a:cubicBezTo>
                  <a:cubicBezTo>
                    <a:pt x="9300" y="3969"/>
                    <a:pt x="5405" y="0"/>
                    <a:pt x="3012" y="0"/>
                  </a:cubicBezTo>
                  <a:close/>
                </a:path>
              </a:pathLst>
            </a:custGeom>
            <a:solidFill>
              <a:srgbClr val="7fc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Google Shape;3247;p71"/>
            <p:cNvSpPr/>
            <p:nvPr/>
          </p:nvSpPr>
          <p:spPr>
            <a:xfrm>
              <a:off x="4803840" y="1652400"/>
              <a:ext cx="329400" cy="394920"/>
            </a:xfrm>
            <a:custGeom>
              <a:avLst/>
              <a:gdLst/>
              <a:ahLst/>
              <a:rect l="l" t="t" r="r" b="b"/>
              <a:pathLst>
                <a:path w="13178" h="15796">
                  <a:moveTo>
                    <a:pt x="10166" y="0"/>
                  </a:moveTo>
                  <a:cubicBezTo>
                    <a:pt x="7773" y="0"/>
                    <a:pt x="3878" y="3969"/>
                    <a:pt x="2018" y="7509"/>
                  </a:cubicBezTo>
                  <a:cubicBezTo>
                    <a:pt x="1" y="11475"/>
                    <a:pt x="875" y="14164"/>
                    <a:pt x="3161" y="15307"/>
                  </a:cubicBezTo>
                  <a:cubicBezTo>
                    <a:pt x="3774" y="15623"/>
                    <a:pt x="4423" y="15795"/>
                    <a:pt x="5085" y="15795"/>
                  </a:cubicBezTo>
                  <a:cubicBezTo>
                    <a:pt x="6819" y="15795"/>
                    <a:pt x="8644" y="14615"/>
                    <a:pt x="10152" y="11744"/>
                  </a:cubicBezTo>
                  <a:cubicBezTo>
                    <a:pt x="12236" y="7710"/>
                    <a:pt x="13178" y="1324"/>
                    <a:pt x="10959" y="181"/>
                  </a:cubicBezTo>
                  <a:cubicBezTo>
                    <a:pt x="10721" y="58"/>
                    <a:pt x="10454" y="0"/>
                    <a:pt x="10166" y="0"/>
                  </a:cubicBezTo>
                  <a:close/>
                </a:path>
              </a:pathLst>
            </a:custGeom>
            <a:solidFill>
              <a:srgbClr val="7fc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Google Shape;3248;p71"/>
            <p:cNvSpPr/>
            <p:nvPr/>
          </p:nvSpPr>
          <p:spPr>
            <a:xfrm>
              <a:off x="4348080" y="1436760"/>
              <a:ext cx="379440" cy="393480"/>
            </a:xfrm>
            <a:custGeom>
              <a:avLst/>
              <a:gdLst/>
              <a:ahLst/>
              <a:rect l="l" t="t" r="r" b="b"/>
              <a:pathLst>
                <a:path w="15176" h="15740">
                  <a:moveTo>
                    <a:pt x="7833" y="1"/>
                  </a:moveTo>
                  <a:cubicBezTo>
                    <a:pt x="5054" y="1"/>
                    <a:pt x="6124" y="10873"/>
                    <a:pt x="6166" y="11290"/>
                  </a:cubicBezTo>
                  <a:lnTo>
                    <a:pt x="6166" y="11290"/>
                  </a:lnTo>
                  <a:cubicBezTo>
                    <a:pt x="6136" y="11000"/>
                    <a:pt x="5537" y="5667"/>
                    <a:pt x="2268" y="3706"/>
                  </a:cubicBezTo>
                  <a:cubicBezTo>
                    <a:pt x="2047" y="3570"/>
                    <a:pt x="1877" y="3507"/>
                    <a:pt x="1751" y="3507"/>
                  </a:cubicBezTo>
                  <a:cubicBezTo>
                    <a:pt x="1" y="3507"/>
                    <a:pt x="6907" y="15739"/>
                    <a:pt x="6907" y="15739"/>
                  </a:cubicBezTo>
                  <a:cubicBezTo>
                    <a:pt x="6907" y="15739"/>
                    <a:pt x="15176" y="7067"/>
                    <a:pt x="14033" y="5924"/>
                  </a:cubicBezTo>
                  <a:cubicBezTo>
                    <a:pt x="13931" y="5822"/>
                    <a:pt x="13805" y="5776"/>
                    <a:pt x="13661" y="5776"/>
                  </a:cubicBezTo>
                  <a:cubicBezTo>
                    <a:pt x="12086" y="5776"/>
                    <a:pt x="8251" y="11302"/>
                    <a:pt x="8251" y="11302"/>
                  </a:cubicBezTo>
                  <a:cubicBezTo>
                    <a:pt x="8251" y="11302"/>
                    <a:pt x="11545" y="1218"/>
                    <a:pt x="8251" y="75"/>
                  </a:cubicBezTo>
                  <a:cubicBezTo>
                    <a:pt x="8103" y="25"/>
                    <a:pt x="7963" y="1"/>
                    <a:pt x="7833" y="1"/>
                  </a:cubicBez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Google Shape;3249;p71"/>
            <p:cNvSpPr/>
            <p:nvPr/>
          </p:nvSpPr>
          <p:spPr>
            <a:xfrm>
              <a:off x="5283360" y="2764080"/>
              <a:ext cx="407880" cy="374400"/>
            </a:xfrm>
            <a:custGeom>
              <a:avLst/>
              <a:gdLst/>
              <a:ahLst/>
              <a:rect l="l" t="t" r="r" b="b"/>
              <a:pathLst>
                <a:path w="16338" h="14993">
                  <a:moveTo>
                    <a:pt x="4387" y="0"/>
                  </a:moveTo>
                  <a:cubicBezTo>
                    <a:pt x="3372" y="0"/>
                    <a:pt x="2495" y="362"/>
                    <a:pt x="1816" y="1016"/>
                  </a:cubicBezTo>
                  <a:cubicBezTo>
                    <a:pt x="1" y="2764"/>
                    <a:pt x="135" y="5924"/>
                    <a:pt x="3631" y="9689"/>
                  </a:cubicBezTo>
                  <a:cubicBezTo>
                    <a:pt x="6397" y="12614"/>
                    <a:pt x="10383" y="14993"/>
                    <a:pt x="12860" y="14993"/>
                  </a:cubicBezTo>
                  <a:cubicBezTo>
                    <a:pt x="13514" y="14993"/>
                    <a:pt x="14062" y="14827"/>
                    <a:pt x="14455" y="14462"/>
                  </a:cubicBezTo>
                  <a:cubicBezTo>
                    <a:pt x="16337" y="12714"/>
                    <a:pt x="13850" y="7067"/>
                    <a:pt x="10354" y="3369"/>
                  </a:cubicBezTo>
                  <a:cubicBezTo>
                    <a:pt x="8166" y="1013"/>
                    <a:pt x="6084" y="0"/>
                    <a:pt x="4387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Google Shape;3250;p71"/>
            <p:cNvSpPr/>
            <p:nvPr/>
          </p:nvSpPr>
          <p:spPr>
            <a:xfrm>
              <a:off x="3889080" y="3517920"/>
              <a:ext cx="291960" cy="449280"/>
            </a:xfrm>
            <a:custGeom>
              <a:avLst/>
              <a:gdLst/>
              <a:ahLst/>
              <a:rect l="l" t="t" r="r" b="b"/>
              <a:pathLst>
                <a:path w="11699" h="17969">
                  <a:moveTo>
                    <a:pt x="6887" y="1"/>
                  </a:moveTo>
                  <a:cubicBezTo>
                    <a:pt x="4773" y="1"/>
                    <a:pt x="2623" y="1935"/>
                    <a:pt x="1413" y="6143"/>
                  </a:cubicBezTo>
                  <a:cubicBezTo>
                    <a:pt x="1" y="11051"/>
                    <a:pt x="404" y="17236"/>
                    <a:pt x="2825" y="17908"/>
                  </a:cubicBezTo>
                  <a:cubicBezTo>
                    <a:pt x="2971" y="17949"/>
                    <a:pt x="3123" y="17969"/>
                    <a:pt x="3278" y="17969"/>
                  </a:cubicBezTo>
                  <a:cubicBezTo>
                    <a:pt x="5677" y="17969"/>
                    <a:pt x="8961" y="13240"/>
                    <a:pt x="10287" y="8631"/>
                  </a:cubicBezTo>
                  <a:cubicBezTo>
                    <a:pt x="11699" y="3723"/>
                    <a:pt x="10421" y="899"/>
                    <a:pt x="7934" y="160"/>
                  </a:cubicBezTo>
                  <a:cubicBezTo>
                    <a:pt x="7589" y="54"/>
                    <a:pt x="7238" y="1"/>
                    <a:pt x="6887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Google Shape;3251;p71"/>
            <p:cNvSpPr/>
            <p:nvPr/>
          </p:nvSpPr>
          <p:spPr>
            <a:xfrm>
              <a:off x="3452760" y="2764080"/>
              <a:ext cx="409320" cy="374400"/>
            </a:xfrm>
            <a:custGeom>
              <a:avLst/>
              <a:gdLst/>
              <a:ahLst/>
              <a:rect l="l" t="t" r="r" b="b"/>
              <a:pathLst>
                <a:path w="16405" h="14993">
                  <a:moveTo>
                    <a:pt x="11922" y="0"/>
                  </a:moveTo>
                  <a:cubicBezTo>
                    <a:pt x="10228" y="0"/>
                    <a:pt x="8172" y="1013"/>
                    <a:pt x="5984" y="3369"/>
                  </a:cubicBezTo>
                  <a:cubicBezTo>
                    <a:pt x="2488" y="7067"/>
                    <a:pt x="1" y="12714"/>
                    <a:pt x="1883" y="14462"/>
                  </a:cubicBezTo>
                  <a:cubicBezTo>
                    <a:pt x="2262" y="14827"/>
                    <a:pt x="2802" y="14993"/>
                    <a:pt x="3452" y="14993"/>
                  </a:cubicBezTo>
                  <a:cubicBezTo>
                    <a:pt x="5912" y="14993"/>
                    <a:pt x="9941" y="12614"/>
                    <a:pt x="12707" y="9689"/>
                  </a:cubicBezTo>
                  <a:cubicBezTo>
                    <a:pt x="16203" y="5924"/>
                    <a:pt x="16404" y="2764"/>
                    <a:pt x="14522" y="1016"/>
                  </a:cubicBezTo>
                  <a:cubicBezTo>
                    <a:pt x="13818" y="362"/>
                    <a:pt x="12934" y="0"/>
                    <a:pt x="11922" y="0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Google Shape;3252;p71"/>
            <p:cNvSpPr/>
            <p:nvPr/>
          </p:nvSpPr>
          <p:spPr>
            <a:xfrm>
              <a:off x="4961160" y="3517920"/>
              <a:ext cx="291960" cy="449280"/>
            </a:xfrm>
            <a:custGeom>
              <a:avLst/>
              <a:gdLst/>
              <a:ahLst/>
              <a:rect l="l" t="t" r="r" b="b"/>
              <a:pathLst>
                <a:path w="11698" h="17969">
                  <a:moveTo>
                    <a:pt x="4833" y="1"/>
                  </a:moveTo>
                  <a:cubicBezTo>
                    <a:pt x="4477" y="1"/>
                    <a:pt x="4120" y="54"/>
                    <a:pt x="3765" y="160"/>
                  </a:cubicBezTo>
                  <a:cubicBezTo>
                    <a:pt x="1345" y="899"/>
                    <a:pt x="0" y="3723"/>
                    <a:pt x="1412" y="8631"/>
                  </a:cubicBezTo>
                  <a:cubicBezTo>
                    <a:pt x="2738" y="13240"/>
                    <a:pt x="6021" y="17969"/>
                    <a:pt x="8421" y="17969"/>
                  </a:cubicBezTo>
                  <a:cubicBezTo>
                    <a:pt x="8576" y="17969"/>
                    <a:pt x="8727" y="17949"/>
                    <a:pt x="8874" y="17908"/>
                  </a:cubicBezTo>
                  <a:cubicBezTo>
                    <a:pt x="11362" y="17236"/>
                    <a:pt x="11698" y="11051"/>
                    <a:pt x="10286" y="6143"/>
                  </a:cubicBezTo>
                  <a:cubicBezTo>
                    <a:pt x="9076" y="1935"/>
                    <a:pt x="6976" y="1"/>
                    <a:pt x="4833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Google Shape;3253;p71"/>
            <p:cNvSpPr/>
            <p:nvPr/>
          </p:nvSpPr>
          <p:spPr>
            <a:xfrm>
              <a:off x="3693960" y="1751040"/>
              <a:ext cx="1756080" cy="2102040"/>
            </a:xfrm>
            <a:custGeom>
              <a:avLst/>
              <a:gdLst/>
              <a:ahLst/>
              <a:rect l="l" t="t" r="r" b="b"/>
              <a:pathLst>
                <a:path w="70187" h="84036">
                  <a:moveTo>
                    <a:pt x="35094" y="1"/>
                  </a:moveTo>
                  <a:cubicBezTo>
                    <a:pt x="15732" y="1"/>
                    <a:pt x="1" y="27228"/>
                    <a:pt x="1" y="50422"/>
                  </a:cubicBezTo>
                  <a:cubicBezTo>
                    <a:pt x="1" y="73615"/>
                    <a:pt x="15665" y="84036"/>
                    <a:pt x="35094" y="84036"/>
                  </a:cubicBezTo>
                  <a:cubicBezTo>
                    <a:pt x="54455" y="84036"/>
                    <a:pt x="70187" y="73615"/>
                    <a:pt x="70187" y="50422"/>
                  </a:cubicBezTo>
                  <a:cubicBezTo>
                    <a:pt x="70187" y="27161"/>
                    <a:pt x="54455" y="1"/>
                    <a:pt x="35094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Google Shape;3254;p71"/>
            <p:cNvSpPr/>
            <p:nvPr/>
          </p:nvSpPr>
          <p:spPr>
            <a:xfrm rot="10961400">
              <a:off x="3860640" y="2704320"/>
              <a:ext cx="1388160" cy="257040"/>
            </a:xfrm>
            <a:custGeom>
              <a:avLst/>
              <a:gdLst/>
              <a:ahLst/>
              <a:rect l="l" t="t" r="r" b="b"/>
              <a:pathLst>
                <a:path w="55531" h="10287">
                  <a:moveTo>
                    <a:pt x="0" y="1"/>
                  </a:moveTo>
                  <a:cubicBezTo>
                    <a:pt x="0" y="5715"/>
                    <a:pt x="12168" y="10287"/>
                    <a:pt x="27765" y="10287"/>
                  </a:cubicBezTo>
                  <a:cubicBezTo>
                    <a:pt x="-22241" y="10287"/>
                    <a:pt x="-10006" y="5715"/>
                    <a:pt x="-10006" y="1"/>
                  </a:cubicBezTo>
                  <a:lnTo>
                    <a:pt x="-10880" y="1"/>
                  </a:lnTo>
                  <a:cubicBezTo>
                    <a:pt x="-10880" y="5110"/>
                    <a:pt x="-23250" y="9413"/>
                    <a:pt x="27765" y="9413"/>
                  </a:cubicBezTo>
                  <a:cubicBezTo>
                    <a:pt x="13177" y="9413"/>
                    <a:pt x="874" y="5110"/>
                    <a:pt x="874" y="1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Google Shape;3255;p71"/>
            <p:cNvSpPr/>
            <p:nvPr/>
          </p:nvSpPr>
          <p:spPr>
            <a:xfrm>
              <a:off x="4133160" y="2265120"/>
              <a:ext cx="388080" cy="346680"/>
            </a:xfrm>
            <a:custGeom>
              <a:avLst/>
              <a:gdLst/>
              <a:ahLst/>
              <a:rect l="l" t="t" r="r" b="b"/>
              <a:pathLst>
                <a:path w="15530" h="13862">
                  <a:moveTo>
                    <a:pt x="7781" y="1"/>
                  </a:moveTo>
                  <a:cubicBezTo>
                    <a:pt x="5798" y="1"/>
                    <a:pt x="3839" y="856"/>
                    <a:pt x="2487" y="2508"/>
                  </a:cubicBezTo>
                  <a:cubicBezTo>
                    <a:pt x="0" y="5399"/>
                    <a:pt x="403" y="9769"/>
                    <a:pt x="3294" y="12256"/>
                  </a:cubicBezTo>
                  <a:cubicBezTo>
                    <a:pt x="4607" y="13330"/>
                    <a:pt x="6198" y="13861"/>
                    <a:pt x="7779" y="13861"/>
                  </a:cubicBezTo>
                  <a:cubicBezTo>
                    <a:pt x="9760" y="13861"/>
                    <a:pt x="11726" y="13027"/>
                    <a:pt x="13109" y="11382"/>
                  </a:cubicBezTo>
                  <a:cubicBezTo>
                    <a:pt x="15530" y="8424"/>
                    <a:pt x="15194" y="4054"/>
                    <a:pt x="12236" y="1634"/>
                  </a:cubicBezTo>
                  <a:cubicBezTo>
                    <a:pt x="10929" y="536"/>
                    <a:pt x="9348" y="1"/>
                    <a:pt x="7781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Google Shape;3256;p71"/>
            <p:cNvSpPr/>
            <p:nvPr/>
          </p:nvSpPr>
          <p:spPr>
            <a:xfrm>
              <a:off x="4264560" y="2382480"/>
              <a:ext cx="98280" cy="83160"/>
            </a:xfrm>
            <a:custGeom>
              <a:avLst/>
              <a:gdLst/>
              <a:ahLst/>
              <a:rect l="l" t="t" r="r" b="b"/>
              <a:pathLst>
                <a:path w="3937" h="3331">
                  <a:moveTo>
                    <a:pt x="1949" y="0"/>
                  </a:moveTo>
                  <a:cubicBezTo>
                    <a:pt x="1707" y="0"/>
                    <a:pt x="1457" y="56"/>
                    <a:pt x="1211" y="179"/>
                  </a:cubicBezTo>
                  <a:cubicBezTo>
                    <a:pt x="404" y="515"/>
                    <a:pt x="1" y="1456"/>
                    <a:pt x="337" y="2330"/>
                  </a:cubicBezTo>
                  <a:cubicBezTo>
                    <a:pt x="636" y="2994"/>
                    <a:pt x="1263" y="3330"/>
                    <a:pt x="1893" y="3330"/>
                  </a:cubicBezTo>
                  <a:cubicBezTo>
                    <a:pt x="2540" y="3330"/>
                    <a:pt x="3190" y="2977"/>
                    <a:pt x="3497" y="2263"/>
                  </a:cubicBezTo>
                  <a:cubicBezTo>
                    <a:pt x="3936" y="1109"/>
                    <a:pt x="3029" y="0"/>
                    <a:pt x="1949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" bIns="-7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Google Shape;3257;p71"/>
            <p:cNvSpPr/>
            <p:nvPr/>
          </p:nvSpPr>
          <p:spPr>
            <a:xfrm>
              <a:off x="4573800" y="2265120"/>
              <a:ext cx="389880" cy="346680"/>
            </a:xfrm>
            <a:custGeom>
              <a:avLst/>
              <a:gdLst/>
              <a:ahLst/>
              <a:rect l="l" t="t" r="r" b="b"/>
              <a:pathLst>
                <a:path w="15598" h="13862">
                  <a:moveTo>
                    <a:pt x="7831" y="1"/>
                  </a:moveTo>
                  <a:cubicBezTo>
                    <a:pt x="5853" y="1"/>
                    <a:pt x="3877" y="856"/>
                    <a:pt x="2488" y="2508"/>
                  </a:cubicBezTo>
                  <a:cubicBezTo>
                    <a:pt x="1" y="5399"/>
                    <a:pt x="404" y="9769"/>
                    <a:pt x="3362" y="12256"/>
                  </a:cubicBezTo>
                  <a:cubicBezTo>
                    <a:pt x="4675" y="13330"/>
                    <a:pt x="6266" y="13861"/>
                    <a:pt x="7841" y="13861"/>
                  </a:cubicBezTo>
                  <a:cubicBezTo>
                    <a:pt x="9815" y="13861"/>
                    <a:pt x="11764" y="13027"/>
                    <a:pt x="13110" y="11382"/>
                  </a:cubicBezTo>
                  <a:cubicBezTo>
                    <a:pt x="15598" y="8424"/>
                    <a:pt x="15194" y="4054"/>
                    <a:pt x="12236" y="1634"/>
                  </a:cubicBezTo>
                  <a:cubicBezTo>
                    <a:pt x="10960" y="536"/>
                    <a:pt x="9395" y="1"/>
                    <a:pt x="7831" y="1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Google Shape;3258;p71"/>
            <p:cNvSpPr/>
            <p:nvPr/>
          </p:nvSpPr>
          <p:spPr>
            <a:xfrm>
              <a:off x="4706280" y="2382480"/>
              <a:ext cx="96480" cy="83160"/>
            </a:xfrm>
            <a:custGeom>
              <a:avLst/>
              <a:gdLst/>
              <a:ahLst/>
              <a:rect l="l" t="t" r="r" b="b"/>
              <a:pathLst>
                <a:path w="3869" h="3331">
                  <a:moveTo>
                    <a:pt x="1906" y="0"/>
                  </a:moveTo>
                  <a:cubicBezTo>
                    <a:pt x="1660" y="0"/>
                    <a:pt x="1402" y="56"/>
                    <a:pt x="1144" y="179"/>
                  </a:cubicBezTo>
                  <a:cubicBezTo>
                    <a:pt x="337" y="515"/>
                    <a:pt x="1" y="1456"/>
                    <a:pt x="337" y="2330"/>
                  </a:cubicBezTo>
                  <a:cubicBezTo>
                    <a:pt x="603" y="2994"/>
                    <a:pt x="1229" y="3330"/>
                    <a:pt x="1860" y="3330"/>
                  </a:cubicBezTo>
                  <a:cubicBezTo>
                    <a:pt x="2506" y="3330"/>
                    <a:pt x="3157" y="2977"/>
                    <a:pt x="3429" y="2263"/>
                  </a:cubicBezTo>
                  <a:cubicBezTo>
                    <a:pt x="3869" y="1109"/>
                    <a:pt x="3006" y="0"/>
                    <a:pt x="1906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" bIns="-7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Google Shape;3259;p71"/>
          <p:cNvSpPr/>
          <p:nvPr/>
        </p:nvSpPr>
        <p:spPr>
          <a:xfrm>
            <a:off x="3333600" y="3235320"/>
            <a:ext cx="2476800" cy="835200"/>
          </a:xfrm>
          <a:prstGeom prst="roundRect">
            <a:avLst>
              <a:gd name="adj" fmla="val 7907"/>
            </a:avLst>
          </a:prstGeom>
          <a:solidFill>
            <a:srgbClr val="fd9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Google Shape;3272;p71"/>
          <p:cNvSpPr/>
          <p:nvPr/>
        </p:nvSpPr>
        <p:spPr>
          <a:xfrm>
            <a:off x="712800" y="539640"/>
            <a:ext cx="7718400" cy="573120"/>
          </a:xfrm>
          <a:custGeom>
            <a:avLst/>
            <a:gdLst/>
            <a:ahLst/>
            <a:rect l="l" t="t" r="r" b="b"/>
            <a:pathLst>
              <a:path w="286778" h="39641">
                <a:moveTo>
                  <a:pt x="2485" y="0"/>
                </a:moveTo>
                <a:cubicBezTo>
                  <a:pt x="865" y="0"/>
                  <a:pt x="1" y="1944"/>
                  <a:pt x="1081" y="3186"/>
                </a:cubicBezTo>
                <a:lnTo>
                  <a:pt x="16473" y="20036"/>
                </a:lnTo>
                <a:lnTo>
                  <a:pt x="1189" y="36400"/>
                </a:lnTo>
                <a:cubicBezTo>
                  <a:pt x="55" y="37643"/>
                  <a:pt x="919" y="39641"/>
                  <a:pt x="2593" y="39641"/>
                </a:cubicBezTo>
                <a:lnTo>
                  <a:pt x="284239" y="39641"/>
                </a:lnTo>
                <a:cubicBezTo>
                  <a:pt x="285859" y="39641"/>
                  <a:pt x="286777" y="37697"/>
                  <a:pt x="285643" y="36454"/>
                </a:cubicBezTo>
                <a:lnTo>
                  <a:pt x="271169" y="19550"/>
                </a:lnTo>
                <a:lnTo>
                  <a:pt x="285589" y="3186"/>
                </a:lnTo>
                <a:cubicBezTo>
                  <a:pt x="286669" y="1944"/>
                  <a:pt x="285751" y="0"/>
                  <a:pt x="284131" y="0"/>
                </a:cubicBezTo>
                <a:lnTo>
                  <a:pt x="2485" y="0"/>
                </a:lnTo>
                <a:close/>
              </a:path>
            </a:pathLst>
          </a:custGeom>
          <a:solidFill>
            <a:srgbClr val="7fc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862280" y="539640"/>
            <a:ext cx="54194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5f1e6"/>
                </a:solidFill>
                <a:latin typeface="Sriracha"/>
                <a:ea typeface="Sriracha"/>
              </a:rPr>
              <a:t>Incorr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title"/>
          </p:nvPr>
        </p:nvSpPr>
        <p:spPr>
          <a:xfrm>
            <a:off x="3539880" y="3672000"/>
            <a:ext cx="2151000" cy="504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Inténtalo otr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oogle Shape;2693;p53"/>
          <p:cNvGrpSpPr/>
          <p:nvPr/>
        </p:nvGrpSpPr>
        <p:grpSpPr>
          <a:xfrm>
            <a:off x="5792760" y="1346040"/>
            <a:ext cx="2266920" cy="2451240"/>
            <a:chOff x="5792760" y="1346040"/>
            <a:chExt cx="2266920" cy="2451240"/>
          </a:xfrm>
        </p:grpSpPr>
        <p:sp>
          <p:nvSpPr>
            <p:cNvPr id="1325" name="Google Shape;2694;p53"/>
            <p:cNvSpPr/>
            <p:nvPr/>
          </p:nvSpPr>
          <p:spPr>
            <a:xfrm>
              <a:off x="5792760" y="3595680"/>
              <a:ext cx="2266920" cy="20160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1120" bIns="5112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oogle Shape;2695;p53"/>
            <p:cNvGrpSpPr/>
            <p:nvPr/>
          </p:nvGrpSpPr>
          <p:grpSpPr>
            <a:xfrm>
              <a:off x="6039000" y="1346040"/>
              <a:ext cx="1803600" cy="2313000"/>
              <a:chOff x="6039000" y="1346040"/>
              <a:chExt cx="1803600" cy="2313000"/>
            </a:xfrm>
          </p:grpSpPr>
          <p:sp>
            <p:nvSpPr>
              <p:cNvPr id="1327" name="Google Shape;2696;p53"/>
              <p:cNvSpPr/>
              <p:nvPr/>
            </p:nvSpPr>
            <p:spPr>
              <a:xfrm>
                <a:off x="6039000" y="1346040"/>
                <a:ext cx="1803600" cy="2313000"/>
              </a:xfrm>
              <a:custGeom>
                <a:avLst/>
                <a:gdLst/>
                <a:ahLst/>
                <a:rect l="l" t="t" r="r" b="b"/>
                <a:pathLst>
                  <a:path w="71796" h="91877">
                    <a:moveTo>
                      <a:pt x="34504" y="0"/>
                    </a:moveTo>
                    <a:cubicBezTo>
                      <a:pt x="30827" y="0"/>
                      <a:pt x="34160" y="5860"/>
                      <a:pt x="35548" y="8057"/>
                    </a:cubicBezTo>
                    <a:cubicBezTo>
                      <a:pt x="27084" y="9166"/>
                      <a:pt x="19554" y="19381"/>
                      <a:pt x="14067" y="32106"/>
                    </a:cubicBezTo>
                    <a:cubicBezTo>
                      <a:pt x="12141" y="32514"/>
                      <a:pt x="8172" y="33623"/>
                      <a:pt x="8581" y="35433"/>
                    </a:cubicBezTo>
                    <a:cubicBezTo>
                      <a:pt x="8696" y="35895"/>
                      <a:pt x="9004" y="36083"/>
                      <a:pt x="9432" y="36083"/>
                    </a:cubicBezTo>
                    <a:cubicBezTo>
                      <a:pt x="10084" y="36083"/>
                      <a:pt x="11014" y="35646"/>
                      <a:pt x="11966" y="35082"/>
                    </a:cubicBezTo>
                    <a:lnTo>
                      <a:pt x="11966" y="35082"/>
                    </a:lnTo>
                    <a:cubicBezTo>
                      <a:pt x="9690" y="37651"/>
                      <a:pt x="5954" y="42204"/>
                      <a:pt x="6421" y="43955"/>
                    </a:cubicBezTo>
                    <a:cubicBezTo>
                      <a:pt x="6536" y="44339"/>
                      <a:pt x="6797" y="44502"/>
                      <a:pt x="7153" y="44502"/>
                    </a:cubicBezTo>
                    <a:cubicBezTo>
                      <a:pt x="7879" y="44502"/>
                      <a:pt x="9002" y="43824"/>
                      <a:pt x="10098" y="42962"/>
                    </a:cubicBezTo>
                    <a:lnTo>
                      <a:pt x="10098" y="42962"/>
                    </a:lnTo>
                    <a:cubicBezTo>
                      <a:pt x="7005" y="52885"/>
                      <a:pt x="5254" y="63100"/>
                      <a:pt x="5254" y="71272"/>
                    </a:cubicBezTo>
                    <a:lnTo>
                      <a:pt x="5254" y="71797"/>
                    </a:lnTo>
                    <a:cubicBezTo>
                      <a:pt x="5254" y="71797"/>
                      <a:pt x="0" y="76525"/>
                      <a:pt x="934" y="78685"/>
                    </a:cubicBezTo>
                    <a:cubicBezTo>
                      <a:pt x="1046" y="78957"/>
                      <a:pt x="1215" y="79076"/>
                      <a:pt x="1424" y="79076"/>
                    </a:cubicBezTo>
                    <a:cubicBezTo>
                      <a:pt x="1978" y="79076"/>
                      <a:pt x="2814" y="78243"/>
                      <a:pt x="3619" y="77226"/>
                    </a:cubicBezTo>
                    <a:lnTo>
                      <a:pt x="3619" y="77226"/>
                    </a:lnTo>
                    <a:cubicBezTo>
                      <a:pt x="2393" y="79969"/>
                      <a:pt x="1459" y="82829"/>
                      <a:pt x="2685" y="83413"/>
                    </a:cubicBezTo>
                    <a:cubicBezTo>
                      <a:pt x="2804" y="83475"/>
                      <a:pt x="2921" y="83505"/>
                      <a:pt x="3036" y="83505"/>
                    </a:cubicBezTo>
                    <a:cubicBezTo>
                      <a:pt x="4211" y="83505"/>
                      <a:pt x="5135" y="80395"/>
                      <a:pt x="5721" y="77576"/>
                    </a:cubicBezTo>
                    <a:cubicBezTo>
                      <a:pt x="6538" y="83121"/>
                      <a:pt x="8639" y="86565"/>
                      <a:pt x="11558" y="88608"/>
                    </a:cubicBezTo>
                    <a:cubicBezTo>
                      <a:pt x="9786" y="87699"/>
                      <a:pt x="7622" y="86632"/>
                      <a:pt x="6772" y="86632"/>
                    </a:cubicBezTo>
                    <a:cubicBezTo>
                      <a:pt x="6586" y="86632"/>
                      <a:pt x="6463" y="86683"/>
                      <a:pt x="6421" y="86799"/>
                    </a:cubicBezTo>
                    <a:cubicBezTo>
                      <a:pt x="6304" y="87207"/>
                      <a:pt x="7121" y="88024"/>
                      <a:pt x="8347" y="88783"/>
                    </a:cubicBezTo>
                    <a:cubicBezTo>
                      <a:pt x="7769" y="88742"/>
                      <a:pt x="7221" y="88701"/>
                      <a:pt x="6660" y="88701"/>
                    </a:cubicBezTo>
                    <a:cubicBezTo>
                      <a:pt x="6428" y="88701"/>
                      <a:pt x="6193" y="88708"/>
                      <a:pt x="5954" y="88725"/>
                    </a:cubicBezTo>
                    <a:cubicBezTo>
                      <a:pt x="3094" y="89017"/>
                      <a:pt x="3678" y="91819"/>
                      <a:pt x="3678" y="91819"/>
                    </a:cubicBezTo>
                    <a:lnTo>
                      <a:pt x="25216" y="91877"/>
                    </a:lnTo>
                    <a:lnTo>
                      <a:pt x="36073" y="91877"/>
                    </a:lnTo>
                    <a:lnTo>
                      <a:pt x="35606" y="91760"/>
                    </a:lnTo>
                    <a:lnTo>
                      <a:pt x="39342" y="91760"/>
                    </a:lnTo>
                    <a:lnTo>
                      <a:pt x="38875" y="91877"/>
                    </a:lnTo>
                    <a:lnTo>
                      <a:pt x="48973" y="91877"/>
                    </a:lnTo>
                    <a:lnTo>
                      <a:pt x="71329" y="91760"/>
                    </a:lnTo>
                    <a:cubicBezTo>
                      <a:pt x="71329" y="91760"/>
                      <a:pt x="71796" y="88900"/>
                      <a:pt x="68994" y="88667"/>
                    </a:cubicBezTo>
                    <a:cubicBezTo>
                      <a:pt x="68656" y="88642"/>
                      <a:pt x="68317" y="88628"/>
                      <a:pt x="67979" y="88628"/>
                    </a:cubicBezTo>
                    <a:cubicBezTo>
                      <a:pt x="67500" y="88628"/>
                      <a:pt x="67021" y="88657"/>
                      <a:pt x="66542" y="88725"/>
                    </a:cubicBezTo>
                    <a:cubicBezTo>
                      <a:pt x="67827" y="87908"/>
                      <a:pt x="68644" y="87149"/>
                      <a:pt x="68469" y="86682"/>
                    </a:cubicBezTo>
                    <a:cubicBezTo>
                      <a:pt x="68434" y="86576"/>
                      <a:pt x="68322" y="86529"/>
                      <a:pt x="68149" y="86529"/>
                    </a:cubicBezTo>
                    <a:cubicBezTo>
                      <a:pt x="67177" y="86529"/>
                      <a:pt x="64282" y="88034"/>
                      <a:pt x="62398" y="89075"/>
                    </a:cubicBezTo>
                    <a:lnTo>
                      <a:pt x="61814" y="89133"/>
                    </a:lnTo>
                    <a:cubicBezTo>
                      <a:pt x="66309" y="86448"/>
                      <a:pt x="69052" y="81253"/>
                      <a:pt x="69052" y="71214"/>
                    </a:cubicBezTo>
                    <a:cubicBezTo>
                      <a:pt x="68936" y="64618"/>
                      <a:pt x="68060" y="58022"/>
                      <a:pt x="66542" y="51601"/>
                    </a:cubicBezTo>
                    <a:lnTo>
                      <a:pt x="66542" y="51601"/>
                    </a:lnTo>
                    <a:cubicBezTo>
                      <a:pt x="67399" y="52380"/>
                      <a:pt x="68177" y="52950"/>
                      <a:pt x="68635" y="52950"/>
                    </a:cubicBezTo>
                    <a:cubicBezTo>
                      <a:pt x="68864" y="52950"/>
                      <a:pt x="69014" y="52808"/>
                      <a:pt x="69052" y="52477"/>
                    </a:cubicBezTo>
                    <a:cubicBezTo>
                      <a:pt x="69169" y="51193"/>
                      <a:pt x="67652" y="49033"/>
                      <a:pt x="66134" y="47282"/>
                    </a:cubicBezTo>
                    <a:lnTo>
                      <a:pt x="66134" y="47282"/>
                    </a:lnTo>
                    <a:cubicBezTo>
                      <a:pt x="66839" y="47685"/>
                      <a:pt x="67485" y="47914"/>
                      <a:pt x="67908" y="47914"/>
                    </a:cubicBezTo>
                    <a:cubicBezTo>
                      <a:pt x="68220" y="47914"/>
                      <a:pt x="68410" y="47788"/>
                      <a:pt x="68410" y="47515"/>
                    </a:cubicBezTo>
                    <a:cubicBezTo>
                      <a:pt x="68410" y="46873"/>
                      <a:pt x="66309" y="45472"/>
                      <a:pt x="64675" y="44597"/>
                    </a:cubicBezTo>
                    <a:cubicBezTo>
                      <a:pt x="59772" y="28078"/>
                      <a:pt x="51249" y="12260"/>
                      <a:pt x="41326" y="8699"/>
                    </a:cubicBezTo>
                    <a:cubicBezTo>
                      <a:pt x="43720" y="7356"/>
                      <a:pt x="46930" y="5313"/>
                      <a:pt x="46054" y="4438"/>
                    </a:cubicBezTo>
                    <a:cubicBezTo>
                      <a:pt x="45916" y="4290"/>
                      <a:pt x="45705" y="4224"/>
                      <a:pt x="45438" y="4224"/>
                    </a:cubicBezTo>
                    <a:cubicBezTo>
                      <a:pt x="44016" y="4224"/>
                      <a:pt x="41016" y="6097"/>
                      <a:pt x="39050" y="7473"/>
                    </a:cubicBezTo>
                    <a:cubicBezTo>
                      <a:pt x="40626" y="5255"/>
                      <a:pt x="42377" y="2395"/>
                      <a:pt x="41326" y="2103"/>
                    </a:cubicBezTo>
                    <a:cubicBezTo>
                      <a:pt x="41266" y="2083"/>
                      <a:pt x="41204" y="2073"/>
                      <a:pt x="41140" y="2073"/>
                    </a:cubicBezTo>
                    <a:cubicBezTo>
                      <a:pt x="40096" y="2073"/>
                      <a:pt x="38629" y="4689"/>
                      <a:pt x="37474" y="6889"/>
                    </a:cubicBezTo>
                    <a:cubicBezTo>
                      <a:pt x="37824" y="4380"/>
                      <a:pt x="37883" y="119"/>
                      <a:pt x="34614" y="2"/>
                    </a:cubicBezTo>
                    <a:cubicBezTo>
                      <a:pt x="34577" y="1"/>
                      <a:pt x="34540" y="0"/>
                      <a:pt x="34504" y="0"/>
                    </a:cubicBez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Google Shape;2697;p53"/>
              <p:cNvSpPr/>
              <p:nvPr/>
            </p:nvSpPr>
            <p:spPr>
              <a:xfrm>
                <a:off x="6665400" y="2475000"/>
                <a:ext cx="558720" cy="250560"/>
              </a:xfrm>
              <a:custGeom>
                <a:avLst/>
                <a:gdLst/>
                <a:ahLst/>
                <a:rect l="l" t="t" r="r" b="b"/>
                <a:pathLst>
                  <a:path w="22240" h="9964">
                    <a:moveTo>
                      <a:pt x="9058" y="0"/>
                    </a:moveTo>
                    <a:cubicBezTo>
                      <a:pt x="5829" y="0"/>
                      <a:pt x="0" y="275"/>
                      <a:pt x="0" y="2259"/>
                    </a:cubicBezTo>
                    <a:cubicBezTo>
                      <a:pt x="0" y="5002"/>
                      <a:pt x="4962" y="9964"/>
                      <a:pt x="11149" y="9964"/>
                    </a:cubicBezTo>
                    <a:cubicBezTo>
                      <a:pt x="17278" y="9964"/>
                      <a:pt x="22240" y="5002"/>
                      <a:pt x="22240" y="2259"/>
                    </a:cubicBezTo>
                    <a:cubicBezTo>
                      <a:pt x="22240" y="275"/>
                      <a:pt x="16441" y="0"/>
                      <a:pt x="13230" y="0"/>
                    </a:cubicBezTo>
                    <a:cubicBezTo>
                      <a:pt x="12000" y="0"/>
                      <a:pt x="11149" y="41"/>
                      <a:pt x="11149" y="41"/>
                    </a:cubicBezTo>
                    <a:cubicBezTo>
                      <a:pt x="11149" y="41"/>
                      <a:pt x="10294" y="0"/>
                      <a:pt x="9058" y="0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Google Shape;2698;p53"/>
              <p:cNvSpPr/>
              <p:nvPr/>
            </p:nvSpPr>
            <p:spPr>
              <a:xfrm>
                <a:off x="6961680" y="2011680"/>
                <a:ext cx="338760" cy="302760"/>
              </a:xfrm>
              <a:custGeom>
                <a:avLst/>
                <a:gdLst/>
                <a:ahLst/>
                <a:rect l="l" t="t" r="r" b="b"/>
                <a:pathLst>
                  <a:path w="13484" h="12035">
                    <a:moveTo>
                      <a:pt x="6730" y="1"/>
                    </a:moveTo>
                    <a:cubicBezTo>
                      <a:pt x="5009" y="1"/>
                      <a:pt x="3303" y="725"/>
                      <a:pt x="2102" y="2153"/>
                    </a:cubicBezTo>
                    <a:cubicBezTo>
                      <a:pt x="0" y="4722"/>
                      <a:pt x="292" y="8516"/>
                      <a:pt x="2860" y="10617"/>
                    </a:cubicBezTo>
                    <a:cubicBezTo>
                      <a:pt x="3994" y="11571"/>
                      <a:pt x="5368" y="12035"/>
                      <a:pt x="6728" y="12035"/>
                    </a:cubicBezTo>
                    <a:cubicBezTo>
                      <a:pt x="8449" y="12035"/>
                      <a:pt x="10151" y="11292"/>
                      <a:pt x="11324" y="9858"/>
                    </a:cubicBezTo>
                    <a:cubicBezTo>
                      <a:pt x="13484" y="7348"/>
                      <a:pt x="13134" y="3554"/>
                      <a:pt x="10624" y="1394"/>
                    </a:cubicBezTo>
                    <a:cubicBezTo>
                      <a:pt x="9484" y="462"/>
                      <a:pt x="8102" y="1"/>
                      <a:pt x="673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Google Shape;2699;p53"/>
              <p:cNvSpPr/>
              <p:nvPr/>
            </p:nvSpPr>
            <p:spPr>
              <a:xfrm>
                <a:off x="7039440" y="2131920"/>
                <a:ext cx="85680" cy="73440"/>
              </a:xfrm>
              <a:custGeom>
                <a:avLst/>
                <a:gdLst/>
                <a:ahLst/>
                <a:rect l="l" t="t" r="r" b="b"/>
                <a:pathLst>
                  <a:path w="3415" h="2925">
                    <a:moveTo>
                      <a:pt x="1644" y="1"/>
                    </a:moveTo>
                    <a:cubicBezTo>
                      <a:pt x="1449" y="1"/>
                      <a:pt x="1249" y="41"/>
                      <a:pt x="1052" y="130"/>
                    </a:cubicBezTo>
                    <a:cubicBezTo>
                      <a:pt x="293" y="480"/>
                      <a:pt x="1" y="1297"/>
                      <a:pt x="293" y="2056"/>
                    </a:cubicBezTo>
                    <a:cubicBezTo>
                      <a:pt x="552" y="2633"/>
                      <a:pt x="1096" y="2924"/>
                      <a:pt x="1637" y="2924"/>
                    </a:cubicBezTo>
                    <a:cubicBezTo>
                      <a:pt x="2191" y="2924"/>
                      <a:pt x="2741" y="2618"/>
                      <a:pt x="2978" y="1998"/>
                    </a:cubicBezTo>
                    <a:cubicBezTo>
                      <a:pt x="3414" y="979"/>
                      <a:pt x="2601" y="1"/>
                      <a:pt x="1644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17640" bIns="-176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Google Shape;2700;p53"/>
              <p:cNvSpPr/>
              <p:nvPr/>
            </p:nvSpPr>
            <p:spPr>
              <a:xfrm>
                <a:off x="6595200" y="2011680"/>
                <a:ext cx="338760" cy="302760"/>
              </a:xfrm>
              <a:custGeom>
                <a:avLst/>
                <a:gdLst/>
                <a:ahLst/>
                <a:rect l="l" t="t" r="r" b="b"/>
                <a:pathLst>
                  <a:path w="13485" h="12035">
                    <a:moveTo>
                      <a:pt x="6730" y="1"/>
                    </a:moveTo>
                    <a:cubicBezTo>
                      <a:pt x="5010" y="1"/>
                      <a:pt x="3303" y="725"/>
                      <a:pt x="2102" y="2153"/>
                    </a:cubicBezTo>
                    <a:cubicBezTo>
                      <a:pt x="1" y="4722"/>
                      <a:pt x="351" y="8516"/>
                      <a:pt x="2861" y="10617"/>
                    </a:cubicBezTo>
                    <a:cubicBezTo>
                      <a:pt x="3995" y="11571"/>
                      <a:pt x="5368" y="12035"/>
                      <a:pt x="6729" y="12035"/>
                    </a:cubicBezTo>
                    <a:cubicBezTo>
                      <a:pt x="8450" y="12035"/>
                      <a:pt x="10151" y="11292"/>
                      <a:pt x="11324" y="9858"/>
                    </a:cubicBezTo>
                    <a:cubicBezTo>
                      <a:pt x="13484" y="7348"/>
                      <a:pt x="13134" y="3554"/>
                      <a:pt x="10624" y="1394"/>
                    </a:cubicBezTo>
                    <a:cubicBezTo>
                      <a:pt x="9484" y="462"/>
                      <a:pt x="8103" y="1"/>
                      <a:pt x="673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Google Shape;2701;p53"/>
              <p:cNvSpPr/>
              <p:nvPr/>
            </p:nvSpPr>
            <p:spPr>
              <a:xfrm>
                <a:off x="6763680" y="2131920"/>
                <a:ext cx="85680" cy="73440"/>
              </a:xfrm>
              <a:custGeom>
                <a:avLst/>
                <a:gdLst/>
                <a:ahLst/>
                <a:rect l="l" t="t" r="r" b="b"/>
                <a:pathLst>
                  <a:path w="3424" h="2925">
                    <a:moveTo>
                      <a:pt x="1644" y="1"/>
                    </a:moveTo>
                    <a:cubicBezTo>
                      <a:pt x="1449" y="1"/>
                      <a:pt x="1248" y="41"/>
                      <a:pt x="1051" y="130"/>
                    </a:cubicBezTo>
                    <a:cubicBezTo>
                      <a:pt x="350" y="480"/>
                      <a:pt x="0" y="1297"/>
                      <a:pt x="350" y="2056"/>
                    </a:cubicBezTo>
                    <a:cubicBezTo>
                      <a:pt x="581" y="2633"/>
                      <a:pt x="1125" y="2924"/>
                      <a:pt x="1673" y="2924"/>
                    </a:cubicBezTo>
                    <a:cubicBezTo>
                      <a:pt x="2234" y="2924"/>
                      <a:pt x="2799" y="2618"/>
                      <a:pt x="3035" y="1998"/>
                    </a:cubicBezTo>
                    <a:cubicBezTo>
                      <a:pt x="3424" y="979"/>
                      <a:pt x="2602" y="1"/>
                      <a:pt x="1644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17640" bIns="-176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3" name="Google Shape;2702;p53"/>
          <p:cNvSpPr/>
          <p:nvPr/>
        </p:nvSpPr>
        <p:spPr>
          <a:xfrm>
            <a:off x="1085760" y="2295360"/>
            <a:ext cx="4532400" cy="1020960"/>
          </a:xfrm>
          <a:custGeom>
            <a:avLst/>
            <a:gdLst/>
            <a:ahLst/>
            <a:rect l="l" t="t" r="r" b="b"/>
            <a:pathLst>
              <a:path w="286778" h="39641">
                <a:moveTo>
                  <a:pt x="2485" y="0"/>
                </a:moveTo>
                <a:cubicBezTo>
                  <a:pt x="865" y="0"/>
                  <a:pt x="1" y="1944"/>
                  <a:pt x="1081" y="3186"/>
                </a:cubicBezTo>
                <a:lnTo>
                  <a:pt x="16473" y="20036"/>
                </a:lnTo>
                <a:lnTo>
                  <a:pt x="1189" y="36400"/>
                </a:lnTo>
                <a:cubicBezTo>
                  <a:pt x="55" y="37643"/>
                  <a:pt x="919" y="39641"/>
                  <a:pt x="2593" y="39641"/>
                </a:cubicBezTo>
                <a:lnTo>
                  <a:pt x="284239" y="39641"/>
                </a:lnTo>
                <a:cubicBezTo>
                  <a:pt x="285859" y="39641"/>
                  <a:pt x="286777" y="37697"/>
                  <a:pt x="285643" y="36454"/>
                </a:cubicBezTo>
                <a:lnTo>
                  <a:pt x="271169" y="19550"/>
                </a:lnTo>
                <a:lnTo>
                  <a:pt x="285589" y="3186"/>
                </a:lnTo>
                <a:cubicBezTo>
                  <a:pt x="286669" y="1944"/>
                  <a:pt x="285751" y="0"/>
                  <a:pt x="284131" y="0"/>
                </a:cubicBezTo>
                <a:lnTo>
                  <a:pt x="2485" y="0"/>
                </a:lnTo>
                <a:close/>
              </a:path>
            </a:pathLst>
          </a:custGeom>
          <a:solidFill>
            <a:srgbClr val="fd9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388880" y="2293920"/>
            <a:ext cx="3925800" cy="102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5f1e6"/>
                </a:solidFill>
                <a:latin typeface="Sriracha"/>
                <a:ea typeface="Sriracha"/>
              </a:rPr>
              <a:t>Acti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2421000" y="1065240"/>
            <a:ext cx="1861920" cy="1176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0" spc="-1" strike="noStrike">
                <a:solidFill>
                  <a:srgbClr val="f5f1e6"/>
                </a:solidFill>
                <a:latin typeface="Sriracha"/>
                <a:ea typeface="Sriracha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subTitle"/>
          </p:nvPr>
        </p:nvSpPr>
        <p:spPr>
          <a:xfrm>
            <a:off x="1784160" y="3328560"/>
            <a:ext cx="3135240" cy="676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5f1e6"/>
                </a:solidFill>
                <a:latin typeface="Sriracha"/>
                <a:ea typeface="Nunito"/>
              </a:rPr>
              <a:t>Selección Múlt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Diagrama de flujo: conector 1"/>
          <p:cNvGrpSpPr/>
          <p:nvPr/>
        </p:nvGrpSpPr>
        <p:grpSpPr>
          <a:xfrm>
            <a:off x="1170000" y="3975120"/>
            <a:ext cx="1036800" cy="950760"/>
            <a:chOff x="1170000" y="3975120"/>
            <a:chExt cx="1036800" cy="950760"/>
          </a:xfrm>
        </p:grpSpPr>
        <p:pic>
          <p:nvPicPr>
            <p:cNvPr id="1338" name="Diagrama de flujo: conector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170000" y="3975120"/>
              <a:ext cx="10368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1366920" y="4127400"/>
              <a:ext cx="647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Diagrama de flujo: conector 16"/>
          <p:cNvGrpSpPr/>
          <p:nvPr/>
        </p:nvGrpSpPr>
        <p:grpSpPr>
          <a:xfrm>
            <a:off x="3309840" y="3975120"/>
            <a:ext cx="1036800" cy="950760"/>
            <a:chOff x="3309840" y="3975120"/>
            <a:chExt cx="1036800" cy="950760"/>
          </a:xfrm>
        </p:grpSpPr>
        <p:pic>
          <p:nvPicPr>
            <p:cNvPr id="1341" name="Diagrama de flujo: conector 1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309840" y="3975120"/>
              <a:ext cx="10368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"/>
            <p:cNvSpPr/>
            <p:nvPr/>
          </p:nvSpPr>
          <p:spPr>
            <a:xfrm>
              <a:off x="3502080" y="4127400"/>
              <a:ext cx="646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Diagrama de flujo: conector 17"/>
          <p:cNvGrpSpPr/>
          <p:nvPr/>
        </p:nvGrpSpPr>
        <p:grpSpPr>
          <a:xfrm>
            <a:off x="5400720" y="3975120"/>
            <a:ext cx="1036440" cy="950760"/>
            <a:chOff x="5400720" y="3975120"/>
            <a:chExt cx="1036440" cy="950760"/>
          </a:xfrm>
        </p:grpSpPr>
        <p:pic>
          <p:nvPicPr>
            <p:cNvPr id="1344" name="Diagrama de flujo: conector 1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400720" y="3975120"/>
              <a:ext cx="10364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5594400" y="4127400"/>
              <a:ext cx="6462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Google Shape;2705;p53"/>
          <p:cNvSpPr/>
          <p:nvPr/>
        </p:nvSpPr>
        <p:spPr>
          <a:xfrm>
            <a:off x="984240" y="4226040"/>
            <a:ext cx="140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f1e6"/>
                </a:solidFill>
                <a:latin typeface="Sriracha"/>
                <a:ea typeface="Nunito"/>
              </a:rPr>
              <a:t>1 preg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Google Shape;2705;p53"/>
          <p:cNvSpPr/>
          <p:nvPr/>
        </p:nvSpPr>
        <p:spPr>
          <a:xfrm>
            <a:off x="3121200" y="4254480"/>
            <a:ext cx="14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f1e6"/>
                </a:solidFill>
                <a:latin typeface="Sriracha"/>
                <a:ea typeface="Nunito"/>
              </a:rPr>
              <a:t>2 preg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Google Shape;2705;p53"/>
          <p:cNvSpPr/>
          <p:nvPr/>
        </p:nvSpPr>
        <p:spPr>
          <a:xfrm>
            <a:off x="5213520" y="4245120"/>
            <a:ext cx="14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f1e6"/>
                </a:solidFill>
                <a:latin typeface="Sriracha"/>
                <a:ea typeface="Nunito"/>
              </a:rPr>
              <a:t>3 preg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oogle Shape;2330;p40"/>
          <p:cNvGrpSpPr/>
          <p:nvPr/>
        </p:nvGrpSpPr>
        <p:grpSpPr>
          <a:xfrm>
            <a:off x="725400" y="542880"/>
            <a:ext cx="7693200" cy="566640"/>
            <a:chOff x="725400" y="542880"/>
            <a:chExt cx="7693200" cy="566640"/>
          </a:xfrm>
        </p:grpSpPr>
        <p:pic>
          <p:nvPicPr>
            <p:cNvPr id="1350" name="Google Shape;2330;p40" descr=""/>
            <p:cNvPicPr/>
            <p:nvPr/>
          </p:nvPicPr>
          <p:blipFill>
            <a:blip r:embed="rId1"/>
            <a:stretch/>
          </p:blipFill>
          <p:spPr>
            <a:xfrm>
              <a:off x="737640" y="545760"/>
              <a:ext cx="7668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725400" y="542880"/>
              <a:ext cx="769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617480" y="528480"/>
            <a:ext cx="6514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5f1e6"/>
                </a:solidFill>
                <a:latin typeface="Sriracha"/>
                <a:ea typeface="Sriracha"/>
              </a:rPr>
              <a:t>1. ¿Con cuantos cubitos juega Ju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Google Shape;2340;p40"/>
          <p:cNvGrpSpPr/>
          <p:nvPr/>
        </p:nvGrpSpPr>
        <p:grpSpPr>
          <a:xfrm>
            <a:off x="7624800" y="98280"/>
            <a:ext cx="1579680" cy="1443960"/>
            <a:chOff x="7624800" y="98280"/>
            <a:chExt cx="1579680" cy="1443960"/>
          </a:xfrm>
        </p:grpSpPr>
        <p:grpSp>
          <p:nvGrpSpPr>
            <p:cNvPr id="1354" name="Google Shape;2341;p40"/>
            <p:cNvGrpSpPr/>
            <p:nvPr/>
          </p:nvGrpSpPr>
          <p:grpSpPr>
            <a:xfrm>
              <a:off x="7828200" y="98280"/>
              <a:ext cx="1239120" cy="1201320"/>
              <a:chOff x="7828200" y="98280"/>
              <a:chExt cx="1239120" cy="1201320"/>
            </a:xfrm>
          </p:grpSpPr>
          <p:sp>
            <p:nvSpPr>
              <p:cNvPr id="1355" name="Google Shape;2342;p40"/>
              <p:cNvSpPr/>
              <p:nvPr/>
            </p:nvSpPr>
            <p:spPr>
              <a:xfrm>
                <a:off x="7850880" y="98280"/>
                <a:ext cx="1216440" cy="1201320"/>
              </a:xfrm>
              <a:custGeom>
                <a:avLst/>
                <a:gdLst/>
                <a:ahLst/>
                <a:rect l="l" t="t" r="r" b="b"/>
                <a:pathLst>
                  <a:path w="21608" h="25273">
                    <a:moveTo>
                      <a:pt x="6573" y="1"/>
                    </a:moveTo>
                    <a:lnTo>
                      <a:pt x="0" y="20416"/>
                    </a:lnTo>
                    <a:lnTo>
                      <a:pt x="15035" y="25272"/>
                    </a:lnTo>
                    <a:lnTo>
                      <a:pt x="21608" y="4857"/>
                    </a:lnTo>
                    <a:lnTo>
                      <a:pt x="6573" y="1"/>
                    </a:ln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Google Shape;2343;p40"/>
              <p:cNvSpPr/>
              <p:nvPr/>
            </p:nvSpPr>
            <p:spPr>
              <a:xfrm>
                <a:off x="8231040" y="341640"/>
                <a:ext cx="627120" cy="270720"/>
              </a:xfrm>
              <a:custGeom>
                <a:avLst/>
                <a:gdLst/>
                <a:ahLst/>
                <a:rect l="l" t="t" r="r" b="b"/>
                <a:pathLst>
                  <a:path w="11139" h="5700">
                    <a:moveTo>
                      <a:pt x="756" y="0"/>
                    </a:moveTo>
                    <a:lnTo>
                      <a:pt x="0" y="2385"/>
                    </a:lnTo>
                    <a:lnTo>
                      <a:pt x="10353" y="5700"/>
                    </a:lnTo>
                    <a:lnTo>
                      <a:pt x="11138" y="3344"/>
                    </a:lnTo>
                    <a:lnTo>
                      <a:pt x="756" y="0"/>
                    </a:ln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Google Shape;2344;p40"/>
              <p:cNvSpPr/>
              <p:nvPr/>
            </p:nvSpPr>
            <p:spPr>
              <a:xfrm>
                <a:off x="8124480" y="20916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5">
                    <a:moveTo>
                      <a:pt x="358" y="0"/>
                    </a:moveTo>
                    <a:cubicBezTo>
                      <a:pt x="224" y="0"/>
                      <a:pt x="105" y="84"/>
                      <a:pt x="59" y="222"/>
                    </a:cubicBezTo>
                    <a:cubicBezTo>
                      <a:pt x="1" y="396"/>
                      <a:pt x="88" y="600"/>
                      <a:pt x="263" y="658"/>
                    </a:cubicBezTo>
                    <a:lnTo>
                      <a:pt x="1193" y="949"/>
                    </a:lnTo>
                    <a:cubicBezTo>
                      <a:pt x="1224" y="959"/>
                      <a:pt x="1255" y="964"/>
                      <a:pt x="1285" y="964"/>
                    </a:cubicBezTo>
                    <a:cubicBezTo>
                      <a:pt x="1426" y="964"/>
                      <a:pt x="1553" y="860"/>
                      <a:pt x="1600" y="716"/>
                    </a:cubicBezTo>
                    <a:cubicBezTo>
                      <a:pt x="1659" y="542"/>
                      <a:pt x="1542" y="367"/>
                      <a:pt x="1397" y="309"/>
                    </a:cubicBezTo>
                    <a:lnTo>
                      <a:pt x="466" y="18"/>
                    </a:lnTo>
                    <a:cubicBezTo>
                      <a:pt x="430" y="6"/>
                      <a:pt x="393" y="0"/>
                      <a:pt x="358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Google Shape;2345;p40"/>
              <p:cNvSpPr/>
              <p:nvPr/>
            </p:nvSpPr>
            <p:spPr>
              <a:xfrm>
                <a:off x="8152200" y="138600"/>
                <a:ext cx="91440" cy="45720"/>
              </a:xfrm>
              <a:custGeom>
                <a:avLst/>
                <a:gdLst/>
                <a:ahLst/>
                <a:rect l="l" t="t" r="r" b="b"/>
                <a:pathLst>
                  <a:path w="1629" h="964">
                    <a:moveTo>
                      <a:pt x="354" y="0"/>
                    </a:moveTo>
                    <a:cubicBezTo>
                      <a:pt x="214" y="0"/>
                      <a:pt x="81" y="84"/>
                      <a:pt x="58" y="222"/>
                    </a:cubicBezTo>
                    <a:cubicBezTo>
                      <a:pt x="0" y="396"/>
                      <a:pt x="88" y="600"/>
                      <a:pt x="262" y="658"/>
                    </a:cubicBezTo>
                    <a:lnTo>
                      <a:pt x="1164" y="949"/>
                    </a:lnTo>
                    <a:cubicBezTo>
                      <a:pt x="1194" y="959"/>
                      <a:pt x="1225" y="964"/>
                      <a:pt x="1256" y="964"/>
                    </a:cubicBezTo>
                    <a:cubicBezTo>
                      <a:pt x="1396" y="964"/>
                      <a:pt x="1523" y="860"/>
                      <a:pt x="1571" y="716"/>
                    </a:cubicBezTo>
                    <a:cubicBezTo>
                      <a:pt x="1629" y="542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2" y="0"/>
                      <a:pt x="35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Google Shape;2346;p40"/>
              <p:cNvSpPr/>
              <p:nvPr/>
            </p:nvSpPr>
            <p:spPr>
              <a:xfrm>
                <a:off x="8098200" y="279720"/>
                <a:ext cx="91800" cy="45360"/>
              </a:xfrm>
              <a:custGeom>
                <a:avLst/>
                <a:gdLst/>
                <a:ahLst/>
                <a:rect l="l" t="t" r="r" b="b"/>
                <a:pathLst>
                  <a:path w="1630" h="955">
                    <a:moveTo>
                      <a:pt x="358" y="1"/>
                    </a:moveTo>
                    <a:cubicBezTo>
                      <a:pt x="224" y="1"/>
                      <a:pt x="105" y="84"/>
                      <a:pt x="59" y="222"/>
                    </a:cubicBezTo>
                    <a:cubicBezTo>
                      <a:pt x="1" y="397"/>
                      <a:pt x="88" y="600"/>
                      <a:pt x="262" y="658"/>
                    </a:cubicBezTo>
                    <a:lnTo>
                      <a:pt x="1164" y="949"/>
                    </a:lnTo>
                    <a:cubicBezTo>
                      <a:pt x="1186" y="953"/>
                      <a:pt x="1208" y="955"/>
                      <a:pt x="1230" y="955"/>
                    </a:cubicBezTo>
                    <a:cubicBezTo>
                      <a:pt x="1381" y="955"/>
                      <a:pt x="1520" y="869"/>
                      <a:pt x="1571" y="716"/>
                    </a:cubicBezTo>
                    <a:cubicBezTo>
                      <a:pt x="1629" y="542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30" y="6"/>
                      <a:pt x="393" y="1"/>
                      <a:pt x="358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720" bIns="-45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Google Shape;2347;p40"/>
              <p:cNvSpPr/>
              <p:nvPr/>
            </p:nvSpPr>
            <p:spPr>
              <a:xfrm>
                <a:off x="8070480" y="350280"/>
                <a:ext cx="93240" cy="45360"/>
              </a:xfrm>
              <a:custGeom>
                <a:avLst/>
                <a:gdLst/>
                <a:ahLst/>
                <a:rect l="l" t="t" r="r" b="b"/>
                <a:pathLst>
                  <a:path w="1658" h="955">
                    <a:moveTo>
                      <a:pt x="383" y="1"/>
                    </a:moveTo>
                    <a:cubicBezTo>
                      <a:pt x="242" y="1"/>
                      <a:pt x="104" y="84"/>
                      <a:pt x="58" y="222"/>
                    </a:cubicBezTo>
                    <a:cubicBezTo>
                      <a:pt x="0" y="397"/>
                      <a:pt x="117" y="571"/>
                      <a:pt x="291" y="658"/>
                    </a:cubicBezTo>
                    <a:lnTo>
                      <a:pt x="1193" y="949"/>
                    </a:lnTo>
                    <a:cubicBezTo>
                      <a:pt x="1215" y="953"/>
                      <a:pt x="1237" y="955"/>
                      <a:pt x="1259" y="955"/>
                    </a:cubicBezTo>
                    <a:cubicBezTo>
                      <a:pt x="1410" y="955"/>
                      <a:pt x="1549" y="869"/>
                      <a:pt x="1600" y="717"/>
                    </a:cubicBezTo>
                    <a:cubicBezTo>
                      <a:pt x="1658" y="542"/>
                      <a:pt x="1571" y="368"/>
                      <a:pt x="1396" y="309"/>
                    </a:cubicBezTo>
                    <a:lnTo>
                      <a:pt x="495" y="19"/>
                    </a:lnTo>
                    <a:cubicBezTo>
                      <a:pt x="458" y="6"/>
                      <a:pt x="421" y="1"/>
                      <a:pt x="383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720" bIns="-45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Google Shape;2348;p40"/>
              <p:cNvSpPr/>
              <p:nvPr/>
            </p:nvSpPr>
            <p:spPr>
              <a:xfrm>
                <a:off x="8044200" y="420840"/>
                <a:ext cx="93240" cy="44640"/>
              </a:xfrm>
              <a:custGeom>
                <a:avLst/>
                <a:gdLst/>
                <a:ahLst/>
                <a:rect l="l" t="t" r="r" b="b"/>
                <a:pathLst>
                  <a:path w="1659" h="939">
                    <a:moveTo>
                      <a:pt x="358" y="1"/>
                    </a:moveTo>
                    <a:cubicBezTo>
                      <a:pt x="224" y="1"/>
                      <a:pt x="105" y="84"/>
                      <a:pt x="59" y="222"/>
                    </a:cubicBezTo>
                    <a:cubicBezTo>
                      <a:pt x="1" y="397"/>
                      <a:pt x="117" y="571"/>
                      <a:pt x="292" y="629"/>
                    </a:cubicBezTo>
                    <a:lnTo>
                      <a:pt x="1193" y="920"/>
                    </a:lnTo>
                    <a:cubicBezTo>
                      <a:pt x="1230" y="932"/>
                      <a:pt x="1266" y="938"/>
                      <a:pt x="1301" y="938"/>
                    </a:cubicBezTo>
                    <a:cubicBezTo>
                      <a:pt x="1436" y="938"/>
                      <a:pt x="1554" y="855"/>
                      <a:pt x="1600" y="717"/>
                    </a:cubicBezTo>
                    <a:cubicBezTo>
                      <a:pt x="1659" y="542"/>
                      <a:pt x="1571" y="368"/>
                      <a:pt x="1397" y="310"/>
                    </a:cubicBezTo>
                    <a:lnTo>
                      <a:pt x="466" y="19"/>
                    </a:lnTo>
                    <a:cubicBezTo>
                      <a:pt x="430" y="7"/>
                      <a:pt x="393" y="1"/>
                      <a:pt x="358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440" bIns="-464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Google Shape;2349;p40"/>
              <p:cNvSpPr/>
              <p:nvPr/>
            </p:nvSpPr>
            <p:spPr>
              <a:xfrm>
                <a:off x="8016480" y="491400"/>
                <a:ext cx="93240" cy="44640"/>
              </a:xfrm>
              <a:custGeom>
                <a:avLst/>
                <a:gdLst/>
                <a:ahLst/>
                <a:rect l="l" t="t" r="r" b="b"/>
                <a:pathLst>
                  <a:path w="1659" h="939">
                    <a:moveTo>
                      <a:pt x="384" y="1"/>
                    </a:moveTo>
                    <a:cubicBezTo>
                      <a:pt x="242" y="1"/>
                      <a:pt x="105" y="84"/>
                      <a:pt x="59" y="222"/>
                    </a:cubicBezTo>
                    <a:cubicBezTo>
                      <a:pt x="1" y="397"/>
                      <a:pt x="117" y="571"/>
                      <a:pt x="291" y="630"/>
                    </a:cubicBezTo>
                    <a:lnTo>
                      <a:pt x="1193" y="920"/>
                    </a:lnTo>
                    <a:cubicBezTo>
                      <a:pt x="1229" y="932"/>
                      <a:pt x="1266" y="938"/>
                      <a:pt x="1301" y="938"/>
                    </a:cubicBezTo>
                    <a:cubicBezTo>
                      <a:pt x="1435" y="938"/>
                      <a:pt x="1554" y="855"/>
                      <a:pt x="1600" y="717"/>
                    </a:cubicBezTo>
                    <a:cubicBezTo>
                      <a:pt x="1658" y="542"/>
                      <a:pt x="1571" y="368"/>
                      <a:pt x="1396" y="310"/>
                    </a:cubicBezTo>
                    <a:lnTo>
                      <a:pt x="495" y="19"/>
                    </a:lnTo>
                    <a:cubicBezTo>
                      <a:pt x="459" y="7"/>
                      <a:pt x="421" y="1"/>
                      <a:pt x="384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440" bIns="-464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Google Shape;2350;p40"/>
              <p:cNvSpPr/>
              <p:nvPr/>
            </p:nvSpPr>
            <p:spPr>
              <a:xfrm>
                <a:off x="7990200" y="561960"/>
                <a:ext cx="93240" cy="44280"/>
              </a:xfrm>
              <a:custGeom>
                <a:avLst/>
                <a:gdLst/>
                <a:ahLst/>
                <a:rect l="l" t="t" r="r" b="b"/>
                <a:pathLst>
                  <a:path w="1658" h="938">
                    <a:moveTo>
                      <a:pt x="357" y="0"/>
                    </a:moveTo>
                    <a:cubicBezTo>
                      <a:pt x="223" y="0"/>
                      <a:pt x="104" y="83"/>
                      <a:pt x="58" y="222"/>
                    </a:cubicBezTo>
                    <a:cubicBezTo>
                      <a:pt x="0" y="396"/>
                      <a:pt x="88" y="571"/>
                      <a:pt x="262" y="629"/>
                    </a:cubicBezTo>
                    <a:lnTo>
                      <a:pt x="1164" y="919"/>
                    </a:lnTo>
                    <a:cubicBezTo>
                      <a:pt x="1200" y="932"/>
                      <a:pt x="1238" y="937"/>
                      <a:pt x="1275" y="937"/>
                    </a:cubicBezTo>
                    <a:cubicBezTo>
                      <a:pt x="1417" y="937"/>
                      <a:pt x="1554" y="854"/>
                      <a:pt x="1600" y="716"/>
                    </a:cubicBezTo>
                    <a:cubicBezTo>
                      <a:pt x="1658" y="541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3" y="0"/>
                      <a:pt x="357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Google Shape;2351;p40"/>
              <p:cNvSpPr/>
              <p:nvPr/>
            </p:nvSpPr>
            <p:spPr>
              <a:xfrm>
                <a:off x="7962120" y="632520"/>
                <a:ext cx="93240" cy="44280"/>
              </a:xfrm>
              <a:custGeom>
                <a:avLst/>
                <a:gdLst/>
                <a:ahLst/>
                <a:rect l="l" t="t" r="r" b="b"/>
                <a:pathLst>
                  <a:path w="1659" h="938">
                    <a:moveTo>
                      <a:pt x="358" y="0"/>
                    </a:moveTo>
                    <a:cubicBezTo>
                      <a:pt x="224" y="0"/>
                      <a:pt x="105" y="84"/>
                      <a:pt x="59" y="222"/>
                    </a:cubicBezTo>
                    <a:cubicBezTo>
                      <a:pt x="1" y="396"/>
                      <a:pt x="117" y="571"/>
                      <a:pt x="292" y="629"/>
                    </a:cubicBezTo>
                    <a:lnTo>
                      <a:pt x="1193" y="920"/>
                    </a:lnTo>
                    <a:cubicBezTo>
                      <a:pt x="1230" y="932"/>
                      <a:pt x="1266" y="938"/>
                      <a:pt x="1301" y="938"/>
                    </a:cubicBezTo>
                    <a:cubicBezTo>
                      <a:pt x="1435" y="938"/>
                      <a:pt x="1554" y="854"/>
                      <a:pt x="1600" y="716"/>
                    </a:cubicBezTo>
                    <a:cubicBezTo>
                      <a:pt x="1659" y="542"/>
                      <a:pt x="1542" y="367"/>
                      <a:pt x="1397" y="309"/>
                    </a:cubicBezTo>
                    <a:lnTo>
                      <a:pt x="466" y="18"/>
                    </a:lnTo>
                    <a:cubicBezTo>
                      <a:pt x="430" y="6"/>
                      <a:pt x="393" y="0"/>
                      <a:pt x="358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Google Shape;2352;p40"/>
              <p:cNvSpPr/>
              <p:nvPr/>
            </p:nvSpPr>
            <p:spPr>
              <a:xfrm>
                <a:off x="7936200" y="70164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4">
                    <a:moveTo>
                      <a:pt x="374" y="0"/>
                    </a:moveTo>
                    <a:cubicBezTo>
                      <a:pt x="233" y="0"/>
                      <a:pt x="107" y="104"/>
                      <a:pt x="59" y="248"/>
                    </a:cubicBezTo>
                    <a:cubicBezTo>
                      <a:pt x="1" y="422"/>
                      <a:pt x="88" y="597"/>
                      <a:pt x="262" y="655"/>
                    </a:cubicBezTo>
                    <a:lnTo>
                      <a:pt x="1193" y="946"/>
                    </a:lnTo>
                    <a:cubicBezTo>
                      <a:pt x="1229" y="958"/>
                      <a:pt x="1266" y="964"/>
                      <a:pt x="1301" y="964"/>
                    </a:cubicBezTo>
                    <a:cubicBezTo>
                      <a:pt x="1435" y="964"/>
                      <a:pt x="1554" y="880"/>
                      <a:pt x="1600" y="742"/>
                    </a:cubicBezTo>
                    <a:cubicBezTo>
                      <a:pt x="1658" y="568"/>
                      <a:pt x="1542" y="364"/>
                      <a:pt x="1397" y="335"/>
                    </a:cubicBezTo>
                    <a:lnTo>
                      <a:pt x="466" y="15"/>
                    </a:lnTo>
                    <a:cubicBezTo>
                      <a:pt x="435" y="5"/>
                      <a:pt x="404" y="0"/>
                      <a:pt x="37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Google Shape;2353;p40"/>
              <p:cNvSpPr/>
              <p:nvPr/>
            </p:nvSpPr>
            <p:spPr>
              <a:xfrm>
                <a:off x="7909920" y="773640"/>
                <a:ext cx="91440" cy="44280"/>
              </a:xfrm>
              <a:custGeom>
                <a:avLst/>
                <a:gdLst/>
                <a:ahLst/>
                <a:rect l="l" t="t" r="r" b="b"/>
                <a:pathLst>
                  <a:path w="1629" h="938">
                    <a:moveTo>
                      <a:pt x="357" y="0"/>
                    </a:moveTo>
                    <a:cubicBezTo>
                      <a:pt x="223" y="0"/>
                      <a:pt x="105" y="84"/>
                      <a:pt x="58" y="222"/>
                    </a:cubicBezTo>
                    <a:cubicBezTo>
                      <a:pt x="0" y="396"/>
                      <a:pt x="88" y="571"/>
                      <a:pt x="262" y="629"/>
                    </a:cubicBezTo>
                    <a:lnTo>
                      <a:pt x="1164" y="920"/>
                    </a:lnTo>
                    <a:cubicBezTo>
                      <a:pt x="1200" y="932"/>
                      <a:pt x="1236" y="938"/>
                      <a:pt x="1272" y="938"/>
                    </a:cubicBezTo>
                    <a:cubicBezTo>
                      <a:pt x="1406" y="938"/>
                      <a:pt x="1525" y="854"/>
                      <a:pt x="1571" y="716"/>
                    </a:cubicBezTo>
                    <a:cubicBezTo>
                      <a:pt x="1629" y="542"/>
                      <a:pt x="1542" y="338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3" y="0"/>
                      <a:pt x="357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Google Shape;2354;p40"/>
              <p:cNvSpPr/>
              <p:nvPr/>
            </p:nvSpPr>
            <p:spPr>
              <a:xfrm>
                <a:off x="7882200" y="84276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4">
                    <a:moveTo>
                      <a:pt x="401" y="0"/>
                    </a:moveTo>
                    <a:cubicBezTo>
                      <a:pt x="253" y="0"/>
                      <a:pt x="107" y="104"/>
                      <a:pt x="59" y="248"/>
                    </a:cubicBezTo>
                    <a:cubicBezTo>
                      <a:pt x="1" y="423"/>
                      <a:pt x="117" y="597"/>
                      <a:pt x="292" y="655"/>
                    </a:cubicBezTo>
                    <a:lnTo>
                      <a:pt x="1193" y="946"/>
                    </a:lnTo>
                    <a:cubicBezTo>
                      <a:pt x="1230" y="958"/>
                      <a:pt x="1266" y="964"/>
                      <a:pt x="1301" y="964"/>
                    </a:cubicBezTo>
                    <a:cubicBezTo>
                      <a:pt x="1436" y="964"/>
                      <a:pt x="1554" y="880"/>
                      <a:pt x="1600" y="742"/>
                    </a:cubicBezTo>
                    <a:cubicBezTo>
                      <a:pt x="1659" y="568"/>
                      <a:pt x="1571" y="364"/>
                      <a:pt x="1397" y="335"/>
                    </a:cubicBezTo>
                    <a:lnTo>
                      <a:pt x="495" y="15"/>
                    </a:lnTo>
                    <a:cubicBezTo>
                      <a:pt x="464" y="5"/>
                      <a:pt x="433" y="0"/>
                      <a:pt x="401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Google Shape;2355;p40"/>
              <p:cNvSpPr/>
              <p:nvPr/>
            </p:nvSpPr>
            <p:spPr>
              <a:xfrm>
                <a:off x="7855920" y="9133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1630" h="965">
                    <a:moveTo>
                      <a:pt x="374" y="0"/>
                    </a:moveTo>
                    <a:cubicBezTo>
                      <a:pt x="233" y="0"/>
                      <a:pt x="107" y="105"/>
                      <a:pt x="59" y="248"/>
                    </a:cubicBezTo>
                    <a:cubicBezTo>
                      <a:pt x="1" y="423"/>
                      <a:pt x="88" y="597"/>
                      <a:pt x="262" y="655"/>
                    </a:cubicBezTo>
                    <a:lnTo>
                      <a:pt x="1164" y="946"/>
                    </a:lnTo>
                    <a:cubicBezTo>
                      <a:pt x="1200" y="958"/>
                      <a:pt x="1238" y="964"/>
                      <a:pt x="1275" y="964"/>
                    </a:cubicBezTo>
                    <a:cubicBezTo>
                      <a:pt x="1417" y="964"/>
                      <a:pt x="1554" y="881"/>
                      <a:pt x="1600" y="743"/>
                    </a:cubicBezTo>
                    <a:cubicBezTo>
                      <a:pt x="1629" y="568"/>
                      <a:pt x="1542" y="365"/>
                      <a:pt x="1367" y="306"/>
                    </a:cubicBezTo>
                    <a:lnTo>
                      <a:pt x="466" y="16"/>
                    </a:lnTo>
                    <a:cubicBezTo>
                      <a:pt x="435" y="5"/>
                      <a:pt x="404" y="0"/>
                      <a:pt x="37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Google Shape;2356;p40"/>
              <p:cNvSpPr/>
              <p:nvPr/>
            </p:nvSpPr>
            <p:spPr>
              <a:xfrm>
                <a:off x="7828200" y="98388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8" h="965">
                    <a:moveTo>
                      <a:pt x="400" y="1"/>
                    </a:moveTo>
                    <a:cubicBezTo>
                      <a:pt x="253" y="1"/>
                      <a:pt x="106" y="105"/>
                      <a:pt x="58" y="248"/>
                    </a:cubicBezTo>
                    <a:cubicBezTo>
                      <a:pt x="0" y="423"/>
                      <a:pt x="117" y="597"/>
                      <a:pt x="291" y="655"/>
                    </a:cubicBezTo>
                    <a:lnTo>
                      <a:pt x="1193" y="946"/>
                    </a:lnTo>
                    <a:cubicBezTo>
                      <a:pt x="1229" y="958"/>
                      <a:pt x="1265" y="964"/>
                      <a:pt x="1301" y="964"/>
                    </a:cubicBezTo>
                    <a:cubicBezTo>
                      <a:pt x="1435" y="964"/>
                      <a:pt x="1554" y="881"/>
                      <a:pt x="1600" y="743"/>
                    </a:cubicBezTo>
                    <a:cubicBezTo>
                      <a:pt x="1658" y="568"/>
                      <a:pt x="1571" y="365"/>
                      <a:pt x="1396" y="306"/>
                    </a:cubicBezTo>
                    <a:lnTo>
                      <a:pt x="495" y="16"/>
                    </a:lnTo>
                    <a:cubicBezTo>
                      <a:pt x="464" y="5"/>
                      <a:pt x="432" y="1"/>
                      <a:pt x="400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0" name="Google Shape;2357;p40"/>
            <p:cNvGrpSpPr/>
            <p:nvPr/>
          </p:nvGrpSpPr>
          <p:grpSpPr>
            <a:xfrm>
              <a:off x="7624800" y="839520"/>
              <a:ext cx="888120" cy="565560"/>
              <a:chOff x="7624800" y="839520"/>
              <a:chExt cx="888120" cy="565560"/>
            </a:xfrm>
          </p:grpSpPr>
          <p:sp>
            <p:nvSpPr>
              <p:cNvPr id="1371" name="Google Shape;2358;p40"/>
              <p:cNvSpPr/>
              <p:nvPr/>
            </p:nvSpPr>
            <p:spPr>
              <a:xfrm>
                <a:off x="7624800" y="839520"/>
                <a:ext cx="888120" cy="565560"/>
              </a:xfrm>
              <a:custGeom>
                <a:avLst/>
                <a:gdLst/>
                <a:ahLst/>
                <a:rect l="l" t="t" r="r" b="b"/>
                <a:pathLst>
                  <a:path w="24995" h="18843">
                    <a:moveTo>
                      <a:pt x="13665" y="3499"/>
                    </a:moveTo>
                    <a:cubicBezTo>
                      <a:pt x="15830" y="3499"/>
                      <a:pt x="18006" y="4554"/>
                      <a:pt x="19411" y="7093"/>
                    </a:cubicBezTo>
                    <a:lnTo>
                      <a:pt x="7487" y="13666"/>
                    </a:lnTo>
                    <a:cubicBezTo>
                      <a:pt x="4501" y="8266"/>
                      <a:pt x="9061" y="3499"/>
                      <a:pt x="13665" y="3499"/>
                    </a:cubicBezTo>
                    <a:close/>
                    <a:moveTo>
                      <a:pt x="13793" y="1"/>
                    </a:moveTo>
                    <a:cubicBezTo>
                      <a:pt x="6872" y="1"/>
                      <a:pt x="0" y="7191"/>
                      <a:pt x="4492" y="15323"/>
                    </a:cubicBezTo>
                    <a:lnTo>
                      <a:pt x="3591" y="15818"/>
                    </a:lnTo>
                    <a:lnTo>
                      <a:pt x="5248" y="18842"/>
                    </a:lnTo>
                    <a:lnTo>
                      <a:pt x="24994" y="7937"/>
                    </a:lnTo>
                    <a:lnTo>
                      <a:pt x="23308" y="4912"/>
                    </a:lnTo>
                    <a:lnTo>
                      <a:pt x="22406" y="5407"/>
                    </a:lnTo>
                    <a:cubicBezTo>
                      <a:pt x="20306" y="1587"/>
                      <a:pt x="17044" y="1"/>
                      <a:pt x="13793" y="1"/>
                    </a:cubicBezTo>
                    <a:close/>
                  </a:path>
                </a:pathLst>
              </a:custGeom>
              <a:solidFill>
                <a:srgbClr val="36a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Google Shape;2359;p40"/>
              <p:cNvSpPr/>
              <p:nvPr/>
            </p:nvSpPr>
            <p:spPr>
              <a:xfrm>
                <a:off x="7752240" y="123048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990" h="728">
                    <a:moveTo>
                      <a:pt x="844" y="0"/>
                    </a:moveTo>
                    <a:lnTo>
                      <a:pt x="1" y="262"/>
                    </a:lnTo>
                    <a:cubicBezTo>
                      <a:pt x="59" y="407"/>
                      <a:pt x="88" y="582"/>
                      <a:pt x="146" y="727"/>
                    </a:cubicBezTo>
                    <a:lnTo>
                      <a:pt x="989" y="436"/>
                    </a:lnTo>
                    <a:cubicBezTo>
                      <a:pt x="960" y="291"/>
                      <a:pt x="902" y="145"/>
                      <a:pt x="844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9480" bIns="-694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Google Shape;2360;p40"/>
              <p:cNvSpPr/>
              <p:nvPr/>
            </p:nvSpPr>
            <p:spPr>
              <a:xfrm>
                <a:off x="7735680" y="1174680"/>
                <a:ext cx="33840" cy="15480"/>
              </a:xfrm>
              <a:custGeom>
                <a:avLst/>
                <a:gdLst/>
                <a:ahLst/>
                <a:rect l="l" t="t" r="r" b="b"/>
                <a:pathLst>
                  <a:path w="960" h="525">
                    <a:moveTo>
                      <a:pt x="902" y="1"/>
                    </a:moveTo>
                    <a:lnTo>
                      <a:pt x="0" y="88"/>
                    </a:lnTo>
                    <a:cubicBezTo>
                      <a:pt x="0" y="233"/>
                      <a:pt x="29" y="379"/>
                      <a:pt x="58" y="524"/>
                    </a:cubicBezTo>
                    <a:lnTo>
                      <a:pt x="960" y="408"/>
                    </a:lnTo>
                    <a:cubicBezTo>
                      <a:pt x="931" y="263"/>
                      <a:pt x="902" y="117"/>
                      <a:pt x="902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5600" bIns="-756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Google Shape;2361;p40"/>
              <p:cNvSpPr/>
              <p:nvPr/>
            </p:nvSpPr>
            <p:spPr>
              <a:xfrm>
                <a:off x="7733520" y="1117800"/>
                <a:ext cx="32760" cy="13680"/>
              </a:xfrm>
              <a:custGeom>
                <a:avLst/>
                <a:gdLst/>
                <a:ahLst/>
                <a:rect l="l" t="t" r="r" b="b"/>
                <a:pathLst>
                  <a:path w="931" h="466">
                    <a:moveTo>
                      <a:pt x="29" y="1"/>
                    </a:moveTo>
                    <a:cubicBezTo>
                      <a:pt x="29" y="146"/>
                      <a:pt x="0" y="291"/>
                      <a:pt x="0" y="408"/>
                    </a:cubicBezTo>
                    <a:lnTo>
                      <a:pt x="902" y="466"/>
                    </a:lnTo>
                    <a:cubicBezTo>
                      <a:pt x="902" y="350"/>
                      <a:pt x="902" y="233"/>
                      <a:pt x="931" y="117"/>
                    </a:cubicBez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7400" bIns="-77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Google Shape;2362;p40"/>
              <p:cNvSpPr/>
              <p:nvPr/>
            </p:nvSpPr>
            <p:spPr>
              <a:xfrm>
                <a:off x="7743960" y="106272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990" h="612">
                    <a:moveTo>
                      <a:pt x="117" y="0"/>
                    </a:moveTo>
                    <a:cubicBezTo>
                      <a:pt x="59" y="117"/>
                      <a:pt x="30" y="262"/>
                      <a:pt x="1" y="379"/>
                    </a:cubicBezTo>
                    <a:lnTo>
                      <a:pt x="873" y="611"/>
                    </a:lnTo>
                    <a:cubicBezTo>
                      <a:pt x="902" y="495"/>
                      <a:pt x="932" y="379"/>
                      <a:pt x="990" y="233"/>
                    </a:cubicBez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2720" bIns="-72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Google Shape;2363;p40"/>
              <p:cNvSpPr/>
              <p:nvPr/>
            </p:nvSpPr>
            <p:spPr>
              <a:xfrm>
                <a:off x="7765560" y="10112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990" h="728">
                    <a:moveTo>
                      <a:pt x="175" y="1"/>
                    </a:moveTo>
                    <a:cubicBezTo>
                      <a:pt x="117" y="117"/>
                      <a:pt x="59" y="233"/>
                      <a:pt x="1" y="379"/>
                    </a:cubicBezTo>
                    <a:lnTo>
                      <a:pt x="844" y="728"/>
                    </a:lnTo>
                    <a:lnTo>
                      <a:pt x="989" y="408"/>
                    </a:lnTo>
                    <a:lnTo>
                      <a:pt x="175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9480" bIns="-694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Google Shape;2364;p40"/>
              <p:cNvSpPr/>
              <p:nvPr/>
            </p:nvSpPr>
            <p:spPr>
              <a:xfrm>
                <a:off x="7799760" y="965880"/>
                <a:ext cx="33840" cy="24120"/>
              </a:xfrm>
              <a:custGeom>
                <a:avLst/>
                <a:gdLst/>
                <a:ahLst/>
                <a:rect l="l" t="t" r="r" b="b"/>
                <a:pathLst>
                  <a:path w="961" h="815">
                    <a:moveTo>
                      <a:pt x="233" y="0"/>
                    </a:moveTo>
                    <a:cubicBezTo>
                      <a:pt x="146" y="88"/>
                      <a:pt x="58" y="204"/>
                      <a:pt x="0" y="320"/>
                    </a:cubicBezTo>
                    <a:lnTo>
                      <a:pt x="727" y="815"/>
                    </a:lnTo>
                    <a:lnTo>
                      <a:pt x="960" y="524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6960" bIns="-669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Google Shape;2365;p40"/>
              <p:cNvSpPr/>
              <p:nvPr/>
            </p:nvSpPr>
            <p:spPr>
              <a:xfrm>
                <a:off x="7842240" y="9255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03" h="903">
                    <a:moveTo>
                      <a:pt x="291" y="1"/>
                    </a:moveTo>
                    <a:lnTo>
                      <a:pt x="1" y="262"/>
                    </a:lnTo>
                    <a:lnTo>
                      <a:pt x="640" y="902"/>
                    </a:lnTo>
                    <a:lnTo>
                      <a:pt x="902" y="670"/>
                    </a:lnTo>
                    <a:cubicBezTo>
                      <a:pt x="699" y="437"/>
                      <a:pt x="495" y="233"/>
                      <a:pt x="291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080" bIns="-64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Google Shape;2366;p40"/>
              <p:cNvSpPr/>
              <p:nvPr/>
            </p:nvSpPr>
            <p:spPr>
              <a:xfrm>
                <a:off x="7892640" y="89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815" h="961">
                    <a:moveTo>
                      <a:pt x="321" y="1"/>
                    </a:moveTo>
                    <a:cubicBezTo>
                      <a:pt x="233" y="59"/>
                      <a:pt x="117" y="146"/>
                      <a:pt x="1" y="233"/>
                    </a:cubicBezTo>
                    <a:lnTo>
                      <a:pt x="524" y="960"/>
                    </a:lnTo>
                    <a:cubicBezTo>
                      <a:pt x="611" y="873"/>
                      <a:pt x="728" y="815"/>
                      <a:pt x="815" y="757"/>
                    </a:cubicBezTo>
                    <a:cubicBezTo>
                      <a:pt x="640" y="495"/>
                      <a:pt x="495" y="262"/>
                      <a:pt x="321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Google Shape;2367;p40"/>
              <p:cNvSpPr/>
              <p:nvPr/>
            </p:nvSpPr>
            <p:spPr>
              <a:xfrm>
                <a:off x="7949520" y="866520"/>
                <a:ext cx="24840" cy="29520"/>
              </a:xfrm>
              <a:custGeom>
                <a:avLst/>
                <a:gdLst/>
                <a:ahLst/>
                <a:rect l="l" t="t" r="r" b="b"/>
                <a:pathLst>
                  <a:path w="699" h="990">
                    <a:moveTo>
                      <a:pt x="349" y="0"/>
                    </a:moveTo>
                    <a:cubicBezTo>
                      <a:pt x="233" y="58"/>
                      <a:pt x="116" y="117"/>
                      <a:pt x="0" y="175"/>
                    </a:cubicBezTo>
                    <a:cubicBezTo>
                      <a:pt x="116" y="436"/>
                      <a:pt x="233" y="727"/>
                      <a:pt x="349" y="989"/>
                    </a:cubicBezTo>
                    <a:cubicBezTo>
                      <a:pt x="465" y="931"/>
                      <a:pt x="582" y="902"/>
                      <a:pt x="698" y="844"/>
                    </a:cubicBez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Google Shape;2368;p40"/>
              <p:cNvSpPr/>
              <p:nvPr/>
            </p:nvSpPr>
            <p:spPr>
              <a:xfrm>
                <a:off x="8011800" y="8488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583" h="990">
                    <a:moveTo>
                      <a:pt x="350" y="1"/>
                    </a:moveTo>
                    <a:lnTo>
                      <a:pt x="1" y="117"/>
                    </a:lnTo>
                    <a:cubicBezTo>
                      <a:pt x="59" y="408"/>
                      <a:pt x="146" y="699"/>
                      <a:pt x="205" y="989"/>
                    </a:cubicBezTo>
                    <a:lnTo>
                      <a:pt x="583" y="873"/>
                    </a:lnTo>
                    <a:cubicBezTo>
                      <a:pt x="466" y="582"/>
                      <a:pt x="408" y="291"/>
                      <a:pt x="35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Google Shape;2369;p40"/>
              <p:cNvSpPr/>
              <p:nvPr/>
            </p:nvSpPr>
            <p:spPr>
              <a:xfrm>
                <a:off x="8074800" y="840240"/>
                <a:ext cx="15480" cy="28800"/>
              </a:xfrm>
              <a:custGeom>
                <a:avLst/>
                <a:gdLst/>
                <a:ahLst/>
                <a:rect l="l" t="t" r="r" b="b"/>
                <a:pathLst>
                  <a:path w="438" h="961">
                    <a:moveTo>
                      <a:pt x="379" y="1"/>
                    </a:moveTo>
                    <a:cubicBezTo>
                      <a:pt x="263" y="1"/>
                      <a:pt x="117" y="30"/>
                      <a:pt x="1" y="59"/>
                    </a:cubicBezTo>
                    <a:cubicBezTo>
                      <a:pt x="1" y="350"/>
                      <a:pt x="30" y="641"/>
                      <a:pt x="59" y="960"/>
                    </a:cubicBezTo>
                    <a:lnTo>
                      <a:pt x="437" y="902"/>
                    </a:lnTo>
                    <a:cubicBezTo>
                      <a:pt x="408" y="612"/>
                      <a:pt x="408" y="321"/>
                      <a:pt x="37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Google Shape;2370;p40"/>
              <p:cNvSpPr/>
              <p:nvPr/>
            </p:nvSpPr>
            <p:spPr>
              <a:xfrm>
                <a:off x="8135640" y="840240"/>
                <a:ext cx="17280" cy="27720"/>
              </a:xfrm>
              <a:custGeom>
                <a:avLst/>
                <a:gdLst/>
                <a:ahLst/>
                <a:rect l="l" t="t" r="r" b="b"/>
                <a:pathLst>
                  <a:path w="496" h="932">
                    <a:moveTo>
                      <a:pt x="88" y="1"/>
                    </a:moveTo>
                    <a:cubicBezTo>
                      <a:pt x="59" y="321"/>
                      <a:pt x="30" y="612"/>
                      <a:pt x="1" y="902"/>
                    </a:cubicBezTo>
                    <a:lnTo>
                      <a:pt x="379" y="931"/>
                    </a:lnTo>
                    <a:cubicBezTo>
                      <a:pt x="408" y="641"/>
                      <a:pt x="466" y="350"/>
                      <a:pt x="495" y="30"/>
                    </a:cubicBez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3360" bIns="-63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Google Shape;2371;p40"/>
              <p:cNvSpPr/>
              <p:nvPr/>
            </p:nvSpPr>
            <p:spPr>
              <a:xfrm>
                <a:off x="8194680" y="84960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641" h="990">
                    <a:moveTo>
                      <a:pt x="262" y="1"/>
                    </a:moveTo>
                    <a:lnTo>
                      <a:pt x="0" y="873"/>
                    </a:lnTo>
                    <a:lnTo>
                      <a:pt x="378" y="989"/>
                    </a:lnTo>
                    <a:lnTo>
                      <a:pt x="640" y="117"/>
                    </a:lnTo>
                    <a:lnTo>
                      <a:pt x="262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Google Shape;2372;p40"/>
              <p:cNvSpPr/>
              <p:nvPr/>
            </p:nvSpPr>
            <p:spPr>
              <a:xfrm>
                <a:off x="8251560" y="869760"/>
                <a:ext cx="27720" cy="29520"/>
              </a:xfrm>
              <a:custGeom>
                <a:avLst/>
                <a:gdLst/>
                <a:ahLst/>
                <a:rect l="l" t="t" r="r" b="b"/>
                <a:pathLst>
                  <a:path w="786" h="990">
                    <a:moveTo>
                      <a:pt x="408" y="1"/>
                    </a:moveTo>
                    <a:lnTo>
                      <a:pt x="1" y="815"/>
                    </a:lnTo>
                    <a:lnTo>
                      <a:pt x="350" y="989"/>
                    </a:lnTo>
                    <a:lnTo>
                      <a:pt x="786" y="204"/>
                    </a:lnTo>
                    <a:cubicBezTo>
                      <a:pt x="641" y="117"/>
                      <a:pt x="524" y="59"/>
                      <a:pt x="408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Google Shape;2373;p40"/>
              <p:cNvSpPr/>
              <p:nvPr/>
            </p:nvSpPr>
            <p:spPr>
              <a:xfrm>
                <a:off x="8305200" y="902160"/>
                <a:ext cx="30960" cy="29520"/>
              </a:xfrm>
              <a:custGeom>
                <a:avLst/>
                <a:gdLst/>
                <a:ahLst/>
                <a:rect l="l" t="t" r="r" b="b"/>
                <a:pathLst>
                  <a:path w="874" h="990">
                    <a:moveTo>
                      <a:pt x="553" y="1"/>
                    </a:moveTo>
                    <a:lnTo>
                      <a:pt x="1" y="728"/>
                    </a:lnTo>
                    <a:lnTo>
                      <a:pt x="292" y="989"/>
                    </a:lnTo>
                    <a:lnTo>
                      <a:pt x="873" y="291"/>
                    </a:lnTo>
                    <a:cubicBezTo>
                      <a:pt x="757" y="175"/>
                      <a:pt x="641" y="88"/>
                      <a:pt x="553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Google Shape;2374;p40"/>
              <p:cNvSpPr/>
              <p:nvPr/>
            </p:nvSpPr>
            <p:spPr>
              <a:xfrm>
                <a:off x="8353800" y="946800"/>
                <a:ext cx="33840" cy="28800"/>
              </a:xfrm>
              <a:custGeom>
                <a:avLst/>
                <a:gdLst/>
                <a:ahLst/>
                <a:rect l="l" t="t" r="r" b="b"/>
                <a:pathLst>
                  <a:path w="961" h="961">
                    <a:moveTo>
                      <a:pt x="670" y="1"/>
                    </a:moveTo>
                    <a:lnTo>
                      <a:pt x="1" y="611"/>
                    </a:lnTo>
                    <a:cubicBezTo>
                      <a:pt x="88" y="728"/>
                      <a:pt x="175" y="844"/>
                      <a:pt x="262" y="960"/>
                    </a:cubicBezTo>
                    <a:lnTo>
                      <a:pt x="960" y="379"/>
                    </a:lnTo>
                    <a:cubicBezTo>
                      <a:pt x="873" y="262"/>
                      <a:pt x="757" y="146"/>
                      <a:pt x="67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8" name="Google Shape;2375;p40"/>
            <p:cNvGrpSpPr/>
            <p:nvPr/>
          </p:nvGrpSpPr>
          <p:grpSpPr>
            <a:xfrm>
              <a:off x="8411040" y="614520"/>
              <a:ext cx="793440" cy="927720"/>
              <a:chOff x="8411040" y="614520"/>
              <a:chExt cx="793440" cy="927720"/>
            </a:xfrm>
          </p:grpSpPr>
          <p:sp>
            <p:nvSpPr>
              <p:cNvPr id="1389" name="Google Shape;2376;p40"/>
              <p:cNvSpPr/>
              <p:nvPr/>
            </p:nvSpPr>
            <p:spPr>
              <a:xfrm flipH="1" rot="13886400">
                <a:off x="8433360" y="910440"/>
                <a:ext cx="746280" cy="418680"/>
              </a:xfrm>
              <a:custGeom>
                <a:avLst/>
                <a:gdLst/>
                <a:ahLst/>
                <a:rect l="l" t="t" r="r" b="b"/>
                <a:pathLst>
                  <a:path w="32659" h="18554">
                    <a:moveTo>
                      <a:pt x="30391" y="0"/>
                    </a:moveTo>
                    <a:lnTo>
                      <a:pt x="1" y="13406"/>
                    </a:lnTo>
                    <a:lnTo>
                      <a:pt x="2269" y="18554"/>
                    </a:lnTo>
                    <a:lnTo>
                      <a:pt x="32659" y="5147"/>
                    </a:lnTo>
                    <a:lnTo>
                      <a:pt x="30391" y="0"/>
                    </a:ln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Google Shape;2377;p40"/>
              <p:cNvSpPr/>
              <p:nvPr/>
            </p:nvSpPr>
            <p:spPr>
              <a:xfrm flipH="1" rot="13886400">
                <a:off x="8594640" y="655200"/>
                <a:ext cx="161640" cy="117360"/>
              </a:xfrm>
              <a:custGeom>
                <a:avLst/>
                <a:gdLst/>
                <a:ahLst/>
                <a:rect l="l" t="t" r="r" b="b"/>
                <a:pathLst>
                  <a:path w="7068" h="5206">
                    <a:moveTo>
                      <a:pt x="4799" y="0"/>
                    </a:moveTo>
                    <a:lnTo>
                      <a:pt x="1" y="5206"/>
                    </a:lnTo>
                    <a:lnTo>
                      <a:pt x="7067" y="5148"/>
                    </a:lnTo>
                    <a:lnTo>
                      <a:pt x="4799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26280" bIns="26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Google Shape;2378;p40"/>
              <p:cNvSpPr/>
              <p:nvPr/>
            </p:nvSpPr>
            <p:spPr>
              <a:xfrm flipH="1" rot="13886400">
                <a:off x="8502120" y="940680"/>
                <a:ext cx="705600" cy="330120"/>
              </a:xfrm>
              <a:custGeom>
                <a:avLst/>
                <a:gdLst/>
                <a:ahLst/>
                <a:rect l="l" t="t" r="r" b="b"/>
                <a:pathLst>
                  <a:path w="30914" h="14570">
                    <a:moveTo>
                      <a:pt x="30390" y="0"/>
                    </a:moveTo>
                    <a:lnTo>
                      <a:pt x="1" y="13377"/>
                    </a:lnTo>
                    <a:lnTo>
                      <a:pt x="524" y="14570"/>
                    </a:lnTo>
                    <a:lnTo>
                      <a:pt x="30914" y="1192"/>
                    </a:lnTo>
                    <a:lnTo>
                      <a:pt x="30390" y="0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Google Shape;2379;p40"/>
              <p:cNvSpPr/>
              <p:nvPr/>
            </p:nvSpPr>
            <p:spPr>
              <a:xfrm flipH="1" rot="13886400">
                <a:off x="8453880" y="955800"/>
                <a:ext cx="705600" cy="327960"/>
              </a:xfrm>
              <a:custGeom>
                <a:avLst/>
                <a:gdLst/>
                <a:ahLst/>
                <a:rect l="l" t="t" r="r" b="b"/>
                <a:pathLst>
                  <a:path w="30885" h="14571">
                    <a:moveTo>
                      <a:pt x="30361" y="1"/>
                    </a:moveTo>
                    <a:lnTo>
                      <a:pt x="0" y="13378"/>
                    </a:lnTo>
                    <a:lnTo>
                      <a:pt x="524" y="14570"/>
                    </a:lnTo>
                    <a:lnTo>
                      <a:pt x="30884" y="1193"/>
                    </a:lnTo>
                    <a:lnTo>
                      <a:pt x="30361" y="1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Google Shape;2380;p40"/>
              <p:cNvSpPr/>
              <p:nvPr/>
            </p:nvSpPr>
            <p:spPr>
              <a:xfrm flipH="1" rot="13886400">
                <a:off x="8407080" y="967680"/>
                <a:ext cx="705600" cy="327960"/>
              </a:xfrm>
              <a:custGeom>
                <a:avLst/>
                <a:gdLst/>
                <a:ahLst/>
                <a:rect l="l" t="t" r="r" b="b"/>
                <a:pathLst>
                  <a:path w="30885" h="14570">
                    <a:moveTo>
                      <a:pt x="30361" y="0"/>
                    </a:moveTo>
                    <a:lnTo>
                      <a:pt x="1" y="13377"/>
                    </a:lnTo>
                    <a:lnTo>
                      <a:pt x="524" y="14570"/>
                    </a:lnTo>
                    <a:lnTo>
                      <a:pt x="30885" y="1192"/>
                    </a:lnTo>
                    <a:lnTo>
                      <a:pt x="30361" y="0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Google Shape;2381;p40"/>
              <p:cNvSpPr/>
              <p:nvPr/>
            </p:nvSpPr>
            <p:spPr>
              <a:xfrm flipH="1" rot="13886400">
                <a:off x="8649360" y="62676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2037" h="1484">
                    <a:moveTo>
                      <a:pt x="1396" y="1"/>
                    </a:moveTo>
                    <a:lnTo>
                      <a:pt x="1" y="1484"/>
                    </a:lnTo>
                    <a:lnTo>
                      <a:pt x="2036" y="1455"/>
                    </a:lnTo>
                    <a:lnTo>
                      <a:pt x="1396" y="1"/>
                    </a:ln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7600" bIns="-576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5" name="Rectángulo: esquinas redondeadas 17"/>
          <p:cNvGrpSpPr/>
          <p:nvPr/>
        </p:nvGrpSpPr>
        <p:grpSpPr>
          <a:xfrm>
            <a:off x="1444680" y="1920960"/>
            <a:ext cx="2475000" cy="1030320"/>
            <a:chOff x="1444680" y="1920960"/>
            <a:chExt cx="2475000" cy="1030320"/>
          </a:xfrm>
        </p:grpSpPr>
        <p:pic>
          <p:nvPicPr>
            <p:cNvPr id="1396" name="Rectángulo: esquinas redondeadas 1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444680" y="1920960"/>
              <a:ext cx="2475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"/>
            <p:cNvSpPr/>
            <p:nvPr/>
          </p:nvSpPr>
          <p:spPr>
            <a:xfrm>
              <a:off x="1549440" y="1996920"/>
              <a:ext cx="226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PlaceHolder 2"/>
          <p:cNvSpPr>
            <a:spLocks noGrp="1"/>
          </p:cNvSpPr>
          <p:nvPr>
            <p:ph type="title"/>
          </p:nvPr>
        </p:nvSpPr>
        <p:spPr>
          <a:xfrm>
            <a:off x="1368360" y="2214720"/>
            <a:ext cx="2602080" cy="504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5f1e6"/>
                </a:solidFill>
                <a:latin typeface="Sriracha"/>
                <a:ea typeface="Sriracha"/>
              </a:rPr>
              <a:t> </a:t>
            </a:r>
            <a:r>
              <a:rPr b="0" lang="es-MX" sz="2000" spc="-1" strike="noStrike">
                <a:solidFill>
                  <a:srgbClr val="f5f1e6"/>
                </a:solidFill>
                <a:latin typeface="Sriracha"/>
                <a:ea typeface="Sriracha"/>
              </a:rPr>
              <a:t>1 decena y 4 unidades de cu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Rectángulo: esquinas redondeadas 74"/>
          <p:cNvGrpSpPr/>
          <p:nvPr/>
        </p:nvGrpSpPr>
        <p:grpSpPr>
          <a:xfrm>
            <a:off x="5151600" y="1938240"/>
            <a:ext cx="2474640" cy="1030320"/>
            <a:chOff x="5151600" y="1938240"/>
            <a:chExt cx="2474640" cy="1030320"/>
          </a:xfrm>
        </p:grpSpPr>
        <p:pic>
          <p:nvPicPr>
            <p:cNvPr id="1400" name="Rectángulo: esquinas redondeadas 7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51600" y="193824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"/>
            <p:cNvSpPr/>
            <p:nvPr/>
          </p:nvSpPr>
          <p:spPr>
            <a:xfrm>
              <a:off x="5259240" y="201600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PlaceHolder 3"/>
          <p:cNvSpPr>
            <a:spLocks noGrp="1"/>
          </p:cNvSpPr>
          <p:nvPr>
            <p:ph type="title"/>
          </p:nvPr>
        </p:nvSpPr>
        <p:spPr>
          <a:xfrm>
            <a:off x="5214600" y="2174400"/>
            <a:ext cx="2384280" cy="506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5f1e6"/>
                </a:solidFill>
                <a:latin typeface="Sriracha"/>
                <a:ea typeface="Sriracha"/>
              </a:rPr>
              <a:t>4 decenas y 1 unidad de cu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Rectángulo: esquinas redondeadas 79"/>
          <p:cNvGrpSpPr/>
          <p:nvPr/>
        </p:nvGrpSpPr>
        <p:grpSpPr>
          <a:xfrm>
            <a:off x="1432080" y="3438360"/>
            <a:ext cx="2474640" cy="1030320"/>
            <a:chOff x="1432080" y="3438360"/>
            <a:chExt cx="2474640" cy="1030320"/>
          </a:xfrm>
        </p:grpSpPr>
        <p:pic>
          <p:nvPicPr>
            <p:cNvPr id="1404" name="Rectángulo: esquinas redondeadas 7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432080" y="343836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5" name=""/>
            <p:cNvSpPr/>
            <p:nvPr/>
          </p:nvSpPr>
          <p:spPr>
            <a:xfrm>
              <a:off x="1538280" y="3510000"/>
              <a:ext cx="226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Rectángulo: esquinas redondeadas 80"/>
          <p:cNvGrpSpPr/>
          <p:nvPr/>
        </p:nvGrpSpPr>
        <p:grpSpPr>
          <a:xfrm>
            <a:off x="5181480" y="3438360"/>
            <a:ext cx="2475000" cy="1030320"/>
            <a:chOff x="5181480" y="3438360"/>
            <a:chExt cx="2475000" cy="1030320"/>
          </a:xfrm>
        </p:grpSpPr>
        <p:pic>
          <p:nvPicPr>
            <p:cNvPr id="1407" name="Rectángulo: esquinas redondeadas 8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181480" y="3438360"/>
              <a:ext cx="2475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8" name=""/>
            <p:cNvSpPr/>
            <p:nvPr/>
          </p:nvSpPr>
          <p:spPr>
            <a:xfrm>
              <a:off x="5286240" y="351000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Google Shape;2384;p40"/>
          <p:cNvSpPr/>
          <p:nvPr/>
        </p:nvSpPr>
        <p:spPr>
          <a:xfrm>
            <a:off x="1454040" y="3703680"/>
            <a:ext cx="2459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5f1e6"/>
                </a:solidFill>
                <a:latin typeface="Sriracha"/>
                <a:ea typeface="Sriracha"/>
              </a:rPr>
              <a:t>1 unidad y 4 decenas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Google Shape;2384;p40"/>
          <p:cNvSpPr/>
          <p:nvPr/>
        </p:nvSpPr>
        <p:spPr>
          <a:xfrm>
            <a:off x="5178600" y="3695760"/>
            <a:ext cx="2549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1 unidad y 4 unidades de cu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Google Shape;2605;p49"/>
          <p:cNvSpPr/>
          <p:nvPr/>
        </p:nvSpPr>
        <p:spPr>
          <a:xfrm rot="3948600">
            <a:off x="1361520" y="510840"/>
            <a:ext cx="641520" cy="365040"/>
          </a:xfrm>
          <a:custGeom>
            <a:avLst/>
            <a:gdLst/>
            <a:ahLst/>
            <a:rect l="l" t="t" r="r" b="b"/>
            <a:pathLst>
              <a:path w="12826" h="7299">
                <a:moveTo>
                  <a:pt x="1932" y="0"/>
                </a:moveTo>
                <a:cubicBezTo>
                  <a:pt x="1420" y="0"/>
                  <a:pt x="801" y="234"/>
                  <a:pt x="407" y="1079"/>
                </a:cubicBezTo>
                <a:cubicBezTo>
                  <a:pt x="0" y="1865"/>
                  <a:pt x="378" y="2824"/>
                  <a:pt x="1193" y="3173"/>
                </a:cubicBezTo>
                <a:lnTo>
                  <a:pt x="9684" y="7099"/>
                </a:lnTo>
                <a:cubicBezTo>
                  <a:pt x="9983" y="7232"/>
                  <a:pt x="10302" y="7299"/>
                  <a:pt x="10622" y="7299"/>
                </a:cubicBezTo>
                <a:cubicBezTo>
                  <a:pt x="10863" y="7299"/>
                  <a:pt x="11105" y="7261"/>
                  <a:pt x="11342" y="7186"/>
                </a:cubicBezTo>
                <a:cubicBezTo>
                  <a:pt x="11865" y="6983"/>
                  <a:pt x="12302" y="6547"/>
                  <a:pt x="12534" y="6023"/>
                </a:cubicBezTo>
                <a:cubicBezTo>
                  <a:pt x="12796" y="5500"/>
                  <a:pt x="12825" y="4889"/>
                  <a:pt x="12651" y="4366"/>
                </a:cubicBezTo>
                <a:cubicBezTo>
                  <a:pt x="12418" y="3842"/>
                  <a:pt x="11982" y="3435"/>
                  <a:pt x="11487" y="3202"/>
                </a:cubicBezTo>
                <a:lnTo>
                  <a:pt x="4828" y="120"/>
                </a:lnTo>
                <a:lnTo>
                  <a:pt x="4624" y="527"/>
                </a:lnTo>
                <a:lnTo>
                  <a:pt x="11313" y="3609"/>
                </a:lnTo>
                <a:cubicBezTo>
                  <a:pt x="11720" y="3784"/>
                  <a:pt x="12040" y="4104"/>
                  <a:pt x="12243" y="4511"/>
                </a:cubicBezTo>
                <a:cubicBezTo>
                  <a:pt x="12389" y="4947"/>
                  <a:pt x="12331" y="5442"/>
                  <a:pt x="12127" y="5820"/>
                </a:cubicBezTo>
                <a:cubicBezTo>
                  <a:pt x="11953" y="6256"/>
                  <a:pt x="11604" y="6605"/>
                  <a:pt x="11197" y="6779"/>
                </a:cubicBezTo>
                <a:cubicBezTo>
                  <a:pt x="11022" y="6826"/>
                  <a:pt x="10843" y="6849"/>
                  <a:pt x="10663" y="6849"/>
                </a:cubicBezTo>
                <a:cubicBezTo>
                  <a:pt x="10393" y="6849"/>
                  <a:pt x="10121" y="6797"/>
                  <a:pt x="9859" y="6692"/>
                </a:cubicBezTo>
                <a:lnTo>
                  <a:pt x="1367" y="2795"/>
                </a:lnTo>
                <a:cubicBezTo>
                  <a:pt x="786" y="2533"/>
                  <a:pt x="524" y="1836"/>
                  <a:pt x="815" y="1254"/>
                </a:cubicBezTo>
                <a:cubicBezTo>
                  <a:pt x="1122" y="588"/>
                  <a:pt x="1570" y="443"/>
                  <a:pt x="1905" y="443"/>
                </a:cubicBezTo>
                <a:cubicBezTo>
                  <a:pt x="2140" y="443"/>
                  <a:pt x="2320" y="515"/>
                  <a:pt x="2356" y="527"/>
                </a:cubicBezTo>
                <a:lnTo>
                  <a:pt x="8288" y="3261"/>
                </a:lnTo>
                <a:cubicBezTo>
                  <a:pt x="8696" y="3406"/>
                  <a:pt x="8870" y="3871"/>
                  <a:pt x="8666" y="4278"/>
                </a:cubicBezTo>
                <a:cubicBezTo>
                  <a:pt x="8544" y="4598"/>
                  <a:pt x="8213" y="4793"/>
                  <a:pt x="7868" y="4793"/>
                </a:cubicBezTo>
                <a:cubicBezTo>
                  <a:pt x="7804" y="4793"/>
                  <a:pt x="7741" y="4786"/>
                  <a:pt x="7678" y="4773"/>
                </a:cubicBezTo>
                <a:lnTo>
                  <a:pt x="3577" y="2853"/>
                </a:lnTo>
                <a:lnTo>
                  <a:pt x="3374" y="3261"/>
                </a:lnTo>
                <a:lnTo>
                  <a:pt x="7532" y="5180"/>
                </a:lnTo>
                <a:cubicBezTo>
                  <a:pt x="7657" y="5221"/>
                  <a:pt x="7783" y="5241"/>
                  <a:pt x="7909" y="5241"/>
                </a:cubicBezTo>
                <a:cubicBezTo>
                  <a:pt x="8399" y="5241"/>
                  <a:pt x="8865" y="4939"/>
                  <a:pt x="9074" y="4453"/>
                </a:cubicBezTo>
                <a:cubicBezTo>
                  <a:pt x="9364" y="3842"/>
                  <a:pt x="9103" y="3115"/>
                  <a:pt x="8492" y="2853"/>
                </a:cubicBezTo>
                <a:lnTo>
                  <a:pt x="2559" y="120"/>
                </a:lnTo>
                <a:cubicBezTo>
                  <a:pt x="2399" y="54"/>
                  <a:pt x="2178" y="0"/>
                  <a:pt x="1932" y="0"/>
                </a:cubicBezTo>
                <a:close/>
              </a:path>
            </a:pathLst>
          </a:custGeom>
          <a:solidFill>
            <a:srgbClr val="ffd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2" name=""/>
          <p:cNvGraphicFramePr/>
          <p:nvPr/>
        </p:nvGraphicFramePr>
        <p:xfrm>
          <a:off x="3409920" y="1163520"/>
          <a:ext cx="2497320" cy="304920"/>
        </p:xfrm>
        <a:graphic>
          <a:graphicData uri="http://schemas.openxmlformats.org/drawingml/2006/table">
            <a:tbl>
              <a:tblPr/>
              <a:tblGrid>
                <a:gridCol w="249120"/>
                <a:gridCol w="250920"/>
                <a:gridCol w="249120"/>
                <a:gridCol w="249480"/>
                <a:gridCol w="250920"/>
                <a:gridCol w="249120"/>
                <a:gridCol w="249120"/>
                <a:gridCol w="249480"/>
                <a:gridCol w="250560"/>
                <a:gridCol w="2494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3" name=""/>
          <p:cNvGraphicFramePr/>
          <p:nvPr/>
        </p:nvGraphicFramePr>
        <p:xfrm>
          <a:off x="3970440" y="1531800"/>
          <a:ext cx="247680" cy="304920"/>
        </p:xfrm>
        <a:graphic>
          <a:graphicData uri="http://schemas.openxmlformats.org/drawingml/2006/table">
            <a:tbl>
              <a:tblPr/>
              <a:tblGrid>
                <a:gridCol w="247680"/>
              </a:tblGrid>
              <a:tr h="307080">
                <a:tc>
                  <a:txBody>
                    <a:bodyPr lIns="91080" rIns="910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4" name=""/>
          <p:cNvGraphicFramePr/>
          <p:nvPr/>
        </p:nvGraphicFramePr>
        <p:xfrm>
          <a:off x="5211720" y="1525680"/>
          <a:ext cx="223920" cy="304560"/>
        </p:xfrm>
        <a:graphic>
          <a:graphicData uri="http://schemas.openxmlformats.org/drawingml/2006/table">
            <a:tbl>
              <a:tblPr/>
              <a:tblGrid>
                <a:gridCol w="22392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5" name=""/>
          <p:cNvGraphicFramePr/>
          <p:nvPr/>
        </p:nvGraphicFramePr>
        <p:xfrm>
          <a:off x="4816440" y="1647720"/>
          <a:ext cx="228600" cy="30492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30708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6" name=""/>
          <p:cNvGraphicFramePr/>
          <p:nvPr/>
        </p:nvGraphicFramePr>
        <p:xfrm>
          <a:off x="4383000" y="1636560"/>
          <a:ext cx="238320" cy="304920"/>
        </p:xfrm>
        <a:graphic>
          <a:graphicData uri="http://schemas.openxmlformats.org/drawingml/2006/table">
            <a:tbl>
              <a:tblPr/>
              <a:tblGrid>
                <a:gridCol w="23832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d51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741760" y="2082600"/>
            <a:ext cx="3660480" cy="1104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f5f1e6"/>
                </a:solidFill>
                <a:latin typeface="Sriracha"/>
                <a:ea typeface="Sriracha"/>
              </a:rPr>
              <a:t>Correc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Decágono 1"/>
          <p:cNvGrpSpPr/>
          <p:nvPr/>
        </p:nvGrpSpPr>
        <p:grpSpPr>
          <a:xfrm>
            <a:off x="6778800" y="3773520"/>
            <a:ext cx="1481040" cy="1279440"/>
            <a:chOff x="6778800" y="3773520"/>
            <a:chExt cx="1481040" cy="1279440"/>
          </a:xfrm>
        </p:grpSpPr>
        <p:pic>
          <p:nvPicPr>
            <p:cNvPr id="1419" name="Decágono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3773520"/>
              <a:ext cx="148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6969240" y="4025880"/>
              <a:ext cx="1101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5473800" y="4136760"/>
            <a:ext cx="4092480" cy="401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5f1e6"/>
                </a:solidFill>
                <a:latin typeface="Nunito"/>
                <a:ea typeface="Nunito"/>
              </a:rPr>
              <a:t>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2" name="Google Shape;2627;p50"/>
          <p:cNvGrpSpPr/>
          <p:nvPr/>
        </p:nvGrpSpPr>
        <p:grpSpPr>
          <a:xfrm>
            <a:off x="1025640" y="2093760"/>
            <a:ext cx="1662120" cy="2113200"/>
            <a:chOff x="1025640" y="2093760"/>
            <a:chExt cx="1662120" cy="2113200"/>
          </a:xfrm>
        </p:grpSpPr>
        <p:sp>
          <p:nvSpPr>
            <p:cNvPr id="1423" name="Google Shape;2628;p50"/>
            <p:cNvSpPr/>
            <p:nvPr/>
          </p:nvSpPr>
          <p:spPr>
            <a:xfrm>
              <a:off x="1189800" y="4047480"/>
              <a:ext cx="1332360" cy="1594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4" name="Google Shape;2629;p50"/>
            <p:cNvGrpSpPr/>
            <p:nvPr/>
          </p:nvGrpSpPr>
          <p:grpSpPr>
            <a:xfrm>
              <a:off x="1025640" y="2093760"/>
              <a:ext cx="1662120" cy="2047680"/>
              <a:chOff x="1025640" y="2093760"/>
              <a:chExt cx="1662120" cy="2047680"/>
            </a:xfrm>
          </p:grpSpPr>
          <p:sp>
            <p:nvSpPr>
              <p:cNvPr id="1425" name="Google Shape;2630;p50"/>
              <p:cNvSpPr/>
              <p:nvPr/>
            </p:nvSpPr>
            <p:spPr>
              <a:xfrm>
                <a:off x="1874880" y="2093760"/>
                <a:ext cx="131760" cy="195120"/>
              </a:xfrm>
              <a:custGeom>
                <a:avLst/>
                <a:gdLst/>
                <a:ahLst/>
                <a:rect l="l" t="t" r="r" b="b"/>
                <a:pathLst>
                  <a:path w="6305" h="9408">
                    <a:moveTo>
                      <a:pt x="3073" y="1"/>
                    </a:moveTo>
                    <a:cubicBezTo>
                      <a:pt x="3041" y="1"/>
                      <a:pt x="3009" y="4"/>
                      <a:pt x="2977" y="10"/>
                    </a:cubicBezTo>
                    <a:cubicBezTo>
                      <a:pt x="1109" y="360"/>
                      <a:pt x="0" y="6606"/>
                      <a:pt x="0" y="6606"/>
                    </a:cubicBezTo>
                    <a:lnTo>
                      <a:pt x="6304" y="9408"/>
                    </a:lnTo>
                    <a:cubicBezTo>
                      <a:pt x="6304" y="9408"/>
                      <a:pt x="4840" y="1"/>
                      <a:pt x="3073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Google Shape;2631;p50"/>
              <p:cNvSpPr/>
              <p:nvPr/>
            </p:nvSpPr>
            <p:spPr>
              <a:xfrm>
                <a:off x="1025640" y="2231280"/>
                <a:ext cx="1662120" cy="1910160"/>
              </a:xfrm>
              <a:custGeom>
                <a:avLst/>
                <a:gdLst/>
                <a:ahLst/>
                <a:rect l="l" t="t" r="r" b="b"/>
                <a:pathLst>
                  <a:path w="79793" h="91698">
                    <a:moveTo>
                      <a:pt x="39867" y="1"/>
                    </a:moveTo>
                    <a:cubicBezTo>
                      <a:pt x="26209" y="1"/>
                      <a:pt x="14535" y="18621"/>
                      <a:pt x="9631" y="38000"/>
                    </a:cubicBezTo>
                    <a:cubicBezTo>
                      <a:pt x="6830" y="40743"/>
                      <a:pt x="0" y="47690"/>
                      <a:pt x="1460" y="49032"/>
                    </a:cubicBezTo>
                    <a:cubicBezTo>
                      <a:pt x="1638" y="49211"/>
                      <a:pt x="1970" y="49290"/>
                      <a:pt x="2421" y="49290"/>
                    </a:cubicBezTo>
                    <a:cubicBezTo>
                      <a:pt x="3590" y="49290"/>
                      <a:pt x="5556" y="48756"/>
                      <a:pt x="7705" y="48040"/>
                    </a:cubicBezTo>
                    <a:cubicBezTo>
                      <a:pt x="7355" y="50842"/>
                      <a:pt x="7180" y="53702"/>
                      <a:pt x="7180" y="56503"/>
                    </a:cubicBezTo>
                    <a:cubicBezTo>
                      <a:pt x="7180" y="67652"/>
                      <a:pt x="10390" y="74890"/>
                      <a:pt x="15702" y="79385"/>
                    </a:cubicBezTo>
                    <a:cubicBezTo>
                      <a:pt x="15410" y="83237"/>
                      <a:pt x="15118" y="90125"/>
                      <a:pt x="16169" y="91467"/>
                    </a:cubicBezTo>
                    <a:cubicBezTo>
                      <a:pt x="16283" y="91625"/>
                      <a:pt x="16489" y="91697"/>
                      <a:pt x="16770" y="91697"/>
                    </a:cubicBezTo>
                    <a:cubicBezTo>
                      <a:pt x="18785" y="91697"/>
                      <a:pt x="24687" y="87988"/>
                      <a:pt x="28835" y="85222"/>
                    </a:cubicBezTo>
                    <a:cubicBezTo>
                      <a:pt x="32513" y="85864"/>
                      <a:pt x="36219" y="86185"/>
                      <a:pt x="39926" y="86185"/>
                    </a:cubicBezTo>
                    <a:cubicBezTo>
                      <a:pt x="43632" y="86185"/>
                      <a:pt x="47339" y="85864"/>
                      <a:pt x="51016" y="85222"/>
                    </a:cubicBezTo>
                    <a:cubicBezTo>
                      <a:pt x="55114" y="87988"/>
                      <a:pt x="61054" y="91697"/>
                      <a:pt x="63079" y="91697"/>
                    </a:cubicBezTo>
                    <a:cubicBezTo>
                      <a:pt x="63362" y="91697"/>
                      <a:pt x="63568" y="91625"/>
                      <a:pt x="63682" y="91467"/>
                    </a:cubicBezTo>
                    <a:cubicBezTo>
                      <a:pt x="64675" y="90125"/>
                      <a:pt x="64441" y="83237"/>
                      <a:pt x="64149" y="79385"/>
                    </a:cubicBezTo>
                    <a:cubicBezTo>
                      <a:pt x="69461" y="74890"/>
                      <a:pt x="72671" y="67652"/>
                      <a:pt x="72671" y="56503"/>
                    </a:cubicBezTo>
                    <a:cubicBezTo>
                      <a:pt x="72671" y="53702"/>
                      <a:pt x="72496" y="50842"/>
                      <a:pt x="72146" y="48040"/>
                    </a:cubicBezTo>
                    <a:cubicBezTo>
                      <a:pt x="74253" y="48756"/>
                      <a:pt x="76208" y="49290"/>
                      <a:pt x="77395" y="49290"/>
                    </a:cubicBezTo>
                    <a:cubicBezTo>
                      <a:pt x="77853" y="49290"/>
                      <a:pt x="78197" y="49211"/>
                      <a:pt x="78392" y="49032"/>
                    </a:cubicBezTo>
                    <a:cubicBezTo>
                      <a:pt x="79793" y="47690"/>
                      <a:pt x="72963" y="40743"/>
                      <a:pt x="70220" y="38000"/>
                    </a:cubicBezTo>
                    <a:cubicBezTo>
                      <a:pt x="65258" y="18621"/>
                      <a:pt x="53526" y="1"/>
                      <a:pt x="39867" y="1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Google Shape;2632;p50"/>
              <p:cNvSpPr/>
              <p:nvPr/>
            </p:nvSpPr>
            <p:spPr>
              <a:xfrm>
                <a:off x="1595880" y="2671920"/>
                <a:ext cx="463320" cy="207360"/>
              </a:xfrm>
              <a:custGeom>
                <a:avLst/>
                <a:gdLst/>
                <a:ahLst/>
                <a:rect l="l" t="t" r="r" b="b"/>
                <a:pathLst>
                  <a:path w="22240" h="9954">
                    <a:moveTo>
                      <a:pt x="6709" y="0"/>
                    </a:moveTo>
                    <a:cubicBezTo>
                      <a:pt x="2761" y="0"/>
                      <a:pt x="0" y="260"/>
                      <a:pt x="0" y="2307"/>
                    </a:cubicBezTo>
                    <a:cubicBezTo>
                      <a:pt x="0" y="4992"/>
                      <a:pt x="4962" y="9953"/>
                      <a:pt x="11090" y="9953"/>
                    </a:cubicBezTo>
                    <a:cubicBezTo>
                      <a:pt x="17219" y="9953"/>
                      <a:pt x="22239" y="4992"/>
                      <a:pt x="22239" y="2307"/>
                    </a:cubicBezTo>
                    <a:cubicBezTo>
                      <a:pt x="22239" y="260"/>
                      <a:pt x="19445" y="0"/>
                      <a:pt x="15481" y="0"/>
                    </a:cubicBezTo>
                    <a:cubicBezTo>
                      <a:pt x="14132" y="0"/>
                      <a:pt x="12647" y="30"/>
                      <a:pt x="11090" y="30"/>
                    </a:cubicBezTo>
                    <a:cubicBezTo>
                      <a:pt x="9534" y="30"/>
                      <a:pt x="8053" y="0"/>
                      <a:pt x="6709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Google Shape;2633;p50"/>
              <p:cNvSpPr/>
              <p:nvPr/>
            </p:nvSpPr>
            <p:spPr>
              <a:xfrm>
                <a:off x="1623960" y="2136600"/>
                <a:ext cx="255600" cy="277920"/>
              </a:xfrm>
              <a:custGeom>
                <a:avLst/>
                <a:gdLst/>
                <a:ahLst/>
                <a:rect l="l" t="t" r="r" b="b"/>
                <a:pathLst>
                  <a:path w="12317" h="13328">
                    <a:moveTo>
                      <a:pt x="2810" y="1"/>
                    </a:moveTo>
                    <a:cubicBezTo>
                      <a:pt x="2536" y="1"/>
                      <a:pt x="2296" y="61"/>
                      <a:pt x="2102" y="194"/>
                    </a:cubicBezTo>
                    <a:cubicBezTo>
                      <a:pt x="1" y="1595"/>
                      <a:pt x="7355" y="13328"/>
                      <a:pt x="7355" y="13328"/>
                    </a:cubicBezTo>
                    <a:cubicBezTo>
                      <a:pt x="12317" y="9767"/>
                      <a:pt x="11149" y="5448"/>
                      <a:pt x="11149" y="5448"/>
                    </a:cubicBezTo>
                    <a:cubicBezTo>
                      <a:pt x="11149" y="5448"/>
                      <a:pt x="5416" y="1"/>
                      <a:pt x="2810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Google Shape;2634;p50"/>
              <p:cNvSpPr/>
              <p:nvPr/>
            </p:nvSpPr>
            <p:spPr>
              <a:xfrm>
                <a:off x="1506600" y="2986200"/>
                <a:ext cx="638280" cy="773280"/>
              </a:xfrm>
              <a:custGeom>
                <a:avLst/>
                <a:gdLst/>
                <a:ahLst/>
                <a:rect l="l" t="t" r="r" b="b"/>
                <a:pathLst>
                  <a:path w="30645" h="37067">
                    <a:moveTo>
                      <a:pt x="15351" y="1"/>
                    </a:moveTo>
                    <a:cubicBezTo>
                      <a:pt x="6888" y="1"/>
                      <a:pt x="0" y="8640"/>
                      <a:pt x="0" y="19380"/>
                    </a:cubicBezTo>
                    <a:cubicBezTo>
                      <a:pt x="0" y="30120"/>
                      <a:pt x="6888" y="-28470"/>
                      <a:pt x="15351" y="-28470"/>
                    </a:cubicBezTo>
                    <a:cubicBezTo>
                      <a:pt x="23815" y="-28470"/>
                      <a:pt x="30644" y="30120"/>
                      <a:pt x="30644" y="19380"/>
                    </a:cubicBezTo>
                    <a:cubicBezTo>
                      <a:pt x="30644" y="8640"/>
                      <a:pt x="23815" y="1"/>
                      <a:pt x="15351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Google Shape;2635;p50"/>
              <p:cNvSpPr/>
              <p:nvPr/>
            </p:nvSpPr>
            <p:spPr>
              <a:xfrm>
                <a:off x="1680840" y="2687400"/>
                <a:ext cx="77760" cy="104400"/>
              </a:xfrm>
              <a:custGeom>
                <a:avLst/>
                <a:gdLst/>
                <a:ahLst/>
                <a:rect l="l" t="t" r="r" b="b"/>
                <a:pathLst>
                  <a:path w="3737" h="5021">
                    <a:moveTo>
                      <a:pt x="1869" y="1"/>
                    </a:moveTo>
                    <a:cubicBezTo>
                      <a:pt x="877" y="1"/>
                      <a:pt x="1" y="59"/>
                      <a:pt x="1" y="1460"/>
                    </a:cubicBezTo>
                    <a:cubicBezTo>
                      <a:pt x="1" y="2803"/>
                      <a:pt x="877" y="5021"/>
                      <a:pt x="1869" y="5021"/>
                    </a:cubicBezTo>
                    <a:cubicBezTo>
                      <a:pt x="2919" y="5021"/>
                      <a:pt x="3737" y="2803"/>
                      <a:pt x="3737" y="1460"/>
                    </a:cubicBezTo>
                    <a:cubicBezTo>
                      <a:pt x="3737" y="59"/>
                      <a:pt x="2919" y="1"/>
                      <a:pt x="186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13320" bIns="133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Google Shape;2636;p50"/>
              <p:cNvSpPr/>
              <p:nvPr/>
            </p:nvSpPr>
            <p:spPr>
              <a:xfrm>
                <a:off x="1899720" y="2687400"/>
                <a:ext cx="77760" cy="104400"/>
              </a:xfrm>
              <a:custGeom>
                <a:avLst/>
                <a:gdLst/>
                <a:ahLst/>
                <a:rect l="l" t="t" r="r" b="b"/>
                <a:pathLst>
                  <a:path w="3737" h="5021">
                    <a:moveTo>
                      <a:pt x="1869" y="1"/>
                    </a:moveTo>
                    <a:cubicBezTo>
                      <a:pt x="876" y="1"/>
                      <a:pt x="1" y="59"/>
                      <a:pt x="1" y="1460"/>
                    </a:cubicBezTo>
                    <a:cubicBezTo>
                      <a:pt x="1" y="2803"/>
                      <a:pt x="876" y="5021"/>
                      <a:pt x="1869" y="5021"/>
                    </a:cubicBezTo>
                    <a:cubicBezTo>
                      <a:pt x="2919" y="5021"/>
                      <a:pt x="3736" y="2803"/>
                      <a:pt x="3736" y="1460"/>
                    </a:cubicBezTo>
                    <a:cubicBezTo>
                      <a:pt x="3736" y="59"/>
                      <a:pt x="2919" y="1"/>
                      <a:pt x="186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13320" bIns="133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Google Shape;2637;p50"/>
              <p:cNvSpPr/>
              <p:nvPr/>
            </p:nvSpPr>
            <p:spPr>
              <a:xfrm>
                <a:off x="1839240" y="2399760"/>
                <a:ext cx="280800" cy="250560"/>
              </a:xfrm>
              <a:custGeom>
                <a:avLst/>
                <a:gdLst/>
                <a:ahLst/>
                <a:rect l="l" t="t" r="r" b="b"/>
                <a:pathLst>
                  <a:path w="13484" h="12035">
                    <a:moveTo>
                      <a:pt x="6756" y="0"/>
                    </a:moveTo>
                    <a:cubicBezTo>
                      <a:pt x="5035" y="0"/>
                      <a:pt x="3333" y="743"/>
                      <a:pt x="2160" y="2177"/>
                    </a:cubicBezTo>
                    <a:cubicBezTo>
                      <a:pt x="0" y="4687"/>
                      <a:pt x="350" y="8481"/>
                      <a:pt x="2860" y="10641"/>
                    </a:cubicBezTo>
                    <a:cubicBezTo>
                      <a:pt x="4000" y="11573"/>
                      <a:pt x="5382" y="12035"/>
                      <a:pt x="6754" y="12035"/>
                    </a:cubicBezTo>
                    <a:cubicBezTo>
                      <a:pt x="8474" y="12035"/>
                      <a:pt x="10181" y="11310"/>
                      <a:pt x="11382" y="9882"/>
                    </a:cubicBezTo>
                    <a:cubicBezTo>
                      <a:pt x="13484" y="7314"/>
                      <a:pt x="13192" y="3520"/>
                      <a:pt x="10624" y="1418"/>
                    </a:cubicBezTo>
                    <a:cubicBezTo>
                      <a:pt x="9489" y="465"/>
                      <a:pt x="8116" y="0"/>
                      <a:pt x="6756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Google Shape;2638;p50"/>
              <p:cNvSpPr/>
              <p:nvPr/>
            </p:nvSpPr>
            <p:spPr>
              <a:xfrm>
                <a:off x="1903680" y="2499120"/>
                <a:ext cx="70920" cy="61200"/>
              </a:xfrm>
              <a:custGeom>
                <a:avLst/>
                <a:gdLst/>
                <a:ahLst/>
                <a:rect l="l" t="t" r="r" b="b"/>
                <a:pathLst>
                  <a:path w="3421" h="2938">
                    <a:moveTo>
                      <a:pt x="1672" y="1"/>
                    </a:moveTo>
                    <a:cubicBezTo>
                      <a:pt x="1468" y="1"/>
                      <a:pt x="1258" y="47"/>
                      <a:pt x="1051" y="150"/>
                    </a:cubicBezTo>
                    <a:cubicBezTo>
                      <a:pt x="351" y="501"/>
                      <a:pt x="1" y="1318"/>
                      <a:pt x="351" y="2018"/>
                    </a:cubicBezTo>
                    <a:cubicBezTo>
                      <a:pt x="584" y="2631"/>
                      <a:pt x="1139" y="2938"/>
                      <a:pt x="1694" y="2938"/>
                    </a:cubicBezTo>
                    <a:cubicBezTo>
                      <a:pt x="2248" y="2938"/>
                      <a:pt x="2803" y="2631"/>
                      <a:pt x="3036" y="2018"/>
                    </a:cubicBezTo>
                    <a:cubicBezTo>
                      <a:pt x="3420" y="1009"/>
                      <a:pt x="2618" y="1"/>
                      <a:pt x="1672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9880" bIns="-298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Google Shape;2639;p50"/>
              <p:cNvSpPr/>
              <p:nvPr/>
            </p:nvSpPr>
            <p:spPr>
              <a:xfrm>
                <a:off x="1535040" y="2399760"/>
                <a:ext cx="280800" cy="250560"/>
              </a:xfrm>
              <a:custGeom>
                <a:avLst/>
                <a:gdLst/>
                <a:ahLst/>
                <a:rect l="l" t="t" r="r" b="b"/>
                <a:pathLst>
                  <a:path w="13485" h="12035">
                    <a:moveTo>
                      <a:pt x="6756" y="0"/>
                    </a:moveTo>
                    <a:cubicBezTo>
                      <a:pt x="5035" y="0"/>
                      <a:pt x="3334" y="743"/>
                      <a:pt x="2160" y="2177"/>
                    </a:cubicBezTo>
                    <a:cubicBezTo>
                      <a:pt x="1" y="4687"/>
                      <a:pt x="351" y="8481"/>
                      <a:pt x="2919" y="10641"/>
                    </a:cubicBezTo>
                    <a:cubicBezTo>
                      <a:pt x="4033" y="11573"/>
                      <a:pt x="5400" y="12035"/>
                      <a:pt x="6765" y="12035"/>
                    </a:cubicBezTo>
                    <a:cubicBezTo>
                      <a:pt x="8475" y="12035"/>
                      <a:pt x="10182" y="11310"/>
                      <a:pt x="11383" y="9882"/>
                    </a:cubicBezTo>
                    <a:cubicBezTo>
                      <a:pt x="13484" y="7314"/>
                      <a:pt x="13192" y="3520"/>
                      <a:pt x="10624" y="1418"/>
                    </a:cubicBezTo>
                    <a:cubicBezTo>
                      <a:pt x="9490" y="465"/>
                      <a:pt x="8117" y="0"/>
                      <a:pt x="6756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Google Shape;2640;p50"/>
              <p:cNvSpPr/>
              <p:nvPr/>
            </p:nvSpPr>
            <p:spPr>
              <a:xfrm>
                <a:off x="1599480" y="2499120"/>
                <a:ext cx="70920" cy="61200"/>
              </a:xfrm>
              <a:custGeom>
                <a:avLst/>
                <a:gdLst/>
                <a:ahLst/>
                <a:rect l="l" t="t" r="r" b="b"/>
                <a:pathLst>
                  <a:path w="3420" h="2938">
                    <a:moveTo>
                      <a:pt x="1671" y="1"/>
                    </a:moveTo>
                    <a:cubicBezTo>
                      <a:pt x="1468" y="1"/>
                      <a:pt x="1257" y="47"/>
                      <a:pt x="1051" y="150"/>
                    </a:cubicBezTo>
                    <a:cubicBezTo>
                      <a:pt x="350" y="501"/>
                      <a:pt x="0" y="1318"/>
                      <a:pt x="350" y="2018"/>
                    </a:cubicBezTo>
                    <a:cubicBezTo>
                      <a:pt x="584" y="2631"/>
                      <a:pt x="1138" y="2938"/>
                      <a:pt x="1693" y="2938"/>
                    </a:cubicBezTo>
                    <a:cubicBezTo>
                      <a:pt x="2247" y="2938"/>
                      <a:pt x="2802" y="2631"/>
                      <a:pt x="3035" y="2018"/>
                    </a:cubicBezTo>
                    <a:cubicBezTo>
                      <a:pt x="3420" y="1009"/>
                      <a:pt x="2618" y="1"/>
                      <a:pt x="1671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9880" bIns="-298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363400" y="2123640"/>
            <a:ext cx="4435560" cy="1104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f5f1e6"/>
                </a:solidFill>
                <a:latin typeface="Sriracha"/>
                <a:ea typeface="Sriracha"/>
              </a:rPr>
              <a:t>Incorrec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7" name="Decágono 1"/>
          <p:cNvGrpSpPr/>
          <p:nvPr/>
        </p:nvGrpSpPr>
        <p:grpSpPr>
          <a:xfrm>
            <a:off x="6778800" y="3773520"/>
            <a:ext cx="1481040" cy="1279440"/>
            <a:chOff x="6778800" y="3773520"/>
            <a:chExt cx="1481040" cy="1279440"/>
          </a:xfrm>
        </p:grpSpPr>
        <p:pic>
          <p:nvPicPr>
            <p:cNvPr id="1438" name="Decágono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3773520"/>
              <a:ext cx="148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9" name=""/>
            <p:cNvSpPr/>
            <p:nvPr/>
          </p:nvSpPr>
          <p:spPr>
            <a:xfrm>
              <a:off x="6969240" y="4025880"/>
              <a:ext cx="1101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789240" y="4051080"/>
            <a:ext cx="1473480" cy="399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5f1e6"/>
                </a:solidFill>
                <a:latin typeface="Sriracha"/>
                <a:ea typeface="Nunito"/>
              </a:rPr>
              <a:t>Inténtalo otr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Google Shape;2462;p43"/>
          <p:cNvSpPr/>
          <p:nvPr/>
        </p:nvSpPr>
        <p:spPr>
          <a:xfrm>
            <a:off x="598320" y="4281480"/>
            <a:ext cx="1716120" cy="212760"/>
          </a:xfrm>
          <a:prstGeom prst="ellipse">
            <a:avLst/>
          </a:prstGeom>
          <a:solidFill>
            <a:srgbClr val="f5f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9400" bIns="594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Google Shape;2463;p43"/>
          <p:cNvGrpSpPr/>
          <p:nvPr/>
        </p:nvGrpSpPr>
        <p:grpSpPr>
          <a:xfrm>
            <a:off x="334800" y="2054160"/>
            <a:ext cx="2028960" cy="2389320"/>
            <a:chOff x="334800" y="2054160"/>
            <a:chExt cx="2028960" cy="2389320"/>
          </a:xfrm>
        </p:grpSpPr>
        <p:sp>
          <p:nvSpPr>
            <p:cNvPr id="1443" name="Google Shape;2464;p43"/>
            <p:cNvSpPr/>
            <p:nvPr/>
          </p:nvSpPr>
          <p:spPr>
            <a:xfrm flipH="1">
              <a:off x="334800" y="2691000"/>
              <a:ext cx="571680" cy="708120"/>
            </a:xfrm>
            <a:custGeom>
              <a:avLst/>
              <a:gdLst/>
              <a:ahLst/>
              <a:rect l="l" t="t" r="r" b="b"/>
              <a:pathLst>
                <a:path w="54765" h="61979">
                  <a:moveTo>
                    <a:pt x="-25857" y="0"/>
                  </a:moveTo>
                  <a:cubicBezTo>
                    <a:pt x="-26316" y="0"/>
                    <a:pt x="-26780" y="28"/>
                    <a:pt x="-27249" y="85"/>
                  </a:cubicBezTo>
                  <a:cubicBezTo>
                    <a:pt x="29257" y="1194"/>
                    <a:pt x="3063" y="28022"/>
                    <a:pt x="3063" y="28022"/>
                  </a:cubicBezTo>
                  <a:lnTo>
                    <a:pt x="0" y="-3558"/>
                  </a:lnTo>
                  <a:lnTo>
                    <a:pt x="28623" y="28761"/>
                  </a:lnTo>
                  <a:lnTo>
                    <a:pt x="-10772" y="9116"/>
                  </a:lnTo>
                  <a:cubicBezTo>
                    <a:pt x="-10772" y="9116"/>
                    <a:pt x="-17466" y="0"/>
                    <a:pt x="-25857" y="0"/>
                  </a:cubicBez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Google Shape;2465;p43"/>
            <p:cNvSpPr/>
            <p:nvPr/>
          </p:nvSpPr>
          <p:spPr>
            <a:xfrm flipH="1">
              <a:off x="1840320" y="3157200"/>
              <a:ext cx="523440" cy="738720"/>
            </a:xfrm>
            <a:custGeom>
              <a:avLst/>
              <a:gdLst/>
              <a:ahLst/>
              <a:rect l="l" t="t" r="r" b="b"/>
              <a:pathLst>
                <a:path w="50118" h="64654">
                  <a:moveTo>
                    <a:pt x="-17795" y="1"/>
                  </a:moveTo>
                  <a:cubicBezTo>
                    <a:pt x="-17795" y="1"/>
                    <a:pt x="1" y="-9029"/>
                    <a:pt x="10352" y="-1741"/>
                  </a:cubicBezTo>
                  <a:cubicBezTo>
                    <a:pt x="11193" y="-1153"/>
                    <a:pt x="12161" y="-882"/>
                    <a:pt x="13228" y="-882"/>
                  </a:cubicBezTo>
                  <a:cubicBezTo>
                    <a:pt x="25291" y="-882"/>
                    <a:pt x="-15419" y="30155"/>
                    <a:pt x="-15419" y="30155"/>
                  </a:cubicBezTo>
                  <a:lnTo>
                    <a:pt x="-17795" y="1"/>
                  </a:ln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Google Shape;2466;p43"/>
            <p:cNvSpPr/>
            <p:nvPr/>
          </p:nvSpPr>
          <p:spPr>
            <a:xfrm flipH="1">
              <a:off x="749880" y="2287080"/>
              <a:ext cx="1245240" cy="2156400"/>
            </a:xfrm>
            <a:custGeom>
              <a:avLst/>
              <a:gdLst/>
              <a:ahLst/>
              <a:rect l="l" t="t" r="r" b="b"/>
              <a:pathLst>
                <a:path w="119245" h="188727">
                  <a:moveTo>
                    <a:pt x="59411" y="1"/>
                  </a:moveTo>
                  <a:cubicBezTo>
                    <a:pt x="0" y="1"/>
                    <a:pt x="7763" y="52811"/>
                    <a:pt x="7763" y="52811"/>
                  </a:cubicBezTo>
                  <a:lnTo>
                    <a:pt x="23976" y="174485"/>
                  </a:lnTo>
                  <a:cubicBezTo>
                    <a:pt x="23976" y="174485"/>
                    <a:pt x="14523" y="185733"/>
                    <a:pt x="16054" y="187687"/>
                  </a:cubicBezTo>
                  <a:cubicBezTo>
                    <a:pt x="16604" y="188408"/>
                    <a:pt x="19001" y="188727"/>
                    <a:pt x="21979" y="188727"/>
                  </a:cubicBezTo>
                  <a:cubicBezTo>
                    <a:pt x="27291" y="188727"/>
                    <a:pt x="34453" y="187712"/>
                    <a:pt x="36280" y="186156"/>
                  </a:cubicBezTo>
                  <a:cubicBezTo>
                    <a:pt x="39132" y="183727"/>
                    <a:pt x="37601" y="151829"/>
                    <a:pt x="37601" y="151829"/>
                  </a:cubicBezTo>
                  <a:lnTo>
                    <a:pt x="78634" y="152463"/>
                  </a:lnTo>
                  <a:cubicBezTo>
                    <a:pt x="78634" y="152463"/>
                    <a:pt x="77314" y="179977"/>
                    <a:pt x="79584" y="183093"/>
                  </a:cubicBezTo>
                  <a:cubicBezTo>
                    <a:pt x="81245" y="185332"/>
                    <a:pt x="93350" y="188052"/>
                    <a:pt x="99740" y="188052"/>
                  </a:cubicBezTo>
                  <a:cubicBezTo>
                    <a:pt x="102089" y="188052"/>
                    <a:pt x="103666" y="187684"/>
                    <a:pt x="103666" y="186790"/>
                  </a:cubicBezTo>
                  <a:cubicBezTo>
                    <a:pt x="103666" y="183515"/>
                    <a:pt x="95374" y="174907"/>
                    <a:pt x="95374" y="172056"/>
                  </a:cubicBezTo>
                  <a:cubicBezTo>
                    <a:pt x="95374" y="169204"/>
                    <a:pt x="110742" y="59782"/>
                    <a:pt x="111217" y="49642"/>
                  </a:cubicBezTo>
                  <a:cubicBezTo>
                    <a:pt x="111746" y="39503"/>
                    <a:pt x="119244" y="1"/>
                    <a:pt x="59411" y="1"/>
                  </a:cubicBez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Google Shape;2467;p43"/>
            <p:cNvSpPr/>
            <p:nvPr/>
          </p:nvSpPr>
          <p:spPr>
            <a:xfrm flipH="1" rot="10800000">
              <a:off x="1058760" y="3182400"/>
              <a:ext cx="590400" cy="336600"/>
            </a:xfrm>
            <a:custGeom>
              <a:avLst/>
              <a:gdLst/>
              <a:ahLst/>
              <a:rect l="l" t="t" r="r" b="b"/>
              <a:pathLst>
                <a:path w="56613" h="29416">
                  <a:moveTo>
                    <a:pt x="1" y="0"/>
                  </a:moveTo>
                  <a:cubicBezTo>
                    <a:pt x="1" y="0"/>
                    <a:pt x="1" y="29416"/>
                    <a:pt x="27673" y="29416"/>
                  </a:cubicBezTo>
                  <a:cubicBezTo>
                    <a:pt x="-10191" y="29416"/>
                    <a:pt x="-8923" y="0"/>
                    <a:pt x="-892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Google Shape;2469;p43"/>
            <p:cNvSpPr/>
            <p:nvPr/>
          </p:nvSpPr>
          <p:spPr>
            <a:xfrm flipH="1">
              <a:off x="1685160" y="2058840"/>
              <a:ext cx="347400" cy="574560"/>
            </a:xfrm>
            <a:custGeom>
              <a:avLst/>
              <a:gdLst/>
              <a:ahLst/>
              <a:rect l="l" t="t" r="r" b="b"/>
              <a:pathLst>
                <a:path w="33271" h="50245">
                  <a:moveTo>
                    <a:pt x="7805" y="1"/>
                  </a:moveTo>
                  <a:cubicBezTo>
                    <a:pt x="7262" y="1"/>
                    <a:pt x="6739" y="196"/>
                    <a:pt x="6232" y="603"/>
                  </a:cubicBezTo>
                  <a:cubicBezTo>
                    <a:pt x="2957" y="3138"/>
                    <a:pt x="0" y="12802"/>
                    <a:pt x="2905" y="25899"/>
                  </a:cubicBezTo>
                  <a:cubicBezTo>
                    <a:pt x="5651" y="-27543"/>
                    <a:pt x="13466" y="-15291"/>
                    <a:pt x="13466" y="-15291"/>
                  </a:cubicBezTo>
                  <a:cubicBezTo>
                    <a:pt x="13466" y="-15291"/>
                    <a:pt x="22708" y="-15608"/>
                    <a:pt x="27989" y="-20889"/>
                  </a:cubicBezTo>
                  <a:cubicBezTo>
                    <a:pt x="-32266" y="-26170"/>
                    <a:pt x="31263" y="27378"/>
                    <a:pt x="31263" y="27378"/>
                  </a:cubicBezTo>
                  <a:cubicBezTo>
                    <a:pt x="31263" y="27378"/>
                    <a:pt x="24081" y="23417"/>
                    <a:pt x="18959" y="14228"/>
                  </a:cubicBezTo>
                  <a:cubicBezTo>
                    <a:pt x="14198" y="5596"/>
                    <a:pt x="10711" y="1"/>
                    <a:pt x="7805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Google Shape;2470;p43"/>
            <p:cNvSpPr/>
            <p:nvPr/>
          </p:nvSpPr>
          <p:spPr>
            <a:xfrm flipH="1">
              <a:off x="697680" y="2054160"/>
              <a:ext cx="345960" cy="574560"/>
            </a:xfrm>
            <a:custGeom>
              <a:avLst/>
              <a:gdLst/>
              <a:ahLst/>
              <a:rect l="l" t="t" r="r" b="b"/>
              <a:pathLst>
                <a:path w="33271" h="50295">
                  <a:moveTo>
                    <a:pt x="25475" y="1"/>
                  </a:moveTo>
                  <a:cubicBezTo>
                    <a:pt x="22566" y="1"/>
                    <a:pt x="19078" y="5636"/>
                    <a:pt x="14312" y="14278"/>
                  </a:cubicBezTo>
                  <a:cubicBezTo>
                    <a:pt x="9189" y="23414"/>
                    <a:pt x="2007" y="27375"/>
                    <a:pt x="2007" y="27375"/>
                  </a:cubicBezTo>
                  <a:cubicBezTo>
                    <a:pt x="2007" y="27375"/>
                    <a:pt x="0" y="-26174"/>
                    <a:pt x="5281" y="-20893"/>
                  </a:cubicBezTo>
                  <a:cubicBezTo>
                    <a:pt x="10562" y="-15612"/>
                    <a:pt x="19804" y="-15242"/>
                    <a:pt x="19804" y="-15242"/>
                  </a:cubicBezTo>
                  <a:cubicBezTo>
                    <a:pt x="19804" y="-15242"/>
                    <a:pt x="27672" y="-27547"/>
                    <a:pt x="30366" y="25896"/>
                  </a:cubicBezTo>
                  <a:cubicBezTo>
                    <a:pt x="-32266" y="12852"/>
                    <a:pt x="30313" y="3188"/>
                    <a:pt x="27039" y="600"/>
                  </a:cubicBezTo>
                  <a:cubicBezTo>
                    <a:pt x="26534" y="195"/>
                    <a:pt x="26015" y="1"/>
                    <a:pt x="25475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Google Shape;2471;p43"/>
            <p:cNvSpPr/>
            <p:nvPr/>
          </p:nvSpPr>
          <p:spPr>
            <a:xfrm flipH="1">
              <a:off x="1436040" y="2818800"/>
              <a:ext cx="289800" cy="271440"/>
            </a:xfrm>
            <a:custGeom>
              <a:avLst/>
              <a:gdLst/>
              <a:ahLst/>
              <a:rect l="l" t="t" r="r" b="b"/>
              <a:pathLst>
                <a:path w="27764" h="23770">
                  <a:moveTo>
                    <a:pt x="15868" y="0"/>
                  </a:moveTo>
                  <a:cubicBezTo>
                    <a:pt x="5297" y="0"/>
                    <a:pt x="1" y="12743"/>
                    <a:pt x="7484" y="20226"/>
                  </a:cubicBezTo>
                  <a:cubicBezTo>
                    <a:pt x="9916" y="22675"/>
                    <a:pt x="12903" y="23769"/>
                    <a:pt x="15830" y="23769"/>
                  </a:cubicBezTo>
                  <a:cubicBezTo>
                    <a:pt x="21928" y="23769"/>
                    <a:pt x="27763" y="19019"/>
                    <a:pt x="27763" y="11882"/>
                  </a:cubicBezTo>
                  <a:cubicBezTo>
                    <a:pt x="27763" y="5334"/>
                    <a:pt x="22482" y="0"/>
                    <a:pt x="15934" y="0"/>
                  </a:cubicBezTo>
                  <a:cubicBezTo>
                    <a:pt x="15912" y="0"/>
                    <a:pt x="15890" y="0"/>
                    <a:pt x="15868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Google Shape;2472;p43"/>
            <p:cNvSpPr/>
            <p:nvPr/>
          </p:nvSpPr>
          <p:spPr>
            <a:xfrm flipH="1">
              <a:off x="1487880" y="2913480"/>
              <a:ext cx="68760" cy="64080"/>
            </a:xfrm>
            <a:custGeom>
              <a:avLst/>
              <a:gdLst/>
              <a:ahLst/>
              <a:rect l="l" t="t" r="r" b="b"/>
              <a:pathLst>
                <a:path w="6588" h="5611">
                  <a:moveTo>
                    <a:pt x="3877" y="1"/>
                  </a:moveTo>
                  <a:cubicBezTo>
                    <a:pt x="3847" y="1"/>
                    <a:pt x="3818" y="1"/>
                    <a:pt x="3788" y="2"/>
                  </a:cubicBezTo>
                  <a:cubicBezTo>
                    <a:pt x="3767" y="2"/>
                    <a:pt x="3745" y="2"/>
                    <a:pt x="3724" y="2"/>
                  </a:cubicBezTo>
                  <a:cubicBezTo>
                    <a:pt x="1232" y="2"/>
                    <a:pt x="1" y="3027"/>
                    <a:pt x="1729" y="4755"/>
                  </a:cubicBezTo>
                  <a:cubicBezTo>
                    <a:pt x="2318" y="5345"/>
                    <a:pt x="3045" y="5610"/>
                    <a:pt x="3755" y="5610"/>
                  </a:cubicBezTo>
                  <a:cubicBezTo>
                    <a:pt x="5206" y="5610"/>
                    <a:pt x="6587" y="4503"/>
                    <a:pt x="6587" y="2801"/>
                  </a:cubicBezTo>
                  <a:cubicBezTo>
                    <a:pt x="6587" y="1300"/>
                    <a:pt x="5368" y="1"/>
                    <a:pt x="3877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7000" bIns="-2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Google Shape;2473;p43"/>
            <p:cNvSpPr/>
            <p:nvPr/>
          </p:nvSpPr>
          <p:spPr>
            <a:xfrm flipH="1">
              <a:off x="1016280" y="2818800"/>
              <a:ext cx="289800" cy="271440"/>
            </a:xfrm>
            <a:custGeom>
              <a:avLst/>
              <a:gdLst/>
              <a:ahLst/>
              <a:rect l="l" t="t" r="r" b="b"/>
              <a:pathLst>
                <a:path w="27779" h="23763">
                  <a:moveTo>
                    <a:pt x="15896" y="0"/>
                  </a:moveTo>
                  <a:cubicBezTo>
                    <a:pt x="5281" y="0"/>
                    <a:pt x="0" y="12780"/>
                    <a:pt x="7499" y="20279"/>
                  </a:cubicBezTo>
                  <a:cubicBezTo>
                    <a:pt x="9905" y="22685"/>
                    <a:pt x="12873" y="23762"/>
                    <a:pt x="15788" y="23762"/>
                  </a:cubicBezTo>
                  <a:cubicBezTo>
                    <a:pt x="21898" y="23762"/>
                    <a:pt x="27778" y="19032"/>
                    <a:pt x="27778" y="11882"/>
                  </a:cubicBezTo>
                  <a:cubicBezTo>
                    <a:pt x="27778" y="5281"/>
                    <a:pt x="22445" y="0"/>
                    <a:pt x="15896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Google Shape;2474;p43"/>
            <p:cNvSpPr/>
            <p:nvPr/>
          </p:nvSpPr>
          <p:spPr>
            <a:xfrm flipH="1">
              <a:off x="1139760" y="2923200"/>
              <a:ext cx="68760" cy="64440"/>
            </a:xfrm>
            <a:custGeom>
              <a:avLst/>
              <a:gdLst/>
              <a:ahLst/>
              <a:rect l="l" t="t" r="r" b="b"/>
              <a:pathLst>
                <a:path w="6602" h="5648">
                  <a:moveTo>
                    <a:pt x="3803" y="0"/>
                  </a:moveTo>
                  <a:cubicBezTo>
                    <a:pt x="1268" y="0"/>
                    <a:pt x="1" y="3011"/>
                    <a:pt x="1796" y="4806"/>
                  </a:cubicBezTo>
                  <a:cubicBezTo>
                    <a:pt x="2361" y="5388"/>
                    <a:pt x="3063" y="5648"/>
                    <a:pt x="3756" y="5648"/>
                  </a:cubicBezTo>
                  <a:cubicBezTo>
                    <a:pt x="5202" y="5648"/>
                    <a:pt x="6602" y="4513"/>
                    <a:pt x="6602" y="2799"/>
                  </a:cubicBezTo>
                  <a:cubicBezTo>
                    <a:pt x="6602" y="1268"/>
                    <a:pt x="5335" y="0"/>
                    <a:pt x="3803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6640" bIns="-26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Google Shape;2475;p43"/>
            <p:cNvSpPr/>
            <p:nvPr/>
          </p:nvSpPr>
          <p:spPr>
            <a:xfrm flipH="1">
              <a:off x="1257480" y="2599560"/>
              <a:ext cx="209520" cy="196200"/>
            </a:xfrm>
            <a:custGeom>
              <a:avLst/>
              <a:gdLst/>
              <a:ahLst/>
              <a:rect l="l" t="t" r="r" b="b"/>
              <a:pathLst>
                <a:path w="20069" h="17178">
                  <a:moveTo>
                    <a:pt x="11460" y="0"/>
                  </a:moveTo>
                  <a:cubicBezTo>
                    <a:pt x="3803" y="0"/>
                    <a:pt x="1" y="9242"/>
                    <a:pt x="5387" y="14629"/>
                  </a:cubicBezTo>
                  <a:cubicBezTo>
                    <a:pt x="7132" y="16390"/>
                    <a:pt x="9287" y="17177"/>
                    <a:pt x="11403" y="17177"/>
                  </a:cubicBezTo>
                  <a:cubicBezTo>
                    <a:pt x="15820" y="17177"/>
                    <a:pt x="20068" y="13750"/>
                    <a:pt x="20068" y="8608"/>
                  </a:cubicBezTo>
                  <a:cubicBezTo>
                    <a:pt x="20068" y="3855"/>
                    <a:pt x="16213" y="0"/>
                    <a:pt x="11460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Google Shape;2476;p43"/>
            <p:cNvSpPr/>
            <p:nvPr/>
          </p:nvSpPr>
          <p:spPr>
            <a:xfrm flipH="1">
              <a:off x="1330200" y="2673360"/>
              <a:ext cx="50040" cy="46800"/>
            </a:xfrm>
            <a:custGeom>
              <a:avLst/>
              <a:gdLst/>
              <a:ahLst/>
              <a:rect l="l" t="t" r="r" b="b"/>
              <a:pathLst>
                <a:path w="4807" h="4114">
                  <a:moveTo>
                    <a:pt x="2747" y="0"/>
                  </a:moveTo>
                  <a:cubicBezTo>
                    <a:pt x="952" y="0"/>
                    <a:pt x="1" y="2218"/>
                    <a:pt x="1321" y="3486"/>
                  </a:cubicBezTo>
                  <a:cubicBezTo>
                    <a:pt x="1737" y="3919"/>
                    <a:pt x="2256" y="4113"/>
                    <a:pt x="2765" y="4113"/>
                  </a:cubicBezTo>
                  <a:cubicBezTo>
                    <a:pt x="3806" y="4113"/>
                    <a:pt x="4807" y="3301"/>
                    <a:pt x="4807" y="2060"/>
                  </a:cubicBezTo>
                  <a:cubicBezTo>
                    <a:pt x="4807" y="951"/>
                    <a:pt x="3856" y="0"/>
                    <a:pt x="2747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4280" bIns="-44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Google Shape;2330;p40"/>
          <p:cNvGrpSpPr/>
          <p:nvPr/>
        </p:nvGrpSpPr>
        <p:grpSpPr>
          <a:xfrm>
            <a:off x="725400" y="542880"/>
            <a:ext cx="7693200" cy="566640"/>
            <a:chOff x="725400" y="542880"/>
            <a:chExt cx="7693200" cy="566640"/>
          </a:xfrm>
        </p:grpSpPr>
        <p:pic>
          <p:nvPicPr>
            <p:cNvPr id="1456" name="Google Shape;2330;p40" descr=""/>
            <p:cNvPicPr/>
            <p:nvPr/>
          </p:nvPicPr>
          <p:blipFill>
            <a:blip r:embed="rId1"/>
            <a:stretch/>
          </p:blipFill>
          <p:spPr>
            <a:xfrm>
              <a:off x="737640" y="545760"/>
              <a:ext cx="7668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7" name=""/>
            <p:cNvSpPr/>
            <p:nvPr/>
          </p:nvSpPr>
          <p:spPr>
            <a:xfrm>
              <a:off x="725400" y="542880"/>
              <a:ext cx="769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85520" y="565200"/>
            <a:ext cx="610884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5f1e6"/>
                </a:solidFill>
                <a:latin typeface="Sriracha"/>
                <a:ea typeface="Sriracha"/>
              </a:rPr>
              <a:t>2. ¿Cuántos cubitos habrán aquí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oogle Shape;2340;p40"/>
          <p:cNvGrpSpPr/>
          <p:nvPr/>
        </p:nvGrpSpPr>
        <p:grpSpPr>
          <a:xfrm>
            <a:off x="7624800" y="98280"/>
            <a:ext cx="1579680" cy="1443960"/>
            <a:chOff x="7624800" y="98280"/>
            <a:chExt cx="1579680" cy="1443960"/>
          </a:xfrm>
        </p:grpSpPr>
        <p:grpSp>
          <p:nvGrpSpPr>
            <p:cNvPr id="1460" name="Google Shape;2341;p40"/>
            <p:cNvGrpSpPr/>
            <p:nvPr/>
          </p:nvGrpSpPr>
          <p:grpSpPr>
            <a:xfrm>
              <a:off x="7828200" y="98280"/>
              <a:ext cx="1239120" cy="1201320"/>
              <a:chOff x="7828200" y="98280"/>
              <a:chExt cx="1239120" cy="1201320"/>
            </a:xfrm>
          </p:grpSpPr>
          <p:sp>
            <p:nvSpPr>
              <p:cNvPr id="1461" name="Google Shape;2342;p40"/>
              <p:cNvSpPr/>
              <p:nvPr/>
            </p:nvSpPr>
            <p:spPr>
              <a:xfrm>
                <a:off x="7850880" y="98280"/>
                <a:ext cx="1216440" cy="1201320"/>
              </a:xfrm>
              <a:custGeom>
                <a:avLst/>
                <a:gdLst/>
                <a:ahLst/>
                <a:rect l="l" t="t" r="r" b="b"/>
                <a:pathLst>
                  <a:path w="21608" h="25273">
                    <a:moveTo>
                      <a:pt x="6573" y="1"/>
                    </a:moveTo>
                    <a:lnTo>
                      <a:pt x="0" y="20416"/>
                    </a:lnTo>
                    <a:lnTo>
                      <a:pt x="15035" y="25272"/>
                    </a:lnTo>
                    <a:lnTo>
                      <a:pt x="21608" y="4857"/>
                    </a:lnTo>
                    <a:lnTo>
                      <a:pt x="6573" y="1"/>
                    </a:lnTo>
                    <a:close/>
                  </a:path>
                </a:pathLst>
              </a:custGeom>
              <a:solidFill>
                <a:srgbClr val="837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Google Shape;2343;p40"/>
              <p:cNvSpPr/>
              <p:nvPr/>
            </p:nvSpPr>
            <p:spPr>
              <a:xfrm>
                <a:off x="8231040" y="341640"/>
                <a:ext cx="627120" cy="270720"/>
              </a:xfrm>
              <a:custGeom>
                <a:avLst/>
                <a:gdLst/>
                <a:ahLst/>
                <a:rect l="l" t="t" r="r" b="b"/>
                <a:pathLst>
                  <a:path w="11139" h="5700">
                    <a:moveTo>
                      <a:pt x="756" y="0"/>
                    </a:moveTo>
                    <a:lnTo>
                      <a:pt x="0" y="2385"/>
                    </a:lnTo>
                    <a:lnTo>
                      <a:pt x="10353" y="5700"/>
                    </a:lnTo>
                    <a:lnTo>
                      <a:pt x="11138" y="3344"/>
                    </a:lnTo>
                    <a:lnTo>
                      <a:pt x="756" y="0"/>
                    </a:ln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Google Shape;2344;p40"/>
              <p:cNvSpPr/>
              <p:nvPr/>
            </p:nvSpPr>
            <p:spPr>
              <a:xfrm>
                <a:off x="8124480" y="20916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5">
                    <a:moveTo>
                      <a:pt x="358" y="0"/>
                    </a:moveTo>
                    <a:cubicBezTo>
                      <a:pt x="224" y="0"/>
                      <a:pt x="105" y="84"/>
                      <a:pt x="59" y="222"/>
                    </a:cubicBezTo>
                    <a:cubicBezTo>
                      <a:pt x="1" y="396"/>
                      <a:pt x="88" y="600"/>
                      <a:pt x="263" y="658"/>
                    </a:cubicBezTo>
                    <a:lnTo>
                      <a:pt x="1193" y="949"/>
                    </a:lnTo>
                    <a:cubicBezTo>
                      <a:pt x="1224" y="959"/>
                      <a:pt x="1255" y="964"/>
                      <a:pt x="1285" y="964"/>
                    </a:cubicBezTo>
                    <a:cubicBezTo>
                      <a:pt x="1426" y="964"/>
                      <a:pt x="1553" y="860"/>
                      <a:pt x="1600" y="716"/>
                    </a:cubicBezTo>
                    <a:cubicBezTo>
                      <a:pt x="1659" y="542"/>
                      <a:pt x="1542" y="367"/>
                      <a:pt x="1397" y="309"/>
                    </a:cubicBezTo>
                    <a:lnTo>
                      <a:pt x="466" y="18"/>
                    </a:lnTo>
                    <a:cubicBezTo>
                      <a:pt x="430" y="6"/>
                      <a:pt x="393" y="0"/>
                      <a:pt x="358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Google Shape;2345;p40"/>
              <p:cNvSpPr/>
              <p:nvPr/>
            </p:nvSpPr>
            <p:spPr>
              <a:xfrm>
                <a:off x="8152200" y="138600"/>
                <a:ext cx="91440" cy="45720"/>
              </a:xfrm>
              <a:custGeom>
                <a:avLst/>
                <a:gdLst/>
                <a:ahLst/>
                <a:rect l="l" t="t" r="r" b="b"/>
                <a:pathLst>
                  <a:path w="1629" h="964">
                    <a:moveTo>
                      <a:pt x="354" y="0"/>
                    </a:moveTo>
                    <a:cubicBezTo>
                      <a:pt x="214" y="0"/>
                      <a:pt x="81" y="84"/>
                      <a:pt x="58" y="222"/>
                    </a:cubicBezTo>
                    <a:cubicBezTo>
                      <a:pt x="0" y="396"/>
                      <a:pt x="88" y="600"/>
                      <a:pt x="262" y="658"/>
                    </a:cubicBezTo>
                    <a:lnTo>
                      <a:pt x="1164" y="949"/>
                    </a:lnTo>
                    <a:cubicBezTo>
                      <a:pt x="1194" y="959"/>
                      <a:pt x="1225" y="964"/>
                      <a:pt x="1256" y="964"/>
                    </a:cubicBezTo>
                    <a:cubicBezTo>
                      <a:pt x="1396" y="964"/>
                      <a:pt x="1523" y="860"/>
                      <a:pt x="1571" y="716"/>
                    </a:cubicBezTo>
                    <a:cubicBezTo>
                      <a:pt x="1629" y="542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2" y="0"/>
                      <a:pt x="35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Google Shape;2346;p40"/>
              <p:cNvSpPr/>
              <p:nvPr/>
            </p:nvSpPr>
            <p:spPr>
              <a:xfrm>
                <a:off x="8098200" y="279720"/>
                <a:ext cx="91800" cy="45360"/>
              </a:xfrm>
              <a:custGeom>
                <a:avLst/>
                <a:gdLst/>
                <a:ahLst/>
                <a:rect l="l" t="t" r="r" b="b"/>
                <a:pathLst>
                  <a:path w="1630" h="955">
                    <a:moveTo>
                      <a:pt x="358" y="1"/>
                    </a:moveTo>
                    <a:cubicBezTo>
                      <a:pt x="224" y="1"/>
                      <a:pt x="105" y="84"/>
                      <a:pt x="59" y="222"/>
                    </a:cubicBezTo>
                    <a:cubicBezTo>
                      <a:pt x="1" y="397"/>
                      <a:pt x="88" y="600"/>
                      <a:pt x="262" y="658"/>
                    </a:cubicBezTo>
                    <a:lnTo>
                      <a:pt x="1164" y="949"/>
                    </a:lnTo>
                    <a:cubicBezTo>
                      <a:pt x="1186" y="953"/>
                      <a:pt x="1208" y="955"/>
                      <a:pt x="1230" y="955"/>
                    </a:cubicBezTo>
                    <a:cubicBezTo>
                      <a:pt x="1381" y="955"/>
                      <a:pt x="1520" y="869"/>
                      <a:pt x="1571" y="716"/>
                    </a:cubicBezTo>
                    <a:cubicBezTo>
                      <a:pt x="1629" y="542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30" y="6"/>
                      <a:pt x="393" y="1"/>
                      <a:pt x="358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720" bIns="-45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Google Shape;2347;p40"/>
              <p:cNvSpPr/>
              <p:nvPr/>
            </p:nvSpPr>
            <p:spPr>
              <a:xfrm>
                <a:off x="8070480" y="350280"/>
                <a:ext cx="93240" cy="45360"/>
              </a:xfrm>
              <a:custGeom>
                <a:avLst/>
                <a:gdLst/>
                <a:ahLst/>
                <a:rect l="l" t="t" r="r" b="b"/>
                <a:pathLst>
                  <a:path w="1658" h="955">
                    <a:moveTo>
                      <a:pt x="383" y="1"/>
                    </a:moveTo>
                    <a:cubicBezTo>
                      <a:pt x="242" y="1"/>
                      <a:pt x="104" y="84"/>
                      <a:pt x="58" y="222"/>
                    </a:cubicBezTo>
                    <a:cubicBezTo>
                      <a:pt x="0" y="397"/>
                      <a:pt x="117" y="571"/>
                      <a:pt x="291" y="658"/>
                    </a:cubicBezTo>
                    <a:lnTo>
                      <a:pt x="1193" y="949"/>
                    </a:lnTo>
                    <a:cubicBezTo>
                      <a:pt x="1215" y="953"/>
                      <a:pt x="1237" y="955"/>
                      <a:pt x="1259" y="955"/>
                    </a:cubicBezTo>
                    <a:cubicBezTo>
                      <a:pt x="1410" y="955"/>
                      <a:pt x="1549" y="869"/>
                      <a:pt x="1600" y="717"/>
                    </a:cubicBezTo>
                    <a:cubicBezTo>
                      <a:pt x="1658" y="542"/>
                      <a:pt x="1571" y="368"/>
                      <a:pt x="1396" y="309"/>
                    </a:cubicBezTo>
                    <a:lnTo>
                      <a:pt x="495" y="19"/>
                    </a:lnTo>
                    <a:cubicBezTo>
                      <a:pt x="458" y="6"/>
                      <a:pt x="421" y="1"/>
                      <a:pt x="383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720" bIns="-45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Google Shape;2348;p40"/>
              <p:cNvSpPr/>
              <p:nvPr/>
            </p:nvSpPr>
            <p:spPr>
              <a:xfrm>
                <a:off x="8044200" y="420840"/>
                <a:ext cx="93240" cy="44640"/>
              </a:xfrm>
              <a:custGeom>
                <a:avLst/>
                <a:gdLst/>
                <a:ahLst/>
                <a:rect l="l" t="t" r="r" b="b"/>
                <a:pathLst>
                  <a:path w="1659" h="939">
                    <a:moveTo>
                      <a:pt x="358" y="1"/>
                    </a:moveTo>
                    <a:cubicBezTo>
                      <a:pt x="224" y="1"/>
                      <a:pt x="105" y="84"/>
                      <a:pt x="59" y="222"/>
                    </a:cubicBezTo>
                    <a:cubicBezTo>
                      <a:pt x="1" y="397"/>
                      <a:pt x="117" y="571"/>
                      <a:pt x="292" y="629"/>
                    </a:cubicBezTo>
                    <a:lnTo>
                      <a:pt x="1193" y="920"/>
                    </a:lnTo>
                    <a:cubicBezTo>
                      <a:pt x="1230" y="932"/>
                      <a:pt x="1266" y="938"/>
                      <a:pt x="1301" y="938"/>
                    </a:cubicBezTo>
                    <a:cubicBezTo>
                      <a:pt x="1436" y="938"/>
                      <a:pt x="1554" y="855"/>
                      <a:pt x="1600" y="717"/>
                    </a:cubicBezTo>
                    <a:cubicBezTo>
                      <a:pt x="1659" y="542"/>
                      <a:pt x="1571" y="368"/>
                      <a:pt x="1397" y="310"/>
                    </a:cubicBezTo>
                    <a:lnTo>
                      <a:pt x="466" y="19"/>
                    </a:lnTo>
                    <a:cubicBezTo>
                      <a:pt x="430" y="7"/>
                      <a:pt x="393" y="1"/>
                      <a:pt x="358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440" bIns="-464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Google Shape;2349;p40"/>
              <p:cNvSpPr/>
              <p:nvPr/>
            </p:nvSpPr>
            <p:spPr>
              <a:xfrm>
                <a:off x="8016480" y="491400"/>
                <a:ext cx="93240" cy="44640"/>
              </a:xfrm>
              <a:custGeom>
                <a:avLst/>
                <a:gdLst/>
                <a:ahLst/>
                <a:rect l="l" t="t" r="r" b="b"/>
                <a:pathLst>
                  <a:path w="1659" h="939">
                    <a:moveTo>
                      <a:pt x="384" y="1"/>
                    </a:moveTo>
                    <a:cubicBezTo>
                      <a:pt x="242" y="1"/>
                      <a:pt x="105" y="84"/>
                      <a:pt x="59" y="222"/>
                    </a:cubicBezTo>
                    <a:cubicBezTo>
                      <a:pt x="1" y="397"/>
                      <a:pt x="117" y="571"/>
                      <a:pt x="291" y="630"/>
                    </a:cubicBezTo>
                    <a:lnTo>
                      <a:pt x="1193" y="920"/>
                    </a:lnTo>
                    <a:cubicBezTo>
                      <a:pt x="1229" y="932"/>
                      <a:pt x="1266" y="938"/>
                      <a:pt x="1301" y="938"/>
                    </a:cubicBezTo>
                    <a:cubicBezTo>
                      <a:pt x="1435" y="938"/>
                      <a:pt x="1554" y="855"/>
                      <a:pt x="1600" y="717"/>
                    </a:cubicBezTo>
                    <a:cubicBezTo>
                      <a:pt x="1658" y="542"/>
                      <a:pt x="1571" y="368"/>
                      <a:pt x="1396" y="310"/>
                    </a:cubicBezTo>
                    <a:lnTo>
                      <a:pt x="495" y="19"/>
                    </a:lnTo>
                    <a:cubicBezTo>
                      <a:pt x="459" y="7"/>
                      <a:pt x="421" y="1"/>
                      <a:pt x="384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440" bIns="-4644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Google Shape;2350;p40"/>
              <p:cNvSpPr/>
              <p:nvPr/>
            </p:nvSpPr>
            <p:spPr>
              <a:xfrm>
                <a:off x="7990200" y="561960"/>
                <a:ext cx="93240" cy="44280"/>
              </a:xfrm>
              <a:custGeom>
                <a:avLst/>
                <a:gdLst/>
                <a:ahLst/>
                <a:rect l="l" t="t" r="r" b="b"/>
                <a:pathLst>
                  <a:path w="1658" h="938">
                    <a:moveTo>
                      <a:pt x="357" y="0"/>
                    </a:moveTo>
                    <a:cubicBezTo>
                      <a:pt x="223" y="0"/>
                      <a:pt x="104" y="83"/>
                      <a:pt x="58" y="222"/>
                    </a:cubicBezTo>
                    <a:cubicBezTo>
                      <a:pt x="0" y="396"/>
                      <a:pt x="88" y="571"/>
                      <a:pt x="262" y="629"/>
                    </a:cubicBezTo>
                    <a:lnTo>
                      <a:pt x="1164" y="919"/>
                    </a:lnTo>
                    <a:cubicBezTo>
                      <a:pt x="1200" y="932"/>
                      <a:pt x="1238" y="937"/>
                      <a:pt x="1275" y="937"/>
                    </a:cubicBezTo>
                    <a:cubicBezTo>
                      <a:pt x="1417" y="937"/>
                      <a:pt x="1554" y="854"/>
                      <a:pt x="1600" y="716"/>
                    </a:cubicBezTo>
                    <a:cubicBezTo>
                      <a:pt x="1658" y="541"/>
                      <a:pt x="1542" y="367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3" y="0"/>
                      <a:pt x="357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Google Shape;2351;p40"/>
              <p:cNvSpPr/>
              <p:nvPr/>
            </p:nvSpPr>
            <p:spPr>
              <a:xfrm>
                <a:off x="7962120" y="632520"/>
                <a:ext cx="93240" cy="44280"/>
              </a:xfrm>
              <a:custGeom>
                <a:avLst/>
                <a:gdLst/>
                <a:ahLst/>
                <a:rect l="l" t="t" r="r" b="b"/>
                <a:pathLst>
                  <a:path w="1659" h="938">
                    <a:moveTo>
                      <a:pt x="358" y="0"/>
                    </a:moveTo>
                    <a:cubicBezTo>
                      <a:pt x="224" y="0"/>
                      <a:pt x="105" y="84"/>
                      <a:pt x="59" y="222"/>
                    </a:cubicBezTo>
                    <a:cubicBezTo>
                      <a:pt x="1" y="396"/>
                      <a:pt x="117" y="571"/>
                      <a:pt x="292" y="629"/>
                    </a:cubicBezTo>
                    <a:lnTo>
                      <a:pt x="1193" y="920"/>
                    </a:lnTo>
                    <a:cubicBezTo>
                      <a:pt x="1230" y="932"/>
                      <a:pt x="1266" y="938"/>
                      <a:pt x="1301" y="938"/>
                    </a:cubicBezTo>
                    <a:cubicBezTo>
                      <a:pt x="1435" y="938"/>
                      <a:pt x="1554" y="854"/>
                      <a:pt x="1600" y="716"/>
                    </a:cubicBezTo>
                    <a:cubicBezTo>
                      <a:pt x="1659" y="542"/>
                      <a:pt x="1542" y="367"/>
                      <a:pt x="1397" y="309"/>
                    </a:cubicBezTo>
                    <a:lnTo>
                      <a:pt x="466" y="18"/>
                    </a:lnTo>
                    <a:cubicBezTo>
                      <a:pt x="430" y="6"/>
                      <a:pt x="393" y="0"/>
                      <a:pt x="358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Google Shape;2352;p40"/>
              <p:cNvSpPr/>
              <p:nvPr/>
            </p:nvSpPr>
            <p:spPr>
              <a:xfrm>
                <a:off x="7936200" y="70164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4">
                    <a:moveTo>
                      <a:pt x="374" y="0"/>
                    </a:moveTo>
                    <a:cubicBezTo>
                      <a:pt x="233" y="0"/>
                      <a:pt x="107" y="104"/>
                      <a:pt x="59" y="248"/>
                    </a:cubicBezTo>
                    <a:cubicBezTo>
                      <a:pt x="1" y="422"/>
                      <a:pt x="88" y="597"/>
                      <a:pt x="262" y="655"/>
                    </a:cubicBezTo>
                    <a:lnTo>
                      <a:pt x="1193" y="946"/>
                    </a:lnTo>
                    <a:cubicBezTo>
                      <a:pt x="1229" y="958"/>
                      <a:pt x="1266" y="964"/>
                      <a:pt x="1301" y="964"/>
                    </a:cubicBezTo>
                    <a:cubicBezTo>
                      <a:pt x="1435" y="964"/>
                      <a:pt x="1554" y="880"/>
                      <a:pt x="1600" y="742"/>
                    </a:cubicBezTo>
                    <a:cubicBezTo>
                      <a:pt x="1658" y="568"/>
                      <a:pt x="1542" y="364"/>
                      <a:pt x="1397" y="335"/>
                    </a:cubicBezTo>
                    <a:lnTo>
                      <a:pt x="466" y="15"/>
                    </a:lnTo>
                    <a:cubicBezTo>
                      <a:pt x="435" y="5"/>
                      <a:pt x="404" y="0"/>
                      <a:pt x="37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Google Shape;2353;p40"/>
              <p:cNvSpPr/>
              <p:nvPr/>
            </p:nvSpPr>
            <p:spPr>
              <a:xfrm>
                <a:off x="7909920" y="773640"/>
                <a:ext cx="91440" cy="44280"/>
              </a:xfrm>
              <a:custGeom>
                <a:avLst/>
                <a:gdLst/>
                <a:ahLst/>
                <a:rect l="l" t="t" r="r" b="b"/>
                <a:pathLst>
                  <a:path w="1629" h="938">
                    <a:moveTo>
                      <a:pt x="357" y="0"/>
                    </a:moveTo>
                    <a:cubicBezTo>
                      <a:pt x="223" y="0"/>
                      <a:pt x="105" y="84"/>
                      <a:pt x="58" y="222"/>
                    </a:cubicBezTo>
                    <a:cubicBezTo>
                      <a:pt x="0" y="396"/>
                      <a:pt x="88" y="571"/>
                      <a:pt x="262" y="629"/>
                    </a:cubicBezTo>
                    <a:lnTo>
                      <a:pt x="1164" y="920"/>
                    </a:lnTo>
                    <a:cubicBezTo>
                      <a:pt x="1200" y="932"/>
                      <a:pt x="1236" y="938"/>
                      <a:pt x="1272" y="938"/>
                    </a:cubicBezTo>
                    <a:cubicBezTo>
                      <a:pt x="1406" y="938"/>
                      <a:pt x="1525" y="854"/>
                      <a:pt x="1571" y="716"/>
                    </a:cubicBezTo>
                    <a:cubicBezTo>
                      <a:pt x="1629" y="542"/>
                      <a:pt x="1542" y="338"/>
                      <a:pt x="1367" y="309"/>
                    </a:cubicBezTo>
                    <a:lnTo>
                      <a:pt x="466" y="18"/>
                    </a:lnTo>
                    <a:cubicBezTo>
                      <a:pt x="429" y="6"/>
                      <a:pt x="393" y="0"/>
                      <a:pt x="357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Google Shape;2354;p40"/>
              <p:cNvSpPr/>
              <p:nvPr/>
            </p:nvSpPr>
            <p:spPr>
              <a:xfrm>
                <a:off x="7882200" y="84276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9" h="964">
                    <a:moveTo>
                      <a:pt x="401" y="0"/>
                    </a:moveTo>
                    <a:cubicBezTo>
                      <a:pt x="253" y="0"/>
                      <a:pt x="107" y="104"/>
                      <a:pt x="59" y="248"/>
                    </a:cubicBezTo>
                    <a:cubicBezTo>
                      <a:pt x="1" y="423"/>
                      <a:pt x="117" y="597"/>
                      <a:pt x="292" y="655"/>
                    </a:cubicBezTo>
                    <a:lnTo>
                      <a:pt x="1193" y="946"/>
                    </a:lnTo>
                    <a:cubicBezTo>
                      <a:pt x="1230" y="958"/>
                      <a:pt x="1266" y="964"/>
                      <a:pt x="1301" y="964"/>
                    </a:cubicBezTo>
                    <a:cubicBezTo>
                      <a:pt x="1436" y="964"/>
                      <a:pt x="1554" y="880"/>
                      <a:pt x="1600" y="742"/>
                    </a:cubicBezTo>
                    <a:cubicBezTo>
                      <a:pt x="1659" y="568"/>
                      <a:pt x="1571" y="364"/>
                      <a:pt x="1397" y="335"/>
                    </a:cubicBezTo>
                    <a:lnTo>
                      <a:pt x="495" y="15"/>
                    </a:lnTo>
                    <a:cubicBezTo>
                      <a:pt x="464" y="5"/>
                      <a:pt x="433" y="0"/>
                      <a:pt x="401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Google Shape;2355;p40"/>
              <p:cNvSpPr/>
              <p:nvPr/>
            </p:nvSpPr>
            <p:spPr>
              <a:xfrm>
                <a:off x="7855920" y="9133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1630" h="965">
                    <a:moveTo>
                      <a:pt x="374" y="0"/>
                    </a:moveTo>
                    <a:cubicBezTo>
                      <a:pt x="233" y="0"/>
                      <a:pt x="107" y="105"/>
                      <a:pt x="59" y="248"/>
                    </a:cubicBezTo>
                    <a:cubicBezTo>
                      <a:pt x="1" y="423"/>
                      <a:pt x="88" y="597"/>
                      <a:pt x="262" y="655"/>
                    </a:cubicBezTo>
                    <a:lnTo>
                      <a:pt x="1164" y="946"/>
                    </a:lnTo>
                    <a:cubicBezTo>
                      <a:pt x="1200" y="958"/>
                      <a:pt x="1238" y="964"/>
                      <a:pt x="1275" y="964"/>
                    </a:cubicBezTo>
                    <a:cubicBezTo>
                      <a:pt x="1417" y="964"/>
                      <a:pt x="1554" y="881"/>
                      <a:pt x="1600" y="743"/>
                    </a:cubicBezTo>
                    <a:cubicBezTo>
                      <a:pt x="1629" y="568"/>
                      <a:pt x="1542" y="365"/>
                      <a:pt x="1367" y="306"/>
                    </a:cubicBezTo>
                    <a:lnTo>
                      <a:pt x="466" y="16"/>
                    </a:lnTo>
                    <a:cubicBezTo>
                      <a:pt x="435" y="5"/>
                      <a:pt x="404" y="0"/>
                      <a:pt x="374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Google Shape;2356;p40"/>
              <p:cNvSpPr/>
              <p:nvPr/>
            </p:nvSpPr>
            <p:spPr>
              <a:xfrm>
                <a:off x="7828200" y="98388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1658" h="965">
                    <a:moveTo>
                      <a:pt x="400" y="1"/>
                    </a:moveTo>
                    <a:cubicBezTo>
                      <a:pt x="253" y="1"/>
                      <a:pt x="106" y="105"/>
                      <a:pt x="58" y="248"/>
                    </a:cubicBezTo>
                    <a:cubicBezTo>
                      <a:pt x="0" y="423"/>
                      <a:pt x="117" y="597"/>
                      <a:pt x="291" y="655"/>
                    </a:cubicBezTo>
                    <a:lnTo>
                      <a:pt x="1193" y="946"/>
                    </a:lnTo>
                    <a:cubicBezTo>
                      <a:pt x="1229" y="958"/>
                      <a:pt x="1265" y="964"/>
                      <a:pt x="1301" y="964"/>
                    </a:cubicBezTo>
                    <a:cubicBezTo>
                      <a:pt x="1435" y="964"/>
                      <a:pt x="1554" y="881"/>
                      <a:pt x="1600" y="743"/>
                    </a:cubicBezTo>
                    <a:cubicBezTo>
                      <a:pt x="1658" y="568"/>
                      <a:pt x="1571" y="365"/>
                      <a:pt x="1396" y="306"/>
                    </a:cubicBezTo>
                    <a:lnTo>
                      <a:pt x="495" y="16"/>
                    </a:lnTo>
                    <a:cubicBezTo>
                      <a:pt x="464" y="5"/>
                      <a:pt x="432" y="1"/>
                      <a:pt x="400" y="1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Google Shape;2357;p40"/>
            <p:cNvGrpSpPr/>
            <p:nvPr/>
          </p:nvGrpSpPr>
          <p:grpSpPr>
            <a:xfrm>
              <a:off x="7624800" y="839520"/>
              <a:ext cx="888120" cy="565560"/>
              <a:chOff x="7624800" y="839520"/>
              <a:chExt cx="888120" cy="565560"/>
            </a:xfrm>
          </p:grpSpPr>
          <p:sp>
            <p:nvSpPr>
              <p:cNvPr id="1477" name="Google Shape;2358;p40"/>
              <p:cNvSpPr/>
              <p:nvPr/>
            </p:nvSpPr>
            <p:spPr>
              <a:xfrm>
                <a:off x="7624800" y="839520"/>
                <a:ext cx="888120" cy="565560"/>
              </a:xfrm>
              <a:custGeom>
                <a:avLst/>
                <a:gdLst/>
                <a:ahLst/>
                <a:rect l="l" t="t" r="r" b="b"/>
                <a:pathLst>
                  <a:path w="24995" h="18843">
                    <a:moveTo>
                      <a:pt x="13665" y="3499"/>
                    </a:moveTo>
                    <a:cubicBezTo>
                      <a:pt x="15830" y="3499"/>
                      <a:pt x="18006" y="4554"/>
                      <a:pt x="19411" y="7093"/>
                    </a:cubicBezTo>
                    <a:lnTo>
                      <a:pt x="7487" y="13666"/>
                    </a:lnTo>
                    <a:cubicBezTo>
                      <a:pt x="4501" y="8266"/>
                      <a:pt x="9061" y="3499"/>
                      <a:pt x="13665" y="3499"/>
                    </a:cubicBezTo>
                    <a:close/>
                    <a:moveTo>
                      <a:pt x="13793" y="1"/>
                    </a:moveTo>
                    <a:cubicBezTo>
                      <a:pt x="6872" y="1"/>
                      <a:pt x="0" y="7191"/>
                      <a:pt x="4492" y="15323"/>
                    </a:cubicBezTo>
                    <a:lnTo>
                      <a:pt x="3591" y="15818"/>
                    </a:lnTo>
                    <a:lnTo>
                      <a:pt x="5248" y="18842"/>
                    </a:lnTo>
                    <a:lnTo>
                      <a:pt x="24994" y="7937"/>
                    </a:lnTo>
                    <a:lnTo>
                      <a:pt x="23308" y="4912"/>
                    </a:lnTo>
                    <a:lnTo>
                      <a:pt x="22406" y="5407"/>
                    </a:lnTo>
                    <a:cubicBezTo>
                      <a:pt x="20306" y="1587"/>
                      <a:pt x="17044" y="1"/>
                      <a:pt x="13793" y="1"/>
                    </a:cubicBezTo>
                    <a:close/>
                  </a:path>
                </a:pathLst>
              </a:custGeom>
              <a:solidFill>
                <a:srgbClr val="36a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Google Shape;2359;p40"/>
              <p:cNvSpPr/>
              <p:nvPr/>
            </p:nvSpPr>
            <p:spPr>
              <a:xfrm>
                <a:off x="7752240" y="123048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990" h="728">
                    <a:moveTo>
                      <a:pt x="844" y="0"/>
                    </a:moveTo>
                    <a:lnTo>
                      <a:pt x="1" y="262"/>
                    </a:lnTo>
                    <a:cubicBezTo>
                      <a:pt x="59" y="407"/>
                      <a:pt x="88" y="582"/>
                      <a:pt x="146" y="727"/>
                    </a:cubicBezTo>
                    <a:lnTo>
                      <a:pt x="989" y="436"/>
                    </a:lnTo>
                    <a:cubicBezTo>
                      <a:pt x="960" y="291"/>
                      <a:pt x="902" y="145"/>
                      <a:pt x="844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9480" bIns="-694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Google Shape;2360;p40"/>
              <p:cNvSpPr/>
              <p:nvPr/>
            </p:nvSpPr>
            <p:spPr>
              <a:xfrm>
                <a:off x="7735680" y="1174680"/>
                <a:ext cx="33840" cy="15480"/>
              </a:xfrm>
              <a:custGeom>
                <a:avLst/>
                <a:gdLst/>
                <a:ahLst/>
                <a:rect l="l" t="t" r="r" b="b"/>
                <a:pathLst>
                  <a:path w="960" h="525">
                    <a:moveTo>
                      <a:pt x="902" y="1"/>
                    </a:moveTo>
                    <a:lnTo>
                      <a:pt x="0" y="88"/>
                    </a:lnTo>
                    <a:cubicBezTo>
                      <a:pt x="0" y="233"/>
                      <a:pt x="29" y="379"/>
                      <a:pt x="58" y="524"/>
                    </a:cubicBezTo>
                    <a:lnTo>
                      <a:pt x="960" y="408"/>
                    </a:lnTo>
                    <a:cubicBezTo>
                      <a:pt x="931" y="263"/>
                      <a:pt x="902" y="117"/>
                      <a:pt x="902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5600" bIns="-756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Google Shape;2361;p40"/>
              <p:cNvSpPr/>
              <p:nvPr/>
            </p:nvSpPr>
            <p:spPr>
              <a:xfrm>
                <a:off x="7733520" y="1117800"/>
                <a:ext cx="32760" cy="13680"/>
              </a:xfrm>
              <a:custGeom>
                <a:avLst/>
                <a:gdLst/>
                <a:ahLst/>
                <a:rect l="l" t="t" r="r" b="b"/>
                <a:pathLst>
                  <a:path w="931" h="466">
                    <a:moveTo>
                      <a:pt x="29" y="1"/>
                    </a:moveTo>
                    <a:cubicBezTo>
                      <a:pt x="29" y="146"/>
                      <a:pt x="0" y="291"/>
                      <a:pt x="0" y="408"/>
                    </a:cubicBezTo>
                    <a:lnTo>
                      <a:pt x="902" y="466"/>
                    </a:lnTo>
                    <a:cubicBezTo>
                      <a:pt x="902" y="350"/>
                      <a:pt x="902" y="233"/>
                      <a:pt x="931" y="117"/>
                    </a:cubicBez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7400" bIns="-774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Google Shape;2362;p40"/>
              <p:cNvSpPr/>
              <p:nvPr/>
            </p:nvSpPr>
            <p:spPr>
              <a:xfrm>
                <a:off x="7743960" y="106272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990" h="612">
                    <a:moveTo>
                      <a:pt x="117" y="0"/>
                    </a:moveTo>
                    <a:cubicBezTo>
                      <a:pt x="59" y="117"/>
                      <a:pt x="30" y="262"/>
                      <a:pt x="1" y="379"/>
                    </a:cubicBezTo>
                    <a:lnTo>
                      <a:pt x="873" y="611"/>
                    </a:lnTo>
                    <a:cubicBezTo>
                      <a:pt x="902" y="495"/>
                      <a:pt x="932" y="379"/>
                      <a:pt x="990" y="233"/>
                    </a:cubicBez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72720" bIns="-727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Google Shape;2363;p40"/>
              <p:cNvSpPr/>
              <p:nvPr/>
            </p:nvSpPr>
            <p:spPr>
              <a:xfrm>
                <a:off x="7765560" y="10112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990" h="728">
                    <a:moveTo>
                      <a:pt x="175" y="1"/>
                    </a:moveTo>
                    <a:cubicBezTo>
                      <a:pt x="117" y="117"/>
                      <a:pt x="59" y="233"/>
                      <a:pt x="1" y="379"/>
                    </a:cubicBezTo>
                    <a:lnTo>
                      <a:pt x="844" y="728"/>
                    </a:lnTo>
                    <a:lnTo>
                      <a:pt x="989" y="408"/>
                    </a:lnTo>
                    <a:lnTo>
                      <a:pt x="175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9480" bIns="-694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Google Shape;2364;p40"/>
              <p:cNvSpPr/>
              <p:nvPr/>
            </p:nvSpPr>
            <p:spPr>
              <a:xfrm>
                <a:off x="7799760" y="965880"/>
                <a:ext cx="33840" cy="24120"/>
              </a:xfrm>
              <a:custGeom>
                <a:avLst/>
                <a:gdLst/>
                <a:ahLst/>
                <a:rect l="l" t="t" r="r" b="b"/>
                <a:pathLst>
                  <a:path w="961" h="815">
                    <a:moveTo>
                      <a:pt x="233" y="0"/>
                    </a:moveTo>
                    <a:cubicBezTo>
                      <a:pt x="146" y="88"/>
                      <a:pt x="58" y="204"/>
                      <a:pt x="0" y="320"/>
                    </a:cubicBezTo>
                    <a:lnTo>
                      <a:pt x="727" y="815"/>
                    </a:lnTo>
                    <a:lnTo>
                      <a:pt x="960" y="524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6960" bIns="-669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Google Shape;2365;p40"/>
              <p:cNvSpPr/>
              <p:nvPr/>
            </p:nvSpPr>
            <p:spPr>
              <a:xfrm>
                <a:off x="7842240" y="9255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03" h="903">
                    <a:moveTo>
                      <a:pt x="291" y="1"/>
                    </a:moveTo>
                    <a:lnTo>
                      <a:pt x="1" y="262"/>
                    </a:lnTo>
                    <a:lnTo>
                      <a:pt x="640" y="902"/>
                    </a:lnTo>
                    <a:lnTo>
                      <a:pt x="902" y="670"/>
                    </a:lnTo>
                    <a:cubicBezTo>
                      <a:pt x="699" y="437"/>
                      <a:pt x="495" y="233"/>
                      <a:pt x="291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4080" bIns="-64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Google Shape;2366;p40"/>
              <p:cNvSpPr/>
              <p:nvPr/>
            </p:nvSpPr>
            <p:spPr>
              <a:xfrm>
                <a:off x="7892640" y="8924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815" h="961">
                    <a:moveTo>
                      <a:pt x="321" y="1"/>
                    </a:moveTo>
                    <a:cubicBezTo>
                      <a:pt x="233" y="59"/>
                      <a:pt x="117" y="146"/>
                      <a:pt x="1" y="233"/>
                    </a:cubicBezTo>
                    <a:lnTo>
                      <a:pt x="524" y="960"/>
                    </a:lnTo>
                    <a:cubicBezTo>
                      <a:pt x="611" y="873"/>
                      <a:pt x="728" y="815"/>
                      <a:pt x="815" y="757"/>
                    </a:cubicBezTo>
                    <a:cubicBezTo>
                      <a:pt x="640" y="495"/>
                      <a:pt x="495" y="262"/>
                      <a:pt x="321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Google Shape;2367;p40"/>
              <p:cNvSpPr/>
              <p:nvPr/>
            </p:nvSpPr>
            <p:spPr>
              <a:xfrm>
                <a:off x="7949520" y="866520"/>
                <a:ext cx="24840" cy="29520"/>
              </a:xfrm>
              <a:custGeom>
                <a:avLst/>
                <a:gdLst/>
                <a:ahLst/>
                <a:rect l="l" t="t" r="r" b="b"/>
                <a:pathLst>
                  <a:path w="699" h="990">
                    <a:moveTo>
                      <a:pt x="349" y="0"/>
                    </a:moveTo>
                    <a:cubicBezTo>
                      <a:pt x="233" y="58"/>
                      <a:pt x="116" y="117"/>
                      <a:pt x="0" y="175"/>
                    </a:cubicBezTo>
                    <a:cubicBezTo>
                      <a:pt x="116" y="436"/>
                      <a:pt x="233" y="727"/>
                      <a:pt x="349" y="989"/>
                    </a:cubicBezTo>
                    <a:cubicBezTo>
                      <a:pt x="465" y="931"/>
                      <a:pt x="582" y="902"/>
                      <a:pt x="698" y="844"/>
                    </a:cubicBez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Google Shape;2368;p40"/>
              <p:cNvSpPr/>
              <p:nvPr/>
            </p:nvSpPr>
            <p:spPr>
              <a:xfrm>
                <a:off x="8011800" y="84888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583" h="990">
                    <a:moveTo>
                      <a:pt x="350" y="1"/>
                    </a:moveTo>
                    <a:lnTo>
                      <a:pt x="1" y="117"/>
                    </a:lnTo>
                    <a:cubicBezTo>
                      <a:pt x="59" y="408"/>
                      <a:pt x="146" y="699"/>
                      <a:pt x="205" y="989"/>
                    </a:cubicBezTo>
                    <a:lnTo>
                      <a:pt x="583" y="873"/>
                    </a:lnTo>
                    <a:cubicBezTo>
                      <a:pt x="466" y="582"/>
                      <a:pt x="408" y="291"/>
                      <a:pt x="35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Google Shape;2369;p40"/>
              <p:cNvSpPr/>
              <p:nvPr/>
            </p:nvSpPr>
            <p:spPr>
              <a:xfrm>
                <a:off x="8074800" y="840240"/>
                <a:ext cx="15480" cy="28800"/>
              </a:xfrm>
              <a:custGeom>
                <a:avLst/>
                <a:gdLst/>
                <a:ahLst/>
                <a:rect l="l" t="t" r="r" b="b"/>
                <a:pathLst>
                  <a:path w="438" h="961">
                    <a:moveTo>
                      <a:pt x="379" y="1"/>
                    </a:moveTo>
                    <a:cubicBezTo>
                      <a:pt x="263" y="1"/>
                      <a:pt x="117" y="30"/>
                      <a:pt x="1" y="59"/>
                    </a:cubicBezTo>
                    <a:cubicBezTo>
                      <a:pt x="1" y="350"/>
                      <a:pt x="30" y="641"/>
                      <a:pt x="59" y="960"/>
                    </a:cubicBezTo>
                    <a:lnTo>
                      <a:pt x="437" y="902"/>
                    </a:lnTo>
                    <a:cubicBezTo>
                      <a:pt x="408" y="612"/>
                      <a:pt x="408" y="321"/>
                      <a:pt x="37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Google Shape;2370;p40"/>
              <p:cNvSpPr/>
              <p:nvPr/>
            </p:nvSpPr>
            <p:spPr>
              <a:xfrm>
                <a:off x="8135640" y="840240"/>
                <a:ext cx="17280" cy="27720"/>
              </a:xfrm>
              <a:custGeom>
                <a:avLst/>
                <a:gdLst/>
                <a:ahLst/>
                <a:rect l="l" t="t" r="r" b="b"/>
                <a:pathLst>
                  <a:path w="496" h="932">
                    <a:moveTo>
                      <a:pt x="88" y="1"/>
                    </a:moveTo>
                    <a:cubicBezTo>
                      <a:pt x="59" y="321"/>
                      <a:pt x="30" y="612"/>
                      <a:pt x="1" y="902"/>
                    </a:cubicBezTo>
                    <a:lnTo>
                      <a:pt x="379" y="931"/>
                    </a:lnTo>
                    <a:cubicBezTo>
                      <a:pt x="408" y="641"/>
                      <a:pt x="466" y="350"/>
                      <a:pt x="495" y="30"/>
                    </a:cubicBez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3360" bIns="-63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Google Shape;2371;p40"/>
              <p:cNvSpPr/>
              <p:nvPr/>
            </p:nvSpPr>
            <p:spPr>
              <a:xfrm>
                <a:off x="8194680" y="84960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641" h="990">
                    <a:moveTo>
                      <a:pt x="262" y="1"/>
                    </a:moveTo>
                    <a:lnTo>
                      <a:pt x="0" y="873"/>
                    </a:lnTo>
                    <a:lnTo>
                      <a:pt x="378" y="989"/>
                    </a:lnTo>
                    <a:lnTo>
                      <a:pt x="640" y="117"/>
                    </a:lnTo>
                    <a:lnTo>
                      <a:pt x="262" y="1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Google Shape;2372;p40"/>
              <p:cNvSpPr/>
              <p:nvPr/>
            </p:nvSpPr>
            <p:spPr>
              <a:xfrm>
                <a:off x="8251560" y="869760"/>
                <a:ext cx="27720" cy="29520"/>
              </a:xfrm>
              <a:custGeom>
                <a:avLst/>
                <a:gdLst/>
                <a:ahLst/>
                <a:rect l="l" t="t" r="r" b="b"/>
                <a:pathLst>
                  <a:path w="786" h="990">
                    <a:moveTo>
                      <a:pt x="408" y="1"/>
                    </a:moveTo>
                    <a:lnTo>
                      <a:pt x="1" y="815"/>
                    </a:lnTo>
                    <a:lnTo>
                      <a:pt x="350" y="989"/>
                    </a:lnTo>
                    <a:lnTo>
                      <a:pt x="786" y="204"/>
                    </a:lnTo>
                    <a:cubicBezTo>
                      <a:pt x="641" y="117"/>
                      <a:pt x="524" y="59"/>
                      <a:pt x="408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Google Shape;2373;p40"/>
              <p:cNvSpPr/>
              <p:nvPr/>
            </p:nvSpPr>
            <p:spPr>
              <a:xfrm>
                <a:off x="8305200" y="902160"/>
                <a:ext cx="30960" cy="29520"/>
              </a:xfrm>
              <a:custGeom>
                <a:avLst/>
                <a:gdLst/>
                <a:ahLst/>
                <a:rect l="l" t="t" r="r" b="b"/>
                <a:pathLst>
                  <a:path w="874" h="990">
                    <a:moveTo>
                      <a:pt x="553" y="1"/>
                    </a:moveTo>
                    <a:lnTo>
                      <a:pt x="1" y="728"/>
                    </a:lnTo>
                    <a:lnTo>
                      <a:pt x="292" y="989"/>
                    </a:lnTo>
                    <a:lnTo>
                      <a:pt x="873" y="291"/>
                    </a:lnTo>
                    <a:cubicBezTo>
                      <a:pt x="757" y="175"/>
                      <a:pt x="641" y="88"/>
                      <a:pt x="553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1560" bIns="-615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Google Shape;2374;p40"/>
              <p:cNvSpPr/>
              <p:nvPr/>
            </p:nvSpPr>
            <p:spPr>
              <a:xfrm>
                <a:off x="8353800" y="946800"/>
                <a:ext cx="33840" cy="28800"/>
              </a:xfrm>
              <a:custGeom>
                <a:avLst/>
                <a:gdLst/>
                <a:ahLst/>
                <a:rect l="l" t="t" r="r" b="b"/>
                <a:pathLst>
                  <a:path w="961" h="961">
                    <a:moveTo>
                      <a:pt x="670" y="1"/>
                    </a:moveTo>
                    <a:lnTo>
                      <a:pt x="1" y="611"/>
                    </a:lnTo>
                    <a:cubicBezTo>
                      <a:pt x="88" y="728"/>
                      <a:pt x="175" y="844"/>
                      <a:pt x="262" y="960"/>
                    </a:cubicBezTo>
                    <a:lnTo>
                      <a:pt x="960" y="379"/>
                    </a:lnTo>
                    <a:cubicBezTo>
                      <a:pt x="873" y="262"/>
                      <a:pt x="757" y="146"/>
                      <a:pt x="670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62280" bIns="-62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Google Shape;2375;p40"/>
            <p:cNvGrpSpPr/>
            <p:nvPr/>
          </p:nvGrpSpPr>
          <p:grpSpPr>
            <a:xfrm>
              <a:off x="8411040" y="614520"/>
              <a:ext cx="793440" cy="927720"/>
              <a:chOff x="8411040" y="614520"/>
              <a:chExt cx="793440" cy="927720"/>
            </a:xfrm>
          </p:grpSpPr>
          <p:sp>
            <p:nvSpPr>
              <p:cNvPr id="1495" name="Google Shape;2376;p40"/>
              <p:cNvSpPr/>
              <p:nvPr/>
            </p:nvSpPr>
            <p:spPr>
              <a:xfrm flipH="1" rot="13886400">
                <a:off x="8433360" y="910440"/>
                <a:ext cx="746280" cy="418680"/>
              </a:xfrm>
              <a:custGeom>
                <a:avLst/>
                <a:gdLst/>
                <a:ahLst/>
                <a:rect l="l" t="t" r="r" b="b"/>
                <a:pathLst>
                  <a:path w="32659" h="18554">
                    <a:moveTo>
                      <a:pt x="30391" y="0"/>
                    </a:moveTo>
                    <a:lnTo>
                      <a:pt x="1" y="13406"/>
                    </a:lnTo>
                    <a:lnTo>
                      <a:pt x="2269" y="18554"/>
                    </a:lnTo>
                    <a:lnTo>
                      <a:pt x="32659" y="5147"/>
                    </a:lnTo>
                    <a:lnTo>
                      <a:pt x="30391" y="0"/>
                    </a:ln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Google Shape;2377;p40"/>
              <p:cNvSpPr/>
              <p:nvPr/>
            </p:nvSpPr>
            <p:spPr>
              <a:xfrm flipH="1" rot="13886400">
                <a:off x="8594640" y="655200"/>
                <a:ext cx="161640" cy="117360"/>
              </a:xfrm>
              <a:custGeom>
                <a:avLst/>
                <a:gdLst/>
                <a:ahLst/>
                <a:rect l="l" t="t" r="r" b="b"/>
                <a:pathLst>
                  <a:path w="7068" h="5206">
                    <a:moveTo>
                      <a:pt x="4799" y="0"/>
                    </a:moveTo>
                    <a:lnTo>
                      <a:pt x="1" y="5206"/>
                    </a:lnTo>
                    <a:lnTo>
                      <a:pt x="7067" y="5148"/>
                    </a:lnTo>
                    <a:lnTo>
                      <a:pt x="4799" y="0"/>
                    </a:ln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26280" bIns="262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Google Shape;2378;p40"/>
              <p:cNvSpPr/>
              <p:nvPr/>
            </p:nvSpPr>
            <p:spPr>
              <a:xfrm flipH="1" rot="13886400">
                <a:off x="8502120" y="940680"/>
                <a:ext cx="705600" cy="330120"/>
              </a:xfrm>
              <a:custGeom>
                <a:avLst/>
                <a:gdLst/>
                <a:ahLst/>
                <a:rect l="l" t="t" r="r" b="b"/>
                <a:pathLst>
                  <a:path w="30914" h="14570">
                    <a:moveTo>
                      <a:pt x="30390" y="0"/>
                    </a:moveTo>
                    <a:lnTo>
                      <a:pt x="1" y="13377"/>
                    </a:lnTo>
                    <a:lnTo>
                      <a:pt x="524" y="14570"/>
                    </a:lnTo>
                    <a:lnTo>
                      <a:pt x="30914" y="1192"/>
                    </a:lnTo>
                    <a:lnTo>
                      <a:pt x="30390" y="0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Google Shape;2379;p40"/>
              <p:cNvSpPr/>
              <p:nvPr/>
            </p:nvSpPr>
            <p:spPr>
              <a:xfrm flipH="1" rot="13886400">
                <a:off x="8453880" y="955800"/>
                <a:ext cx="705600" cy="327960"/>
              </a:xfrm>
              <a:custGeom>
                <a:avLst/>
                <a:gdLst/>
                <a:ahLst/>
                <a:rect l="l" t="t" r="r" b="b"/>
                <a:pathLst>
                  <a:path w="30885" h="14571">
                    <a:moveTo>
                      <a:pt x="30361" y="1"/>
                    </a:moveTo>
                    <a:lnTo>
                      <a:pt x="0" y="13378"/>
                    </a:lnTo>
                    <a:lnTo>
                      <a:pt x="524" y="14570"/>
                    </a:lnTo>
                    <a:lnTo>
                      <a:pt x="30884" y="1193"/>
                    </a:lnTo>
                    <a:lnTo>
                      <a:pt x="30361" y="1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Google Shape;2380;p40"/>
              <p:cNvSpPr/>
              <p:nvPr/>
            </p:nvSpPr>
            <p:spPr>
              <a:xfrm flipH="1" rot="13886400">
                <a:off x="8407080" y="967680"/>
                <a:ext cx="705600" cy="327960"/>
              </a:xfrm>
              <a:custGeom>
                <a:avLst/>
                <a:gdLst/>
                <a:ahLst/>
                <a:rect l="l" t="t" r="r" b="b"/>
                <a:pathLst>
                  <a:path w="30885" h="14570">
                    <a:moveTo>
                      <a:pt x="30361" y="0"/>
                    </a:moveTo>
                    <a:lnTo>
                      <a:pt x="1" y="13377"/>
                    </a:lnTo>
                    <a:lnTo>
                      <a:pt x="524" y="14570"/>
                    </a:lnTo>
                    <a:lnTo>
                      <a:pt x="30885" y="1192"/>
                    </a:lnTo>
                    <a:lnTo>
                      <a:pt x="30361" y="0"/>
                    </a:lnTo>
                    <a:close/>
                  </a:path>
                </a:pathLst>
              </a:custGeom>
              <a:solidFill>
                <a:srgbClr val="f8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Google Shape;2381;p40"/>
              <p:cNvSpPr/>
              <p:nvPr/>
            </p:nvSpPr>
            <p:spPr>
              <a:xfrm flipH="1" rot="13886400">
                <a:off x="8649360" y="62676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2037" h="1484">
                    <a:moveTo>
                      <a:pt x="1396" y="1"/>
                    </a:moveTo>
                    <a:lnTo>
                      <a:pt x="1" y="1484"/>
                    </a:lnTo>
                    <a:lnTo>
                      <a:pt x="2036" y="1455"/>
                    </a:lnTo>
                    <a:lnTo>
                      <a:pt x="1396" y="1"/>
                    </a:ln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57600" bIns="-576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1" name="Rectángulo: esquinas redondeadas 17"/>
          <p:cNvGrpSpPr/>
          <p:nvPr/>
        </p:nvGrpSpPr>
        <p:grpSpPr>
          <a:xfrm>
            <a:off x="1432080" y="3438360"/>
            <a:ext cx="2474640" cy="1030320"/>
            <a:chOff x="1432080" y="3438360"/>
            <a:chExt cx="2474640" cy="1030320"/>
          </a:xfrm>
        </p:grpSpPr>
        <p:pic>
          <p:nvPicPr>
            <p:cNvPr id="1502" name="Rectángulo: esquinas redondeadas 1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432080" y="343836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1538280" y="3510000"/>
              <a:ext cx="226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Rectángulo: esquinas redondeadas 74"/>
          <p:cNvGrpSpPr/>
          <p:nvPr/>
        </p:nvGrpSpPr>
        <p:grpSpPr>
          <a:xfrm>
            <a:off x="5151600" y="1938240"/>
            <a:ext cx="2474640" cy="1030320"/>
            <a:chOff x="5151600" y="1938240"/>
            <a:chExt cx="2474640" cy="1030320"/>
          </a:xfrm>
        </p:grpSpPr>
        <p:pic>
          <p:nvPicPr>
            <p:cNvPr id="1505" name="Rectángulo: esquinas redondeadas 7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51600" y="193824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259240" y="201600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PlaceHolder 2"/>
          <p:cNvSpPr>
            <a:spLocks noGrp="1"/>
          </p:cNvSpPr>
          <p:nvPr>
            <p:ph type="title"/>
          </p:nvPr>
        </p:nvSpPr>
        <p:spPr>
          <a:xfrm>
            <a:off x="5159520" y="2188800"/>
            <a:ext cx="2465280" cy="506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1 unidad y 2 unidades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Rectángulo: esquinas redondeadas 79"/>
          <p:cNvGrpSpPr/>
          <p:nvPr/>
        </p:nvGrpSpPr>
        <p:grpSpPr>
          <a:xfrm>
            <a:off x="1432080" y="1974960"/>
            <a:ext cx="2474640" cy="1030320"/>
            <a:chOff x="1432080" y="1974960"/>
            <a:chExt cx="2474640" cy="1030320"/>
          </a:xfrm>
        </p:grpSpPr>
        <p:pic>
          <p:nvPicPr>
            <p:cNvPr id="1509" name="Rectángulo: esquinas redondeadas 7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432080" y="1974960"/>
              <a:ext cx="247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0" name=""/>
            <p:cNvSpPr/>
            <p:nvPr/>
          </p:nvSpPr>
          <p:spPr>
            <a:xfrm>
              <a:off x="1538280" y="2049480"/>
              <a:ext cx="226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1" name="Rectángulo: esquinas redondeadas 80"/>
          <p:cNvGrpSpPr/>
          <p:nvPr/>
        </p:nvGrpSpPr>
        <p:grpSpPr>
          <a:xfrm>
            <a:off x="5181480" y="3438360"/>
            <a:ext cx="2475000" cy="1030320"/>
            <a:chOff x="5181480" y="3438360"/>
            <a:chExt cx="2475000" cy="1030320"/>
          </a:xfrm>
        </p:grpSpPr>
        <p:pic>
          <p:nvPicPr>
            <p:cNvPr id="1512" name="Rectángulo: esquinas redondeadas 8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181480" y="3438360"/>
              <a:ext cx="2475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3" name=""/>
            <p:cNvSpPr/>
            <p:nvPr/>
          </p:nvSpPr>
          <p:spPr>
            <a:xfrm>
              <a:off x="5286240" y="351000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4" name="Google Shape;2384;p40"/>
          <p:cNvSpPr/>
          <p:nvPr/>
        </p:nvSpPr>
        <p:spPr>
          <a:xfrm>
            <a:off x="1463760" y="3670200"/>
            <a:ext cx="2458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1 decena y 2 unidades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Google Shape;2384;p40"/>
          <p:cNvSpPr/>
          <p:nvPr/>
        </p:nvSpPr>
        <p:spPr>
          <a:xfrm>
            <a:off x="5214960" y="3678120"/>
            <a:ext cx="2440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1 decena y 2 decenas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Google Shape;2605;p49"/>
          <p:cNvSpPr/>
          <p:nvPr/>
        </p:nvSpPr>
        <p:spPr>
          <a:xfrm rot="3948600">
            <a:off x="1361520" y="510840"/>
            <a:ext cx="641520" cy="365040"/>
          </a:xfrm>
          <a:custGeom>
            <a:avLst/>
            <a:gdLst/>
            <a:ahLst/>
            <a:rect l="l" t="t" r="r" b="b"/>
            <a:pathLst>
              <a:path w="12826" h="7299">
                <a:moveTo>
                  <a:pt x="1932" y="0"/>
                </a:moveTo>
                <a:cubicBezTo>
                  <a:pt x="1420" y="0"/>
                  <a:pt x="801" y="234"/>
                  <a:pt x="407" y="1079"/>
                </a:cubicBezTo>
                <a:cubicBezTo>
                  <a:pt x="0" y="1865"/>
                  <a:pt x="378" y="2824"/>
                  <a:pt x="1193" y="3173"/>
                </a:cubicBezTo>
                <a:lnTo>
                  <a:pt x="9684" y="7099"/>
                </a:lnTo>
                <a:cubicBezTo>
                  <a:pt x="9983" y="7232"/>
                  <a:pt x="10302" y="7299"/>
                  <a:pt x="10622" y="7299"/>
                </a:cubicBezTo>
                <a:cubicBezTo>
                  <a:pt x="10863" y="7299"/>
                  <a:pt x="11105" y="7261"/>
                  <a:pt x="11342" y="7186"/>
                </a:cubicBezTo>
                <a:cubicBezTo>
                  <a:pt x="11865" y="6983"/>
                  <a:pt x="12302" y="6547"/>
                  <a:pt x="12534" y="6023"/>
                </a:cubicBezTo>
                <a:cubicBezTo>
                  <a:pt x="12796" y="5500"/>
                  <a:pt x="12825" y="4889"/>
                  <a:pt x="12651" y="4366"/>
                </a:cubicBezTo>
                <a:cubicBezTo>
                  <a:pt x="12418" y="3842"/>
                  <a:pt x="11982" y="3435"/>
                  <a:pt x="11487" y="3202"/>
                </a:cubicBezTo>
                <a:lnTo>
                  <a:pt x="4828" y="120"/>
                </a:lnTo>
                <a:lnTo>
                  <a:pt x="4624" y="527"/>
                </a:lnTo>
                <a:lnTo>
                  <a:pt x="11313" y="3609"/>
                </a:lnTo>
                <a:cubicBezTo>
                  <a:pt x="11720" y="3784"/>
                  <a:pt x="12040" y="4104"/>
                  <a:pt x="12243" y="4511"/>
                </a:cubicBezTo>
                <a:cubicBezTo>
                  <a:pt x="12389" y="4947"/>
                  <a:pt x="12331" y="5442"/>
                  <a:pt x="12127" y="5820"/>
                </a:cubicBezTo>
                <a:cubicBezTo>
                  <a:pt x="11953" y="6256"/>
                  <a:pt x="11604" y="6605"/>
                  <a:pt x="11197" y="6779"/>
                </a:cubicBezTo>
                <a:cubicBezTo>
                  <a:pt x="11022" y="6826"/>
                  <a:pt x="10843" y="6849"/>
                  <a:pt x="10663" y="6849"/>
                </a:cubicBezTo>
                <a:cubicBezTo>
                  <a:pt x="10393" y="6849"/>
                  <a:pt x="10121" y="6797"/>
                  <a:pt x="9859" y="6692"/>
                </a:cubicBezTo>
                <a:lnTo>
                  <a:pt x="1367" y="2795"/>
                </a:lnTo>
                <a:cubicBezTo>
                  <a:pt x="786" y="2533"/>
                  <a:pt x="524" y="1836"/>
                  <a:pt x="815" y="1254"/>
                </a:cubicBezTo>
                <a:cubicBezTo>
                  <a:pt x="1122" y="588"/>
                  <a:pt x="1570" y="443"/>
                  <a:pt x="1905" y="443"/>
                </a:cubicBezTo>
                <a:cubicBezTo>
                  <a:pt x="2140" y="443"/>
                  <a:pt x="2320" y="515"/>
                  <a:pt x="2356" y="527"/>
                </a:cubicBezTo>
                <a:lnTo>
                  <a:pt x="8288" y="3261"/>
                </a:lnTo>
                <a:cubicBezTo>
                  <a:pt x="8696" y="3406"/>
                  <a:pt x="8870" y="3871"/>
                  <a:pt x="8666" y="4278"/>
                </a:cubicBezTo>
                <a:cubicBezTo>
                  <a:pt x="8544" y="4598"/>
                  <a:pt x="8213" y="4793"/>
                  <a:pt x="7868" y="4793"/>
                </a:cubicBezTo>
                <a:cubicBezTo>
                  <a:pt x="7804" y="4793"/>
                  <a:pt x="7741" y="4786"/>
                  <a:pt x="7678" y="4773"/>
                </a:cubicBezTo>
                <a:lnTo>
                  <a:pt x="3577" y="2853"/>
                </a:lnTo>
                <a:lnTo>
                  <a:pt x="3374" y="3261"/>
                </a:lnTo>
                <a:lnTo>
                  <a:pt x="7532" y="5180"/>
                </a:lnTo>
                <a:cubicBezTo>
                  <a:pt x="7657" y="5221"/>
                  <a:pt x="7783" y="5241"/>
                  <a:pt x="7909" y="5241"/>
                </a:cubicBezTo>
                <a:cubicBezTo>
                  <a:pt x="8399" y="5241"/>
                  <a:pt x="8865" y="4939"/>
                  <a:pt x="9074" y="4453"/>
                </a:cubicBezTo>
                <a:cubicBezTo>
                  <a:pt x="9364" y="3842"/>
                  <a:pt x="9103" y="3115"/>
                  <a:pt x="8492" y="2853"/>
                </a:cubicBezTo>
                <a:lnTo>
                  <a:pt x="2559" y="120"/>
                </a:lnTo>
                <a:cubicBezTo>
                  <a:pt x="2399" y="54"/>
                  <a:pt x="2178" y="0"/>
                  <a:pt x="1932" y="0"/>
                </a:cubicBezTo>
                <a:close/>
              </a:path>
            </a:pathLst>
          </a:custGeom>
          <a:solidFill>
            <a:srgbClr val="ffd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3409920" y="1163520"/>
          <a:ext cx="2497320" cy="304920"/>
        </p:xfrm>
        <a:graphic>
          <a:graphicData uri="http://schemas.openxmlformats.org/drawingml/2006/table">
            <a:tbl>
              <a:tblPr/>
              <a:tblGrid>
                <a:gridCol w="249120"/>
                <a:gridCol w="250920"/>
                <a:gridCol w="249120"/>
                <a:gridCol w="249480"/>
                <a:gridCol w="250920"/>
                <a:gridCol w="249120"/>
                <a:gridCol w="249120"/>
                <a:gridCol w="249480"/>
                <a:gridCol w="250560"/>
                <a:gridCol w="2494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8" name=""/>
          <p:cNvGraphicFramePr/>
          <p:nvPr/>
        </p:nvGraphicFramePr>
        <p:xfrm>
          <a:off x="4383000" y="1636560"/>
          <a:ext cx="238320" cy="304920"/>
        </p:xfrm>
        <a:graphic>
          <a:graphicData uri="http://schemas.openxmlformats.org/drawingml/2006/table">
            <a:tbl>
              <a:tblPr/>
              <a:tblGrid>
                <a:gridCol w="23832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9" name=""/>
          <p:cNvGraphicFramePr/>
          <p:nvPr/>
        </p:nvGraphicFramePr>
        <p:xfrm>
          <a:off x="4748040" y="1647720"/>
          <a:ext cx="238320" cy="304920"/>
        </p:xfrm>
        <a:graphic>
          <a:graphicData uri="http://schemas.openxmlformats.org/drawingml/2006/table">
            <a:tbl>
              <a:tblPr/>
              <a:tblGrid>
                <a:gridCol w="23832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520" name="PlaceHolder 3"/>
          <p:cNvSpPr>
            <a:spLocks noGrp="1"/>
          </p:cNvSpPr>
          <p:nvPr>
            <p:ph type="title"/>
          </p:nvPr>
        </p:nvSpPr>
        <p:spPr>
          <a:xfrm>
            <a:off x="1463760" y="2207880"/>
            <a:ext cx="2411280" cy="506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5f1e6"/>
                </a:solidFill>
                <a:latin typeface="Sriracha"/>
                <a:ea typeface="Sriracha"/>
              </a:rPr>
              <a:t>1 unidad y 2 decenas de cub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741760" y="2082600"/>
            <a:ext cx="3660480" cy="1104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f5f1e6"/>
                </a:solidFill>
                <a:latin typeface="Sriracha"/>
                <a:ea typeface="Sriracha"/>
              </a:rPr>
              <a:t>Correc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Decágono 1"/>
          <p:cNvGrpSpPr/>
          <p:nvPr/>
        </p:nvGrpSpPr>
        <p:grpSpPr>
          <a:xfrm>
            <a:off x="6778800" y="3773520"/>
            <a:ext cx="1481040" cy="1279440"/>
            <a:chOff x="6778800" y="3773520"/>
            <a:chExt cx="1481040" cy="1279440"/>
          </a:xfrm>
        </p:grpSpPr>
        <p:pic>
          <p:nvPicPr>
            <p:cNvPr id="1523" name="Decágono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3773520"/>
              <a:ext cx="148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4" name=""/>
            <p:cNvSpPr/>
            <p:nvPr/>
          </p:nvSpPr>
          <p:spPr>
            <a:xfrm>
              <a:off x="6969240" y="4025880"/>
              <a:ext cx="1101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5473800" y="4136760"/>
            <a:ext cx="4092480" cy="401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5f1e6"/>
                </a:solidFill>
                <a:latin typeface="Sriracha"/>
                <a:ea typeface="Nunito"/>
              </a:rPr>
              <a:t>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Google Shape;2627;p50"/>
          <p:cNvGrpSpPr/>
          <p:nvPr/>
        </p:nvGrpSpPr>
        <p:grpSpPr>
          <a:xfrm>
            <a:off x="1025640" y="2093760"/>
            <a:ext cx="1662120" cy="2113200"/>
            <a:chOff x="1025640" y="2093760"/>
            <a:chExt cx="1662120" cy="2113200"/>
          </a:xfrm>
        </p:grpSpPr>
        <p:sp>
          <p:nvSpPr>
            <p:cNvPr id="1527" name="Google Shape;2628;p50"/>
            <p:cNvSpPr/>
            <p:nvPr/>
          </p:nvSpPr>
          <p:spPr>
            <a:xfrm>
              <a:off x="1189800" y="4047480"/>
              <a:ext cx="1332360" cy="159480"/>
            </a:xfrm>
            <a:prstGeom prst="ellipse">
              <a:avLst/>
            </a:pr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8" name="Google Shape;2629;p50"/>
            <p:cNvGrpSpPr/>
            <p:nvPr/>
          </p:nvGrpSpPr>
          <p:grpSpPr>
            <a:xfrm>
              <a:off x="1025640" y="2093760"/>
              <a:ext cx="1662120" cy="2047680"/>
              <a:chOff x="1025640" y="2093760"/>
              <a:chExt cx="1662120" cy="2047680"/>
            </a:xfrm>
          </p:grpSpPr>
          <p:sp>
            <p:nvSpPr>
              <p:cNvPr id="1529" name="Google Shape;2630;p50"/>
              <p:cNvSpPr/>
              <p:nvPr/>
            </p:nvSpPr>
            <p:spPr>
              <a:xfrm>
                <a:off x="1874880" y="2093760"/>
                <a:ext cx="131760" cy="195120"/>
              </a:xfrm>
              <a:custGeom>
                <a:avLst/>
                <a:gdLst/>
                <a:ahLst/>
                <a:rect l="l" t="t" r="r" b="b"/>
                <a:pathLst>
                  <a:path w="6305" h="9408">
                    <a:moveTo>
                      <a:pt x="3073" y="1"/>
                    </a:moveTo>
                    <a:cubicBezTo>
                      <a:pt x="3041" y="1"/>
                      <a:pt x="3009" y="4"/>
                      <a:pt x="2977" y="10"/>
                    </a:cubicBezTo>
                    <a:cubicBezTo>
                      <a:pt x="1109" y="360"/>
                      <a:pt x="0" y="6606"/>
                      <a:pt x="0" y="6606"/>
                    </a:cubicBezTo>
                    <a:lnTo>
                      <a:pt x="6304" y="9408"/>
                    </a:lnTo>
                    <a:cubicBezTo>
                      <a:pt x="6304" y="9408"/>
                      <a:pt x="4840" y="1"/>
                      <a:pt x="3073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Google Shape;2631;p50"/>
              <p:cNvSpPr/>
              <p:nvPr/>
            </p:nvSpPr>
            <p:spPr>
              <a:xfrm>
                <a:off x="1025640" y="2231280"/>
                <a:ext cx="1662120" cy="1910160"/>
              </a:xfrm>
              <a:custGeom>
                <a:avLst/>
                <a:gdLst/>
                <a:ahLst/>
                <a:rect l="l" t="t" r="r" b="b"/>
                <a:pathLst>
                  <a:path w="79793" h="91698">
                    <a:moveTo>
                      <a:pt x="39867" y="1"/>
                    </a:moveTo>
                    <a:cubicBezTo>
                      <a:pt x="26209" y="1"/>
                      <a:pt x="14535" y="18621"/>
                      <a:pt x="9631" y="38000"/>
                    </a:cubicBezTo>
                    <a:cubicBezTo>
                      <a:pt x="6830" y="40743"/>
                      <a:pt x="0" y="47690"/>
                      <a:pt x="1460" y="49032"/>
                    </a:cubicBezTo>
                    <a:cubicBezTo>
                      <a:pt x="1638" y="49211"/>
                      <a:pt x="1970" y="49290"/>
                      <a:pt x="2421" y="49290"/>
                    </a:cubicBezTo>
                    <a:cubicBezTo>
                      <a:pt x="3590" y="49290"/>
                      <a:pt x="5556" y="48756"/>
                      <a:pt x="7705" y="48040"/>
                    </a:cubicBezTo>
                    <a:cubicBezTo>
                      <a:pt x="7355" y="50842"/>
                      <a:pt x="7180" y="53702"/>
                      <a:pt x="7180" y="56503"/>
                    </a:cubicBezTo>
                    <a:cubicBezTo>
                      <a:pt x="7180" y="67652"/>
                      <a:pt x="10390" y="74890"/>
                      <a:pt x="15702" y="79385"/>
                    </a:cubicBezTo>
                    <a:cubicBezTo>
                      <a:pt x="15410" y="83237"/>
                      <a:pt x="15118" y="90125"/>
                      <a:pt x="16169" y="91467"/>
                    </a:cubicBezTo>
                    <a:cubicBezTo>
                      <a:pt x="16283" y="91625"/>
                      <a:pt x="16489" y="91697"/>
                      <a:pt x="16770" y="91697"/>
                    </a:cubicBezTo>
                    <a:cubicBezTo>
                      <a:pt x="18785" y="91697"/>
                      <a:pt x="24687" y="87988"/>
                      <a:pt x="28835" y="85222"/>
                    </a:cubicBezTo>
                    <a:cubicBezTo>
                      <a:pt x="32513" y="85864"/>
                      <a:pt x="36219" y="86185"/>
                      <a:pt x="39926" y="86185"/>
                    </a:cubicBezTo>
                    <a:cubicBezTo>
                      <a:pt x="43632" y="86185"/>
                      <a:pt x="47339" y="85864"/>
                      <a:pt x="51016" y="85222"/>
                    </a:cubicBezTo>
                    <a:cubicBezTo>
                      <a:pt x="55114" y="87988"/>
                      <a:pt x="61054" y="91697"/>
                      <a:pt x="63079" y="91697"/>
                    </a:cubicBezTo>
                    <a:cubicBezTo>
                      <a:pt x="63362" y="91697"/>
                      <a:pt x="63568" y="91625"/>
                      <a:pt x="63682" y="91467"/>
                    </a:cubicBezTo>
                    <a:cubicBezTo>
                      <a:pt x="64675" y="90125"/>
                      <a:pt x="64441" y="83237"/>
                      <a:pt x="64149" y="79385"/>
                    </a:cubicBezTo>
                    <a:cubicBezTo>
                      <a:pt x="69461" y="74890"/>
                      <a:pt x="72671" y="67652"/>
                      <a:pt x="72671" y="56503"/>
                    </a:cubicBezTo>
                    <a:cubicBezTo>
                      <a:pt x="72671" y="53702"/>
                      <a:pt x="72496" y="50842"/>
                      <a:pt x="72146" y="48040"/>
                    </a:cubicBezTo>
                    <a:cubicBezTo>
                      <a:pt x="74253" y="48756"/>
                      <a:pt x="76208" y="49290"/>
                      <a:pt x="77395" y="49290"/>
                    </a:cubicBezTo>
                    <a:cubicBezTo>
                      <a:pt x="77853" y="49290"/>
                      <a:pt x="78197" y="49211"/>
                      <a:pt x="78392" y="49032"/>
                    </a:cubicBezTo>
                    <a:cubicBezTo>
                      <a:pt x="79793" y="47690"/>
                      <a:pt x="72963" y="40743"/>
                      <a:pt x="70220" y="38000"/>
                    </a:cubicBezTo>
                    <a:cubicBezTo>
                      <a:pt x="65258" y="18621"/>
                      <a:pt x="53526" y="1"/>
                      <a:pt x="39867" y="1"/>
                    </a:cubicBezTo>
                    <a:close/>
                  </a:path>
                </a:pathLst>
              </a:custGeom>
              <a:solidFill>
                <a:srgbClr val="cc5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Google Shape;2632;p50"/>
              <p:cNvSpPr/>
              <p:nvPr/>
            </p:nvSpPr>
            <p:spPr>
              <a:xfrm>
                <a:off x="1595880" y="2671920"/>
                <a:ext cx="463320" cy="207360"/>
              </a:xfrm>
              <a:custGeom>
                <a:avLst/>
                <a:gdLst/>
                <a:ahLst/>
                <a:rect l="l" t="t" r="r" b="b"/>
                <a:pathLst>
                  <a:path w="22240" h="9954">
                    <a:moveTo>
                      <a:pt x="6709" y="0"/>
                    </a:moveTo>
                    <a:cubicBezTo>
                      <a:pt x="2761" y="0"/>
                      <a:pt x="0" y="260"/>
                      <a:pt x="0" y="2307"/>
                    </a:cubicBezTo>
                    <a:cubicBezTo>
                      <a:pt x="0" y="4992"/>
                      <a:pt x="4962" y="9953"/>
                      <a:pt x="11090" y="9953"/>
                    </a:cubicBezTo>
                    <a:cubicBezTo>
                      <a:pt x="17219" y="9953"/>
                      <a:pt x="22239" y="4992"/>
                      <a:pt x="22239" y="2307"/>
                    </a:cubicBezTo>
                    <a:cubicBezTo>
                      <a:pt x="22239" y="260"/>
                      <a:pt x="19445" y="0"/>
                      <a:pt x="15481" y="0"/>
                    </a:cubicBezTo>
                    <a:cubicBezTo>
                      <a:pt x="14132" y="0"/>
                      <a:pt x="12647" y="30"/>
                      <a:pt x="11090" y="30"/>
                    </a:cubicBezTo>
                    <a:cubicBezTo>
                      <a:pt x="9534" y="30"/>
                      <a:pt x="8053" y="0"/>
                      <a:pt x="6709" y="0"/>
                    </a:cubicBezTo>
                    <a:close/>
                  </a:path>
                </a:pathLst>
              </a:custGeom>
              <a:solidFill>
                <a:srgbClr val="fd9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Google Shape;2633;p50"/>
              <p:cNvSpPr/>
              <p:nvPr/>
            </p:nvSpPr>
            <p:spPr>
              <a:xfrm>
                <a:off x="1623960" y="2136600"/>
                <a:ext cx="255600" cy="277920"/>
              </a:xfrm>
              <a:custGeom>
                <a:avLst/>
                <a:gdLst/>
                <a:ahLst/>
                <a:rect l="l" t="t" r="r" b="b"/>
                <a:pathLst>
                  <a:path w="12317" h="13328">
                    <a:moveTo>
                      <a:pt x="2810" y="1"/>
                    </a:moveTo>
                    <a:cubicBezTo>
                      <a:pt x="2536" y="1"/>
                      <a:pt x="2296" y="61"/>
                      <a:pt x="2102" y="194"/>
                    </a:cubicBezTo>
                    <a:cubicBezTo>
                      <a:pt x="1" y="1595"/>
                      <a:pt x="7355" y="13328"/>
                      <a:pt x="7355" y="13328"/>
                    </a:cubicBezTo>
                    <a:cubicBezTo>
                      <a:pt x="12317" y="9767"/>
                      <a:pt x="11149" y="5448"/>
                      <a:pt x="11149" y="5448"/>
                    </a:cubicBezTo>
                    <a:cubicBezTo>
                      <a:pt x="11149" y="5448"/>
                      <a:pt x="5416" y="1"/>
                      <a:pt x="2810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Google Shape;2634;p50"/>
              <p:cNvSpPr/>
              <p:nvPr/>
            </p:nvSpPr>
            <p:spPr>
              <a:xfrm>
                <a:off x="1506600" y="2986200"/>
                <a:ext cx="638280" cy="773280"/>
              </a:xfrm>
              <a:custGeom>
                <a:avLst/>
                <a:gdLst/>
                <a:ahLst/>
                <a:rect l="l" t="t" r="r" b="b"/>
                <a:pathLst>
                  <a:path w="30645" h="37067">
                    <a:moveTo>
                      <a:pt x="15351" y="1"/>
                    </a:moveTo>
                    <a:cubicBezTo>
                      <a:pt x="6888" y="1"/>
                      <a:pt x="0" y="8640"/>
                      <a:pt x="0" y="19380"/>
                    </a:cubicBezTo>
                    <a:cubicBezTo>
                      <a:pt x="0" y="30120"/>
                      <a:pt x="6888" y="-28470"/>
                      <a:pt x="15351" y="-28470"/>
                    </a:cubicBezTo>
                    <a:cubicBezTo>
                      <a:pt x="23815" y="-28470"/>
                      <a:pt x="30644" y="30120"/>
                      <a:pt x="30644" y="19380"/>
                    </a:cubicBezTo>
                    <a:cubicBezTo>
                      <a:pt x="30644" y="8640"/>
                      <a:pt x="23815" y="1"/>
                      <a:pt x="15351" y="1"/>
                    </a:cubicBezTo>
                    <a:close/>
                  </a:path>
                </a:pathLst>
              </a:custGeom>
              <a:solidFill>
                <a:srgbClr val="ffe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Google Shape;2635;p50"/>
              <p:cNvSpPr/>
              <p:nvPr/>
            </p:nvSpPr>
            <p:spPr>
              <a:xfrm>
                <a:off x="1680840" y="2687400"/>
                <a:ext cx="77760" cy="104400"/>
              </a:xfrm>
              <a:custGeom>
                <a:avLst/>
                <a:gdLst/>
                <a:ahLst/>
                <a:rect l="l" t="t" r="r" b="b"/>
                <a:pathLst>
                  <a:path w="3737" h="5021">
                    <a:moveTo>
                      <a:pt x="1869" y="1"/>
                    </a:moveTo>
                    <a:cubicBezTo>
                      <a:pt x="877" y="1"/>
                      <a:pt x="1" y="59"/>
                      <a:pt x="1" y="1460"/>
                    </a:cubicBezTo>
                    <a:cubicBezTo>
                      <a:pt x="1" y="2803"/>
                      <a:pt x="877" y="5021"/>
                      <a:pt x="1869" y="5021"/>
                    </a:cubicBezTo>
                    <a:cubicBezTo>
                      <a:pt x="2919" y="5021"/>
                      <a:pt x="3737" y="2803"/>
                      <a:pt x="3737" y="1460"/>
                    </a:cubicBezTo>
                    <a:cubicBezTo>
                      <a:pt x="3737" y="59"/>
                      <a:pt x="2919" y="1"/>
                      <a:pt x="186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13320" bIns="133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Google Shape;2636;p50"/>
              <p:cNvSpPr/>
              <p:nvPr/>
            </p:nvSpPr>
            <p:spPr>
              <a:xfrm>
                <a:off x="1899720" y="2687400"/>
                <a:ext cx="77760" cy="104400"/>
              </a:xfrm>
              <a:custGeom>
                <a:avLst/>
                <a:gdLst/>
                <a:ahLst/>
                <a:rect l="l" t="t" r="r" b="b"/>
                <a:pathLst>
                  <a:path w="3737" h="5021">
                    <a:moveTo>
                      <a:pt x="1869" y="1"/>
                    </a:moveTo>
                    <a:cubicBezTo>
                      <a:pt x="876" y="1"/>
                      <a:pt x="1" y="59"/>
                      <a:pt x="1" y="1460"/>
                    </a:cubicBezTo>
                    <a:cubicBezTo>
                      <a:pt x="1" y="2803"/>
                      <a:pt x="876" y="5021"/>
                      <a:pt x="1869" y="5021"/>
                    </a:cubicBezTo>
                    <a:cubicBezTo>
                      <a:pt x="2919" y="5021"/>
                      <a:pt x="3736" y="2803"/>
                      <a:pt x="3736" y="1460"/>
                    </a:cubicBezTo>
                    <a:cubicBezTo>
                      <a:pt x="3736" y="59"/>
                      <a:pt x="2919" y="1"/>
                      <a:pt x="1869" y="1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13320" bIns="133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Google Shape;2637;p50"/>
              <p:cNvSpPr/>
              <p:nvPr/>
            </p:nvSpPr>
            <p:spPr>
              <a:xfrm>
                <a:off x="1839240" y="2399760"/>
                <a:ext cx="280800" cy="250560"/>
              </a:xfrm>
              <a:custGeom>
                <a:avLst/>
                <a:gdLst/>
                <a:ahLst/>
                <a:rect l="l" t="t" r="r" b="b"/>
                <a:pathLst>
                  <a:path w="13484" h="12035">
                    <a:moveTo>
                      <a:pt x="6756" y="0"/>
                    </a:moveTo>
                    <a:cubicBezTo>
                      <a:pt x="5035" y="0"/>
                      <a:pt x="3333" y="743"/>
                      <a:pt x="2160" y="2177"/>
                    </a:cubicBezTo>
                    <a:cubicBezTo>
                      <a:pt x="0" y="4687"/>
                      <a:pt x="350" y="8481"/>
                      <a:pt x="2860" y="10641"/>
                    </a:cubicBezTo>
                    <a:cubicBezTo>
                      <a:pt x="4000" y="11573"/>
                      <a:pt x="5382" y="12035"/>
                      <a:pt x="6754" y="12035"/>
                    </a:cubicBezTo>
                    <a:cubicBezTo>
                      <a:pt x="8474" y="12035"/>
                      <a:pt x="10181" y="11310"/>
                      <a:pt x="11382" y="9882"/>
                    </a:cubicBezTo>
                    <a:cubicBezTo>
                      <a:pt x="13484" y="7314"/>
                      <a:pt x="13192" y="3520"/>
                      <a:pt x="10624" y="1418"/>
                    </a:cubicBezTo>
                    <a:cubicBezTo>
                      <a:pt x="9489" y="465"/>
                      <a:pt x="8116" y="0"/>
                      <a:pt x="6756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Google Shape;2638;p50"/>
              <p:cNvSpPr/>
              <p:nvPr/>
            </p:nvSpPr>
            <p:spPr>
              <a:xfrm>
                <a:off x="1903680" y="2499120"/>
                <a:ext cx="70920" cy="61200"/>
              </a:xfrm>
              <a:custGeom>
                <a:avLst/>
                <a:gdLst/>
                <a:ahLst/>
                <a:rect l="l" t="t" r="r" b="b"/>
                <a:pathLst>
                  <a:path w="3421" h="2938">
                    <a:moveTo>
                      <a:pt x="1672" y="1"/>
                    </a:moveTo>
                    <a:cubicBezTo>
                      <a:pt x="1468" y="1"/>
                      <a:pt x="1258" y="47"/>
                      <a:pt x="1051" y="150"/>
                    </a:cubicBezTo>
                    <a:cubicBezTo>
                      <a:pt x="351" y="501"/>
                      <a:pt x="1" y="1318"/>
                      <a:pt x="351" y="2018"/>
                    </a:cubicBezTo>
                    <a:cubicBezTo>
                      <a:pt x="584" y="2631"/>
                      <a:pt x="1139" y="2938"/>
                      <a:pt x="1694" y="2938"/>
                    </a:cubicBezTo>
                    <a:cubicBezTo>
                      <a:pt x="2248" y="2938"/>
                      <a:pt x="2803" y="2631"/>
                      <a:pt x="3036" y="2018"/>
                    </a:cubicBezTo>
                    <a:cubicBezTo>
                      <a:pt x="3420" y="1009"/>
                      <a:pt x="2618" y="1"/>
                      <a:pt x="1672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9880" bIns="-298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Google Shape;2639;p50"/>
              <p:cNvSpPr/>
              <p:nvPr/>
            </p:nvSpPr>
            <p:spPr>
              <a:xfrm>
                <a:off x="1535040" y="2399760"/>
                <a:ext cx="280800" cy="250560"/>
              </a:xfrm>
              <a:custGeom>
                <a:avLst/>
                <a:gdLst/>
                <a:ahLst/>
                <a:rect l="l" t="t" r="r" b="b"/>
                <a:pathLst>
                  <a:path w="13485" h="12035">
                    <a:moveTo>
                      <a:pt x="6756" y="0"/>
                    </a:moveTo>
                    <a:cubicBezTo>
                      <a:pt x="5035" y="0"/>
                      <a:pt x="3334" y="743"/>
                      <a:pt x="2160" y="2177"/>
                    </a:cubicBezTo>
                    <a:cubicBezTo>
                      <a:pt x="1" y="4687"/>
                      <a:pt x="351" y="8481"/>
                      <a:pt x="2919" y="10641"/>
                    </a:cubicBezTo>
                    <a:cubicBezTo>
                      <a:pt x="4033" y="11573"/>
                      <a:pt x="5400" y="12035"/>
                      <a:pt x="6765" y="12035"/>
                    </a:cubicBezTo>
                    <a:cubicBezTo>
                      <a:pt x="8475" y="12035"/>
                      <a:pt x="10182" y="11310"/>
                      <a:pt x="11383" y="9882"/>
                    </a:cubicBezTo>
                    <a:cubicBezTo>
                      <a:pt x="13484" y="7314"/>
                      <a:pt x="13192" y="3520"/>
                      <a:pt x="10624" y="1418"/>
                    </a:cubicBezTo>
                    <a:cubicBezTo>
                      <a:pt x="9490" y="465"/>
                      <a:pt x="8117" y="0"/>
                      <a:pt x="6756" y="0"/>
                    </a:cubicBezTo>
                    <a:close/>
                  </a:path>
                </a:pathLst>
              </a:custGeom>
              <a:solidFill>
                <a:srgbClr val="f5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Google Shape;2640;p50"/>
              <p:cNvSpPr/>
              <p:nvPr/>
            </p:nvSpPr>
            <p:spPr>
              <a:xfrm>
                <a:off x="1599480" y="2499120"/>
                <a:ext cx="70920" cy="61200"/>
              </a:xfrm>
              <a:custGeom>
                <a:avLst/>
                <a:gdLst/>
                <a:ahLst/>
                <a:rect l="l" t="t" r="r" b="b"/>
                <a:pathLst>
                  <a:path w="3420" h="2938">
                    <a:moveTo>
                      <a:pt x="1671" y="1"/>
                    </a:moveTo>
                    <a:cubicBezTo>
                      <a:pt x="1468" y="1"/>
                      <a:pt x="1257" y="47"/>
                      <a:pt x="1051" y="150"/>
                    </a:cubicBezTo>
                    <a:cubicBezTo>
                      <a:pt x="350" y="501"/>
                      <a:pt x="0" y="1318"/>
                      <a:pt x="350" y="2018"/>
                    </a:cubicBezTo>
                    <a:cubicBezTo>
                      <a:pt x="584" y="2631"/>
                      <a:pt x="1138" y="2938"/>
                      <a:pt x="1693" y="2938"/>
                    </a:cubicBezTo>
                    <a:cubicBezTo>
                      <a:pt x="2247" y="2938"/>
                      <a:pt x="2802" y="2631"/>
                      <a:pt x="3035" y="2018"/>
                    </a:cubicBezTo>
                    <a:cubicBezTo>
                      <a:pt x="3420" y="1009"/>
                      <a:pt x="2618" y="1"/>
                      <a:pt x="1671" y="1"/>
                    </a:cubicBezTo>
                    <a:close/>
                  </a:path>
                </a:pathLst>
              </a:custGeom>
              <a:solidFill>
                <a:srgbClr val="21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29880" bIns="-2988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2363400" y="2123640"/>
            <a:ext cx="4435560" cy="1104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f5f1e6"/>
                </a:solidFill>
                <a:latin typeface="Sriracha"/>
                <a:ea typeface="Sriracha"/>
              </a:rPr>
              <a:t>Incorrec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Decágono 1"/>
          <p:cNvGrpSpPr/>
          <p:nvPr/>
        </p:nvGrpSpPr>
        <p:grpSpPr>
          <a:xfrm>
            <a:off x="6778800" y="3773520"/>
            <a:ext cx="1481040" cy="1279440"/>
            <a:chOff x="6778800" y="3773520"/>
            <a:chExt cx="1481040" cy="1279440"/>
          </a:xfrm>
        </p:grpSpPr>
        <p:pic>
          <p:nvPicPr>
            <p:cNvPr id="1542" name="Decágono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3773520"/>
              <a:ext cx="148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3" name=""/>
            <p:cNvSpPr/>
            <p:nvPr/>
          </p:nvSpPr>
          <p:spPr>
            <a:xfrm>
              <a:off x="6969240" y="4025880"/>
              <a:ext cx="1101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6789240" y="4051080"/>
            <a:ext cx="1473480" cy="399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5f1e6"/>
                </a:solidFill>
                <a:latin typeface="Sriracha"/>
                <a:ea typeface="Nunito"/>
              </a:rPr>
              <a:t>Inténtalo otr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Google Shape;2462;p43"/>
          <p:cNvSpPr/>
          <p:nvPr/>
        </p:nvSpPr>
        <p:spPr>
          <a:xfrm>
            <a:off x="598320" y="4281480"/>
            <a:ext cx="1716120" cy="212760"/>
          </a:xfrm>
          <a:prstGeom prst="ellipse">
            <a:avLst/>
          </a:prstGeom>
          <a:solidFill>
            <a:srgbClr val="f5f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9400" bIns="594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6" name="Google Shape;2463;p43"/>
          <p:cNvGrpSpPr/>
          <p:nvPr/>
        </p:nvGrpSpPr>
        <p:grpSpPr>
          <a:xfrm>
            <a:off x="334800" y="2054160"/>
            <a:ext cx="2028960" cy="2389320"/>
            <a:chOff x="334800" y="2054160"/>
            <a:chExt cx="2028960" cy="2389320"/>
          </a:xfrm>
        </p:grpSpPr>
        <p:sp>
          <p:nvSpPr>
            <p:cNvPr id="1547" name="Google Shape;2464;p43"/>
            <p:cNvSpPr/>
            <p:nvPr/>
          </p:nvSpPr>
          <p:spPr>
            <a:xfrm flipH="1">
              <a:off x="334800" y="2691000"/>
              <a:ext cx="571680" cy="708120"/>
            </a:xfrm>
            <a:custGeom>
              <a:avLst/>
              <a:gdLst/>
              <a:ahLst/>
              <a:rect l="l" t="t" r="r" b="b"/>
              <a:pathLst>
                <a:path w="54765" h="61979">
                  <a:moveTo>
                    <a:pt x="-25857" y="0"/>
                  </a:moveTo>
                  <a:cubicBezTo>
                    <a:pt x="-26316" y="0"/>
                    <a:pt x="-26780" y="28"/>
                    <a:pt x="-27249" y="85"/>
                  </a:cubicBezTo>
                  <a:cubicBezTo>
                    <a:pt x="29257" y="1194"/>
                    <a:pt x="3063" y="28022"/>
                    <a:pt x="3063" y="28022"/>
                  </a:cubicBezTo>
                  <a:lnTo>
                    <a:pt x="0" y="-3558"/>
                  </a:lnTo>
                  <a:lnTo>
                    <a:pt x="28623" y="28761"/>
                  </a:lnTo>
                  <a:lnTo>
                    <a:pt x="-10772" y="9116"/>
                  </a:lnTo>
                  <a:cubicBezTo>
                    <a:pt x="-10772" y="9116"/>
                    <a:pt x="-17466" y="0"/>
                    <a:pt x="-25857" y="0"/>
                  </a:cubicBez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Google Shape;2465;p43"/>
            <p:cNvSpPr/>
            <p:nvPr/>
          </p:nvSpPr>
          <p:spPr>
            <a:xfrm flipH="1">
              <a:off x="1840320" y="3157200"/>
              <a:ext cx="523440" cy="738720"/>
            </a:xfrm>
            <a:custGeom>
              <a:avLst/>
              <a:gdLst/>
              <a:ahLst/>
              <a:rect l="l" t="t" r="r" b="b"/>
              <a:pathLst>
                <a:path w="50118" h="64654">
                  <a:moveTo>
                    <a:pt x="-17795" y="1"/>
                  </a:moveTo>
                  <a:cubicBezTo>
                    <a:pt x="-17795" y="1"/>
                    <a:pt x="1" y="-9029"/>
                    <a:pt x="10352" y="-1741"/>
                  </a:cubicBezTo>
                  <a:cubicBezTo>
                    <a:pt x="11193" y="-1153"/>
                    <a:pt x="12161" y="-882"/>
                    <a:pt x="13228" y="-882"/>
                  </a:cubicBezTo>
                  <a:cubicBezTo>
                    <a:pt x="25291" y="-882"/>
                    <a:pt x="-15419" y="30155"/>
                    <a:pt x="-15419" y="30155"/>
                  </a:cubicBezTo>
                  <a:lnTo>
                    <a:pt x="-17795" y="1"/>
                  </a:ln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Google Shape;2466;p43"/>
            <p:cNvSpPr/>
            <p:nvPr/>
          </p:nvSpPr>
          <p:spPr>
            <a:xfrm flipH="1">
              <a:off x="749880" y="2287080"/>
              <a:ext cx="1245240" cy="2156400"/>
            </a:xfrm>
            <a:custGeom>
              <a:avLst/>
              <a:gdLst/>
              <a:ahLst/>
              <a:rect l="l" t="t" r="r" b="b"/>
              <a:pathLst>
                <a:path w="119245" h="188727">
                  <a:moveTo>
                    <a:pt x="59411" y="1"/>
                  </a:moveTo>
                  <a:cubicBezTo>
                    <a:pt x="0" y="1"/>
                    <a:pt x="7763" y="52811"/>
                    <a:pt x="7763" y="52811"/>
                  </a:cubicBezTo>
                  <a:lnTo>
                    <a:pt x="23976" y="174485"/>
                  </a:lnTo>
                  <a:cubicBezTo>
                    <a:pt x="23976" y="174485"/>
                    <a:pt x="14523" y="185733"/>
                    <a:pt x="16054" y="187687"/>
                  </a:cubicBezTo>
                  <a:cubicBezTo>
                    <a:pt x="16604" y="188408"/>
                    <a:pt x="19001" y="188727"/>
                    <a:pt x="21979" y="188727"/>
                  </a:cubicBezTo>
                  <a:cubicBezTo>
                    <a:pt x="27291" y="188727"/>
                    <a:pt x="34453" y="187712"/>
                    <a:pt x="36280" y="186156"/>
                  </a:cubicBezTo>
                  <a:cubicBezTo>
                    <a:pt x="39132" y="183727"/>
                    <a:pt x="37601" y="151829"/>
                    <a:pt x="37601" y="151829"/>
                  </a:cubicBezTo>
                  <a:lnTo>
                    <a:pt x="78634" y="152463"/>
                  </a:lnTo>
                  <a:cubicBezTo>
                    <a:pt x="78634" y="152463"/>
                    <a:pt x="77314" y="179977"/>
                    <a:pt x="79584" y="183093"/>
                  </a:cubicBezTo>
                  <a:cubicBezTo>
                    <a:pt x="81245" y="185332"/>
                    <a:pt x="93350" y="188052"/>
                    <a:pt x="99740" y="188052"/>
                  </a:cubicBezTo>
                  <a:cubicBezTo>
                    <a:pt x="102089" y="188052"/>
                    <a:pt x="103666" y="187684"/>
                    <a:pt x="103666" y="186790"/>
                  </a:cubicBezTo>
                  <a:cubicBezTo>
                    <a:pt x="103666" y="183515"/>
                    <a:pt x="95374" y="174907"/>
                    <a:pt x="95374" y="172056"/>
                  </a:cubicBezTo>
                  <a:cubicBezTo>
                    <a:pt x="95374" y="169204"/>
                    <a:pt x="110742" y="59782"/>
                    <a:pt x="111217" y="49642"/>
                  </a:cubicBezTo>
                  <a:cubicBezTo>
                    <a:pt x="111746" y="39503"/>
                    <a:pt x="119244" y="1"/>
                    <a:pt x="59411" y="1"/>
                  </a:cubicBezTo>
                  <a:close/>
                </a:path>
              </a:pathLst>
            </a:custGeom>
            <a:solidFill>
              <a:srgbClr val="36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Google Shape;2467;p43"/>
            <p:cNvSpPr/>
            <p:nvPr/>
          </p:nvSpPr>
          <p:spPr>
            <a:xfrm flipH="1" rot="10800000">
              <a:off x="1058760" y="3182400"/>
              <a:ext cx="590400" cy="336600"/>
            </a:xfrm>
            <a:custGeom>
              <a:avLst/>
              <a:gdLst/>
              <a:ahLst/>
              <a:rect l="l" t="t" r="r" b="b"/>
              <a:pathLst>
                <a:path w="56613" h="29416">
                  <a:moveTo>
                    <a:pt x="1" y="0"/>
                  </a:moveTo>
                  <a:cubicBezTo>
                    <a:pt x="1" y="0"/>
                    <a:pt x="1" y="29416"/>
                    <a:pt x="27673" y="29416"/>
                  </a:cubicBezTo>
                  <a:cubicBezTo>
                    <a:pt x="-10191" y="29416"/>
                    <a:pt x="-8923" y="0"/>
                    <a:pt x="-892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8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Google Shape;2469;p43"/>
            <p:cNvSpPr/>
            <p:nvPr/>
          </p:nvSpPr>
          <p:spPr>
            <a:xfrm flipH="1">
              <a:off x="1685160" y="2058840"/>
              <a:ext cx="347400" cy="574560"/>
            </a:xfrm>
            <a:custGeom>
              <a:avLst/>
              <a:gdLst/>
              <a:ahLst/>
              <a:rect l="l" t="t" r="r" b="b"/>
              <a:pathLst>
                <a:path w="33271" h="50245">
                  <a:moveTo>
                    <a:pt x="7805" y="1"/>
                  </a:moveTo>
                  <a:cubicBezTo>
                    <a:pt x="7262" y="1"/>
                    <a:pt x="6739" y="196"/>
                    <a:pt x="6232" y="603"/>
                  </a:cubicBezTo>
                  <a:cubicBezTo>
                    <a:pt x="2957" y="3138"/>
                    <a:pt x="0" y="12802"/>
                    <a:pt x="2905" y="25899"/>
                  </a:cubicBezTo>
                  <a:cubicBezTo>
                    <a:pt x="5651" y="-27543"/>
                    <a:pt x="13466" y="-15291"/>
                    <a:pt x="13466" y="-15291"/>
                  </a:cubicBezTo>
                  <a:cubicBezTo>
                    <a:pt x="13466" y="-15291"/>
                    <a:pt x="22708" y="-15608"/>
                    <a:pt x="27989" y="-20889"/>
                  </a:cubicBezTo>
                  <a:cubicBezTo>
                    <a:pt x="-32266" y="-26170"/>
                    <a:pt x="31263" y="27378"/>
                    <a:pt x="31263" y="27378"/>
                  </a:cubicBezTo>
                  <a:cubicBezTo>
                    <a:pt x="31263" y="27378"/>
                    <a:pt x="24081" y="23417"/>
                    <a:pt x="18959" y="14228"/>
                  </a:cubicBezTo>
                  <a:cubicBezTo>
                    <a:pt x="14198" y="5596"/>
                    <a:pt x="10711" y="1"/>
                    <a:pt x="7805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Google Shape;2470;p43"/>
            <p:cNvSpPr/>
            <p:nvPr/>
          </p:nvSpPr>
          <p:spPr>
            <a:xfrm flipH="1">
              <a:off x="697680" y="2054160"/>
              <a:ext cx="345960" cy="574560"/>
            </a:xfrm>
            <a:custGeom>
              <a:avLst/>
              <a:gdLst/>
              <a:ahLst/>
              <a:rect l="l" t="t" r="r" b="b"/>
              <a:pathLst>
                <a:path w="33271" h="50295">
                  <a:moveTo>
                    <a:pt x="25475" y="1"/>
                  </a:moveTo>
                  <a:cubicBezTo>
                    <a:pt x="22566" y="1"/>
                    <a:pt x="19078" y="5636"/>
                    <a:pt x="14312" y="14278"/>
                  </a:cubicBezTo>
                  <a:cubicBezTo>
                    <a:pt x="9189" y="23414"/>
                    <a:pt x="2007" y="27375"/>
                    <a:pt x="2007" y="27375"/>
                  </a:cubicBezTo>
                  <a:cubicBezTo>
                    <a:pt x="2007" y="27375"/>
                    <a:pt x="0" y="-26174"/>
                    <a:pt x="5281" y="-20893"/>
                  </a:cubicBezTo>
                  <a:cubicBezTo>
                    <a:pt x="10562" y="-15612"/>
                    <a:pt x="19804" y="-15242"/>
                    <a:pt x="19804" y="-15242"/>
                  </a:cubicBezTo>
                  <a:cubicBezTo>
                    <a:pt x="19804" y="-15242"/>
                    <a:pt x="27672" y="-27547"/>
                    <a:pt x="30366" y="25896"/>
                  </a:cubicBezTo>
                  <a:cubicBezTo>
                    <a:pt x="-32266" y="12852"/>
                    <a:pt x="30313" y="3188"/>
                    <a:pt x="27039" y="600"/>
                  </a:cubicBezTo>
                  <a:cubicBezTo>
                    <a:pt x="26534" y="195"/>
                    <a:pt x="26015" y="1"/>
                    <a:pt x="25475" y="1"/>
                  </a:cubicBezTo>
                  <a:close/>
                </a:path>
              </a:pathLst>
            </a:custGeom>
            <a:solidFill>
              <a:srgbClr val="ffe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Google Shape;2471;p43"/>
            <p:cNvSpPr/>
            <p:nvPr/>
          </p:nvSpPr>
          <p:spPr>
            <a:xfrm flipH="1">
              <a:off x="1436040" y="2818800"/>
              <a:ext cx="289800" cy="271440"/>
            </a:xfrm>
            <a:custGeom>
              <a:avLst/>
              <a:gdLst/>
              <a:ahLst/>
              <a:rect l="l" t="t" r="r" b="b"/>
              <a:pathLst>
                <a:path w="27764" h="23770">
                  <a:moveTo>
                    <a:pt x="15868" y="0"/>
                  </a:moveTo>
                  <a:cubicBezTo>
                    <a:pt x="5297" y="0"/>
                    <a:pt x="1" y="12743"/>
                    <a:pt x="7484" y="20226"/>
                  </a:cubicBezTo>
                  <a:cubicBezTo>
                    <a:pt x="9916" y="22675"/>
                    <a:pt x="12903" y="23769"/>
                    <a:pt x="15830" y="23769"/>
                  </a:cubicBezTo>
                  <a:cubicBezTo>
                    <a:pt x="21928" y="23769"/>
                    <a:pt x="27763" y="19019"/>
                    <a:pt x="27763" y="11882"/>
                  </a:cubicBezTo>
                  <a:cubicBezTo>
                    <a:pt x="27763" y="5334"/>
                    <a:pt x="22482" y="0"/>
                    <a:pt x="15934" y="0"/>
                  </a:cubicBezTo>
                  <a:cubicBezTo>
                    <a:pt x="15912" y="0"/>
                    <a:pt x="15890" y="0"/>
                    <a:pt x="15868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Google Shape;2472;p43"/>
            <p:cNvSpPr/>
            <p:nvPr/>
          </p:nvSpPr>
          <p:spPr>
            <a:xfrm flipH="1">
              <a:off x="1487880" y="2913480"/>
              <a:ext cx="68760" cy="64080"/>
            </a:xfrm>
            <a:custGeom>
              <a:avLst/>
              <a:gdLst/>
              <a:ahLst/>
              <a:rect l="l" t="t" r="r" b="b"/>
              <a:pathLst>
                <a:path w="6588" h="5611">
                  <a:moveTo>
                    <a:pt x="3877" y="1"/>
                  </a:moveTo>
                  <a:cubicBezTo>
                    <a:pt x="3847" y="1"/>
                    <a:pt x="3818" y="1"/>
                    <a:pt x="3788" y="2"/>
                  </a:cubicBezTo>
                  <a:cubicBezTo>
                    <a:pt x="3767" y="2"/>
                    <a:pt x="3745" y="2"/>
                    <a:pt x="3724" y="2"/>
                  </a:cubicBezTo>
                  <a:cubicBezTo>
                    <a:pt x="1232" y="2"/>
                    <a:pt x="1" y="3027"/>
                    <a:pt x="1729" y="4755"/>
                  </a:cubicBezTo>
                  <a:cubicBezTo>
                    <a:pt x="2318" y="5345"/>
                    <a:pt x="3045" y="5610"/>
                    <a:pt x="3755" y="5610"/>
                  </a:cubicBezTo>
                  <a:cubicBezTo>
                    <a:pt x="5206" y="5610"/>
                    <a:pt x="6587" y="4503"/>
                    <a:pt x="6587" y="2801"/>
                  </a:cubicBezTo>
                  <a:cubicBezTo>
                    <a:pt x="6587" y="1300"/>
                    <a:pt x="5368" y="1"/>
                    <a:pt x="3877" y="1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7000" bIns="-2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Google Shape;2473;p43"/>
            <p:cNvSpPr/>
            <p:nvPr/>
          </p:nvSpPr>
          <p:spPr>
            <a:xfrm flipH="1">
              <a:off x="1016280" y="2818800"/>
              <a:ext cx="289800" cy="271440"/>
            </a:xfrm>
            <a:custGeom>
              <a:avLst/>
              <a:gdLst/>
              <a:ahLst/>
              <a:rect l="l" t="t" r="r" b="b"/>
              <a:pathLst>
                <a:path w="27779" h="23763">
                  <a:moveTo>
                    <a:pt x="15896" y="0"/>
                  </a:moveTo>
                  <a:cubicBezTo>
                    <a:pt x="5281" y="0"/>
                    <a:pt x="0" y="12780"/>
                    <a:pt x="7499" y="20279"/>
                  </a:cubicBezTo>
                  <a:cubicBezTo>
                    <a:pt x="9905" y="22685"/>
                    <a:pt x="12873" y="23762"/>
                    <a:pt x="15788" y="23762"/>
                  </a:cubicBezTo>
                  <a:cubicBezTo>
                    <a:pt x="21898" y="23762"/>
                    <a:pt x="27778" y="19032"/>
                    <a:pt x="27778" y="11882"/>
                  </a:cubicBezTo>
                  <a:cubicBezTo>
                    <a:pt x="27778" y="5281"/>
                    <a:pt x="22445" y="0"/>
                    <a:pt x="15896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Google Shape;2474;p43"/>
            <p:cNvSpPr/>
            <p:nvPr/>
          </p:nvSpPr>
          <p:spPr>
            <a:xfrm flipH="1">
              <a:off x="1139760" y="2923200"/>
              <a:ext cx="68760" cy="64440"/>
            </a:xfrm>
            <a:custGeom>
              <a:avLst/>
              <a:gdLst/>
              <a:ahLst/>
              <a:rect l="l" t="t" r="r" b="b"/>
              <a:pathLst>
                <a:path w="6602" h="5648">
                  <a:moveTo>
                    <a:pt x="3803" y="0"/>
                  </a:moveTo>
                  <a:cubicBezTo>
                    <a:pt x="1268" y="0"/>
                    <a:pt x="1" y="3011"/>
                    <a:pt x="1796" y="4806"/>
                  </a:cubicBezTo>
                  <a:cubicBezTo>
                    <a:pt x="2361" y="5388"/>
                    <a:pt x="3063" y="5648"/>
                    <a:pt x="3756" y="5648"/>
                  </a:cubicBezTo>
                  <a:cubicBezTo>
                    <a:pt x="5202" y="5648"/>
                    <a:pt x="6602" y="4513"/>
                    <a:pt x="6602" y="2799"/>
                  </a:cubicBezTo>
                  <a:cubicBezTo>
                    <a:pt x="6602" y="1268"/>
                    <a:pt x="5335" y="0"/>
                    <a:pt x="3803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6640" bIns="-26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Google Shape;2475;p43"/>
            <p:cNvSpPr/>
            <p:nvPr/>
          </p:nvSpPr>
          <p:spPr>
            <a:xfrm flipH="1">
              <a:off x="1257480" y="2599560"/>
              <a:ext cx="209520" cy="196200"/>
            </a:xfrm>
            <a:custGeom>
              <a:avLst/>
              <a:gdLst/>
              <a:ahLst/>
              <a:rect l="l" t="t" r="r" b="b"/>
              <a:pathLst>
                <a:path w="20069" h="17178">
                  <a:moveTo>
                    <a:pt x="11460" y="0"/>
                  </a:moveTo>
                  <a:cubicBezTo>
                    <a:pt x="3803" y="0"/>
                    <a:pt x="1" y="9242"/>
                    <a:pt x="5387" y="14629"/>
                  </a:cubicBezTo>
                  <a:cubicBezTo>
                    <a:pt x="7132" y="16390"/>
                    <a:pt x="9287" y="17177"/>
                    <a:pt x="11403" y="17177"/>
                  </a:cubicBezTo>
                  <a:cubicBezTo>
                    <a:pt x="15820" y="17177"/>
                    <a:pt x="20068" y="13750"/>
                    <a:pt x="20068" y="8608"/>
                  </a:cubicBezTo>
                  <a:cubicBezTo>
                    <a:pt x="20068" y="3855"/>
                    <a:pt x="16213" y="0"/>
                    <a:pt x="11460" y="0"/>
                  </a:cubicBezTo>
                  <a:close/>
                </a:path>
              </a:pathLst>
            </a:custGeom>
            <a:solidFill>
              <a:srgbClr val="f5f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Google Shape;2476;p43"/>
            <p:cNvSpPr/>
            <p:nvPr/>
          </p:nvSpPr>
          <p:spPr>
            <a:xfrm flipH="1">
              <a:off x="1330200" y="2673360"/>
              <a:ext cx="50040" cy="46800"/>
            </a:xfrm>
            <a:custGeom>
              <a:avLst/>
              <a:gdLst/>
              <a:ahLst/>
              <a:rect l="l" t="t" r="r" b="b"/>
              <a:pathLst>
                <a:path w="4807" h="4114">
                  <a:moveTo>
                    <a:pt x="2747" y="0"/>
                  </a:moveTo>
                  <a:cubicBezTo>
                    <a:pt x="952" y="0"/>
                    <a:pt x="1" y="2218"/>
                    <a:pt x="1321" y="3486"/>
                  </a:cubicBezTo>
                  <a:cubicBezTo>
                    <a:pt x="1737" y="3919"/>
                    <a:pt x="2256" y="4113"/>
                    <a:pt x="2765" y="4113"/>
                  </a:cubicBezTo>
                  <a:cubicBezTo>
                    <a:pt x="3806" y="4113"/>
                    <a:pt x="4807" y="3301"/>
                    <a:pt x="4807" y="2060"/>
                  </a:cubicBezTo>
                  <a:cubicBezTo>
                    <a:pt x="4807" y="951"/>
                    <a:pt x="3856" y="0"/>
                    <a:pt x="2747" y="0"/>
                  </a:cubicBezTo>
                  <a:close/>
                </a:path>
              </a:pathLst>
            </a:custGeom>
            <a:solidFill>
              <a:srgbClr val="21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4280" bIns="-44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B017</dc:creator>
  <dc:description/>
  <dc:language>en-US</dc:language>
  <cp:lastModifiedBy>Yoselin Vásquez</cp:lastModifiedBy>
  <dcterms:modified xsi:type="dcterms:W3CDTF">2021-10-18T13:38:41Z</dcterms:modified>
  <cp:revision>23</cp:revision>
  <dc:subject/>
  <dc:title>Juego del saber</dc:title>
</cp:coreProperties>
</file>